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28.gif" ContentType="image/gif"/>
  <Override PartName="/ppt/media/image23.png" ContentType="image/png"/>
  <Override PartName="/ppt/media/image21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C9E7-4F2B-4B77-A159-BF1E5A6D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482D-0181-4091-8EF0-CF6AC37D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FFF4-4971-49F9-897B-AEF06E87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51BC-AC99-4145-A5D9-C8866B02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A037-E79C-46E2-9C4D-7ED7CAB9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8B8A-8FC6-44C5-83E6-4C120CF7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16B5-A7CF-4E29-835D-BD118E75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B25F-8198-463E-A2A5-D96AFFC0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ABFB-DB1F-4C2B-BA24-3EFF073B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60B3-CFF7-4D2C-95F6-3733DFA7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B6D1-806B-464C-B9FF-9D722B64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1744-340F-42E6-8702-4E099B4C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FDF7-D5C4-46A6-A818-48CD6C4036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6002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510552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ГБОУ СОШ   №5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590920" y="4038480"/>
            <a:ext cx="60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09480" y="518148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41008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Педагогический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066680" y="251460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«Педагогические технологии. Вчера. Сегодня.  Завтра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11280" y="13413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ШКОЛЬНЫЙ ПРОЕКТ «ГОД РОССИЙСКОЙ ИСТОРИИ В ШК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74000" y="624852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27 марта 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1200240" y="382680"/>
            <a:ext cx="67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ГОСУДАРСТВЕННОЕ БЮДЖЕТНОЕ ОБРАЗОВАТЕЛЬНОЕ УЧРЕЖДЕ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СРЕДНЯЯ  ОБЩЕОБРАЗОВАТЕЛЬНАЯ ШКОЛА № 51 ПЕТРОГРАДСКОГО РАЙОНА САНКТ-ПЕТЕРБУРГ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395280" y="342900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Формирование фонетических умений у младших школь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использованием технологии ТРИЗ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5003640" y="515772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манова Наталия Ю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8" descr="0_5f12e_58edd98d_orig.png"/>
          <p:cNvPicPr/>
          <p:nvPr/>
        </p:nvPicPr>
        <p:blipFill>
          <a:blip r:embed="rId1"/>
          <a:stretch/>
        </p:blipFill>
        <p:spPr>
          <a:xfrm>
            <a:off x="0" y="1700280"/>
            <a:ext cx="1512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16002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09680" y="510552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ГБОУ СОШ   №5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590920" y="4038480"/>
            <a:ext cx="60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09480" y="518148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41008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Педагогический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1066680" y="2514600"/>
            <a:ext cx="7696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11280" y="13413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ШКОЛЬНЫЙ ПРОЕКТ «ГОД РОССИЙСКОЙ ИСТОРИИ В ШК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74000" y="624852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27 марта 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1200240" y="382680"/>
            <a:ext cx="67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ГОСУДАРСТВЕННОЕ БЮДЖЕТНОЕ ОБРАЗОВАТЕЛЬНОЕ УЧРЕЖДЕ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СРЕДНЯЯ  ОБЩЕОБРАЗОВАТЕЛЬНАЯ ШКОЛА № 51 ПЕТРОГРАДСКОГО РАЙОНА САНКТ-ПЕТЕРБУРГ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21" descr="ugle_bmp-for-web.jpg"/>
          <p:cNvPicPr/>
          <p:nvPr/>
        </p:nvPicPr>
        <p:blipFill>
          <a:blip r:embed="rId1"/>
          <a:stretch/>
        </p:blipFill>
        <p:spPr>
          <a:xfrm>
            <a:off x="539640" y="1916280"/>
            <a:ext cx="1739880" cy="158400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13" descr=""/>
          <p:cNvPicPr/>
          <p:nvPr/>
        </p:nvPicPr>
        <p:blipFill>
          <a:blip r:embed="rId2"/>
          <a:stretch/>
        </p:blipFill>
        <p:spPr>
          <a:xfrm>
            <a:off x="2146320" y="1731960"/>
            <a:ext cx="5815080" cy="144468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14" descr=""/>
          <p:cNvPicPr/>
          <p:nvPr/>
        </p:nvPicPr>
        <p:blipFill>
          <a:blip r:embed="rId3"/>
          <a:stretch/>
        </p:blipFill>
        <p:spPr>
          <a:xfrm>
            <a:off x="1103400" y="3529080"/>
            <a:ext cx="75960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Содержимое 3" descr="dogcheatingcatschooltesdc6.gif"/>
          <p:cNvPicPr/>
          <p:nvPr/>
        </p:nvPicPr>
        <p:blipFill>
          <a:blip r:embed="rId1"/>
          <a:stretch/>
        </p:blipFill>
        <p:spPr>
          <a:xfrm>
            <a:off x="2411280" y="1703520"/>
            <a:ext cx="4464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16002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209680" y="510552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ГБОУ СОШ   №5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590920" y="4038480"/>
            <a:ext cx="60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9480" y="518148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41008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Педагогический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066680" y="2514600"/>
            <a:ext cx="7696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611280" y="13413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ШКОЛЬНЫЙ ПРОЕКТ «ГОД РОССИЙСКОЙ ИСТОРИИ В ШК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774000" y="624852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27 марта 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1200240" y="382680"/>
            <a:ext cx="67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ГОСУДАРСТВЕННОЕ БЮДЖЕТНОЕ ОБРАЗОВАТЕЛЬНОЕ УЧРЕЖДЕ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СРЕДНЯЯ  ОБЩЕОБРАЗОВАТЕЛЬНАЯ ШКОЛА № 51 ПЕТРОГРАДСКОГО РАЙОНА САНКТ-ПЕТЕРБУРГ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1" descr="ugle_bmp-for-web.jpg"/>
          <p:cNvPicPr/>
          <p:nvPr/>
        </p:nvPicPr>
        <p:blipFill>
          <a:blip r:embed="rId1"/>
          <a:stretch/>
        </p:blipFill>
        <p:spPr>
          <a:xfrm>
            <a:off x="539640" y="1916280"/>
            <a:ext cx="1739880" cy="15840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3" descr=""/>
          <p:cNvPicPr/>
          <p:nvPr/>
        </p:nvPicPr>
        <p:blipFill>
          <a:blip r:embed="rId2"/>
          <a:stretch/>
        </p:blipFill>
        <p:spPr>
          <a:xfrm>
            <a:off x="1755720" y="2230560"/>
            <a:ext cx="7394760" cy="8301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4" descr=""/>
          <p:cNvPicPr/>
          <p:nvPr/>
        </p:nvPicPr>
        <p:blipFill>
          <a:blip r:embed="rId3"/>
          <a:stretch/>
        </p:blipFill>
        <p:spPr>
          <a:xfrm>
            <a:off x="237960" y="3529080"/>
            <a:ext cx="86680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16002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209680" y="510552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ГБОУ СОШ   №5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590920" y="4038480"/>
            <a:ext cx="60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09480" y="518148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41008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Педагогический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066680" y="2514600"/>
            <a:ext cx="7696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11280" y="13413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ШКОЛЬНЫЙ ПРОЕКТ «ГОД РОССИЙСКОЙ ИСТОРИИ В ШК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774000" y="624852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27 марта 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1200240" y="382680"/>
            <a:ext cx="67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ГОСУДАРСТВЕННОЕ БЮДЖЕТНОЕ ОБРАЗОВАТЕЛЬНОЕ УЧРЕЖДЕ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СРЕДНЯЯ  ОБЩЕОБРАЗОВАТЕЛЬНАЯ ШКОЛА № 51 ПЕТРОГРАДСКОГО РАЙОНА САНКТ-ПЕТЕРБУРГ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21" descr="ugle_bmp-for-web.jpg"/>
          <p:cNvPicPr/>
          <p:nvPr/>
        </p:nvPicPr>
        <p:blipFill>
          <a:blip r:embed="rId1"/>
          <a:stretch/>
        </p:blipFill>
        <p:spPr>
          <a:xfrm>
            <a:off x="539640" y="1916280"/>
            <a:ext cx="1739880" cy="1584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13" descr=""/>
          <p:cNvPicPr/>
          <p:nvPr/>
        </p:nvPicPr>
        <p:blipFill>
          <a:blip r:embed="rId2"/>
          <a:stretch/>
        </p:blipFill>
        <p:spPr>
          <a:xfrm>
            <a:off x="1938240" y="1731960"/>
            <a:ext cx="5254560" cy="82872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14" descr=""/>
          <p:cNvPicPr/>
          <p:nvPr/>
        </p:nvPicPr>
        <p:blipFill>
          <a:blip r:embed="rId3"/>
          <a:stretch/>
        </p:blipFill>
        <p:spPr>
          <a:xfrm>
            <a:off x="2000160" y="2852640"/>
            <a:ext cx="51498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16002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ФАКТОРЫ</a:t>
            </a:r>
            <a:r>
              <a:rPr b="1" lang="ru-RU" sz="2400" spc="-1" strike="noStrike">
                <a:solidFill>
                  <a:srgbClr val="fa4d2a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fa4d2a"/>
                </a:solidFill>
                <a:latin typeface="Times New Roman"/>
              </a:rPr>
              <a:t>приобретение фонетического ум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556000" y="4005360"/>
            <a:ext cx="6019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09480" y="518148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41008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Педагогический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11280" y="13413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ШКОЛЬНЫЙ ПРОЕКТ «ГОД РОССИЙСКОЙ ИСТОРИИ В ШК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774000" y="624852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27 марта 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1200240" y="382680"/>
            <a:ext cx="67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ГОСУДАРСТВЕННОЕ БЮДЖЕТНОЕ ОБРАЗОВАТЕЛЬНОЕ УЧРЕЖДЕ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СРЕДНЯЯ  ОБЩЕОБРАЗОВАТЕЛЬНАЯ ШКОЛА № 51 ПЕТРОГРАДСКОГО РАЙОНА САНКТ-ПЕТЕРБУРГ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1" descr="ar121660244955973.jpg"/>
          <p:cNvPicPr/>
          <p:nvPr/>
        </p:nvPicPr>
        <p:blipFill>
          <a:blip r:embed="rId1"/>
          <a:stretch/>
        </p:blipFill>
        <p:spPr>
          <a:xfrm>
            <a:off x="7236000" y="1341360"/>
            <a:ext cx="1584000" cy="2087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230040" y="3141720"/>
            <a:ext cx="1905120" cy="1511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4863960" y="3284640"/>
            <a:ext cx="2301840" cy="1657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4"/>
          <a:stretch/>
        </p:blipFill>
        <p:spPr>
          <a:xfrm>
            <a:off x="2513160" y="4581360"/>
            <a:ext cx="2224080" cy="1757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5"/>
          <a:stretch/>
        </p:blipFill>
        <p:spPr>
          <a:xfrm>
            <a:off x="7308720" y="4467240"/>
            <a:ext cx="15382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16002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95280" y="1773360"/>
            <a:ext cx="829152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тановка удар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ласные звуки: ударные и безудар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гласные звуки: звонкие и глухи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вердые и мягк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равнение произношения и напис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590920" y="4038480"/>
            <a:ext cx="60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09480" y="518148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41008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Педагогический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611280" y="13413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ШКОЛЬНЫЙ ПРОЕКТ «ГОД РОССИЙСКОЙ ИСТОРИИ В ШК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74000" y="624852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27 марта 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200240" y="382680"/>
            <a:ext cx="67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ГОСУДАРСТВЕННОЕ БЮДЖЕТНОЕ ОБРАЗОВАТЕЛЬНОЕ УЧРЕЖДЕ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СРЕДНЯЯ  ОБЩЕОБРАЗОВАТЕЛЬНАЯ ШКОЛА № 51 ПЕТРОГРАДСКОГО РАЙОНА САНКТ-ПЕТЕРБУРГ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9" descr="0_6d23f_3c81635c_XL.png"/>
          <p:cNvPicPr/>
          <p:nvPr/>
        </p:nvPicPr>
        <p:blipFill>
          <a:blip r:embed="rId1"/>
          <a:stretch/>
        </p:blipFill>
        <p:spPr>
          <a:xfrm>
            <a:off x="7236000" y="3645000"/>
            <a:ext cx="1358640" cy="240804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10" descr=""/>
          <p:cNvPicPr/>
          <p:nvPr/>
        </p:nvPicPr>
        <p:blipFill>
          <a:blip r:embed="rId2"/>
          <a:stretch/>
        </p:blipFill>
        <p:spPr>
          <a:xfrm>
            <a:off x="2475000" y="1517760"/>
            <a:ext cx="418140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599840"/>
            <a:ext cx="8424720" cy="463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Виды упражнений</a:t>
            </a:r>
            <a:br>
              <a:rPr sz="3600"/>
            </a:br>
            <a:r>
              <a:rPr b="1" lang="ru-RU" sz="3600" spc="-1" strike="noStrike">
                <a:solidFill>
                  <a:srgbClr val="fa4d2a"/>
                </a:solidFill>
                <a:latin typeface="Times New Roman"/>
              </a:rPr>
              <a:t>Систематические</a:t>
            </a:r>
            <a:br>
              <a:rPr sz="3600"/>
            </a:br>
            <a:r>
              <a:rPr b="1" lang="ru-RU" sz="3600" spc="-1" strike="noStrike">
                <a:solidFill>
                  <a:srgbClr val="fa4d2a"/>
                </a:solidFill>
                <a:latin typeface="Times New Roman"/>
              </a:rPr>
              <a:t>Самостоятельные</a:t>
            </a:r>
            <a:br>
              <a:rPr sz="3600"/>
            </a:br>
            <a:r>
              <a:rPr b="1" lang="ru-RU" sz="3600" spc="-1" strike="noStrike">
                <a:solidFill>
                  <a:srgbClr val="fa4d2a"/>
                </a:solidFill>
                <a:latin typeface="Times New Roman"/>
              </a:rPr>
              <a:t>Логические</a:t>
            </a:r>
            <a:br>
              <a:rPr sz="3600"/>
            </a:br>
            <a:r>
              <a:rPr b="1" lang="ru-RU" sz="3600" spc="-1" strike="noStrike">
                <a:solidFill>
                  <a:srgbClr val="fa4d2a"/>
                </a:solidFill>
                <a:latin typeface="Times New Roman"/>
              </a:rPr>
              <a:t>Устные и письмен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09680" y="510552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09480" y="518148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41008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Педагогический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468360" y="105264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ШКОЛЬНЫЙ ПРОЕКТ «ГОД РОССИЙСКОЙ ИСТОРИИ В ШК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774000" y="624852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27 марта 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200240" y="382680"/>
            <a:ext cx="67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ГОСУДАРСТВЕННОЕ БЮДЖЕТНОЕ ОБРАЗОВАТЕЛЬНОЕ УЧРЕЖДЕ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СРЕДНЯЯ  ОБЩЕОБРАЗОВАТЕЛЬНАЯ ШКОЛА № 51 ПЕТРОГРАДСКОГО РАЙОНА САНКТ-ПЕТЕРБУРГ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0" descr="Clipart-Cartoon-Design-05.gif"/>
          <p:cNvPicPr/>
          <p:nvPr/>
        </p:nvPicPr>
        <p:blipFill>
          <a:blip r:embed="rId2"/>
          <a:stretch/>
        </p:blipFill>
        <p:spPr>
          <a:xfrm>
            <a:off x="7093080" y="1557360"/>
            <a:ext cx="1738080" cy="1739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Documents and Settings\User\Рабочий стол\презентация ню\DSC04154.JPG"/>
          <p:cNvPicPr/>
          <p:nvPr/>
        </p:nvPicPr>
        <p:blipFill>
          <a:blip r:embed="rId3"/>
          <a:stretch/>
        </p:blipFill>
        <p:spPr>
          <a:xfrm>
            <a:off x="250920" y="1557360"/>
            <a:ext cx="23050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87280" y="1600200"/>
            <a:ext cx="5622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556000" y="4005360"/>
            <a:ext cx="6019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09480" y="518148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541008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Педагогический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611280" y="13413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ШКОЛЬНЫЙ ПРОЕКТ «ГОД РОССИЙСКОЙ ИСТОРИИ В ШК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774000" y="624852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27 марта 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1200240" y="382680"/>
            <a:ext cx="67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ГОСУДАРСТВЕННОЕ БЮДЖЕТНОЕ ОБРАЗОВАТЕЛЬНОЕ УЧРЕЖДЕ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СРЕДНЯЯ  ОБЩЕОБРАЗОВАТЕЛЬНАЯ ШКОЛА № 51 ПЕТРОГРАДСКОГО РАЙОНА САНКТ-ПЕТЕРБУРГ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1" descr="ar121660244955973.jpg"/>
          <p:cNvPicPr/>
          <p:nvPr/>
        </p:nvPicPr>
        <p:blipFill>
          <a:blip r:embed="rId1"/>
          <a:stretch/>
        </p:blipFill>
        <p:spPr>
          <a:xfrm>
            <a:off x="7236000" y="1341360"/>
            <a:ext cx="1584000" cy="208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ва"/>
          <p:cNvPicPr/>
          <p:nvPr/>
        </p:nvPicPr>
        <p:blipFill>
          <a:blip r:embed="rId2"/>
          <a:srcRect l="3903" t="4344" r="6463" b="0"/>
          <a:stretch/>
        </p:blipFill>
        <p:spPr>
          <a:xfrm>
            <a:off x="179280" y="1844640"/>
            <a:ext cx="2592360" cy="31939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17" name="Picture 14" descr="Default-9"/>
          <p:cNvPicPr/>
          <p:nvPr/>
        </p:nvPicPr>
        <p:blipFill>
          <a:blip r:embed="rId3"/>
          <a:srcRect l="10208" t="13417" r="10208" b="0"/>
          <a:stretch/>
        </p:blipFill>
        <p:spPr>
          <a:xfrm>
            <a:off x="6443640" y="3429000"/>
            <a:ext cx="2521080" cy="3267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18" name="Picture 10" descr="рт"/>
          <p:cNvPicPr/>
          <p:nvPr/>
        </p:nvPicPr>
        <p:blipFill>
          <a:blip r:embed="rId4">
            <a:lum bright="-18000"/>
          </a:blip>
          <a:srcRect l="2054" t="0" r="0" b="2083"/>
          <a:stretch/>
        </p:blipFill>
        <p:spPr>
          <a:xfrm>
            <a:off x="3132000" y="3141720"/>
            <a:ext cx="2737080" cy="35211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19" name="Прямоугольник 18" descr=""/>
          <p:cNvPicPr/>
          <p:nvPr/>
        </p:nvPicPr>
        <p:blipFill>
          <a:blip r:embed="rId5"/>
          <a:stretch/>
        </p:blipFill>
        <p:spPr>
          <a:xfrm>
            <a:off x="3560760" y="1749600"/>
            <a:ext cx="3468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1599840"/>
            <a:ext cx="7848360" cy="37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36280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556000" y="3933720"/>
            <a:ext cx="60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9480" y="518148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41008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Педагогический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611280" y="13413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ШКОЛЬНЫЙ ПРОЕКТ «ГОД РОССИЙСКОЙ ИСТОРИИ В ШК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774000" y="624852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27 марта 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200240" y="382680"/>
            <a:ext cx="67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ГОСУДАРСТВЕННОЕ БЮДЖЕТНОЕ ОБРАЗОВАТЕЛЬНОЕ УЧРЕЖДЕ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СРЕДНЯЯ  ОБЩЕОБРАЗОВАТЕЛЬНАЯ ШКОЛА № 51 ПЕТРОГРАДСКОГО РАЙОНА САНКТ-ПЕТЕРБУРГ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9" descr="aile3.jpg"/>
          <p:cNvPicPr/>
          <p:nvPr/>
        </p:nvPicPr>
        <p:blipFill>
          <a:blip r:embed="rId1"/>
          <a:stretch/>
        </p:blipFill>
        <p:spPr>
          <a:xfrm>
            <a:off x="6583320" y="4941720"/>
            <a:ext cx="2330640" cy="1584360"/>
          </a:xfrm>
          <a:prstGeom prst="rect">
            <a:avLst/>
          </a:prstGeom>
          <a:ln w="0">
            <a:noFill/>
          </a:ln>
        </p:spPr>
      </p:pic>
      <p:pic>
        <p:nvPicPr>
          <p:cNvPr id="129" name="Диаграмма 11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60962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1599840"/>
            <a:ext cx="7848360" cy="37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36280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590920" y="4038480"/>
            <a:ext cx="60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09480" y="518148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41008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Педагогический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611280" y="13413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ШКОЛЬНЫЙ ПРОЕКТ «ГОД РОССИЙСКОЙ ИСТОРИИ В ШК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774000" y="624852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27 марта 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200240" y="382680"/>
            <a:ext cx="67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ГОСУДАРСТВЕННОЕ БЮДЖЕТНОЕ ОБРАЗОВАТЕЛЬНОЕ УЧРЕЖДЕ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СРЕДНЯЯ  ОБЩЕОБРАЗОВАТЕЛЬНАЯ ШКОЛА № 51 ПЕТРОГРАДСКОГО РАЙОНА САНКТ-ПЕТЕРБУРГ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10" descr="iCAL9XYO2.jpg"/>
          <p:cNvPicPr/>
          <p:nvPr/>
        </p:nvPicPr>
        <p:blipFill>
          <a:blip r:embed="rId1"/>
          <a:stretch/>
        </p:blipFill>
        <p:spPr>
          <a:xfrm>
            <a:off x="6991200" y="4437000"/>
            <a:ext cx="1801800" cy="2113200"/>
          </a:xfrm>
          <a:prstGeom prst="rect">
            <a:avLst/>
          </a:prstGeom>
          <a:ln w="0">
            <a:noFill/>
          </a:ln>
        </p:spPr>
      </p:pic>
      <p:pic>
        <p:nvPicPr>
          <p:cNvPr id="139" name="Диаграмма 11" descr=""/>
          <p:cNvPicPr/>
          <p:nvPr/>
        </p:nvPicPr>
        <p:blipFill>
          <a:blip r:embed="rId2"/>
          <a:stretch/>
        </p:blipFill>
        <p:spPr>
          <a:xfrm>
            <a:off x="1523880" y="1989000"/>
            <a:ext cx="60962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5:06:23Z</dcterms:created>
  <dc:creator>Марина</dc:creator>
  <dc:description/>
  <dc:language>en-US</dc:language>
  <cp:lastModifiedBy>User1</cp:lastModifiedBy>
  <dcterms:modified xsi:type="dcterms:W3CDTF">2012-03-26T05:05:25Z</dcterms:modified>
  <cp:revision>46</cp:revision>
  <dc:subject/>
  <dc:title>    </dc:title>
</cp:coreProperties>
</file>