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098-FF70-48EB-8205-C8A7D0B8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013C-5E23-4119-9F08-FB1354BF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308B-B4FC-43A5-971C-88C50498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829-E29F-4500-8EAF-05F4AD50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8236-ACF1-4547-B74C-85FB90A1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30B3-A548-4FF1-A574-18D01058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63C5-C993-4DE3-8DE7-6DCDC4DA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10F1-5F84-4CA6-B7E9-3E6F6F1C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5C9F-DA7E-4178-AD43-0855C57C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DD65-BF9B-4CB1-9EDF-B5C2BC02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C062-4D5D-4A2E-B278-8014D12D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856-E6FE-4BED-92C8-AE07A234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9DCC-C1EF-4751-95B9-641F5E25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AD20-2C0D-4824-8CB1-0DE1C357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C68C-9864-4CB6-B363-E0E65EB5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DCF9-28DB-41E1-BEE4-B6F21A69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9677-727B-4AC6-B6DA-3FA9B3C8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C5DC-3ADA-4973-A725-A1A20EF6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D224-73B5-4E1F-9066-F053E426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C2C8-29F7-42A4-ABB5-3F0FBFD6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5C61-EF03-40B5-AA59-A7C92B6B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260-DC78-4F47-AE9C-42DD108B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7535-A9B3-42DB-994A-71605EAF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76DE-CFA7-4188-A5E1-9211B8D3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6f6f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50000">
                    <a:srgbClr val="fefefe"/>
                  </a:gs>
                  <a:gs pos="100000">
                    <a:srgbClr val="e7e7e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12A7-62BA-4382-9912-C5F189D6DC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6f6f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50000">
                    <a:srgbClr val="fefefe"/>
                  </a:gs>
                  <a:gs pos="100000">
                    <a:srgbClr val="e7e7e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7CBE-F1BB-4BA5-BC4C-A785693ED6A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D:\Design\portfolio\suicide_present\su_4 copy.jpg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 rot="21329400">
            <a:off x="299520" y="295200"/>
            <a:ext cx="7274160" cy="61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6" name="Прямоугольник 9" descr=""/>
          <p:cNvPicPr/>
          <p:nvPr/>
        </p:nvPicPr>
        <p:blipFill>
          <a:blip r:embed="rId2"/>
          <a:stretch/>
        </p:blipFill>
        <p:spPr>
          <a:xfrm>
            <a:off x="0" y="0"/>
            <a:ext cx="671832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900000" y="189000"/>
            <a:ext cx="59990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Отношения родителей с детьми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4140360" y="1492560"/>
            <a:ext cx="460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Многие  попытки суицида  у  молодых  рассматриваются  как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отчаянный  призыв  о помощ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 как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последняя  попытка  привлечь  внимание   родителей   к   своим проблемам, пробить стену непонимания между младшим  и  старшим  поколениями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84360" y="3500280"/>
            <a:ext cx="22795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-684360" y="-360"/>
            <a:ext cx="5710320" cy="38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Школьные  проблем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4284720" y="1987920"/>
            <a:ext cx="453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Школьные  проблемы связаны  с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неуспеваемостью  или   плохими отношениями с учителями и администрацией школы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реже с  взаимоотношениями  в класс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79280" y="3068640"/>
            <a:ext cx="38163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78920" y="1196640"/>
            <a:ext cx="47754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Проблемы</a:t>
            </a:r>
            <a:r>
              <a:rPr b="0" lang="en-US" sz="4000" spc="-1" strike="noStrike">
                <a:solidFill>
                  <a:srgbClr val="0000cc"/>
                </a:solidFill>
                <a:latin typeface="Tahoma"/>
              </a:rPr>
              <a:t>, 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связанные  со сверстниками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4859280" y="1339560"/>
            <a:ext cx="3457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Одним из основных психологических  объяснений  проблемы,   является 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чрезмерная зависимость  от  другого  человек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 что  возникает,   обычно   в   качестве компенсации  плохих  отношений  со  своими  родителями,   из-за   постоянных конфликтов и отсутствия контакта с ним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24480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Мотивы, объясняющие попытки суици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54356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       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"дать понять  близким,  в  каком  ты  отчаян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    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ставить сожалеть человека,  который  плохо  с тобой обращалс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     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казать,  как  ты  любишь другого" и "выяснить, любит ли тебя действительно друго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"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     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влиять на другого, чтобы он изменил  свое  решение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”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   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зыв,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тобы  пришла  помощь  от  другого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еловека"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5796000" y="2060640"/>
            <a:ext cx="273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Для какого возраста характерен детский суицид?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5278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ети до 11 ле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реальных попыток уйти из жизни почти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е делают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ик суицидной активности приходится на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тарший подростковый возраст (14 — 16 лет)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/3 суицид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среди подростков совершаются при ясном уме и твердой памя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Рисунок 3" descr="возлюби ближнего твоего, как самого себя (Матф. 22:39)"/>
          <p:cNvPicPr/>
          <p:nvPr/>
        </p:nvPicPr>
        <p:blipFill>
          <a:blip r:embed="rId1"/>
          <a:stretch/>
        </p:blipFill>
        <p:spPr>
          <a:xfrm>
            <a:off x="5292720" y="1989000"/>
            <a:ext cx="32446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" descr="D:\Design\portfolio\suicide_present\su_5 copy.jpg"/>
          <p:cNvPicPr/>
          <p:nvPr/>
        </p:nvPicPr>
        <p:blipFill>
          <a:blip r:embed="rId1"/>
          <a:stretch/>
        </p:blipFill>
        <p:spPr>
          <a:xfrm>
            <a:off x="0" y="8748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 rot="21325800">
            <a:off x="299520" y="619200"/>
            <a:ext cx="634392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d60093"/>
                </a:solidFill>
                <a:latin typeface="Tahoma"/>
              </a:rPr>
              <a:t>Как правило, суицид не происходи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Tahoma"/>
              </a:rPr>
              <a:t>                   </a:t>
            </a:r>
            <a:r>
              <a:rPr b="1" lang="ru-RU" sz="1800" spc="-1" strike="noStrike">
                <a:solidFill>
                  <a:srgbClr val="d60093"/>
                </a:solidFill>
                <a:latin typeface="Tahoma"/>
              </a:rPr>
              <a:t>без предупрежде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ольшинство подростков, которые пытаются покончить с собой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очти всегд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редупреждают о своем намерении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: говорят либо делают что-то такое, что служит намеком, предупреждением о том, что они оказались в безвыходной ситуации и думают о смерти. О своих планах расстаться с жизнью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не делятся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с окружающими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лишь немногие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Кто-то из друзей оказывается в курсе дела всегд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имптомы суицидального поведения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у подростко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619280" y="1700280"/>
            <a:ext cx="5565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•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разговоры о смерти и самоубийствах, желание пофантазировать на эту тему вслу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стремление к одиночеству;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рассуждения на тему: «Я никому не нужен», «Все равно никто не будет обо мне тосковать»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чрезмерное внимание к мотивам смерти в музыке, искусстве или литератур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завуалированные попытки «попрощаться» (дарение своих вещей и любимых предметов близким друзьям; приведение дел в порядок)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06200" y="2565360"/>
            <a:ext cx="16862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Предпосылки подростка к совершению суици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подростка понимать и выражать свои чувства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ъяснять свои переживания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войственность ощущения своего места в мир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ксимализм оценок и приговор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67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 rot="21325800">
            <a:off x="372600" y="382680"/>
            <a:ext cx="623592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ahoma"/>
              </a:rPr>
              <a:t>КАК ПРЕДОТВРАТИТЬ ТРАГЕДИЮ</a:t>
            </a: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604836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К НАДО РАГОВАРИВАТЬ С ПОДРОСТКОМ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1. 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Внимательно выслушайте решившегося на самоубийство подростк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риложите все усилия, чтобы понять проблему, скрытую за словам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. 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Оцените серьезность намерения и чувств ребенк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 Если он или она уже имеют конкретный план самоубийства, ситуация более острая, чем если эти планы расплывчаты и неопределенн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. 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Оцените глубину эмоционального кризис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 Подросток может испытывать серьезные трудности, но при этом и не помышлять о самоубийстве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. 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Внимательно отнеситесь ко всем, даже самым незначительным обидам и жалоба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. 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Не бойтесь прямо спросить, не думает ли он о самоубийстве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Опыт показывает, что такой вопрос редко приносит вред. Часто подросток бывает рад возможности высказать свои проблемы.</a:t>
            </a:r>
            <a:br>
              <a:rPr sz="1800"/>
            </a:b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4" name="Picture 9" descr="img3492min"/>
          <p:cNvPicPr/>
          <p:nvPr/>
        </p:nvPicPr>
        <p:blipFill>
          <a:blip r:embed="rId1"/>
          <a:stretch/>
        </p:blipFill>
        <p:spPr>
          <a:xfrm>
            <a:off x="6118200" y="3645000"/>
            <a:ext cx="30258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Picture 4" descr="D:\Design\portfolio\suicide_present\zakat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250920" y="189000"/>
            <a:ext cx="66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Дорогая мама, папа и все остальные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Простите меня за то, что я сделал, но я любил вас всех и буду любить вас всегда, вечно. Пожалуйста, пожалуйста, пожалуйста, не вините себя за это. Это все была моя вина, не ваша или кого-то другого. Если бы я не сделал этого сейчас, я бы сделал это позже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Мы все умрем когда-нибудь, я просто умер раньше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Люблю вас, Ива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98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Что надо делать?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тнеситесь серьёзно ко всем угрозам. Пусть специалист решает, насколько они серьёзн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Говорите открыто, прямо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Дайте подростку почувствовать, что вам не всё равно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Слушайте с чувством искренности, понимания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Отстаивайте свою точку зрения, что самоубийство – это неэффективное решение всех пробле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Прибегните к помощи авторитетных люде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Заключите соглашение о несовершении самоубийств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Подумайте, кто может помочь подростку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Пригласите психотерапевта, который может вывести ребёнка из кризисного состояния, доставьте ребёнка в психоневрологический центр или больницу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Останьтесь с подростком; если вам нужно уйти, оставьте его на попечение другого взрослого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Поговорите с кем-нибудь о ваших опасениях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Если вы не знаете, что делать, обратитесь к школьному психологу или в специальную службу психологической помощи.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8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Чего не надо делать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Не говорите: «Посмотри на всё, ради чего ты должен жить»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Не вдавайтесь в философские рассуждения, то есть, не полемизируйте о том, хорошо или плохо совершать самоубийство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Не пытайтесь применять прямо противоположные психологические приёмы на подростке, помышляющем о самоубийстве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Не оставляйте там, где находится ребёнок, лекарство, оружие, - режущие предметы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Не пытайтесь выступить в роли судьи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Не думайте, что подросток ищет только внимания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Не оставляйте ребёнка одного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Не держите в секрете то, о чём вы думаете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40640" cy="58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0" y="71280"/>
          <a:ext cx="9143640" cy="7245000"/>
        </p:xfrm>
        <a:graphic>
          <a:graphicData uri="http://schemas.openxmlformats.org/drawingml/2006/table">
            <a:tbl>
              <a:tblPr/>
              <a:tblGrid>
                <a:gridCol w="3022200"/>
                <a:gridCol w="3022560"/>
                <a:gridCol w="3098880"/>
              </a:tblGrid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сли вы слыши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Скажи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60093"/>
                          </a:solidFill>
                          <a:latin typeface="Tahoma"/>
                        </a:rPr>
                        <a:t>Не говори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e1ff"/>
                    </a:solidFill>
                  </a:tcPr>
                </a:tc>
              </a:tr>
              <a:tr h="14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навиж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иться, ненавижу училище (школ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происходит в училище (школе), что заставляет тебя так чувствовать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гда я был в твоём возрасте… Да ты просто лентяй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</a:tr>
              <a:tr h="200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ё кажется таким безнадёжны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огда все мы чувствуем себя подавленными. Давай посмотрим, какие у нас проблемы, и какую из них нужно решить в первую очеред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думай лучше о тех, кому ещё хуже, чем теб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</a:tr>
              <a:tr h="14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м было бы лучше без меня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ы очень много значишь для меня, и меня беспокоит твоё настроение. Скажи мне, что происходит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 говори глупостей. Давай поговорим о чем-нибудь друг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</a:tr>
              <a:tr h="14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 не понимаете меня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скажи мне, как ты себя чувствуешь. Я действительно хочу это зна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же может понять подростков в наши дн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8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0" y="0"/>
          <a:ext cx="9143640" cy="68576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  <a:gridCol w="3047760"/>
              </a:tblGrid>
              <a:tr h="132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сли вы слыши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Скажи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60093"/>
                          </a:solidFill>
                          <a:latin typeface="Tahoma"/>
                        </a:rPr>
                        <a:t>Не говори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e1ff"/>
                    </a:solidFill>
                  </a:tcPr>
                </a:tc>
              </a:tr>
              <a:tr h="14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  совершил скверный поступок. Я такое натворил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ай сядем, поговорим об эт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посеешь, то и пожнёш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 если  у меня не получитс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сли не получится, я буду знать, что ты сделал всё возможно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сли не получится, значит, ты недостаточно старал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</a:tr>
              <a:tr h="132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4ff"/>
                    </a:solidFill>
                  </a:tcPr>
                </a:tc>
              </a:tr>
              <a:tr h="13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4" descr="D:\Design\portfolio\suicide_present\borba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 rot="21325800">
            <a:off x="318960" y="-82080"/>
            <a:ext cx="48960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  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гда мы теряем ребенка из-за болезни или несчастного случая — это огромное горе для нас, родителе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о когда ребенок— этот еще не оперившийся птенец — сам прерывает свой жизненный полет — это величайшая и непоправимая трагедия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 смертью каждого ребен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ибнет Вселенная – неповторим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ир идей, чувствования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ереживаний, неповторимый ми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4520" indent="-164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дивидуальнос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3419640" y="4508640"/>
            <a:ext cx="3528720" cy="23716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7093080" y="4869000"/>
            <a:ext cx="1692000" cy="16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4"/>
          <p:cNvSpPr/>
          <p:nvPr/>
        </p:nvSpPr>
        <p:spPr>
          <a:xfrm>
            <a:off x="395280" y="950400"/>
            <a:ext cx="41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Россия удерживает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место в мире по числу самоубийств среди молодеж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2708280"/>
            <a:ext cx="403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 вопрос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Задумывались ли вы о самоубийстве?»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одростки 14- 18 лет отвечали:</a:t>
            </a:r>
            <a:br>
              <a:rPr sz="2000"/>
            </a:br>
            <a:br>
              <a:rPr sz="2000"/>
            </a:b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40% Всегда</a:t>
            </a:r>
            <a:br>
              <a:rPr sz="2000"/>
            </a:b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15% 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25% Никогда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20% Не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3" name="Picture 5" descr="7056[1]"/>
          <p:cNvPicPr/>
          <p:nvPr/>
        </p:nvPicPr>
        <p:blipFill>
          <a:blip r:embed="rId1"/>
          <a:stretch/>
        </p:blipFill>
        <p:spPr>
          <a:xfrm>
            <a:off x="4427640" y="333360"/>
            <a:ext cx="3114720" cy="31669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6588000" y="3789360"/>
            <a:ext cx="223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 2008 год в Москве и Московской област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0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ростков покончили жизнь самоубийство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дростка были в состоянии алкогольного опьян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человек состояли на учете  в ПН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ростков оставили предсмертные запис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ростка совершили самоубийство в связи с беспомощностью перед семейными проблемами ( пьянство родителей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плеск самоубийств в 2008г приходится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весну – 33,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лето – 30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3% - учащиеся шко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 случаев суицида в учреждения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начального и среднего образован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СТРАШНАЯ СТАТИСТИК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D:\Design\portfolio\suicide_present\obstanovka1 cop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0" y="981000"/>
            <a:ext cx="6443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ЧТО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ВАЖНО ЗНАТЬ О СУИЦИДЕ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01680" y="428400"/>
            <a:ext cx="854064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 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Суици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является одним из наиболее трагических видов общественного поведения, связанного с потерей смысла жизни. Особенно трагичен суицид детей и подростк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 данным статистики, наибольшее количество суицидов совершается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осенью (в октябре) и весной (в апреле, мае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 возрасту пик суицидов приходится на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15 – 16 л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и практически не встречается у детей до 8 лет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 половой принадлежности больше склонны к суицидам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мальчи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92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детей и подростков, совершивших суицид, не попадали в поле зрения психиат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0" name="Picture 5" descr="рла"/>
          <p:cNvPicPr/>
          <p:nvPr/>
        </p:nvPicPr>
        <p:blipFill>
          <a:blip r:embed="rId1"/>
          <a:stretch/>
        </p:blipFill>
        <p:spPr>
          <a:xfrm>
            <a:off x="2627280" y="3429000"/>
            <a:ext cx="3600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5278320" cy="45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1" lang="ru-RU" sz="2000" spc="-1" strike="noStrike" u="sng">
                <a:solidFill>
                  <a:srgbClr val="ff0000"/>
                </a:solidFill>
                <a:uFillTx/>
                <a:latin typeface="Tahoma"/>
              </a:rPr>
              <a:t>Суицидальное поведение подростка возрастает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) в вечернее, ночное и утреннее время, когда он предоставлен сам себе, остается со своими мыслями и переживаниями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) в период «пиков возрастной суицидальности» (между 17 и 24 годами,)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) в условиях тяжелой моральной психологической обстанов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3168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01680" y="188640"/>
            <a:ext cx="8540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онятие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"смерть"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в подростковом возрасте обычн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оспринимается весьма абстрактно, как что- то временное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охожее на сон, не всегда связанное с собственн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ичностью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Многие подростки, совершая суицид, прямо н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редусматривают смертельного исхода. В отличие о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зрослых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у них отсутствуют четкие границы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между истинн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уицидальной попыткой и демонстративно –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шантажирующим поступко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556000" y="4005360"/>
            <a:ext cx="388764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8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179280" y="1077120"/>
            <a:ext cx="53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Каковы основные факторы, способствующие попыткам суицида у молодежи 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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На  первом  месте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- отношения  с  родителями  (в  70% случаев  эти проблемы непосредственно связаны с суицидом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  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на втором месте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-  трудности, связанные со школой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  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на третьем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- проблемы  взаимоотношений  с  друзьями,  в основном противоположного пола.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Picture 6" descr="рп"/>
          <p:cNvPicPr/>
          <p:nvPr/>
        </p:nvPicPr>
        <p:blipFill>
          <a:blip r:embed="rId1"/>
          <a:stretch/>
        </p:blipFill>
        <p:spPr>
          <a:xfrm>
            <a:off x="5219640" y="1268280"/>
            <a:ext cx="35989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0:59:12Z</dcterms:created>
  <dc:creator>DARA</dc:creator>
  <dc:description/>
  <dc:language>en-US</dc:language>
  <cp:lastModifiedBy>Компьютер психолога</cp:lastModifiedBy>
  <dcterms:modified xsi:type="dcterms:W3CDTF">2009-12-04T11:51:39Z</dcterms:modified>
  <cp:revision>91</cp:revision>
  <dc:subject/>
  <dc:title>Слайд 1</dc:title>
</cp:coreProperties>
</file>