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8CD-EFC4-48AF-AD14-F4D6973A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FB9-631D-4460-A319-C3EDD38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B9D-C6C3-4721-8ED6-3817DFDC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770-9F8B-4B87-8EDA-75727C93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205E-4EF6-4E84-BCB3-70956FFC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6B7B-4969-437F-B942-23CDCC2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700-C353-4A26-ABC0-577C98F3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4FBD-BD26-4CCF-849A-6B88FB2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5A80-2E7F-4225-881B-4A49274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DD02-CB81-4EA3-B8AB-9D8E8966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506D-407E-4968-898F-EF53D9D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251-2ABE-4136-9C8A-87490D3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593-ACA7-40F3-AF1A-AB951BBC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135-65B4-42FF-A6F7-A7BB082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5F8-DC35-48C8-B7B5-08A07E49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C5C7-9D30-4A03-8019-F6EE001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CEC-A12D-4474-95F7-9960F19B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851-477F-4D42-9566-C754844D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0DD-4435-4BE6-B13D-EECA7B46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376-2F28-48B4-8809-D466E4E7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65E-3B52-4329-A030-9484462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2F2-0C56-4B76-95A4-96940C1E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8EA-19BE-4366-8BD9-3622ABE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CEC-A84D-4887-ADCC-AE4114A6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5F6-7ACA-427C-B958-302F075F5D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30D5-7B59-4D09-9A28-B3488A16C1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 rot="21329400">
            <a:off x="299520" y="295200"/>
            <a:ext cx="7274160" cy="61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Прямоугольник 9" descr=""/>
          <p:cNvPicPr/>
          <p:nvPr/>
        </p:nvPicPr>
        <p:blipFill>
          <a:blip r:embed="rId2"/>
          <a:stretch/>
        </p:blipFill>
        <p:spPr>
          <a:xfrm>
            <a:off x="0" y="0"/>
            <a:ext cx="67183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59990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Отношения родителей с детьми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149256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ногие  попытки суицида  у  молодых  рассматриваются  как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отчаянный  призыв  о помощ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 как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последняя  попытка  привлечь  внимание   родителей   к   своим проблемам, пробить стену непонимания между младшим  и  старшим  поколениями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2279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684360" y="-360"/>
            <a:ext cx="5710320" cy="38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Школьные  пробле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284720" y="198792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Школьные  проблемы связаны  с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неуспеваемостью  или   плохими отношениями с учителями и администрацией школ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реже с  взаимоотношениями  в класс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381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47754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Проблемы</a:t>
            </a: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, 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связанные  со сверстникам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859280" y="1339560"/>
            <a:ext cx="345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дним из основных психологических  объяснений  проблемы,   является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чрезмерная зависимость  от  другого  человек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 что  возникает,   обычно   в   качестве компенсации  плохих  отношений  со  своими  родителями,   из-за   постоянных конфликтов и отсутствия контакта с ни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4480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Мотивы, объясняющие попытки суици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435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      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дать понять  близким,  в  каком  ты  отчая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ставить сожалеть человека,  который  плохо  с тобой обращал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 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казать,  как  ты  любишь другого" и "выяснить, любит ли тебя действительно друг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"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 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влиять на другого, чтобы он изменил  свое  решени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зыв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 пришла  помощь  от  другого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ловека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ля какого возраста характерен детский суицид?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5278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ти до 11 л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еальных попыток уйти из жизни почт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 делают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к суицидной активности приходится 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арший подростковый возраст (14 — 16 лет)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/3 суицид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реди подростков совершаются при ясном уме и твердой памя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Рисунок 3" descr="возлюби ближнего твоего, как самого себя (Матф. 22:39)"/>
          <p:cNvPicPr/>
          <p:nvPr/>
        </p:nvPicPr>
        <p:blipFill>
          <a:blip r:embed="rId1"/>
          <a:stretch/>
        </p:blipFill>
        <p:spPr>
          <a:xfrm>
            <a:off x="5292720" y="1989000"/>
            <a:ext cx="3244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 rot="21325800">
            <a:off x="299520" y="619200"/>
            <a:ext cx="6343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Как правило, суицид не происходи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                   </a:t>
            </a: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без предупрежд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ьшинство подростков, которые пытаются покончить с собой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очти всегд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едупреждают о своем намерени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говорят либо делают что-то такое, что служит намеком, предупреждением о том, что они оказались в безвыходной ситуации и думают о смерти. О своих планах расстаться с жизнь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 делятс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с окружающим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ишь немногие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Кто-то из друзей оказывается в курсе дела всегд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имптомы суицидального поведени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подростк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5565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зговоры о смерти и самоубийствах, желание пофантазировать на эту тему вслу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стремление к одиночеству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ссуждения на тему: «Я никому не нужен», «Все равно никто не будет обо мне тосковать»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чрезмерное внимание к мотивам смерти в музыке, искусстве или 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завуалированные попытки «попрощаться» (дарение своих вещей и любимых предметов близким друзьям; приведение дел в порядок)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06200" y="2565360"/>
            <a:ext cx="1686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едпосылки подростка к совершению суици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подростка понимать и выражать свои чувств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яснять свои пережива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войственность ощущения своего места в мир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ксимализм оценок и приговор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67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 rot="21325800">
            <a:off x="372600" y="382680"/>
            <a:ext cx="6235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ahoma"/>
              </a:rPr>
              <a:t>КАК ПРЕДОТВРАТИТЬ ТРАГЕДИЮ</a:t>
            </a: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048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 НАДО РАГОВАРИВАТЬ С ПОДРОСТКОМ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нимательно выслушайте решившегося на самоубийство подрост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иложите все усилия, чтобы понять проблему, скрытую за слова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цените серьезность намерения и чувств ребен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Если он или она уже имеют конкретный план самоубийства, ситуация более острая, чем если эти планы расплывчаты и неопределен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цените глубину эмоционального кризис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Подросток может испытывать серьезные трудности, но при этом и не помышлять о самоубийств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нимательно отнеситесь ко всем, даже самым незначительным обидам и жалоба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 бойтесь прямо спросить, не думает ли он о самоубийстве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Опыт показывает, что такой вопрос редко приносит вред. Часто подросток бывает рад возможности высказать свои проблемы.</a:t>
            </a:r>
            <a:br>
              <a:rPr sz="18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9" descr="img3492min"/>
          <p:cNvPicPr/>
          <p:nvPr/>
        </p:nvPicPr>
        <p:blipFill>
          <a:blip r:embed="rId1"/>
          <a:stretch/>
        </p:blipFill>
        <p:spPr>
          <a:xfrm>
            <a:off x="6118200" y="3645000"/>
            <a:ext cx="3025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50920" y="18900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орогая мама, папа и все остальны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ростите меня за то, что я сделал, но я любил вас всех и буду любить вас всегда, вечно. Пожалуйста, пожалуйста, пожалуйста, не вините себя за это. Это все была моя вина, не ваша или кого-то другого. Если бы я не сделал этого сейчас, я бы сделал это позж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ы все умрем когда-нибудь, я просто умер раньш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Люблю вас, Ив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98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Что надо делать?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неситесь серьёзно ко всем угрозам. Пусть специалист решает, насколько они серьёз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Говорите открыто, прям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Дайте подростку почувствовать, что вам не всё равн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Слушайте с чувством искренности, понимани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Отстаивайте свою точку зрения, что самоубийство – это неэффективное решение всех пробл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рибегните к помощи авторитетных люде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Заключите соглашение о несовершении самоубий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одумайте, кто может помочь подростк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ригласите психотерапевта, который может вывести ребёнка из кризисного состояния, доставьте ребёнка в психоневрологический центр или больниц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Останьтесь с подростком; если вам нужно уйти, оставьте его на попечение другого взрослог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оговорите с кем-нибудь о ваших опасения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Если вы не знаете, что делать, обратитесь к школьному психологу или в специальную службу психологической помощи.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Чего не надо делать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говорите: «Посмотри на всё, ради чего ты должен жить»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вдавайтесь в философские рассуждения, то есть, не полемизируйте о том, хорошо или плохо совершать самоубийство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пытайтесь применять прямо противоположные психологические приёмы на подростке, помышляющем о самоубийстве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оставляйте там, где находится ребёнок, лекарство, оружие, - режущие предметы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пытайтесь выступить в роли судь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думайте, что подросток ищет только внимания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оставляйте ребёнка одного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держите в секрете то, о чём вы думаете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58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0" y="71280"/>
          <a:ext cx="9143640" cy="7245000"/>
        </p:xfrm>
        <a:graphic>
          <a:graphicData uri="http://schemas.openxmlformats.org/drawingml/2006/table">
            <a:tbl>
              <a:tblPr/>
              <a:tblGrid>
                <a:gridCol w="3022200"/>
                <a:gridCol w="3022560"/>
                <a:gridCol w="309888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сли вы слыш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каж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Tahoma"/>
                        </a:rPr>
                        <a:t>Не говор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14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нави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иться, ненавижу училище (школ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происходит в училище (школе), что заставляет тебя так чувствов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гда я был в твоём возрасте… Да ты просто лентяй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200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ё кажется таким безнадёжны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огда все мы чувствуем себя подавленными. Давай посмотрим, какие у нас проблемы, и какую из них нужно решить в первую очере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умай лучше о тех, кому ещё хуже, чем теб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м было бы лучше без меня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 очень много значишь для меня, и меня беспокоит твоё настроение. Скажи мне, что происходи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говори глупостей. Давай поговорим о чем-нибудь друг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не понимаете меня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скажи мне, как ты себя чувствуешь. Я действительно хочу это зн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же может понять подростков в наши дн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776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сли вы слыш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каж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Tahoma"/>
                        </a:rPr>
                        <a:t>Не говор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  совершил скверный поступок. Я такое натворил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ай сядем, поговорим об э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посеешь, то и пожнёш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 если  у меня не получи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сли не получится, я буду знать, что ты сделал всё возмож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сли не получится, значит, ты недостаточно старал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13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 rot="21325800">
            <a:off x="318960" y="-82080"/>
            <a:ext cx="48960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гда мы теряем ребенка из-за болезни или несчастного случая — это огромное горе для нас, родител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о когда ребенок— этот еще не оперившийся птенец — сам прерывает свой жизненный полет — это величайшая и непоправимая трагедия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мертью каждого ребе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ибнет Вселенная – неповторим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ир идей, чувствова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живаний, неповторимый ми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419640" y="4508640"/>
            <a:ext cx="3528720" cy="23716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7093080" y="4869000"/>
            <a:ext cx="169200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395280" y="95040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оссия удерживает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место в мире по числу самоубийств среди молодеж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270828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вопро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Задумывались ли вы о самоубийстве?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дростки 14- 18 лет отвечали:</a:t>
            </a: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40% Всегда</a:t>
            </a:r>
            <a:br>
              <a:rPr sz="2000"/>
            </a:b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15% 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25% Никогда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20% Н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5" descr="7056[1]"/>
          <p:cNvPicPr/>
          <p:nvPr/>
        </p:nvPicPr>
        <p:blipFill>
          <a:blip r:embed="rId1"/>
          <a:stretch/>
        </p:blipFill>
        <p:spPr>
          <a:xfrm>
            <a:off x="4427640" y="333360"/>
            <a:ext cx="3114720" cy="3166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 2008 год в Москве и Московской област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0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ов покончили жизнь самоубийств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дростка были в состоянии алкогольного опья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ловек состояли на учете  в ПН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ов оставили предсмертные запис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а совершили самоубийство в связи с беспомощностью перед семейными проблемами ( пьянство родителе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плеск самоубийств в 2008г приходи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весну – 33,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лето – 30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3% - учащиеся шк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случаев суицида в учреждения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чального и среднего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ТРАШНАЯ СТАТИСТИ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981000"/>
            <a:ext cx="644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ЧТО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ВАЖНО ЗНАТЬ О СУИЦИДЕ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428400"/>
            <a:ext cx="854064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Суици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одним из наиболее трагических видов общественного поведения, связанного с потерей смысла жизни. Особенно трагичен суицид детей и подростк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анным статистики, наибольшее количество суицидов соверша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сенью (в октябре) и весной (в апреле, мае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возрасту пик суицидов приходится н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5 – 16 л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 практически не встречается у детей до 8 л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половой принадлежности больше склонны к суицида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мальчи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92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детей и подростков, совершивших суицид, не попадали в поле зрения психиат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5" descr="рла"/>
          <p:cNvPicPr/>
          <p:nvPr/>
        </p:nvPicPr>
        <p:blipFill>
          <a:blip r:embed="rId1"/>
          <a:stretch/>
        </p:blipFill>
        <p:spPr>
          <a:xfrm>
            <a:off x="2627280" y="3429000"/>
            <a:ext cx="360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5278320" cy="45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Суицидальное поведение подростка возрастает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) в вечернее, ночное и утреннее время, когда он предоставлен сам себе, остается со своими мыслями и переживаниям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) в период «пиков возрастной суицидальности» (между 17 и 24 годами,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) в условиях тяжелой моральной психологической обстанов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16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няти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смерть"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 подростковом возрасте обыч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спринимается весьма абстрактно, как что- то временно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хожее на сон, не всегда связанное с собственн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чность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ногие подростки, совершая суицид, прямо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едусматривают смертельного исхода. В отличие о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зрослых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у них отсутствуют четкие границ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между истинн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уицидальной попыткой и демонстративно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шантажирующим поступк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3887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1077120"/>
            <a:ext cx="53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Каковы основные факторы, способствующие попыткам суицида у молодежи 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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а  первом  мест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- отношения  с  родителями  (в  70% случаев  эти проблемы непосредственно связаны с суицидом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  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а втором мест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-  трудности, связанные со школой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  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а третьем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- проблемы  взаимоотношений  с  друзьями,  в основном противоположного пола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6" descr="рп"/>
          <p:cNvPicPr/>
          <p:nvPr/>
        </p:nvPicPr>
        <p:blipFill>
          <a:blip r:embed="rId1"/>
          <a:stretch/>
        </p:blipFill>
        <p:spPr>
          <a:xfrm>
            <a:off x="5219640" y="1268280"/>
            <a:ext cx="3598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0:59:12Z</dcterms:created>
  <dc:creator>DARA</dc:creator>
  <dc:description/>
  <dc:language>en-US</dc:language>
  <cp:lastModifiedBy>Компьютер психолога</cp:lastModifiedBy>
  <dcterms:modified xsi:type="dcterms:W3CDTF">2009-12-04T11:51:39Z</dcterms:modified>
  <cp:revision>91</cp:revision>
  <dc:subject/>
  <dc:title>Слайд 1</dc:title>
</cp:coreProperties>
</file>