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A1F-B468-4E2C-84DB-EC3D3FC4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EF8-FCFC-40A1-99E4-E365D813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DB31-A5EC-41DD-98B4-784AD1A2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414-878B-4901-822F-AAC7DE84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D54-5371-41D9-BE9E-71A09037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7B8-36A0-4F9B-A0E7-4C723339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B7BE-E96C-4F48-99ED-B8716BA4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001-28A5-4258-A1C0-20ADBDF1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5D0-DAE6-4294-98B0-79FD406F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EE3-516B-4BCF-ABD9-2A726441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73B4-59BC-44CA-88CA-6E785DC9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B76-DBA4-4CC1-9989-34E1B492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7B4B-84EC-410D-A46F-4D3C7D5702F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778200" y="5157720"/>
            <a:ext cx="85708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ицей №1 г. Жуковка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рибкова Валентина Андреевна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79280" y="1844640"/>
            <a:ext cx="85424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Алгоритм решения уравнения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79280" y="907920"/>
            <a:ext cx="3313080" cy="93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Х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3 </a:t>
            </a:r>
            <a:r>
              <a:rPr b="1" lang="ru-RU" sz="4400" spc="-1" strike="noStrike">
                <a:solidFill>
                  <a:srgbClr val="00ffff"/>
                </a:solidFill>
                <a:latin typeface="Arial"/>
              </a:rPr>
              <a:t>=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8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81000" y="-41760"/>
            <a:ext cx="88120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РАВНЕНИЯ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228600" y="476280"/>
            <a:ext cx="2471760" cy="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6" name="Picture 2" descr="совенок"/>
          <p:cNvPicPr/>
          <p:nvPr/>
        </p:nvPicPr>
        <p:blipFill>
          <a:blip r:embed="rId1"/>
          <a:stretch/>
        </p:blipFill>
        <p:spPr>
          <a:xfrm>
            <a:off x="6156360" y="4437000"/>
            <a:ext cx="2819520" cy="22636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192600" y="2425680"/>
            <a:ext cx="22748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9 </a:t>
            </a:r>
            <a:r>
              <a:rPr b="1" lang="ru-RU" sz="4400" spc="-1" strike="noStrike">
                <a:solidFill>
                  <a:srgbClr val="00ffff"/>
                </a:solidFill>
                <a:latin typeface="Arial"/>
              </a:rPr>
              <a:t>-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Arial"/>
              </a:rPr>
              <a:t>=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Овал 14"/>
          <p:cNvSpPr/>
          <p:nvPr/>
        </p:nvSpPr>
        <p:spPr>
          <a:xfrm>
            <a:off x="4284720" y="1557360"/>
            <a:ext cx="129528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Oval 30"/>
          <p:cNvSpPr/>
          <p:nvPr/>
        </p:nvSpPr>
        <p:spPr>
          <a:xfrm>
            <a:off x="5219640" y="1197000"/>
            <a:ext cx="360360" cy="431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Oval 30"/>
          <p:cNvSpPr/>
          <p:nvPr/>
        </p:nvSpPr>
        <p:spPr>
          <a:xfrm>
            <a:off x="5651640" y="1197000"/>
            <a:ext cx="360360" cy="431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Oval 30"/>
          <p:cNvSpPr/>
          <p:nvPr/>
        </p:nvSpPr>
        <p:spPr>
          <a:xfrm>
            <a:off x="6084720" y="1197000"/>
            <a:ext cx="358920" cy="431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Oval 30"/>
          <p:cNvSpPr/>
          <p:nvPr/>
        </p:nvSpPr>
        <p:spPr>
          <a:xfrm>
            <a:off x="7524720" y="981000"/>
            <a:ext cx="360360" cy="432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Oval 30"/>
          <p:cNvSpPr/>
          <p:nvPr/>
        </p:nvSpPr>
        <p:spPr>
          <a:xfrm>
            <a:off x="7093080" y="981000"/>
            <a:ext cx="358560" cy="432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Oval 30"/>
          <p:cNvSpPr/>
          <p:nvPr/>
        </p:nvSpPr>
        <p:spPr>
          <a:xfrm>
            <a:off x="7956720" y="981000"/>
            <a:ext cx="360360" cy="432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Oval 30"/>
          <p:cNvSpPr/>
          <p:nvPr/>
        </p:nvSpPr>
        <p:spPr>
          <a:xfrm>
            <a:off x="8388360" y="981000"/>
            <a:ext cx="360360" cy="432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Oval 30"/>
          <p:cNvSpPr/>
          <p:nvPr/>
        </p:nvSpPr>
        <p:spPr>
          <a:xfrm>
            <a:off x="7956720" y="1484280"/>
            <a:ext cx="360360" cy="432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Oval 30"/>
          <p:cNvSpPr/>
          <p:nvPr/>
        </p:nvSpPr>
        <p:spPr>
          <a:xfrm>
            <a:off x="8383680" y="1484280"/>
            <a:ext cx="360360" cy="432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Oval 30"/>
          <p:cNvSpPr/>
          <p:nvPr/>
        </p:nvSpPr>
        <p:spPr>
          <a:xfrm>
            <a:off x="7093080" y="1484280"/>
            <a:ext cx="358560" cy="432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Oval 30"/>
          <p:cNvSpPr/>
          <p:nvPr/>
        </p:nvSpPr>
        <p:spPr>
          <a:xfrm>
            <a:off x="7524720" y="1484280"/>
            <a:ext cx="360360" cy="432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Прямоугольник 30"/>
          <p:cNvSpPr/>
          <p:nvPr/>
        </p:nvSpPr>
        <p:spPr>
          <a:xfrm>
            <a:off x="6539400" y="907920"/>
            <a:ext cx="5068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Arial"/>
              </a:rPr>
              <a:t>=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Прямоугольник 31"/>
          <p:cNvSpPr/>
          <p:nvPr/>
        </p:nvSpPr>
        <p:spPr>
          <a:xfrm>
            <a:off x="4708800" y="836640"/>
            <a:ext cx="5068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Arial"/>
              </a:rPr>
              <a:t>+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Прямоугольник 32"/>
          <p:cNvSpPr/>
          <p:nvPr/>
        </p:nvSpPr>
        <p:spPr>
          <a:xfrm>
            <a:off x="4230000" y="836640"/>
            <a:ext cx="5540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Oval 30"/>
          <p:cNvSpPr/>
          <p:nvPr/>
        </p:nvSpPr>
        <p:spPr>
          <a:xfrm>
            <a:off x="4211640" y="2421000"/>
            <a:ext cx="36036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Oval 30"/>
          <p:cNvSpPr/>
          <p:nvPr/>
        </p:nvSpPr>
        <p:spPr>
          <a:xfrm>
            <a:off x="4211640" y="2924280"/>
            <a:ext cx="36036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Oval 30"/>
          <p:cNvSpPr/>
          <p:nvPr/>
        </p:nvSpPr>
        <p:spPr>
          <a:xfrm>
            <a:off x="4643280" y="2421000"/>
            <a:ext cx="36036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Oval 30"/>
          <p:cNvSpPr/>
          <p:nvPr/>
        </p:nvSpPr>
        <p:spPr>
          <a:xfrm>
            <a:off x="4643280" y="2924280"/>
            <a:ext cx="36036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5076720" y="2421000"/>
            <a:ext cx="35892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Oval 30"/>
          <p:cNvSpPr/>
          <p:nvPr/>
        </p:nvSpPr>
        <p:spPr>
          <a:xfrm>
            <a:off x="5076720" y="2924280"/>
            <a:ext cx="35892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Oval 30"/>
          <p:cNvSpPr/>
          <p:nvPr/>
        </p:nvSpPr>
        <p:spPr>
          <a:xfrm>
            <a:off x="4211640" y="3429000"/>
            <a:ext cx="36036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Oval 30"/>
          <p:cNvSpPr/>
          <p:nvPr/>
        </p:nvSpPr>
        <p:spPr>
          <a:xfrm>
            <a:off x="7380360" y="3213000"/>
            <a:ext cx="36036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Oval 30"/>
          <p:cNvSpPr/>
          <p:nvPr/>
        </p:nvSpPr>
        <p:spPr>
          <a:xfrm>
            <a:off x="7812000" y="3213000"/>
            <a:ext cx="36036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Oval 30"/>
          <p:cNvSpPr/>
          <p:nvPr/>
        </p:nvSpPr>
        <p:spPr>
          <a:xfrm>
            <a:off x="8244000" y="3213000"/>
            <a:ext cx="36036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Oval 30"/>
          <p:cNvSpPr/>
          <p:nvPr/>
        </p:nvSpPr>
        <p:spPr>
          <a:xfrm>
            <a:off x="7380360" y="2708280"/>
            <a:ext cx="36036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Oval 30"/>
          <p:cNvSpPr/>
          <p:nvPr/>
        </p:nvSpPr>
        <p:spPr>
          <a:xfrm>
            <a:off x="7812000" y="2708280"/>
            <a:ext cx="36036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Oval 30"/>
          <p:cNvSpPr/>
          <p:nvPr/>
        </p:nvSpPr>
        <p:spPr>
          <a:xfrm>
            <a:off x="8244000" y="2708280"/>
            <a:ext cx="360360" cy="43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Oval 30"/>
          <p:cNvSpPr/>
          <p:nvPr/>
        </p:nvSpPr>
        <p:spPr>
          <a:xfrm>
            <a:off x="5076720" y="3429000"/>
            <a:ext cx="35892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Oval 30"/>
          <p:cNvSpPr/>
          <p:nvPr/>
        </p:nvSpPr>
        <p:spPr>
          <a:xfrm>
            <a:off x="4643280" y="3429000"/>
            <a:ext cx="36036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Прямоугольник 48"/>
          <p:cNvSpPr/>
          <p:nvPr/>
        </p:nvSpPr>
        <p:spPr>
          <a:xfrm>
            <a:off x="5582520" y="2492280"/>
            <a:ext cx="3664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Arial"/>
              </a:rPr>
              <a:t>-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Прямоугольник 49"/>
          <p:cNvSpPr/>
          <p:nvPr/>
        </p:nvSpPr>
        <p:spPr>
          <a:xfrm>
            <a:off x="5986440" y="2421000"/>
            <a:ext cx="3859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Прямоугольник 50"/>
          <p:cNvSpPr/>
          <p:nvPr/>
        </p:nvSpPr>
        <p:spPr>
          <a:xfrm>
            <a:off x="6481800" y="2604960"/>
            <a:ext cx="3938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Arial"/>
              </a:rPr>
              <a:t>=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08000" y="692280"/>
            <a:ext cx="8785080" cy="511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14440" indent="-514440">
              <a:lnSpc>
                <a:spcPct val="140000"/>
              </a:lnSpc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итаю уравнение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514440" indent="-514440">
              <a:lnSpc>
                <a:spcPct val="140000"/>
              </a:lnSpc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ределяю неизвестные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514440" indent="-514440">
              <a:lnSpc>
                <a:spcPct val="140000"/>
              </a:lnSpc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меняю правило,                          нахожу неизвестные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514440" indent="-514440">
              <a:lnSpc>
                <a:spcPct val="140000"/>
              </a:lnSpc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полняю проверку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514440" indent="-514440">
              <a:lnSpc>
                <a:spcPct val="140000"/>
              </a:lnSpc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шу ответ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-41760"/>
            <a:ext cx="88120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ЛГОРИТМ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34920" y="476280"/>
            <a:ext cx="2305080" cy="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700360" y="836640"/>
            <a:ext cx="8783640" cy="93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14440" indent="-514440"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Х + 3 =  8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-41760"/>
            <a:ext cx="88120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БРАЗЕЦ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34920" y="549360"/>
            <a:ext cx="2016000" cy="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3718800" y="650880"/>
            <a:ext cx="56160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Arial"/>
              </a:rPr>
              <a:t>_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2700360" y="620640"/>
            <a:ext cx="7192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Arial"/>
              </a:rPr>
              <a:t>_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4716360" y="933480"/>
            <a:ext cx="719280" cy="69516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 flipH="1">
            <a:off x="4066560" y="3500280"/>
            <a:ext cx="8650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4654440" y="1484280"/>
            <a:ext cx="56160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Arial"/>
              </a:rPr>
              <a:t>_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Прямоугольник 9"/>
          <p:cNvSpPr/>
          <p:nvPr/>
        </p:nvSpPr>
        <p:spPr>
          <a:xfrm>
            <a:off x="2700360" y="1628640"/>
            <a:ext cx="2592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Х =  8 - 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2703600" y="1514520"/>
            <a:ext cx="56160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Arial"/>
              </a:rPr>
              <a:t>_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Прямоугольник 11"/>
          <p:cNvSpPr/>
          <p:nvPr/>
        </p:nvSpPr>
        <p:spPr>
          <a:xfrm>
            <a:off x="2709000" y="2425680"/>
            <a:ext cx="1501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Х = 5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Прямоугольник 12"/>
          <p:cNvSpPr/>
          <p:nvPr/>
        </p:nvSpPr>
        <p:spPr>
          <a:xfrm>
            <a:off x="2674080" y="3144960"/>
            <a:ext cx="30398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верка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Прямоугольник 13"/>
          <p:cNvSpPr/>
          <p:nvPr/>
        </p:nvSpPr>
        <p:spPr>
          <a:xfrm>
            <a:off x="2747160" y="3860640"/>
            <a:ext cx="25430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5 + 3 =  8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Прямоугольник 14"/>
          <p:cNvSpPr/>
          <p:nvPr/>
        </p:nvSpPr>
        <p:spPr>
          <a:xfrm>
            <a:off x="2764080" y="4581360"/>
            <a:ext cx="1595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8 = 8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Прямоугольник 15"/>
          <p:cNvSpPr/>
          <p:nvPr/>
        </p:nvSpPr>
        <p:spPr>
          <a:xfrm>
            <a:off x="2705040" y="5229360"/>
            <a:ext cx="2626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твет: 5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Прямоугольник 16"/>
          <p:cNvSpPr/>
          <p:nvPr/>
        </p:nvSpPr>
        <p:spPr>
          <a:xfrm>
            <a:off x="3708360" y="1870200"/>
            <a:ext cx="719280" cy="69516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Прямоугольник 17"/>
          <p:cNvSpPr/>
          <p:nvPr/>
        </p:nvSpPr>
        <p:spPr>
          <a:xfrm>
            <a:off x="4643280" y="4005360"/>
            <a:ext cx="720720" cy="69516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Прямоугольник 19"/>
          <p:cNvSpPr/>
          <p:nvPr/>
        </p:nvSpPr>
        <p:spPr>
          <a:xfrm>
            <a:off x="2700360" y="3746520"/>
            <a:ext cx="3841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Arial"/>
              </a:rPr>
              <a:t>_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Прямоугольник 20"/>
          <p:cNvSpPr/>
          <p:nvPr/>
        </p:nvSpPr>
        <p:spPr>
          <a:xfrm>
            <a:off x="3639240" y="3716280"/>
            <a:ext cx="56160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Arial"/>
              </a:rPr>
              <a:t>_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Прямоугольник 21"/>
          <p:cNvSpPr/>
          <p:nvPr/>
        </p:nvSpPr>
        <p:spPr>
          <a:xfrm>
            <a:off x="2703600" y="4394160"/>
            <a:ext cx="56160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Arial"/>
              </a:rPr>
              <a:t>_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Прямоугольник 22"/>
          <p:cNvSpPr/>
          <p:nvPr/>
        </p:nvSpPr>
        <p:spPr>
          <a:xfrm>
            <a:off x="3639240" y="4437000"/>
            <a:ext cx="56160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Arial"/>
              </a:rPr>
              <a:t>_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Прямоугольник 23"/>
          <p:cNvSpPr/>
          <p:nvPr/>
        </p:nvSpPr>
        <p:spPr>
          <a:xfrm>
            <a:off x="6346800" y="1844640"/>
            <a:ext cx="12495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Прямоугольник 29"/>
          <p:cNvSpPr/>
          <p:nvPr/>
        </p:nvSpPr>
        <p:spPr>
          <a:xfrm>
            <a:off x="2664000" y="2276640"/>
            <a:ext cx="370836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Arial"/>
              </a:rPr>
              <a:t>____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50920" y="1844640"/>
            <a:ext cx="8785080" cy="115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14440" indent="-514440"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a-VA" sz="5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- 4 = 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-7200"/>
            <a:ext cx="881208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Помоги Вове отметить в уравнениях  и на схемах целое и части и подобрать  к уравнениям нужные схемы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5654880" y="1773360"/>
            <a:ext cx="334620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a-VA" sz="5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- 3 = 4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2631600" y="1844640"/>
            <a:ext cx="34711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7 – </a:t>
            </a:r>
            <a:r>
              <a:rPr b="1" lang="la-VA" sz="5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= 4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395280" y="4005360"/>
            <a:ext cx="5954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 flipV="1">
            <a:off x="1042920" y="4941360"/>
            <a:ext cx="1905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Дуга 14"/>
          <p:cNvSpPr/>
          <p:nvPr/>
        </p:nvSpPr>
        <p:spPr>
          <a:xfrm flipH="1" rot="21410400">
            <a:off x="634320" y="4438440"/>
            <a:ext cx="2771640" cy="3552840"/>
          </a:xfrm>
          <a:custGeom>
            <a:avLst/>
            <a:gdLst>
              <a:gd name="textAreaLeft" fmla="*/ 415080 w 2771640"/>
              <a:gd name="textAreaRight" fmla="*/ 2286000 w 2771640"/>
              <a:gd name="textAreaTop" fmla="*/ 0 h 3552840"/>
              <a:gd name="textAreaBottom" fmla="*/ 508320 h 3552840"/>
            </a:gdLst>
            <a:ahLst/>
            <a:rect l="textAreaLeft" t="textAreaTop" r="textAreaRight" b="textAreaBottom"/>
            <a:pathLst>
              <a:path stroke="0" w="2771775" h="3552825">
                <a:moveTo>
                  <a:pt x="415265" y="508430"/>
                </a:moveTo>
                <a:lnTo>
                  <a:pt x="415265" y="508430"/>
                </a:lnTo>
                <a:arcTo wR="1385888" hR="1776413" stAng="-7646013" swAng="4266644"/>
                <a:lnTo>
                  <a:pt x="1385888" y="1776413"/>
                </a:lnTo>
                <a:close/>
              </a:path>
              <a:path fill="none" w="2771775" h="3552825">
                <a:moveTo>
                  <a:pt x="415265" y="508430"/>
                </a:moveTo>
                <a:lnTo>
                  <a:pt x="415265" y="508430"/>
                </a:lnTo>
                <a:arcTo wR="1385888" hR="1776413" stAng="-7646013" swAng="4266644"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Прямая соединительная линия 17"/>
          <p:cNvSpPr/>
          <p:nvPr/>
        </p:nvSpPr>
        <p:spPr>
          <a:xfrm>
            <a:off x="104292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Прямоугольник 18"/>
          <p:cNvSpPr/>
          <p:nvPr/>
        </p:nvSpPr>
        <p:spPr>
          <a:xfrm>
            <a:off x="3942720" y="4089240"/>
            <a:ext cx="16441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Прямая соединительная линия 19"/>
          <p:cNvSpPr/>
          <p:nvPr/>
        </p:nvSpPr>
        <p:spPr>
          <a:xfrm>
            <a:off x="176364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Прямая соединительная линия 20"/>
          <p:cNvSpPr/>
          <p:nvPr/>
        </p:nvSpPr>
        <p:spPr>
          <a:xfrm>
            <a:off x="291636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Прямоугольник 21"/>
          <p:cNvSpPr/>
          <p:nvPr/>
        </p:nvSpPr>
        <p:spPr>
          <a:xfrm>
            <a:off x="1741680" y="3813120"/>
            <a:ext cx="378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a-VA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Прямоугольник 22"/>
          <p:cNvSpPr/>
          <p:nvPr/>
        </p:nvSpPr>
        <p:spPr>
          <a:xfrm>
            <a:off x="748080" y="4965840"/>
            <a:ext cx="1407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Прямоугольник 23"/>
          <p:cNvSpPr/>
          <p:nvPr/>
        </p:nvSpPr>
        <p:spPr>
          <a:xfrm>
            <a:off x="2198880" y="4941720"/>
            <a:ext cx="378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Прямая соединительная линия 24"/>
          <p:cNvSpPr/>
          <p:nvPr/>
        </p:nvSpPr>
        <p:spPr>
          <a:xfrm flipV="1">
            <a:off x="5332320" y="4938840"/>
            <a:ext cx="190368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Дуга 25"/>
          <p:cNvSpPr/>
          <p:nvPr/>
        </p:nvSpPr>
        <p:spPr>
          <a:xfrm flipH="1" rot="21410400">
            <a:off x="4944960" y="4438440"/>
            <a:ext cx="2772000" cy="3552840"/>
          </a:xfrm>
          <a:custGeom>
            <a:avLst/>
            <a:gdLst>
              <a:gd name="textAreaLeft" fmla="*/ 415080 w 2772000"/>
              <a:gd name="textAreaRight" fmla="*/ 2286360 w 2772000"/>
              <a:gd name="textAreaTop" fmla="*/ 0 h 3552840"/>
              <a:gd name="textAreaBottom" fmla="*/ 508320 h 3552840"/>
            </a:gdLst>
            <a:ahLst/>
            <a:rect l="textAreaLeft" t="textAreaTop" r="textAreaRight" b="textAreaBottom"/>
            <a:pathLst>
              <a:path stroke="0" w="2771775" h="3552825">
                <a:moveTo>
                  <a:pt x="415265" y="508430"/>
                </a:moveTo>
                <a:lnTo>
                  <a:pt x="415265" y="508430"/>
                </a:lnTo>
                <a:arcTo wR="1385888" hR="1776413" stAng="-7646013" swAng="4266644"/>
                <a:lnTo>
                  <a:pt x="1385888" y="1776413"/>
                </a:lnTo>
                <a:close/>
              </a:path>
              <a:path fill="none" w="2771775" h="3552825">
                <a:moveTo>
                  <a:pt x="415265" y="508430"/>
                </a:moveTo>
                <a:lnTo>
                  <a:pt x="415265" y="508430"/>
                </a:lnTo>
                <a:arcTo wR="1385888" hR="1776413" stAng="-7646013" swAng="4266644"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Прямая соединительная линия 26"/>
          <p:cNvSpPr/>
          <p:nvPr/>
        </p:nvSpPr>
        <p:spPr>
          <a:xfrm>
            <a:off x="529272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Прямая соединительная линия 27"/>
          <p:cNvSpPr/>
          <p:nvPr/>
        </p:nvSpPr>
        <p:spPr>
          <a:xfrm>
            <a:off x="608472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Прямая соединительная линия 28"/>
          <p:cNvSpPr/>
          <p:nvPr/>
        </p:nvSpPr>
        <p:spPr>
          <a:xfrm>
            <a:off x="723600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Прямоугольник 29"/>
          <p:cNvSpPr/>
          <p:nvPr/>
        </p:nvSpPr>
        <p:spPr>
          <a:xfrm>
            <a:off x="5485680" y="4821120"/>
            <a:ext cx="378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a-VA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Прямоугольник 30"/>
          <p:cNvSpPr/>
          <p:nvPr/>
        </p:nvSpPr>
        <p:spPr>
          <a:xfrm>
            <a:off x="6494040" y="4818240"/>
            <a:ext cx="378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Прямоугольник 31"/>
          <p:cNvSpPr/>
          <p:nvPr/>
        </p:nvSpPr>
        <p:spPr>
          <a:xfrm>
            <a:off x="6087600" y="3882960"/>
            <a:ext cx="378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-108000" y="29520"/>
            <a:ext cx="88124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Вот, что у нас получилось: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345960" y="1874880"/>
            <a:ext cx="35020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a-VA" sz="5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4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Прямоугольник 5"/>
          <p:cNvSpPr/>
          <p:nvPr/>
        </p:nvSpPr>
        <p:spPr>
          <a:xfrm>
            <a:off x="4432680" y="1844640"/>
            <a:ext cx="362700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7  – </a:t>
            </a:r>
            <a:r>
              <a:rPr b="1" lang="la-VA" sz="5400" spc="-1" strike="noStrike" u="sng">
                <a:solidFill>
                  <a:srgbClr val="ffffff"/>
                </a:solidFill>
                <a:uFillTx/>
                <a:latin typeface="Arial"/>
              </a:rPr>
              <a:t>y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4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395280" y="4005360"/>
            <a:ext cx="5954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Прямая соединительная линия 8"/>
          <p:cNvSpPr/>
          <p:nvPr/>
        </p:nvSpPr>
        <p:spPr>
          <a:xfrm flipV="1">
            <a:off x="1042920" y="4941360"/>
            <a:ext cx="1905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Дуга 14"/>
          <p:cNvSpPr/>
          <p:nvPr/>
        </p:nvSpPr>
        <p:spPr>
          <a:xfrm flipH="1" rot="21410400">
            <a:off x="634320" y="4438440"/>
            <a:ext cx="2771640" cy="3552840"/>
          </a:xfrm>
          <a:custGeom>
            <a:avLst/>
            <a:gdLst>
              <a:gd name="textAreaLeft" fmla="*/ 415080 w 2771640"/>
              <a:gd name="textAreaRight" fmla="*/ 2286000 w 2771640"/>
              <a:gd name="textAreaTop" fmla="*/ 0 h 3552840"/>
              <a:gd name="textAreaBottom" fmla="*/ 508320 h 3552840"/>
            </a:gdLst>
            <a:ahLst/>
            <a:rect l="textAreaLeft" t="textAreaTop" r="textAreaRight" b="textAreaBottom"/>
            <a:pathLst>
              <a:path stroke="0" w="2771775" h="3552825">
                <a:moveTo>
                  <a:pt x="415265" y="508430"/>
                </a:moveTo>
                <a:lnTo>
                  <a:pt x="415265" y="508430"/>
                </a:lnTo>
                <a:arcTo wR="1385888" hR="1776413" stAng="-7646013" swAng="4266644"/>
                <a:lnTo>
                  <a:pt x="1385888" y="1776413"/>
                </a:lnTo>
                <a:close/>
              </a:path>
              <a:path fill="none" w="2771775" h="3552825">
                <a:moveTo>
                  <a:pt x="415265" y="508430"/>
                </a:moveTo>
                <a:lnTo>
                  <a:pt x="415265" y="508430"/>
                </a:lnTo>
                <a:arcTo wR="1385888" hR="1776413" stAng="-7646013" swAng="4266644"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Прямая соединительная линия 17"/>
          <p:cNvSpPr/>
          <p:nvPr/>
        </p:nvSpPr>
        <p:spPr>
          <a:xfrm>
            <a:off x="104292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Прямоугольник 18"/>
          <p:cNvSpPr/>
          <p:nvPr/>
        </p:nvSpPr>
        <p:spPr>
          <a:xfrm>
            <a:off x="3942720" y="4089240"/>
            <a:ext cx="16441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Прямая соединительная линия 19"/>
          <p:cNvSpPr/>
          <p:nvPr/>
        </p:nvSpPr>
        <p:spPr>
          <a:xfrm>
            <a:off x="176364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Прямая соединительная линия 20"/>
          <p:cNvSpPr/>
          <p:nvPr/>
        </p:nvSpPr>
        <p:spPr>
          <a:xfrm>
            <a:off x="291636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Прямоугольник 21"/>
          <p:cNvSpPr/>
          <p:nvPr/>
        </p:nvSpPr>
        <p:spPr>
          <a:xfrm>
            <a:off x="1741680" y="3813120"/>
            <a:ext cx="378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a-VA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Прямоугольник 22"/>
          <p:cNvSpPr/>
          <p:nvPr/>
        </p:nvSpPr>
        <p:spPr>
          <a:xfrm>
            <a:off x="748080" y="4965840"/>
            <a:ext cx="1407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Прямоугольник 23"/>
          <p:cNvSpPr/>
          <p:nvPr/>
        </p:nvSpPr>
        <p:spPr>
          <a:xfrm>
            <a:off x="2198880" y="4941720"/>
            <a:ext cx="378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Прямая соединительная линия 24"/>
          <p:cNvSpPr/>
          <p:nvPr/>
        </p:nvSpPr>
        <p:spPr>
          <a:xfrm flipV="1">
            <a:off x="5332320" y="4938840"/>
            <a:ext cx="190368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Дуга 25"/>
          <p:cNvSpPr/>
          <p:nvPr/>
        </p:nvSpPr>
        <p:spPr>
          <a:xfrm flipH="1" rot="21410400">
            <a:off x="4944960" y="4438440"/>
            <a:ext cx="2772000" cy="3552840"/>
          </a:xfrm>
          <a:custGeom>
            <a:avLst/>
            <a:gdLst>
              <a:gd name="textAreaLeft" fmla="*/ 415080 w 2772000"/>
              <a:gd name="textAreaRight" fmla="*/ 2286360 w 2772000"/>
              <a:gd name="textAreaTop" fmla="*/ 0 h 3552840"/>
              <a:gd name="textAreaBottom" fmla="*/ 508320 h 3552840"/>
            </a:gdLst>
            <a:ahLst/>
            <a:rect l="textAreaLeft" t="textAreaTop" r="textAreaRight" b="textAreaBottom"/>
            <a:pathLst>
              <a:path stroke="0" w="2771775" h="3552825">
                <a:moveTo>
                  <a:pt x="415265" y="508430"/>
                </a:moveTo>
                <a:lnTo>
                  <a:pt x="415265" y="508430"/>
                </a:lnTo>
                <a:arcTo wR="1385888" hR="1776413" stAng="-7646013" swAng="4266644"/>
                <a:lnTo>
                  <a:pt x="1385888" y="1776413"/>
                </a:lnTo>
                <a:close/>
              </a:path>
              <a:path fill="none" w="2771775" h="3552825">
                <a:moveTo>
                  <a:pt x="415265" y="508430"/>
                </a:moveTo>
                <a:lnTo>
                  <a:pt x="415265" y="508430"/>
                </a:lnTo>
                <a:arcTo wR="1385888" hR="1776413" stAng="-7646013" swAng="4266644"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Прямая соединительная линия 26"/>
          <p:cNvSpPr/>
          <p:nvPr/>
        </p:nvSpPr>
        <p:spPr>
          <a:xfrm>
            <a:off x="529272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Прямая соединительная линия 27"/>
          <p:cNvSpPr/>
          <p:nvPr/>
        </p:nvSpPr>
        <p:spPr>
          <a:xfrm>
            <a:off x="608472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Прямая соединительная линия 28"/>
          <p:cNvSpPr/>
          <p:nvPr/>
        </p:nvSpPr>
        <p:spPr>
          <a:xfrm>
            <a:off x="7236000" y="47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Прямоугольник 29"/>
          <p:cNvSpPr/>
          <p:nvPr/>
        </p:nvSpPr>
        <p:spPr>
          <a:xfrm>
            <a:off x="5485680" y="4821120"/>
            <a:ext cx="378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a-VA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Прямоугольник 30"/>
          <p:cNvSpPr/>
          <p:nvPr/>
        </p:nvSpPr>
        <p:spPr>
          <a:xfrm>
            <a:off x="6494040" y="4818240"/>
            <a:ext cx="378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Прямоугольник 31"/>
          <p:cNvSpPr/>
          <p:nvPr/>
        </p:nvSpPr>
        <p:spPr>
          <a:xfrm>
            <a:off x="6087600" y="3882960"/>
            <a:ext cx="378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Прямоугольник 6"/>
          <p:cNvSpPr/>
          <p:nvPr/>
        </p:nvSpPr>
        <p:spPr>
          <a:xfrm>
            <a:off x="757080" y="2301840"/>
            <a:ext cx="719280" cy="69552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Прямоугольник 6"/>
          <p:cNvSpPr/>
          <p:nvPr/>
        </p:nvSpPr>
        <p:spPr>
          <a:xfrm>
            <a:off x="4789440" y="2205000"/>
            <a:ext cx="719280" cy="69552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y</dc:creator>
  <dc:description/>
  <dc:language>en-US</dc:language>
  <cp:lastModifiedBy>Andrey</cp:lastModifiedBy>
  <dcterms:modified xsi:type="dcterms:W3CDTF">2012-08-22T03:18:27Z</dcterms:modified>
  <cp:revision>351</cp:revision>
  <dc:subject/>
  <dc:title>PowerPoint Presentation</dc:title>
</cp:coreProperties>
</file>