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8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6.png" ContentType="image/png"/>
  <Override PartName="/ppt/media/image1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4C1-07C3-4619-9B26-3B5DE56B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81A-1165-4045-B3AA-ECBBC75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E55-BD6B-4A11-9BEC-CEB65617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8EC-1673-49C5-9FE1-043DFB5E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9F68-6DA7-4C6F-8498-6E929050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823-DFC6-488C-A79F-BD833867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F87-F96C-4253-B719-A1445780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8076-4960-4C3F-B0A2-37504F0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7F17-CEE1-4BF9-818D-00D377A4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BDC-DFAA-4613-AD6B-674A910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D81-833B-45C5-8B73-85BA646A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91A-5E4F-4A79-A450-7740E690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067A-AADA-457B-BCFB-B50D1F79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7C5B-1716-47AC-960D-57326C6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87C5-04F6-4118-9975-B0037B11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33C-7D49-4AF3-8771-4EA2799C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6344-A0A9-4CF6-AE92-5FC0AD30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E9F-4E36-4F98-9A71-7016E9B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25D-8AA1-4345-8F86-D82B3649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F77-3290-498F-803D-2693E4EC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817-1D68-4AA1-B95A-03E1E20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E4F-1037-4E1D-BED0-46323F86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880-C997-4CF1-8D25-430E6DB9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617-B212-45C8-8C52-C8F3933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2E23-D71E-4A6D-9E5A-E4FA65BF3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330-40AB-4A9B-AC9B-DE01F0902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rds.yahoo.com/S=96062857/K=&#1076;&#1088;&#1077;&#1074;&#1085;&#1080;&#1077;+&#1075;&#1077;&#1088;&#1073;&#1099;/v=2/SID=e/TID=I999_73/l=II/R=3/SS=i/OID=0e9e22f494ecba96/;_ylt=A9ibyGXDZjNEUzkB4meJzbkF;_ylu=X3oDMTBwanRiNzgwBHBvcwMzBHNlYwNzcgR2dGlkA0k5OTlfNzM-/SIG=1i1ebgs3n/EXP=1144305731/*-http%3A//images.search.yahoo.com/search/images/view?back=http%3A%2F%2Fimages.search.yahoo.com%2Fsearch%2Fimages%3Fp%3D%25D0%25B4%25D1%2580%25D0%25B5%25D0%25B2%25D0%25BD%25D0%25B8%25D0%25B5%2520%25D0%25B3%25D0%25B5%25D1%2580%25D0%25B1%25D1%258B%26ei%3DUTF-8&amp;w=100&amp;h=111&amp;imgurl=www.heritage.perm.ru%2Fgerbs%2Fimages%2Fgb__03.jpg&amp;rurl=http%3A%2F%2Fweblist.ru%2Fweblist-bin%2Fsite_descr%3Fhttp%253A%2F%2Fheritage.perm.ru%2Fgerbs%2F&amp;size=4.0kB&amp;name=gb__03.jpg&amp;p=&#1076;&#1088;&#1077;&#1074;&#1085;&#1080;&#1077;+&#1075;&#1077;&#1088;&#1073;&#1099;&amp;type=jpeg&amp;no=3&amp;tt=3&amp;ei=UTF-8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58920" y="765000"/>
            <a:ext cx="684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ы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3068640"/>
            <a:ext cx="727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ины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76720" y="4976640"/>
            <a:ext cx="3095640" cy="162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540640" cy="5904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 Black"/>
              </a:rPr>
              <a:t>Что обозначают цвета Российского фла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 u="sng">
                <a:solidFill>
                  <a:srgbClr val="edeee2"/>
                </a:solidFill>
                <a:uFillTx/>
                <a:latin typeface="Monotype Corsiva"/>
              </a:rPr>
              <a:t>Белый</a:t>
            </a:r>
            <a:r>
              <a:rPr b="1" lang="en-US" sz="3600" spc="-1" strike="noStrike">
                <a:solidFill>
                  <a:srgbClr val="edeee2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вет чистоты, невинности, веры. На флаге он обозначает божественный мир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ff"/>
                </a:solidFill>
                <a:uFillTx/>
                <a:latin typeface="Monotype Corsiva"/>
              </a:rPr>
              <a:t>Синий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вет неба, воды, мира. На флаге он обозначает мир небе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Красный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мвол мужества, силы и преданности. На флаге он обозначает физический мир-мир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2520" y="64911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2997000"/>
            <a:ext cx="8540640" cy="27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Гимн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торжественная песнь, главная песня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Гимном современной России является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мелодия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, написанная в 1943 году композитором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Александровым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В </a:t>
            </a:r>
            <a:r>
              <a:rPr b="1" lang="en-US" sz="2800" spc="-1" strike="noStrike">
                <a:solidFill>
                  <a:srgbClr val="800080"/>
                </a:solidFill>
                <a:latin typeface="바탕"/>
              </a:rPr>
              <a:t>2000 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году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текст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 гимна написал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С.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Миха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19280" y="404640"/>
            <a:ext cx="6264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мн России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3816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C -0.01337 -0.0037 -0.00347 -0.00324 -0.01788 0.00417 C -0.03594 0.01342 -0.02257 0.00393 -0.03715 0.01273 C -0.04636 0.01829 -0.05347 0.02477 -0.06302 0.02778 C -0.07327 0.03889 -0.0842 0.04213 -0.09531 0.05139 C -0.11024 0.06389 -0.12066 0.08333 -0.13715 0.09236 C -0.14184 0.10509 -0.14514 0.11574 -0.15174 0.12685 C -0.15747 0.15023 -0.17014 0.17014 -0.17587 0.19352 C -0.17969 0.20903 -0.18403 0.22569 -0.18872 0.24074 C -0.19149 0.24954 -0.1967 0.25741 -0.19844 0.26667 C -0.20243 0.2875 -0.20017 0.27824 -0.20486 0.29444 C -0.20538 0.29954 -0.2059 0.3044 -0.2066 0.30949 C -0.20695 0.31227 -0.20781 0.31505 -0.20816 0.31805 C -0.20938 0.32824 -0.21129 0.34838 -0.21129 0.34838 C -0.21024 0.38055 -0.21024 0.41296 -0.20816 0.44514 C -0.20799 0.44768 -0.20556 0.44907 -0.20486 0.45139 C -0.20382 0.45555 -0.20469 0.46042 -0.2033 0.46435 C -0.19583 0.48611 -0.17986 0.50671 -0.16302 0.51389 C -0.15382 0.52917 -0.14549 0.52917 -0.13229 0.5375 C -0.10833 0.55278 -0.10417 0.55555 -0.07743 0.55903 C 0.000520000000000007 0.55787 0.04705 0.55671 0.11441 0.55046 C 0.14392 0.53866 0.18125 0.5375 0.21285 0.53333 C 0.2368 0.52454 0.26146 0.52199 0.28542 0.51389 C 0.30469 0.50741 0.32274 0.49722 0.34184 0.49028 C 0.34913 0.48287 0.35781 0.47755 0.36441 0.46875 C 0.36719 0.46505 0.3684 0.45995 0.37083 0.45579 C 0.3743 0.44977 0.37864 0.44467 0.38212 0.43866 C 0.39219 0.4206 0.39774 0.39861 0.40798 0.38055 C 0.41128 0.36342 0.41562 0.34722 0.42083 0.33102 C 0.42066 0.31782 0.42587 0.23657 0.41441 0.20625 C 0.41441 0.20625 0.41198 0.16458 0.41128 0.16111 C 0.4092 0.15162 0.40243 0.13889 0.39826 0.13102 C 0.39323 0.12153 0.38976 0.10972 0.38385 0.10092 C 0.38142 0.09722 0.36996 0.08264 0.36597 0.07731 C 0.35451 0.0625 0.37187 0.07847 0.35798 0.06667 C 0.35087 0.05255 0.3467 0.05162 0.33385 0.04282 C 0.33108 0.04097 0.33003 0.03657 0.32743 0.03426 C 0.325 0.03217 0.32187 0.03171 0.31927 0.03009 C 0.30816 0.02315 0.29878 0.0169 0.28698 0.01273 C 0.28385 0.00995 0.2809 0.00625 0.27743 0.00417 C 0.27326 0.00185 0.26441 -1.85185E-006 0.26441 -1.85185E-006 C 0.24861 -0.01088 0.2316 -0.01597 0.21441 -0.02153 C 0.2033 -0.025 0.19167 -0.02431 0.18055 -0.02801 C 0.16996 -0.03171 0.16076 -0.03449 0.15 -0.03658 C 0.1158 -0.0331 0.08316 -0.0294 0.04826 -0.02801 C 0.04271 -0.02708 0.03472 -0.0257 0.02899 -0.02384 C 0.02344 -0.02199 0.0184 -0.01759 0.01285 -0.01528 C 0.00764 -0.01065 0.00521 -0.00486 3.88889E-006 -1.85185E-006 Z">
                                      <p:cBhvr>
                                        <p:cTn id="172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Назовите главные символы люб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Что изображено на гербе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Как чередуются полосы на современном флаге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Продолжи фразу:  ГИМН-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торжественная пес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любимая 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военный мар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16000" y="333360"/>
            <a:ext cx="6696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верь себя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382520" y="61657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98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540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2" action="ppaction://hlinksldjump"/>
              </a:rPr>
              <a:t>Символы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3" action="ppaction://hlinksldjump"/>
              </a:rPr>
              <a:t>Герольдия. Гер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4" action="ppaction://hlinksldjump"/>
              </a:rPr>
              <a:t>Российский гер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5" action="ppaction://hlinksldjump"/>
              </a:rPr>
              <a:t>Фла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6" action="ppaction://hlinksldjump"/>
              </a:rPr>
              <a:t>Флаг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7" action="ppaction://hlinksldjump"/>
              </a:rPr>
              <a:t>Гимн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8" action="ppaction://hlinksldjump"/>
              </a:rPr>
              <a:t>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76360" y="476280"/>
            <a:ext cx="633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</a:t>
            </a:r>
            <a:endParaRPr b="1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3280" y="1341360"/>
            <a:ext cx="4500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Каждое государство имеет свои симво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которые олицетворяют его независ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Самыми главными символами являются </a:t>
            </a:r>
            <a:r>
              <a:rPr b="1" lang="en-US" sz="3200" spc="-1" strike="noStrike">
                <a:solidFill>
                  <a:srgbClr val="800080"/>
                </a:solidFill>
                <a:latin typeface="Monotype Corsiva"/>
              </a:rPr>
              <a:t>герб </a:t>
            </a: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страны, его </a:t>
            </a:r>
            <a:r>
              <a:rPr b="1" lang="en-US" sz="3200" spc="-1" strike="noStrike">
                <a:solidFill>
                  <a:srgbClr val="800080"/>
                </a:solidFill>
                <a:latin typeface="Monotype Corsiva"/>
              </a:rPr>
              <a:t>флаг</a:t>
            </a: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 и </a:t>
            </a:r>
            <a:r>
              <a:rPr b="1" lang="en-US" sz="3200" spc="-1" strike="noStrike">
                <a:solidFill>
                  <a:srgbClr val="800080"/>
                </a:solidFill>
                <a:latin typeface="Monotype Corsiva"/>
              </a:rPr>
              <a:t>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ачаево-Черкесская Республика"/>
          <p:cNvPicPr/>
          <p:nvPr/>
        </p:nvPicPr>
        <p:blipFill>
          <a:blip r:embed="rId2"/>
          <a:stretch/>
        </p:blipFill>
        <p:spPr>
          <a:xfrm>
            <a:off x="7020000" y="54936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Республика Башкортостан"/>
          <p:cNvPicPr/>
          <p:nvPr/>
        </p:nvPicPr>
        <p:blipFill>
          <a:blip r:embed="rId3"/>
          <a:stretch/>
        </p:blipFill>
        <p:spPr>
          <a:xfrm>
            <a:off x="6732720" y="5373720"/>
            <a:ext cx="1904760" cy="123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Республика Ингушетия"/>
          <p:cNvPicPr/>
          <p:nvPr/>
        </p:nvPicPr>
        <p:blipFill>
          <a:blip r:embed="rId4"/>
          <a:stretch/>
        </p:blipFill>
        <p:spPr>
          <a:xfrm>
            <a:off x="2916360" y="530064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76120" y="1844640"/>
            <a:ext cx="3237120" cy="338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216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404640"/>
            <a:ext cx="5016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имволы       государств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504 0.69305 E">
                                      <p:cBhvr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879 L 0.54167 0.07245 E">
                                      <p:cBhvr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-0.0158 -0.72453 E">
                                      <p:cBhvr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00720" y="-360"/>
            <a:ext cx="419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ри Петре 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 </a:t>
            </a: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была учреждена специальная служба</a:t>
            </a:r>
            <a:r>
              <a:rPr b="1" lang="ru-RU" sz="2800" spc="-1" strike="noStrike">
                <a:solidFill>
                  <a:srgbClr val="800080"/>
                </a:solidFill>
                <a:latin typeface="comic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comic"/>
              </a:rPr>
              <a:t>ГЕРОЛЬДИЯ.</a:t>
            </a:r>
            <a:r>
              <a:rPr b="1" i="1" lang="ru-RU" sz="2800" spc="-1" strike="noStrike">
                <a:solidFill>
                  <a:srgbClr val="800080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Она занималась составлением гербов российских городов. По требованиям российской «герольдики» герб должен был отражать историю города, его географическое положение, экономику, тра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105080" cy="489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5380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54064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Гер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эмблема, закрепленная за человеком, родом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или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государством, передаваемая по наследству, живущая до тех пор, пока существует данный тип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Герб сопровождал человека всю его жизнь, служил символом независимости и свободы владельца и должен был быть неизменны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43280" y="40464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рб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1142200">
            <a:off x="619200" y="272880"/>
            <a:ext cx="1189080" cy="1513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724280"/>
            <a:ext cx="174924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443640" y="4724280"/>
            <a:ext cx="1474920" cy="17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 rot="1027200">
            <a:off x="7235640" y="25992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826920" y="4724280"/>
            <a:ext cx="1943280" cy="1754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73040" y="64911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-0.01227 L 0.61441 -0.01667 E">
                                      <p:cBhvr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01666 L -0.35556 -0.01134 E">
                                      <p:cBhvr>
                                        <p:cTn id="7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898 L -0.33056 0.03796 E">
                                      <p:cBhvr>
                                        <p:cTn id="7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оссийский герб в виде двуглавого орла впервые появился во времена Великого князя Московского Ивана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в 1498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дна голова орла смотрела на восток, другая - на запад; на головах располагались две к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340000" y="404640"/>
            <a:ext cx="42195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ерб России</a:t>
            </a:r>
            <a:endParaRPr b="1" lang="en-US" sz="6000" spc="1" strike="noStrike">
              <a:ln w="0">
                <a:noFill/>
              </a:ln>
              <a:solidFill>
                <a:srgbClr val="cc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Рисунок 3"/>
          <p:cNvPicPr/>
          <p:nvPr/>
        </p:nvPicPr>
        <p:blipFill>
          <a:blip r:embed="rId2"/>
          <a:srcRect l="0" t="0" r="0" b="11243"/>
          <a:stretch/>
        </p:blipFill>
        <p:spPr>
          <a:xfrm>
            <a:off x="4556160" y="1413000"/>
            <a:ext cx="4587840" cy="511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616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4720" y="33336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Freestyle Script"/>
              </a:rPr>
              <a:t>Постепенно вид герба изменял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Freestyle Script"/>
              </a:rPr>
              <a:t>в центре орла расположили герб города Москвы, в лапах орла появляются скипетр и держава, над головами – императорская кор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Freestyle Script"/>
              </a:rPr>
              <a:t>В 1993 году, указом Президента России Б.Н.Ельцина двуглавый Орел был утвержден в качестве государственного герба. И наконец 8.12.2000 г. двуглавый Орел был утвержден Государственной Ду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Изображение герба России с позолотой"/>
          <p:cNvPicPr/>
          <p:nvPr/>
        </p:nvPicPr>
        <p:blipFill>
          <a:blip r:embed="rId2"/>
          <a:stretch/>
        </p:blipFill>
        <p:spPr>
          <a:xfrm>
            <a:off x="258840" y="1052640"/>
            <a:ext cx="4022640" cy="453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744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28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723bd"/>
                </a:solidFill>
                <a:uFillTx/>
                <a:latin typeface="Monotype Corsiva"/>
              </a:rPr>
              <a:t>Флаг</a:t>
            </a:r>
            <a:r>
              <a:rPr b="0" i="1" lang="en-US" sz="2400" spc="-1" strike="noStrike" u="sng">
                <a:solidFill>
                  <a:srgbClr val="0099ff"/>
                </a:solidFill>
                <a:uFillTx/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Comic Sans MS"/>
              </a:rPr>
              <a:t>– </a:t>
            </a: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симво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государства, города и т. д.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сделанный из ткани 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прикрепленный к древк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	</a:t>
            </a: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Идея флага возникла в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очень давние времен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Древние охотники и воин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хотели издалека узнава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друзей и врагов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Опознавательным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знаками служили шкур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животных, прикрепленны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к копью – это и был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первые  флаг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24360" y="40464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лаг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427640" cy="439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38252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211640" y="1267920"/>
            <a:ext cx="419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Российский флаг состоит из трех ц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deee2"/>
                </a:solidFill>
                <a:latin typeface="Impact"/>
              </a:rPr>
              <a:t>белого,</a:t>
            </a:r>
            <a:r>
              <a:rPr b="1" i="1" lang="ru-RU" sz="24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1" i="1" lang="ru-RU" sz="2400" spc="-1" strike="noStrike">
                <a:solidFill>
                  <a:srgbClr val="3333ff"/>
                </a:solidFill>
                <a:latin typeface="Impact"/>
              </a:rPr>
              <a:t>синего,</a:t>
            </a:r>
            <a:r>
              <a:rPr b="1" i="1" lang="ru-RU" sz="2400" spc="-1" strike="noStrike">
                <a:solidFill>
                  <a:srgbClr val="ff0000"/>
                </a:solidFill>
                <a:latin typeface="Impact"/>
              </a:rPr>
              <a:t> кр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Такое сочетание цветов появилось при царе Алексее Михайловиче-отце Петра </a:t>
            </a:r>
            <a:r>
              <a:rPr b="1" lang="en-US" sz="2400" spc="-1" strike="noStrike">
                <a:solidFill>
                  <a:srgbClr val="800080"/>
                </a:solidFill>
                <a:latin typeface="Balthazar"/>
              </a:rPr>
              <a:t>I</a:t>
            </a: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В </a:t>
            </a:r>
            <a:r>
              <a:rPr b="1" lang="en-US" sz="2400" spc="-1" strike="noStrike">
                <a:solidFill>
                  <a:srgbClr val="800080"/>
                </a:solidFill>
                <a:latin typeface="Balthazar"/>
              </a:rPr>
              <a:t>XIX </a:t>
            </a: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веке этот флаг стали называть народ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В 1991 году он вновь стал главным флагом наше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79640" y="404640"/>
            <a:ext cx="50403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лаг России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2327400"/>
            <a:ext cx="360036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45380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3:59:52Z</dcterms:created>
  <dc:creator>Александор</dc:creator>
  <dc:description/>
  <dc:language>en-US</dc:language>
  <cp:lastModifiedBy>PARTIzan</cp:lastModifiedBy>
  <dcterms:modified xsi:type="dcterms:W3CDTF">2007-10-10T16:53:23Z</dcterms:modified>
  <cp:revision>104</cp:revision>
  <dc:subject/>
  <dc:title>Слайд 1</dc:title>
</cp:coreProperties>
</file>