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92AD-FC60-4B7B-9108-A5332BDB2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9B84-26A7-48B4-BA04-80131CF5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813F-B07D-4AE2-82C9-06BB10E41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4DA5-0060-49C4-8EEA-786985C2E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A04C-60EB-46FB-98C9-D7F18852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2ACA-4DE8-40EC-841D-3C610580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136E-F231-41B0-8691-06F3AED3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73A3-DC77-4935-BFAA-D230920E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B400-E251-45C3-A9DA-0E4D9F76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920C-C769-40F0-A53D-1E31681E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51F1-4D8E-4908-ADAE-796FE33B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B9CB-D6A6-432C-A9AF-24506D57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d1ed"/>
            </a:gs>
            <a:gs pos="100000">
              <a:srgbClr val="92d05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143B-3B58-43A5-B107-5E53B338CB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image" Target="../media/image24.jpeg"/><Relationship Id="rId12" Type="http://schemas.openxmlformats.org/officeDocument/2006/relationships/image" Target="../media/image25.jpeg"/><Relationship Id="rId13" Type="http://schemas.openxmlformats.org/officeDocument/2006/relationships/image" Target="../media/image26.jpeg"/><Relationship Id="rId14" Type="http://schemas.openxmlformats.org/officeDocument/2006/relationships/image" Target="../media/image27.jpeg"/><Relationship Id="rId15" Type="http://schemas.openxmlformats.org/officeDocument/2006/relationships/image" Target="../media/image28.jpeg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d1ed"/>
            </a:gs>
            <a:gs pos="100000">
              <a:srgbClr val="92d05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0" y="0"/>
            <a:ext cx="9144000" cy="124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ru-RU" sz="4800" spc="-1" strike="noStrike">
                <a:solidFill>
                  <a:srgbClr val="006600"/>
                </a:solidFill>
                <a:latin typeface="Arial"/>
              </a:rPr>
              <a:t>Жизнь и творчеств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00"/>
                </a:solidFill>
                <a:latin typeface="Arial"/>
              </a:rPr>
              <a:t>               </a:t>
            </a:r>
            <a:r>
              <a:rPr b="0" lang="ru-RU" sz="4800" spc="-1" strike="noStrike">
                <a:solidFill>
                  <a:srgbClr val="006600"/>
                </a:solidFill>
                <a:latin typeface="Arial"/>
              </a:rPr>
              <a:t>Беатрис Потте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Руководитель</a:t>
            </a:r>
            <a:r>
              <a:rPr b="1" i="1" lang="en-US" sz="1800" spc="-1" strike="noStrike">
                <a:solidFill>
                  <a:srgbClr val="006600"/>
                </a:solidFill>
                <a:latin typeface="Arial"/>
              </a:rPr>
              <a:t>: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                                                                                    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Кошелева Татьяна Ефим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                                                                                    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учитель английского язык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                                                                                    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высше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                                                                                    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Работу выполнили</a:t>
            </a:r>
            <a:r>
              <a:rPr b="1" i="1" lang="en-US" sz="1800" spc="-1" strike="noStrike">
                <a:solidFill>
                  <a:srgbClr val="006600"/>
                </a:solidFill>
                <a:latin typeface="Arial"/>
              </a:rPr>
              <a:t>: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                                                                                     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Риц Полина и Ломтев Оле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                                                                                     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ученики 3А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                                                                                     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ГБОУ СОШ №3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                                                                                     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Красносельского рай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                                                                                     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Санкт-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d1ed"/>
            </a:gs>
            <a:gs pos="100000">
              <a:srgbClr val="92d05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C:\Users\Игорь\Desktop\Полина\0_11978_27c98b4b_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d1ed"/>
            </a:gs>
            <a:gs pos="100000">
              <a:srgbClr val="92d05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images-partners.google.com/images?q=tbn:ANd9GcTKOKjBlmJ8acKlQUpUcwz4v3G7_4qEVtL10__qrjtDa87SX1RAk93Fug:http://img.labirint.ru/images/books5/204620/big.jpg"/>
          <p:cNvPicPr/>
          <p:nvPr/>
        </p:nvPicPr>
        <p:blipFill>
          <a:blip r:embed="rId1"/>
          <a:stretch/>
        </p:blipFill>
        <p:spPr>
          <a:xfrm>
            <a:off x="0" y="0"/>
            <a:ext cx="1692360" cy="292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http://static.flickr.com/93/246914316_f0e0b1a87c_m.jpg"/>
          <p:cNvPicPr/>
          <p:nvPr/>
        </p:nvPicPr>
        <p:blipFill>
          <a:blip r:embed="rId2"/>
          <a:stretch/>
        </p:blipFill>
        <p:spPr>
          <a:xfrm>
            <a:off x="1692360" y="115920"/>
            <a:ext cx="1511280" cy="2286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http://vl-book.ru/uploads/posts/2010-10/thumbs/1286375430_1235-300.jpeg"/>
          <p:cNvPicPr/>
          <p:nvPr/>
        </p:nvPicPr>
        <p:blipFill>
          <a:blip r:embed="rId3"/>
          <a:stretch/>
        </p:blipFill>
        <p:spPr>
          <a:xfrm>
            <a:off x="3203640" y="115920"/>
            <a:ext cx="1485720" cy="2305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http://www.kniga.info/images/k_belchonok_tressi.jpg"/>
          <p:cNvPicPr/>
          <p:nvPr/>
        </p:nvPicPr>
        <p:blipFill>
          <a:blip r:embed="rId4"/>
          <a:stretch/>
        </p:blipFill>
        <p:spPr>
          <a:xfrm>
            <a:off x="4643280" y="115920"/>
            <a:ext cx="1428840" cy="2333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http://www.ozon.ru/multimedia/books_covers/930527765.jpg"/>
          <p:cNvPicPr/>
          <p:nvPr/>
        </p:nvPicPr>
        <p:blipFill>
          <a:blip r:embed="rId5"/>
          <a:stretch/>
        </p:blipFill>
        <p:spPr>
          <a:xfrm>
            <a:off x="6156360" y="189000"/>
            <a:ext cx="1511280" cy="2303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http://s58.radikal.ru/i160/0903/b9/c96b8783918e.jpg"/>
          <p:cNvPicPr/>
          <p:nvPr/>
        </p:nvPicPr>
        <p:blipFill>
          <a:blip r:embed="rId6"/>
          <a:stretch/>
        </p:blipFill>
        <p:spPr>
          <a:xfrm>
            <a:off x="7667640" y="189000"/>
            <a:ext cx="1476360" cy="2232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" descr="http://s015.radikal.ru/i331/1101/61/2a737d9c3dfc.jpg"/>
          <p:cNvPicPr/>
          <p:nvPr/>
        </p:nvPicPr>
        <p:blipFill>
          <a:blip r:embed="rId7"/>
          <a:stretch/>
        </p:blipFill>
        <p:spPr>
          <a:xfrm>
            <a:off x="0" y="2852640"/>
            <a:ext cx="1835280" cy="2737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" descr="http://biblioteki.net/foto256/1250924646.jpg"/>
          <p:cNvPicPr/>
          <p:nvPr/>
        </p:nvPicPr>
        <p:blipFill>
          <a:blip r:embed="rId8"/>
          <a:stretch/>
        </p:blipFill>
        <p:spPr>
          <a:xfrm>
            <a:off x="1692360" y="2178000"/>
            <a:ext cx="1461960" cy="2475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" descr="http://bouquiniste.appee.ru/media/card142.jpg"/>
          <p:cNvPicPr/>
          <p:nvPr/>
        </p:nvPicPr>
        <p:blipFill>
          <a:blip r:embed="rId9"/>
          <a:stretch/>
        </p:blipFill>
        <p:spPr>
          <a:xfrm>
            <a:off x="3132000" y="2492280"/>
            <a:ext cx="1584360" cy="2189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0" descr="http://www.5sov.ru/img/book_53.jpg"/>
          <p:cNvPicPr/>
          <p:nvPr/>
        </p:nvPicPr>
        <p:blipFill>
          <a:blip r:embed="rId10"/>
          <a:stretch/>
        </p:blipFill>
        <p:spPr>
          <a:xfrm>
            <a:off x="4643280" y="2421000"/>
            <a:ext cx="1489320" cy="2232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2" descr="http://read.ru/covers_rr/b/63/00/1000063.jpg"/>
          <p:cNvPicPr/>
          <p:nvPr/>
        </p:nvPicPr>
        <p:blipFill>
          <a:blip r:embed="rId11"/>
          <a:stretch/>
        </p:blipFill>
        <p:spPr>
          <a:xfrm>
            <a:off x="6012000" y="2421000"/>
            <a:ext cx="1842840" cy="2303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4" descr="http://lib.rus.ec/i/41/161541/i_021.jpg"/>
          <p:cNvPicPr/>
          <p:nvPr/>
        </p:nvPicPr>
        <p:blipFill>
          <a:blip r:embed="rId12"/>
          <a:stretch/>
        </p:blipFill>
        <p:spPr>
          <a:xfrm>
            <a:off x="7667640" y="2492280"/>
            <a:ext cx="1476360" cy="2232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www.tanush.org.ru/lj/2009/goodbook/rabbit/rabbit01_small.jpg"/>
          <p:cNvPicPr/>
          <p:nvPr/>
        </p:nvPicPr>
        <p:blipFill>
          <a:blip r:embed="rId13"/>
          <a:stretch/>
        </p:blipFill>
        <p:spPr>
          <a:xfrm>
            <a:off x="1763640" y="4653000"/>
            <a:ext cx="4762440" cy="2205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http://i001.radikal.ru/0802/22/d3c7d4f3f562.jpg"/>
          <p:cNvPicPr/>
          <p:nvPr/>
        </p:nvPicPr>
        <p:blipFill>
          <a:blip r:embed="rId14"/>
          <a:stretch/>
        </p:blipFill>
        <p:spPr>
          <a:xfrm>
            <a:off x="6516720" y="4653000"/>
            <a:ext cx="2627280" cy="2205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http://1.bp.blogspot.com/_AWiG7BnuJGQ/S5qUL7-16YI/AAAAAAAACKo/8P3Y6dsUF5Q/s400/beatrix-potter.jpg"/>
          <p:cNvPicPr/>
          <p:nvPr/>
        </p:nvPicPr>
        <p:blipFill>
          <a:blip r:embed="rId15"/>
          <a:stretch/>
        </p:blipFill>
        <p:spPr>
          <a:xfrm>
            <a:off x="0" y="5445000"/>
            <a:ext cx="176364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d1ed"/>
            </a:gs>
            <a:gs pos="100000">
              <a:srgbClr val="92d05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0" y="25473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1403280" y="1413000"/>
            <a:ext cx="62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The Tale of Peter Rabbit (19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The Tale of Squirrel Nutkin (19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The Tale of Two Bad Mice (19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The Tale of Jonny Town Mouse (19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The Tale of Jemima Puddle-duce (19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Tale Faithful Dove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(1955)</a:t>
            </a: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d1ed"/>
            </a:gs>
            <a:gs pos="100000">
              <a:srgbClr val="92d05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2"/>
          <p:cNvSpPr/>
          <p:nvPr/>
        </p:nvSpPr>
        <p:spPr>
          <a:xfrm>
            <a:off x="0" y="26028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6600"/>
                </a:solidFill>
                <a:latin typeface="Arial"/>
              </a:rPr>
              <a:t>Цели и зада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6600"/>
                </a:solidFill>
                <a:latin typeface="Arial"/>
              </a:rPr>
              <a:t>-исследование жизни и творчества английской писательницы и художницы Беатрис Поттер</a:t>
            </a:r>
            <a:r>
              <a:rPr b="0" i="1" lang="en-US" sz="36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d1ed"/>
            </a:gs>
            <a:gs pos="100000">
              <a:srgbClr val="92d05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pics.librarything.com/picsizes/31/60/3160d2555be1e0f6376456e41674331414f6744.jpg"/>
          <p:cNvPicPr/>
          <p:nvPr/>
        </p:nvPicPr>
        <p:blipFill>
          <a:blip r:embed="rId1"/>
          <a:stretch/>
        </p:blipFill>
        <p:spPr>
          <a:xfrm>
            <a:off x="826920" y="0"/>
            <a:ext cx="720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d1ed"/>
            </a:gs>
            <a:gs pos="100000">
              <a:srgbClr val="92d05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pics.livejournal.com/shumerka/pic/0004wfsf"/>
          <p:cNvPicPr/>
          <p:nvPr/>
        </p:nvPicPr>
        <p:blipFill>
          <a:blip r:embed="rId1"/>
          <a:stretch/>
        </p:blipFill>
        <p:spPr>
          <a:xfrm>
            <a:off x="0" y="0"/>
            <a:ext cx="3132000" cy="3559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http://artinvestment.ru/content/download/news/20080718_beatrix_potter_rabbits.jpg"/>
          <p:cNvPicPr/>
          <p:nvPr/>
        </p:nvPicPr>
        <p:blipFill>
          <a:blip r:embed="rId2"/>
          <a:stretch/>
        </p:blipFill>
        <p:spPr>
          <a:xfrm>
            <a:off x="3132000" y="0"/>
            <a:ext cx="3311640" cy="3340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ttp://ipicture.ru/uploads/101021/SeV3HFt7Z6.jpg"/>
          <p:cNvPicPr/>
          <p:nvPr/>
        </p:nvPicPr>
        <p:blipFill>
          <a:blip r:embed="rId3"/>
          <a:stretch/>
        </p:blipFill>
        <p:spPr>
          <a:xfrm>
            <a:off x="6443640" y="0"/>
            <a:ext cx="2700360" cy="3357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http://img4.imgbb.ru/4/8/5/485331aabeb99291734e83927a011b16_49338.jpg"/>
          <p:cNvPicPr/>
          <p:nvPr/>
        </p:nvPicPr>
        <p:blipFill>
          <a:blip r:embed="rId4"/>
          <a:stretch/>
        </p:blipFill>
        <p:spPr>
          <a:xfrm>
            <a:off x="0" y="3429000"/>
            <a:ext cx="3132000" cy="3429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http://static.babysfera.ru/8/b/2/f/10408011.87986.jpeg"/>
          <p:cNvPicPr/>
          <p:nvPr/>
        </p:nvPicPr>
        <p:blipFill>
          <a:blip r:embed="rId5"/>
          <a:stretch/>
        </p:blipFill>
        <p:spPr>
          <a:xfrm>
            <a:off x="3059280" y="3357720"/>
            <a:ext cx="2771640" cy="3500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http://pics.livejournal.com/shumerka/pic/0004yf3w"/>
          <p:cNvPicPr/>
          <p:nvPr/>
        </p:nvPicPr>
        <p:blipFill>
          <a:blip r:embed="rId6"/>
          <a:stretch/>
        </p:blipFill>
        <p:spPr>
          <a:xfrm>
            <a:off x="5651640" y="3357720"/>
            <a:ext cx="34923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d1ed"/>
            </a:gs>
            <a:gs pos="100000">
              <a:srgbClr val="92d05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Игорь\Pictures\vlcsnap-2011-04-08-22h49m41s6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d1ed"/>
            </a:gs>
            <a:gs pos="100000">
              <a:srgbClr val="92d05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Игорь\Pictures\vlcsnap-2011-04-08-22h55m54s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d1ed"/>
            </a:gs>
            <a:gs pos="100000">
              <a:srgbClr val="92d05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www.maths.bris.ac.uk/~maxsv/SKOT/sk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d1ed"/>
            </a:gs>
            <a:gs pos="100000">
              <a:srgbClr val="92d05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Игорь\Desktop\Полина\29518492_Queen_Victoria_1860.jpg"/>
          <p:cNvPicPr/>
          <p:nvPr/>
        </p:nvPicPr>
        <p:blipFill>
          <a:blip r:embed="rId1"/>
          <a:stretch/>
        </p:blipFill>
        <p:spPr>
          <a:xfrm>
            <a:off x="1692360" y="0"/>
            <a:ext cx="611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d1ed"/>
            </a:gs>
            <a:gs pos="100000">
              <a:srgbClr val="92d05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Игорь\Desktop\Полина\4616-29525761_koroleva_Viktoriya_s_princem.jpg"/>
          <p:cNvPicPr/>
          <p:nvPr/>
        </p:nvPicPr>
        <p:blipFill>
          <a:blip r:embed="rId1"/>
          <a:stretch/>
        </p:blipFill>
        <p:spPr>
          <a:xfrm>
            <a:off x="1042920" y="549360"/>
            <a:ext cx="684216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6:43:55Z</dcterms:created>
  <dc:creator>Игорь</dc:creator>
  <dc:description/>
  <dc:language>en-US</dc:language>
  <cp:lastModifiedBy>.</cp:lastModifiedBy>
  <dcterms:modified xsi:type="dcterms:W3CDTF">2012-08-25T10:37:57Z</dcterms:modified>
  <cp:revision>36</cp:revision>
  <dc:subject/>
  <dc:title>Слайд 1</dc:title>
</cp:coreProperties>
</file>