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A00-1868-4DD3-A118-09F78EE3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4FA-098B-4853-8DA7-4EF1FE60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03A-1176-42A6-A48F-5D56218F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45D-0CCE-4B67-A698-58CF512E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627-EAD4-47AB-8B17-81D3E99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791-03B4-4A23-AA7A-AEF05A34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CB6-D98D-4BF9-946A-7C2ED27B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D53-41A9-45C7-ABF2-204AA2A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3B6-18C3-47FB-B3E3-6ABE556F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9A1-2961-467A-89BF-BEC3265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D4B-A122-4E83-AD32-4E8F3C15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13D-73B5-4DAB-9C7C-B6777E2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3043-23FF-492F-85C0-DECFB6EF2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12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Жизнь и творче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Беатрис Пот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уководитель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шелева Татьяна Ефи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учитель английского язы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боту выполнили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иц Полина и Ломтев Ол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ученики 3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ГБОУ СОШ №3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расносел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Игорь\Desktop\Полина\0_11978_27c98b4b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ages-partners.google.com/images?q=tbn:ANd9GcTKOKjBlmJ8acKlQUpUcwz4v3G7_4qEVtL10__qrjtDa87SX1RAk93Fug:http://img.labirint.ru/images/books5/204620/big.jpg"/>
          <p:cNvPicPr/>
          <p:nvPr/>
        </p:nvPicPr>
        <p:blipFill>
          <a:blip r:embed="rId1"/>
          <a:stretch/>
        </p:blipFill>
        <p:spPr>
          <a:xfrm>
            <a:off x="0" y="0"/>
            <a:ext cx="169236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static.flickr.com/93/246914316_f0e0b1a87c_m.jpg"/>
          <p:cNvPicPr/>
          <p:nvPr/>
        </p:nvPicPr>
        <p:blipFill>
          <a:blip r:embed="rId2"/>
          <a:stretch/>
        </p:blipFill>
        <p:spPr>
          <a:xfrm>
            <a:off x="1692360" y="115920"/>
            <a:ext cx="15112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vl-book.ru/uploads/posts/2010-10/thumbs/1286375430_1235-300.jpeg"/>
          <p:cNvPicPr/>
          <p:nvPr/>
        </p:nvPicPr>
        <p:blipFill>
          <a:blip r:embed="rId3"/>
          <a:stretch/>
        </p:blipFill>
        <p:spPr>
          <a:xfrm>
            <a:off x="3203640" y="115920"/>
            <a:ext cx="1485720" cy="2305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kniga.info/images/k_belchonok_tressi.jpg"/>
          <p:cNvPicPr/>
          <p:nvPr/>
        </p:nvPicPr>
        <p:blipFill>
          <a:blip r:embed="rId4"/>
          <a:stretch/>
        </p:blipFill>
        <p:spPr>
          <a:xfrm>
            <a:off x="4643280" y="115920"/>
            <a:ext cx="1428840" cy="23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www.ozon.ru/multimedia/books_covers/930527765.jpg"/>
          <p:cNvPicPr/>
          <p:nvPr/>
        </p:nvPicPr>
        <p:blipFill>
          <a:blip r:embed="rId5"/>
          <a:stretch/>
        </p:blipFill>
        <p:spPr>
          <a:xfrm>
            <a:off x="6156360" y="189000"/>
            <a:ext cx="1511280" cy="230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http://s58.radikal.ru/i160/0903/b9/c96b8783918e.jpg"/>
          <p:cNvPicPr/>
          <p:nvPr/>
        </p:nvPicPr>
        <p:blipFill>
          <a:blip r:embed="rId6"/>
          <a:stretch/>
        </p:blipFill>
        <p:spPr>
          <a:xfrm>
            <a:off x="7667640" y="18900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s015.radikal.ru/i331/1101/61/2a737d9c3dfc.jpg"/>
          <p:cNvPicPr/>
          <p:nvPr/>
        </p:nvPicPr>
        <p:blipFill>
          <a:blip r:embed="rId7"/>
          <a:stretch/>
        </p:blipFill>
        <p:spPr>
          <a:xfrm>
            <a:off x="0" y="2852640"/>
            <a:ext cx="183528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biblioteki.net/foto256/1250924646.jpg"/>
          <p:cNvPicPr/>
          <p:nvPr/>
        </p:nvPicPr>
        <p:blipFill>
          <a:blip r:embed="rId8"/>
          <a:stretch/>
        </p:blipFill>
        <p:spPr>
          <a:xfrm>
            <a:off x="1692360" y="2178000"/>
            <a:ext cx="1461960" cy="247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http://bouquiniste.appee.ru/media/card142.jpg"/>
          <p:cNvPicPr/>
          <p:nvPr/>
        </p:nvPicPr>
        <p:blipFill>
          <a:blip r:embed="rId9"/>
          <a:stretch/>
        </p:blipFill>
        <p:spPr>
          <a:xfrm>
            <a:off x="3132000" y="2492280"/>
            <a:ext cx="1584360" cy="218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http://www.5sov.ru/img/book_53.jpg"/>
          <p:cNvPicPr/>
          <p:nvPr/>
        </p:nvPicPr>
        <p:blipFill>
          <a:blip r:embed="rId10"/>
          <a:stretch/>
        </p:blipFill>
        <p:spPr>
          <a:xfrm>
            <a:off x="4643280" y="2421000"/>
            <a:ext cx="1489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http://read.ru/covers_rr/b/63/00/1000063.jpg"/>
          <p:cNvPicPr/>
          <p:nvPr/>
        </p:nvPicPr>
        <p:blipFill>
          <a:blip r:embed="rId11"/>
          <a:stretch/>
        </p:blipFill>
        <p:spPr>
          <a:xfrm>
            <a:off x="6012000" y="2421000"/>
            <a:ext cx="184284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http://lib.rus.ec/i/41/161541/i_021.jpg"/>
          <p:cNvPicPr/>
          <p:nvPr/>
        </p:nvPicPr>
        <p:blipFill>
          <a:blip r:embed="rId12"/>
          <a:stretch/>
        </p:blipFill>
        <p:spPr>
          <a:xfrm>
            <a:off x="7667640" y="249228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tanush.org.ru/lj/2009/goodbook/rabbit/rabbit01_small.jpg"/>
          <p:cNvPicPr/>
          <p:nvPr/>
        </p:nvPicPr>
        <p:blipFill>
          <a:blip r:embed="rId13"/>
          <a:stretch/>
        </p:blipFill>
        <p:spPr>
          <a:xfrm>
            <a:off x="1763640" y="4653000"/>
            <a:ext cx="4762440" cy="22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i001.radikal.ru/0802/22/d3c7d4f3f562.jpg"/>
          <p:cNvPicPr/>
          <p:nvPr/>
        </p:nvPicPr>
        <p:blipFill>
          <a:blip r:embed="rId14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1.bp.blogspot.com/_AWiG7BnuJGQ/S5qUL7-16YI/AAAAAAAACKo/8P3Y6dsUF5Q/s400/beatrix-potter.jpg"/>
          <p:cNvPicPr/>
          <p:nvPr/>
        </p:nvPicPr>
        <p:blipFill>
          <a:blip r:embed="rId15"/>
          <a:stretch/>
        </p:blipFill>
        <p:spPr>
          <a:xfrm>
            <a:off x="0" y="5445000"/>
            <a:ext cx="1763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0" y="2547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403280" y="1413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Peter Rabbit (19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Squirrel Nutkin (19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Two Bad Mice (19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Jonny Town Mouse (19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Tale of Jemima Puddle-duce (19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ale Faithful Dove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(1955)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0" y="260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Цели и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-исследование жизни и творчества английской писательницы и художницы Беатрис Поттер</a:t>
            </a:r>
            <a:r>
              <a:rPr b="0" i="1" lang="en-US" sz="3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pics.librarything.com/picsizes/31/60/3160d2555be1e0f6376456e41674331414f6744.jpg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ics.livejournal.com/shumerka/pic/0004wfsf"/>
          <p:cNvPicPr/>
          <p:nvPr/>
        </p:nvPicPr>
        <p:blipFill>
          <a:blip r:embed="rId1"/>
          <a:stretch/>
        </p:blipFill>
        <p:spPr>
          <a:xfrm>
            <a:off x="0" y="0"/>
            <a:ext cx="3132000" cy="355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artinvestment.ru/content/download/news/20080718_beatrix_potter_rabbits.jpg"/>
          <p:cNvPicPr/>
          <p:nvPr/>
        </p:nvPicPr>
        <p:blipFill>
          <a:blip r:embed="rId2"/>
          <a:stretch/>
        </p:blipFill>
        <p:spPr>
          <a:xfrm>
            <a:off x="3132000" y="0"/>
            <a:ext cx="3311640" cy="334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ipicture.ru/uploads/101021/SeV3HFt7Z6.jpg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img4.imgbb.ru/4/8/5/485331aabeb99291734e83927a011b16_49338.jpg"/>
          <p:cNvPicPr/>
          <p:nvPr/>
        </p:nvPicPr>
        <p:blipFill>
          <a:blip r:embed="rId4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static.babysfera.ru/8/b/2/f/10408011.87986.jpeg"/>
          <p:cNvPicPr/>
          <p:nvPr/>
        </p:nvPicPr>
        <p:blipFill>
          <a:blip r:embed="rId5"/>
          <a:stretch/>
        </p:blipFill>
        <p:spPr>
          <a:xfrm>
            <a:off x="3059280" y="3357720"/>
            <a:ext cx="2771640" cy="35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pics.livejournal.com/shumerka/pic/0004yf3w"/>
          <p:cNvPicPr/>
          <p:nvPr/>
        </p:nvPicPr>
        <p:blipFill>
          <a:blip r:embed="rId6"/>
          <a:stretch/>
        </p:blipFill>
        <p:spPr>
          <a:xfrm>
            <a:off x="5651640" y="3357720"/>
            <a:ext cx="349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Игорь\Pictures\vlcsnap-2011-04-08-22h49m41s6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Игорь\Pictures\vlcsnap-2011-04-08-22h55m54s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maths.bris.ac.uk/~maxsv/SKOT/sk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Игорь\Desktop\Полина\29518492_Queen_Victoria_1860.jpg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Игорь\Desktop\Полина\4616-29525761_koroleva_Viktoriya_s_princem.jpg"/>
          <p:cNvPicPr/>
          <p:nvPr/>
        </p:nvPicPr>
        <p:blipFill>
          <a:blip r:embed="rId1"/>
          <a:stretch/>
        </p:blipFill>
        <p:spPr>
          <a:xfrm>
            <a:off x="1042920" y="549360"/>
            <a:ext cx="6842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43:55Z</dcterms:created>
  <dc:creator>Игорь</dc:creator>
  <dc:description/>
  <dc:language>en-US</dc:language>
  <cp:lastModifiedBy>.</cp:lastModifiedBy>
  <dcterms:modified xsi:type="dcterms:W3CDTF">2012-08-25T10:37:57Z</dcterms:modified>
  <cp:revision>36</cp:revision>
  <dc:subject/>
  <dc:title>Слайд 1</dc:title>
</cp:coreProperties>
</file>