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5E38E-7F3C-4AAA-9029-252EA2A1E2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C20E3-6892-45AC-8A93-B4DB67B799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6E6E6-FAB2-4085-8E11-1E813B5D1C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22EC9-56ED-4CE6-A604-A00D4AA0C6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8641C-0DC1-4608-B1A2-93758D953F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63FCC-2036-445D-B391-E6BF747169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FD53E-5D3C-4C49-BC43-CCC33875C6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3E88D-06B4-4DFC-B52A-DB3543A982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29DBD-55F6-4410-9AD2-3B947E0A38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20F05-56F6-49A8-A3EB-60D24F2BAE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2A856-CF9E-464D-B4AC-FA990D8AB4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B5D5B-B2C7-46AA-9798-8D14CBB045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19879-0CA4-444B-9E03-3780F98174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7AA05-B958-4737-848B-6AA1C1780A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B45BA-1BB1-44E8-869C-49B484FC39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FE75D-2C6F-4DEA-9FB8-3FD90AFF32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B2BC3-F997-4154-AD79-80BEA5CCAA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6A6B-E2B5-44D7-8BF7-C8CBDE7F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8736-682B-43D7-9AFE-16412932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64E-9C73-4255-A110-981763B2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72B1-9E49-48E4-A54F-1D7DE62B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DFC3-80C7-4F11-BFAF-BC4E9289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ABC-85F5-4C23-9352-D8AF86D4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8C24-7C8D-4D9B-8CB8-D1DA2E62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970E-506E-4DEE-8C56-734FF9EE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B13C-D92B-4020-9358-B423F8CA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AFB-DBD5-4F15-93F5-FDE7CB3C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45F-11A0-4930-BCD1-C4C02D8C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E1E5-5B76-47A0-AB2E-D649077C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E19716-03B5-431B-B34B-4612F6012D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72036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8920" y="-527400"/>
            <a:ext cx="9720360" cy="11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ировые рели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ДД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360" y="17604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Основные религии - синтоизм, буддизм и дзен-буддизм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нтоизм обслуживает основные религиозно-бытовые обряды и прежде всего свадебные церемонии. Буддизм, напротив, берет на себя все погребальные обря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622840" y="360360"/>
            <a:ext cx="3729240" cy="558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360" y="17928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й из величайших фигур в тибетском буддизме является Далай-лама; Далай-лама 1 был учеником Тзонкхапы, когда 3-й его "перерожденец" прибыл в Монголию, ему дали имя "Далай", по-монгольски "океан", а предыдущие его перерождения после смерти были признаны как Далай-ламы 1 и II. Далай-лама IV родился в Монголии; Далай-лама V объединил весь Тибет и стал не только духовным, но и политическим лидером. Неверно полагать, что Далай-лама является главой традиции Гелуг; ее возглавляет Гандэн Три Ринпоче. Далай-лама стоит выше любого главы любой из традиций, являясь покровителем всего тибетского буддизма. Панчен-лама 1 был одним из учителей Далай-ламы V. В отличие от Далай-ламы Панчен-лама занимается исключительно духовными делами. Когда возраст Далай-ламы и Панчен-ламы был подходящим, тогда один из них мог стать учителем другог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672160" y="360360"/>
            <a:ext cx="3630600" cy="558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360" y="17928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ять скандх (кхандх) или «групп привязанности», Паньчаскандхи (пали. pañcakhandhā, санскр. </a:t>
            </a:r>
            <a:r>
              <a:rPr b="0" lang="hi-IN" sz="2600" spc="-1" strike="noStrike">
                <a:solidFill>
                  <a:srgbClr val="000000"/>
                </a:solidFill>
                <a:latin typeface="Arial"/>
                <a:cs typeface="Mangal"/>
              </a:rPr>
              <a:t>पञ्चस्कन्ध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pañcaskandhī) — пять составляющих, необходимых для создания личности, в соответствии с феноменологией буддизма. Другими словами, совокупность пяти скандх является «Я» индивидуума, в терминологии Юнга — самос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40360" y="404640"/>
            <a:ext cx="4895640" cy="5491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360" y="17136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ой основой соблюдения нравственности является воздержание от десяти неблаговидных действий, три из которых касаются тела, четыре - речи и три - мысле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дурных действия в отношении тела таковы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убийств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воровств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ричинение сексуального вреда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есных дурных действия таковы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лож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злослов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грубая реч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пустословие</a:t>
            </a:r>
            <a:br>
              <a:rPr sz="2400"/>
            </a:b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мысленных дурных действия таковы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алчно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злонамереннно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лож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зр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040360" y="1528920"/>
            <a:ext cx="4895640" cy="3241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360" y="17928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ра́тна — в буддизме — три драгоценности буддийской доктрины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д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харма (закон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гха (община)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Будда — совершенно Просветлённое, всеведущее существо, достигшее духовных вершин естественным образом через развитие ума и сердца в длинной последовательности рождений (сансара)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Дхарма — Закон, открытый Просветлённым. Этот Закон является смысловым ядром Вселенной, в соответствии с ним происходят все процессы вне и внутри человеческих судеб, с его помощью можно понять законы жизни и общества, взаимосцепленность и взаимозависимость всего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Сангха — община равных, не имеющих никакой собственности, нищенствующих (бхикшу, на пали — бхиккху), сообщество носителей Закона, хранителей знаний и мастерства, которые из поколения в поколение следуют путем Буд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5040360" y="846000"/>
            <a:ext cx="4895640" cy="460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360" y="17928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колесо с восемью спицами символизирует суть буддийского учения - следование восьми «благородным принципам»: правильная вера, правильные ценности, правильная речь, правильное поведение, правильное достижение средств к жизни, правильные стремления, правильное оценка своих действий и восприятие мира органами чувств, а также правильная концентрация(медитация).»Центр колеса, ступица, символизирует светящуюся точку сознания, излучающую душевные свойства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040360" y="701640"/>
            <a:ext cx="4895640" cy="489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360" y="17928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нашей стране Буддизм представлен в основном в качестве Ламаизма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уддийской религии придерживаются многие народы, населяющие Сибирь.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ятельность ламаистского духовенства возглавляется Центральным Духовным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правление Буддистов, учрежденным собором 1946 г. Председатель управления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сит сан бандидо-хамболабы и находиться в Иволгинском дацане (монастыре)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положенным невдалеке от г. Улан - Уд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040360" y="1314360"/>
            <a:ext cx="4895640" cy="367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199800"/>
            <a:ext cx="5219640" cy="70009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дизм возник в VI в. до н. э. в Индии, где в то время шел процес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я рабовладельческих государств. Отправной точкой буддизм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ется легенда об индийском царевиче Сиддхартхи Гаутаме. Согласно эт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енде Гаутама на тридцатом году жизни оставил семью, стал отшельником 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ринял поиски путей избавления человечества от стр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758920" y="178920"/>
            <a:ext cx="431964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6113520" y="312840"/>
            <a:ext cx="3605040" cy="5987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360" y="17928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и боги других религий, Будда не мог появиться на земле, подобно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ругим людям. Мать Сиддхархи - жена правителя шакьев Майя - увидела однажды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 сне, что к ней в бок вошел белый слон. Через положенное время она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дила младенца, покинувшего ее тело также необычным путем - через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мыш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040360" y="1459080"/>
            <a:ext cx="4895640" cy="338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360" y="17928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наши дни буддизм распространен в Юго-Восточной Азии, особенно в Шри-Ланке (Цейлон), Мьянмаре (Бирма), Таиланде, Кампучии (Камбоджа) и Лао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040360" y="2004840"/>
            <a:ext cx="4895640" cy="2289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360" y="17928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уддийская ступа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упа-особый вид мемориальных сооружений в буддизме. По преданию, первые восемь ступ были воздвигнуты для хранения праха Будды. Позднее ступы стали воздвигать в память о почитаемых людях и знаменательных событиях. Символика ступы многозначна, но, прежде всего, - это выраженное в архитектурной форме представление о мироздан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040360" y="1504800"/>
            <a:ext cx="4895640" cy="328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360" y="17928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 время английской оккупации острова Ява, в 1814 году, был обнаружен древний храм. Сотни лет лежал он, покрытый вулканическим пеплом и заросший джунглями. Как этот уникальный монумент оказался забытым и оставленным, пока не ясно. Храмовый комплекс Боробудур оказался одним из древнейших и самым больших буддийских памятников на Земле. Лишь к 1835 году верхняя часть его была полностью расчищена и весь комплекс стал хорошо обозревае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040360" y="1314360"/>
            <a:ext cx="4895640" cy="367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360" y="17928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рам построен как огромная ступа, сооруженная из 2,000,000 каменных блоков,которая выполнена в форме гигантской мандалы. Фундамент ступы квадратный со стороной 118 м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На верхнем ярусе расположено 72 малых ступ вокруг большой центральной ступы. Каждая ступа в форме колокола с большим количеством украшений. Внутри ступ помещены 504 статуи Будды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Прикосновение к каждому Будде из ступ, через выемки в ступе, согласно поверьям, приносит счасть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040360" y="1542960"/>
            <a:ext cx="4895640" cy="321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360" y="17784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I в. н. э. в Буддизме образовалось две ветви: Хинаяна (“мала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озка”) и Махаяна (“большая повозка”). Хинаяна, теснее связанная с ранним Буддизмом, признает Будд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ом, нашедшим путь к спасению, которое считается достижимым тольк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уход от мира - монашество. Махаяна исходит из возможности спас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только для отшельников-монахов, но и для мирян, причем упор сделан 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ую проповедническую деятельность, на вмешательство в общественную 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ую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040360" y="1654200"/>
            <a:ext cx="4895640" cy="299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360" y="17136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йтрея, «Любящий», Аджита, «Непобедимый», — такие имена даны ему верующими. Буддисты верят, что Майтрея появится на Земле, достигнет полного просветления и будет учить чистой дхарм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 Майтреи имеет древнюю традицию и особенно развит в Центральной Азии и Гималаях, где в Его честь сооружено множество статуй, которы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двигались уже за 350 лет до н. 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396040" y="360360"/>
            <a:ext cx="4184640" cy="558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3:29:10Z</dcterms:created>
  <dc:creator>Анна Пушкина</dc:creator>
  <dc:description/>
  <dc:language>en-US</dc:language>
  <cp:lastModifiedBy>DNA7 X86</cp:lastModifiedBy>
  <dcterms:modified xsi:type="dcterms:W3CDTF">2012-08-24T10:11:07Z</dcterms:modified>
  <cp:revision>3</cp:revision>
  <dc:subject/>
  <dc:title>     </dc:title>
</cp:coreProperties>
</file>