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FC8F5-BD07-4908-8B9B-21C1468A44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71B79-772A-4F93-8181-697393274F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A0BF3-4B1C-49C7-81BB-5D3732DE0B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E454B-B27B-4AFA-ABE0-19F4A93B9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D84D7-8963-4CD0-BFD1-9CB4ED51C1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8D452-03D5-4683-9E84-F41A86D86E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717C5-13E6-42C5-A450-AC83D2E764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04E07-9167-4515-A686-440E6C6E38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DA4C0-8C7D-4ADE-BBA2-4ED40305A5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078D1-6ED6-450A-9291-25CE0433C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D419C-D7E6-4406-BCE6-70C8AFEC82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0EDF6-8A3B-433E-AAD0-D5E3028DC8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4D96A-DCFA-4E8A-A4C7-BC6D3F09DA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12955-087A-4D71-B742-245FB5E433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61F5F-B698-4023-949A-A8D9735CF0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FF84F-1DE8-4E11-8CDC-5A471254CE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83BF-3509-432B-9C7F-57AF956430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AB1-A3AF-4AE7-9E27-BF46ED0F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A08-F1F6-44C3-AF04-51B41453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652-0F56-4BB8-BA52-76A02C54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D4E-DBA2-41B5-93E3-81B0983E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6E5-6DFE-4B9E-84E0-9204DF35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FC6-FF8B-44DE-9378-E83B547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C2C-6E66-4046-8E10-88E56EE9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442-04E0-4968-81F6-7D84E10A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AC8-0D04-4D7B-BCB0-CE3B63BB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27D-0FED-4E62-AD12-FC86F7EB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AB8-E5AA-4597-915E-FEFE44A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3CA-226B-410C-99FA-E09C09BE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D1E92B-1DDF-4C25-99A8-99F517ED6F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72036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-527400"/>
            <a:ext cx="9720360" cy="11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ировые рели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360" y="17604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Основные религии - синтоизм, буддизм и дзен-буддиз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нтоизм обслуживает основные религиозно-бытовые обряды и прежде всего свадебные церемонии. Буддизм, напротив, берет на себя все погребальные обря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622840" y="360360"/>
            <a:ext cx="3729240" cy="55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величайших фигур в тибетском буддизме является Далай-лама; Далай-лама 1 был учеником Тзонкхапы, когда 3-й его "перерожденец" прибыл в Монголию, ему дали имя "Далай", по-монгольски "океан", а предыдущие его перерождения после смерти были признаны как Далай-ламы 1 и II. Далай-лама IV родился в Монголии; Далай-лама V объединил весь Тибет и стал не только духовным, но и политическим лидером. Неверно полагать, что Далай-лама является главой традиции Гелуг; ее возглавляет Гандэн Три Ринпоче. Далай-лама стоит выше любого главы любой из традиций, являясь покровителем всего тибетского буддизма. Панчен-лама 1 был одним из учителей Далай-ламы V. В отличие от Далай-ламы Панчен-лама занимается исключительно духовными делами. Когда возраст Далай-ламы и Панчен-ламы был подходящим, тогда один из них мог стать учителем друг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672160" y="360360"/>
            <a:ext cx="3630600" cy="55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ять скандх (кхандх) или «групп привязанности», Паньчаскандхи (пали. pañcakhandhā, санскр. </a:t>
            </a:r>
            <a:r>
              <a:rPr b="0" lang="hi-IN" sz="2600" spc="-1" strike="noStrike">
                <a:solidFill>
                  <a:srgbClr val="000000"/>
                </a:solidFill>
                <a:latin typeface="Arial"/>
                <a:cs typeface="Mangal"/>
              </a:rPr>
              <a:t>पञ्चस्कन्ध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pañcaskandhī) — пять составляющих, необходимых для создания личности, в соответствии с феноменологией буддизма. Другими словами, совокупность пяти скандх является «Я» индивидуума, в терминологии Юнга — сам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40360" y="404640"/>
            <a:ext cx="4895640" cy="549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360" y="17136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й основой соблюдения нравственности является воздержание от десяти неблаговидных действий, три из которых касаются тела, четыре - речи и три - мысле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дурных действия в отношении тела таковы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убийст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оровств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чинение сексуального вред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есных дурных действия таковы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лож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злослов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грубая реч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устословие</a:t>
            </a:r>
            <a:br>
              <a:rPr sz="24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мысленных дурных действия таковы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алч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злонамеренн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лож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зр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040360" y="1528920"/>
            <a:ext cx="4895640" cy="3241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ра́тна — в буддизме — три драгоценности буддийской доктри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д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харма (закон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гха (община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Будда — совершенно Просветлённое, всеведущее существо, достигшее духовных вершин естественным образом через развитие ума и сердца в длинной последовательности рождений (сансара)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Дхарма — Закон, открытый Просветлённым. Этот Закон является смысловым ядром Вселенной, в соответствии с ним происходят все процессы вне и внутри человеческих судеб, с его помощью можно понять законы жизни и общества, взаимосцепленность и взаимозависимость всег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ангха — община равных, не имеющих никакой собственности, нищенствующих (бхикшу, на пали — бхиккху), сообщество носителей Закона, хранителей знаний и мастерства, которые из поколения в поколение следуют путем Буд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040360" y="846000"/>
            <a:ext cx="4895640" cy="460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олесо с восемью спицами символизирует суть буддийского учения - следование восьми «благородным принципам»: правильная вера, правильные ценности, правильная речь, правильное поведение, правильное достижение средств к жизни, правильные стремления, правильное оценка своих действий и восприятие мира органами чувств, а также правильная концентрация(медитация).»Центр колеса, ступица, символизирует светящуюся точку сознания, излучающую душевные свойств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040360" y="701640"/>
            <a:ext cx="489564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нашей стране Буддизм представлен в основном в качестве Ламаизм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ддийской религии придерживаются многие народы, населяющие Сибирь.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ятельность ламаистского духовенства возглавляется Центральным Духовным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Буддистов, учрежденным собором 1946 г. Председатель управлен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сит сан бандидо-хамболабы и находиться в Иволгинском дацане (монастыре)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положенным невдалеке от г. Улан - Уд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40360" y="131436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199800"/>
            <a:ext cx="5219640" cy="7000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дизм возник в VI в. до н. э. в Индии, где в то время шел процес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я рабовладельческих государств. Отправной точкой буддизм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легенда об индийском царевиче Сиддхартхи Гаутаме. Согласно э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енде Гаутама на тридцатом году жизни оставил семью, стал отшельником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нял поиски путей избавления человечества от стр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758920" y="178920"/>
            <a:ext cx="431964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113520" y="312840"/>
            <a:ext cx="3605040" cy="5987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и боги других религий, Будда не мог появиться на земле, подобн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им людям. Мать Сиддхархи - жена правителя шакьев Майя - увидела однажды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сне, что к ней в бок вошел белый слон. Через положенное время он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ла младенца, покинувшего ее тело также необычным путем - через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ыш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040360" y="1459080"/>
            <a:ext cx="4895640" cy="33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аши дни буддизм распространен в Юго-Восточной Азии, особенно в Шри-Ланке (Цейлон), Мьянмаре (Бирма), Таиланде, Кампучии (Камбоджа) и Лао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40360" y="2004840"/>
            <a:ext cx="4895640" cy="228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ддийская ступ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упа-особый вид мемориальных сооружений в буддизме. По преданию, первые восемь ступ были воздвигнуты для хранения праха Будды. Позднее ступы стали воздвигать в память о почитаемых людях и знаменательных событиях. Символика ступы многозначна, но, прежде всего, - это выраженное в архитектурной форме представление о мирозда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040360" y="1504800"/>
            <a:ext cx="4895640" cy="3289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английской оккупации острова Ява, в 1814 году, был обнаружен древний храм. Сотни лет лежал он, покрытый вулканическим пеплом и заросший джунглями. Как этот уникальный монумент оказался забытым и оставленным, пока не ясно. Храмовый комплекс Боробудур оказался одним из древнейших и самым больших буддийских памятников на Земле. Лишь к 1835 году верхняя часть его была полностью расчищена и весь комплекс стал хорошо обозрева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40360" y="131436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360" y="17928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м построен как огромная ступа, сооруженная из 2,000,000 каменных блоков,которая выполнена в форме гигантской мандалы. Фундамент ступы квадратный со стороной 118 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На верхнем ярусе расположено 72 малых ступ вокруг большой центральной ступы. Каждая ступа в форме колокола с большим количеством украшений. Внутри ступ помещены 504 статуи Буд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икосновение к каждому Будде из ступ, через выемки в ступе, согласно поверьям, приносит счасть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40360" y="1542960"/>
            <a:ext cx="4895640" cy="321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360" y="17784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I в. н. э. в Буддизме образовалось две ветви: Хинаяна (“мала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зка”) и Махаяна (“большая повозка”). Хинаяна, теснее связанная с ранним Буддизмом, признает Будд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ом, нашедшим путь к спасению, которое считается достижимым толь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уход от мира - монашество. Махаяна исходит из возможности спас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олько для отшельников-монахов, но и для мирян, причем упор сделан 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ую проповедническую деятельность, на вмешательство в общественную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у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040360" y="1654200"/>
            <a:ext cx="4895640" cy="2992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360" y="171360"/>
            <a:ext cx="4896000" cy="702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йтрея, «Любящий», Аджита, «Непобедимый», — такие имена даны ему верующими. Буддисты верят, что Майтрея появится на Земле, достигнет полного просветления и будет учить чистой дхарм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 Майтреи имеет древнюю традицию и особенно развит в Центральной Азии и Гималаях, где в Его честь сооружено множество статуй, котор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вигались уже за 350 лет до н. 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396040" y="360360"/>
            <a:ext cx="4184640" cy="55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3:29:10Z</dcterms:created>
  <dc:creator>Анна Пушкина</dc:creator>
  <dc:description/>
  <dc:language>en-US</dc:language>
  <cp:lastModifiedBy>DNA7 X86</cp:lastModifiedBy>
  <dcterms:modified xsi:type="dcterms:W3CDTF">2012-08-24T10:11:07Z</dcterms:modified>
  <cp:revision>3</cp:revision>
  <dc:subject/>
  <dc:title>     </dc:title>
</cp:coreProperties>
</file>