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532-7709-4E99-BE3C-9A65459B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A6D-FF5A-4399-9059-096E7D45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907-2612-44C5-8A2D-C0D9EE06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B27-1DE0-4687-A7E7-446E5E79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B36-EB3D-4765-AC45-B919997E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905-7AB6-4246-84F7-E96F0656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D6B-AA38-4282-BD54-352072B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B85-BCF4-4A7B-854C-C01D7C8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2E3-3C7A-436B-BFFC-A5AEC92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25F-6B1E-4EA2-B980-C23D1A3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E42-310A-4159-9AE4-9BAF35BF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9E7-A59F-4B49-A7CF-615EA6F9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D46F-3892-410A-8793-C718B28C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988640"/>
            <a:ext cx="7129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I were a teacher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na Bezruchen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m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ed by S.N. Derevyank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ceu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338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341000"/>
            <a:ext cx="4259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s profession has exis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many centuries. T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re teachers in Anc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gypt, Rome and Greece 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Middle Ages and w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not live without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ow. They help young peo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 find their way in life, g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nowledge and helpful advi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722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12000" y="1484280"/>
            <a:ext cx="2890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, this job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le, but,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ther hand,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very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51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3280" y="620280"/>
            <a:ext cx="367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 were a teac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ly, I would use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n technologi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 to mak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f learning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able. Secondly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ry to us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of 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out more about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and shar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pup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51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316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say tha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 are like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and best friend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because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 and influence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and 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. So, if I wer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would be pati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and tolerant to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il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633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3280" y="764640"/>
            <a:ext cx="3965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ides, I would set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to them and br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qualities in them.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would organiz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(for example,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s, excursions)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ils and ask their pare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us. Conflicts in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evitable. And if I wer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, I would use a sen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or, professionalis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dom but never insul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3343286ea4.jpg"/>
          <p:cNvPicPr/>
          <p:nvPr/>
        </p:nvPicPr>
        <p:blipFill>
          <a:blip r:embed="rId1"/>
          <a:stretch/>
        </p:blipFill>
        <p:spPr>
          <a:xfrm>
            <a:off x="250920" y="981000"/>
            <a:ext cx="2735280" cy="234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4508640"/>
            <a:ext cx="1808280" cy="206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68360" y="3645000"/>
            <a:ext cx="2028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968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08720" y="620280"/>
            <a:ext cx="31017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know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this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dmoth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er and aun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. And if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a teacher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try to be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950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a teacher’s dyn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25520" cy="338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55800" y="3357720"/>
            <a:ext cx="22910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f20090918141730-student.jpg"/>
          <p:cNvPicPr/>
          <p:nvPr/>
        </p:nvPicPr>
        <p:blipFill>
          <a:blip r:embed="rId1"/>
          <a:stretch/>
        </p:blipFill>
        <p:spPr>
          <a:xfrm>
            <a:off x="2556000" y="260280"/>
            <a:ext cx="4124160" cy="540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80000" y="5877000"/>
            <a:ext cx="151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7:43:46Z</dcterms:created>
  <dc:creator>Alex</dc:creator>
  <dc:description/>
  <dc:language>en-US</dc:language>
  <cp:lastModifiedBy>Alex</cp:lastModifiedBy>
  <dcterms:modified xsi:type="dcterms:W3CDTF">2010-04-19T18:17:39Z</dcterms:modified>
  <cp:revision>8</cp:revision>
  <dc:subject/>
  <dc:title>Слайд 1</dc:title>
</cp:coreProperties>
</file>