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2CE37-72F2-4653-B697-E322100A1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AF376-C9D9-42DD-858E-AC8F42508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69C9F-FE79-4CFD-BE71-E0F8C18F0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40916-D998-4206-84C8-4A10A4F9C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50C58-9F85-494D-9765-1EF38BF00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A2A04-B0EB-4751-A9D2-C07FF5011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6AC19-1B87-46D0-8BC6-C6EB6B388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FF837-2BD5-46BB-B593-F871C5752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CE89C-22A6-45B2-BF61-19F81A661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7452D-62DF-4892-AF0E-23673095E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9017F-E3F0-4A8E-82DC-D6F165F01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EF670-EC3E-4662-9098-9128A3245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76F3E-C8E8-43BB-A6D7-D126CBA943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549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ss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42920" y="1988640"/>
            <a:ext cx="712944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f I were a teacher..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itten b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ena Bezruchenk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orm 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ervised by S.N. Derevyank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yceum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№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mbov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610920" y="1628640"/>
            <a:ext cx="338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356000" y="1341000"/>
            <a:ext cx="42595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This profession has existed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for many centuries. Ther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were teachers in Ancien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Egypt, Rome and Greece i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the Middle Ages and w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cannot live without them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now. They help young peopl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to find their way in life, giv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knowledge and helpful advice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50920" y="1052640"/>
            <a:ext cx="372276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012000" y="1484280"/>
            <a:ext cx="28908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 the 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nd, this job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ant 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ble, but, 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other hand,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very stress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har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0920" y="620640"/>
            <a:ext cx="5511600" cy="583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03280" y="620280"/>
            <a:ext cx="36738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I were a teacher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rstly, I would use 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rn technologies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pment to make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cess of learning m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esting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morable. Secondly, 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uld try to use diffe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s of informatio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out more about m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ject and share wi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 pupi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50920" y="476280"/>
            <a:ext cx="451332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755640" y="1628640"/>
            <a:ext cx="316872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42920" y="1341360"/>
            <a:ext cx="403884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ople say that g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achers are like sec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ents and best friends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ildren because th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nd a lot of time wi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m and influence the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sychological and spirit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velopment. So, if I were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acher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 would be patient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ir and tolerant to m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pils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611280" y="765000"/>
            <a:ext cx="363384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643280" y="764640"/>
            <a:ext cx="396576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sides, I would set a g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 to them and bring 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od qualities in them. To 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 would organize diffe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vities (for example, 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s, excursions)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pils and ask their parents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in us. Conflicts in sch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inevitable. And if I were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acher, I would use a sense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umor, professionalism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sdom but never insults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ve probl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Рисунок 1" descr="3343286ea4.jpg"/>
          <p:cNvPicPr/>
          <p:nvPr/>
        </p:nvPicPr>
        <p:blipFill>
          <a:blip r:embed="rId1"/>
          <a:stretch/>
        </p:blipFill>
        <p:spPr>
          <a:xfrm>
            <a:off x="250920" y="981000"/>
            <a:ext cx="2735280" cy="23446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179280" y="4508640"/>
            <a:ext cx="1808280" cy="20602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2268360" y="3645000"/>
            <a:ext cx="2028960" cy="20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250920" y="259920"/>
            <a:ext cx="4968720" cy="619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508720" y="620280"/>
            <a:ext cx="310176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know mu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bout this jo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ndmother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ther and aunt 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achers. And if 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re a teacher, 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uld try to be li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435640" y="5950080"/>
            <a:ext cx="2879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 are a teacher’s dynas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2225520" cy="33829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2755800" y="3357720"/>
            <a:ext cx="2291040" cy="299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Рисунок 3" descr="f20090918141730-student.jpg"/>
          <p:cNvPicPr/>
          <p:nvPr/>
        </p:nvPicPr>
        <p:blipFill>
          <a:blip r:embed="rId1"/>
          <a:stretch/>
        </p:blipFill>
        <p:spPr>
          <a:xfrm>
            <a:off x="2556000" y="260280"/>
            <a:ext cx="4124160" cy="5400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780000" y="5877000"/>
            <a:ext cx="1512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The End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8T07:43:46Z</dcterms:created>
  <dc:creator>Alex</dc:creator>
  <dc:description/>
  <dc:language>en-US</dc:language>
  <cp:lastModifiedBy>Alex</cp:lastModifiedBy>
  <dcterms:modified xsi:type="dcterms:W3CDTF">2010-04-19T18:17:39Z</dcterms:modified>
  <cp:revision>8</cp:revision>
  <dc:subject/>
  <dc:title>Слайд 1</dc:title>
</cp:coreProperties>
</file>