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805-F7EB-4D13-ACD8-D841033C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9AB-6F68-4AC8-A759-CA8EB7A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680-7123-4ABC-8640-C390CCC2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617-629B-40AF-9054-00DA6315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B8F9-B199-4793-83E4-C4F861D4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0D41-329A-48D6-8599-9D45AA05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B948-1B38-43F7-B10A-0B39DB18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2DED-FF03-4EB1-B1AF-B81CE7B0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86B6-F663-4572-BE47-717B79DC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6B5E-49E4-4DB0-A671-C1243880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4F68-15BC-419C-98CB-D032011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B71-0D60-4B5E-B5E7-B2763880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B2F7-7A90-42B9-96EF-C5C56416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2E6-F69B-40AE-B9F1-465868C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AC9-5FAA-44CD-AC0A-172AF51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6630-CAA4-401C-81FA-FECE1B40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FC4D-6066-4889-B25A-2870CDA6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D2F-F7D5-4093-B2AD-9F871745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581-8501-47A5-9308-E446E763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F4F-7844-4BD8-8460-84C6233B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DF9-F38D-4F49-925B-13C2A10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460-17E9-49AF-B243-86BBE44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4EC-A13D-4166-AE73-407CBB14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47F-F761-412C-AD9C-CD14020A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cccc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cc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0F28-3604-423C-987E-AA3F541C7E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cce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A233-D80F-4965-8303-AC6E82100B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5"/>
          <p:cNvSpPr txBox="1"/>
          <p:nvPr/>
        </p:nvSpPr>
        <p:spPr>
          <a:xfrm>
            <a:off x="900000" y="1125360"/>
            <a:ext cx="6193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РТФОЛИ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1" name="Picture 9" descr=""/>
          <p:cNvPicPr/>
          <p:nvPr/>
        </p:nvPicPr>
        <p:blipFill>
          <a:blip r:embed="rId2"/>
          <a:stretch/>
        </p:blipFill>
        <p:spPr>
          <a:xfrm>
            <a:off x="6300720" y="4292640"/>
            <a:ext cx="1986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25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 Black"/>
              </a:rPr>
              <a:t>Работа в педагогических Интернет - сообществах</a:t>
            </a:r>
            <a:endParaRPr b="0" lang="en-US" sz="3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395280" y="1631880"/>
            <a:ext cx="8354880" cy="91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тал «Сеть творческих учителей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it-n.r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395280" y="2637000"/>
            <a:ext cx="8353440" cy="91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йт «Интернет-государство учителей»: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intergu.r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AutoShape 6"/>
          <p:cNvSpPr/>
          <p:nvPr/>
        </p:nvSpPr>
        <p:spPr>
          <a:xfrm>
            <a:off x="395280" y="3645000"/>
            <a:ext cx="8424720" cy="91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нет – сообщество учителей: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edsovet.s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324000" y="4724280"/>
            <a:ext cx="8424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СОВЕТ.ORG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edsovet.org.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AutoShape 8"/>
          <p:cNvSpPr/>
          <p:nvPr/>
        </p:nvSpPr>
        <p:spPr>
          <a:xfrm>
            <a:off x="324000" y="5445000"/>
            <a:ext cx="8424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порта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zavuch.info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3" name="AutoShape 9"/>
          <p:cNvSpPr/>
          <p:nvPr/>
        </p:nvSpPr>
        <p:spPr>
          <a:xfrm>
            <a:off x="324000" y="6093000"/>
            <a:ext cx="8424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рытый класс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openclass.ru/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8930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99"/>
                </a:solidFill>
                <a:latin typeface="Arial"/>
              </a:rPr>
              <a:t>Мои публика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0" y="-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Picture 8" descr="blank-spr"/>
          <p:cNvPicPr/>
          <p:nvPr/>
        </p:nvPicPr>
        <p:blipFill>
          <a:blip r:embed="rId2"/>
          <a:stretch/>
        </p:blipFill>
        <p:spPr>
          <a:xfrm>
            <a:off x="2886120" y="1916280"/>
            <a:ext cx="3306600" cy="472572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9"/>
          <p:cNvSpPr/>
          <p:nvPr/>
        </p:nvSpPr>
        <p:spPr>
          <a:xfrm>
            <a:off x="2916360" y="2997360"/>
            <a:ext cx="2663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Сенатской Галине Михайловн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учительнице иностранного языка МОУ СОШ№ 2 п. Восточный, в том, что ее разработка опубликована в научно-практическом журнал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«Интернет и образование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сайт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www.openclass.r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натская Г.М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егенда о Лорелее, немецкий язык, 8 класс, № 19.–М.:НФПК, 2010. Электронная публикация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http://www.openclass.ru/io/19/senatskaya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Arial"/>
              </a:rPr>
              <a:t>Мои  ученики</a:t>
            </a:r>
            <a:endParaRPr b="0" lang="en-US" sz="60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429" name="Рисунок 5" descr="C:\Documents and Settings\Владелец\Local Settings\Temporary Internet Files\Content.IE5\TP82GBXV\MCj02251340000[1].wmf"/>
          <p:cNvPicPr/>
          <p:nvPr/>
        </p:nvPicPr>
        <p:blipFill>
          <a:blip r:embed="rId2"/>
          <a:stretch/>
        </p:blipFill>
        <p:spPr>
          <a:xfrm>
            <a:off x="3492360" y="1989000"/>
            <a:ext cx="1611360" cy="180036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7"/>
          <p:cNvSpPr/>
          <p:nvPr/>
        </p:nvSpPr>
        <p:spPr>
          <a:xfrm>
            <a:off x="539640" y="3933720"/>
            <a:ext cx="7848720" cy="25923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ытаюсь зажечь в них хотя бы свечу –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Не худшая все – таки участь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не кажется, я их чему – то учу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А это они меня учат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99"/>
                </a:solidFill>
                <a:latin typeface="Arial"/>
              </a:rPr>
              <a:t>Уровень обученности и     качество знаний</a:t>
            </a:r>
            <a:r>
              <a:rPr b="0" i="1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3" name="Picture 19" descr="tmpgOJMuZ_html_m4148e374"/>
          <p:cNvPicPr/>
          <p:nvPr/>
        </p:nvPicPr>
        <p:blipFill>
          <a:blip r:embed="rId2"/>
          <a:stretch/>
        </p:blipFill>
        <p:spPr>
          <a:xfrm>
            <a:off x="250920" y="1628640"/>
            <a:ext cx="8258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Black"/>
              </a:rPr>
              <a:t>Мои грамоты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435" name="Рисунок 5" descr="Свво2279.jpg"/>
          <p:cNvPicPr/>
          <p:nvPr/>
        </p:nvPicPr>
        <p:blipFill>
          <a:blip r:embed="rId2"/>
          <a:stretch/>
        </p:blipFill>
        <p:spPr>
          <a:xfrm>
            <a:off x="4859280" y="836640"/>
            <a:ext cx="4105440" cy="56991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Свво2280.jpg"/>
          <p:cNvPicPr/>
          <p:nvPr/>
        </p:nvPicPr>
        <p:blipFill>
          <a:blip r:embed="rId3"/>
          <a:stretch/>
        </p:blipFill>
        <p:spPr>
          <a:xfrm>
            <a:off x="2627280" y="907920"/>
            <a:ext cx="4189320" cy="576108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3" descr="Свво2281.jpg"/>
          <p:cNvPicPr/>
          <p:nvPr/>
        </p:nvPicPr>
        <p:blipFill>
          <a:blip r:embed="rId4"/>
          <a:stretch/>
        </p:blipFill>
        <p:spPr>
          <a:xfrm>
            <a:off x="179280" y="836640"/>
            <a:ext cx="410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755640" y="-190008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Arial"/>
              </a:rPr>
              <a:t>Личные   достижения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9" name="Picture 3" descr="index"/>
          <p:cNvPicPr/>
          <p:nvPr/>
        </p:nvPicPr>
        <p:blipFill>
          <a:blip r:embed="rId2"/>
          <a:stretch/>
        </p:blipFill>
        <p:spPr>
          <a:xfrm>
            <a:off x="4572000" y="836640"/>
            <a:ext cx="4321080" cy="5764320"/>
          </a:xfrm>
          <a:prstGeom prst="rect">
            <a:avLst/>
          </a:prstGeom>
          <a:ln w="0">
            <a:noFill/>
          </a:ln>
        </p:spPr>
      </p:pic>
      <p:grpSp>
        <p:nvGrpSpPr>
          <p:cNvPr id="440" name="Группа 11"/>
          <p:cNvGrpSpPr/>
          <p:nvPr/>
        </p:nvGrpSpPr>
        <p:grpSpPr>
          <a:xfrm>
            <a:off x="2268360" y="836640"/>
            <a:ext cx="4321440" cy="5764320"/>
            <a:chOff x="2268360" y="836640"/>
            <a:chExt cx="4321440" cy="5764320"/>
          </a:xfrm>
        </p:grpSpPr>
        <p:pic>
          <p:nvPicPr>
            <p:cNvPr id="441" name="Picture 3" descr="index"/>
            <p:cNvPicPr/>
            <p:nvPr/>
          </p:nvPicPr>
          <p:blipFill>
            <a:blip r:embed="rId3"/>
            <a:stretch/>
          </p:blipFill>
          <p:spPr>
            <a:xfrm>
              <a:off x="2268360" y="836640"/>
              <a:ext cx="4321440" cy="57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6"/>
            <p:cNvSpPr/>
            <p:nvPr/>
          </p:nvSpPr>
          <p:spPr>
            <a:xfrm>
              <a:off x="3708360" y="2976480"/>
              <a:ext cx="1562040" cy="30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итель 2 гурии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443" name="Группа 9"/>
          <p:cNvGrpSpPr/>
          <p:nvPr/>
        </p:nvGrpSpPr>
        <p:grpSpPr>
          <a:xfrm>
            <a:off x="395280" y="836640"/>
            <a:ext cx="4319640" cy="5762520"/>
            <a:chOff x="395280" y="836640"/>
            <a:chExt cx="4319640" cy="5762520"/>
          </a:xfrm>
        </p:grpSpPr>
        <p:pic>
          <p:nvPicPr>
            <p:cNvPr id="444" name="Picture 3" descr="index"/>
            <p:cNvPicPr/>
            <p:nvPr/>
          </p:nvPicPr>
          <p:blipFill>
            <a:blip r:embed="rId4"/>
            <a:stretch/>
          </p:blipFill>
          <p:spPr>
            <a:xfrm>
              <a:off x="395280" y="836640"/>
              <a:ext cx="4319640" cy="57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Rectangle 6"/>
            <p:cNvSpPr/>
            <p:nvPr/>
          </p:nvSpPr>
          <p:spPr>
            <a:xfrm>
              <a:off x="1785240" y="2854080"/>
              <a:ext cx="1561680" cy="30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читель 1 гурии</a:t>
              </a:r>
              <a:endParaRPr b="0" lang="en-US" sz="13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99"/>
                </a:solidFill>
                <a:latin typeface="Arial"/>
              </a:rPr>
              <a:t>Контактная  информация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9933ff"/>
                </a:solidFill>
                <a:uFillTx/>
                <a:latin typeface="Arial Black"/>
              </a:rPr>
              <a:t>Адрес школы</a:t>
            </a:r>
            <a:r>
              <a:rPr b="0" lang="ru-RU" sz="4000" spc="-1" strike="noStrike" u="sng">
                <a:solidFill>
                  <a:srgbClr val="9933ff"/>
                </a:solidFill>
                <a:uFillTx/>
                <a:latin typeface="Arial Blac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12711                                                      Кировская область, г. Омутнинск, ул.Коковихина,9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9933ff"/>
                </a:solidFill>
                <a:uFillTx/>
                <a:latin typeface="Arial Black"/>
              </a:rPr>
              <a:t>Личный электронный адрес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lina-senatskaya@yandex.r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900000" y="1484280"/>
            <a:ext cx="3357720" cy="3527280"/>
          </a:xfrm>
          <a:custGeom>
            <a:avLst/>
            <a:gdLst>
              <a:gd name="textAreaLeft" fmla="*/ 163800 w 3357720"/>
              <a:gd name="textAreaRight" fmla="*/ 3193920 w 3357720"/>
              <a:gd name="textAreaTop" fmla="*/ 163800 h 3527280"/>
              <a:gd name="textAreaBottom" fmla="*/ 3363480 h 3527280"/>
            </a:gdLst>
            <a:ahLst/>
            <a:rect l="textAreaLeft" t="textAreaTop" r="textAreaRight" b="textAreaBottom"/>
            <a:pathLst>
              <a:path w="21600" h="22691">
                <a:moveTo>
                  <a:pt x="3600" y="0"/>
                </a:moveTo>
                <a:arcTo wR="3600" hR="3600" stAng="16200000" swAng="-5400000"/>
                <a:lnTo>
                  <a:pt x="0" y="19091"/>
                </a:lnTo>
                <a:arcTo wR="3600" hR="3600" stAng="10800000" swAng="-5400000"/>
                <a:lnTo>
                  <a:pt x="18000" y="22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55640" y="5084640"/>
            <a:ext cx="77724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Black"/>
              </a:rPr>
              <a:t>Желаю всем успехов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1" name="Рисунок 4" descr="DSCN3399д.jpg"/>
          <p:cNvPicPr/>
          <p:nvPr/>
        </p:nvPicPr>
        <p:blipFill>
          <a:blip r:embed="rId3"/>
          <a:stretch/>
        </p:blipFill>
        <p:spPr>
          <a:xfrm>
            <a:off x="4859280" y="1413000"/>
            <a:ext cx="28576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140000" y="2997000"/>
            <a:ext cx="467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 Black"/>
              </a:rPr>
              <a:t>Сенатская Галина Михайловн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95280" y="5373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итель английского языка           первой  категори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4" name="Рисунок 5" descr="102_3230.JPG"/>
          <p:cNvPicPr/>
          <p:nvPr/>
        </p:nvPicPr>
        <p:blipFill>
          <a:blip r:embed="rId2"/>
          <a:stretch/>
        </p:blipFill>
        <p:spPr>
          <a:xfrm>
            <a:off x="142920" y="214200"/>
            <a:ext cx="4643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684360" y="549360"/>
            <a:ext cx="7920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Место работ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МВ СОУ ЦО г. Омутнинска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Образование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Кировский государственный педагогический институт             имени В.И. Ленина, 1982 г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Специальнос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учитель немецкого и английского языко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 Black"/>
              </a:rPr>
              <a:t>Занимаемая должнос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411280" y="260280"/>
            <a:ext cx="3816360" cy="306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Модель  преподавания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В  СОУ  ЦО                            г. Омутнинск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Автор: Сенатская Г.М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732720" y="1413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Cloud"/>
          <p:cNvSpPr/>
          <p:nvPr/>
        </p:nvSpPr>
        <p:spPr>
          <a:xfrm>
            <a:off x="0" y="1197000"/>
            <a:ext cx="2130480" cy="1427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Cloud"/>
          <p:cNvSpPr/>
          <p:nvPr/>
        </p:nvSpPr>
        <p:spPr>
          <a:xfrm rot="970800">
            <a:off x="250920" y="3644640"/>
            <a:ext cx="2131920" cy="15494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Cloud"/>
          <p:cNvSpPr/>
          <p:nvPr/>
        </p:nvSpPr>
        <p:spPr>
          <a:xfrm>
            <a:off x="6227640" y="4292640"/>
            <a:ext cx="2384640" cy="15984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Cloud"/>
          <p:cNvSpPr/>
          <p:nvPr/>
        </p:nvSpPr>
        <p:spPr>
          <a:xfrm rot="670800">
            <a:off x="3131640" y="4652640"/>
            <a:ext cx="2171880" cy="15256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Text Box 14"/>
          <p:cNvSpPr/>
          <p:nvPr/>
        </p:nvSpPr>
        <p:spPr>
          <a:xfrm rot="520200">
            <a:off x="218520" y="1410120"/>
            <a:ext cx="165564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8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Text Box 15"/>
          <p:cNvSpPr/>
          <p:nvPr/>
        </p:nvSpPr>
        <p:spPr>
          <a:xfrm rot="19763400">
            <a:off x="6768360" y="462276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11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AutoShape 30"/>
          <p:cNvSpPr/>
          <p:nvPr/>
        </p:nvSpPr>
        <p:spPr>
          <a:xfrm rot="2606400">
            <a:off x="2484000" y="3499920"/>
            <a:ext cx="503280" cy="719280"/>
          </a:xfrm>
          <a:prstGeom prst="upArrow">
            <a:avLst>
              <a:gd name="adj1" fmla="val 50000"/>
              <a:gd name="adj2" fmla="val 357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AutoShape 32"/>
          <p:cNvSpPr/>
          <p:nvPr/>
        </p:nvSpPr>
        <p:spPr>
          <a:xfrm rot="6888000">
            <a:off x="1717920" y="2475360"/>
            <a:ext cx="503280" cy="711000"/>
          </a:xfrm>
          <a:prstGeom prst="upArrow">
            <a:avLst>
              <a:gd name="adj1" fmla="val 50000"/>
              <a:gd name="adj2" fmla="val 3531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AutoShape 34"/>
          <p:cNvSpPr/>
          <p:nvPr/>
        </p:nvSpPr>
        <p:spPr>
          <a:xfrm rot="20815200">
            <a:off x="6084720" y="3715920"/>
            <a:ext cx="503280" cy="720720"/>
          </a:xfrm>
          <a:prstGeom prst="upArrow">
            <a:avLst>
              <a:gd name="adj1" fmla="val 50000"/>
              <a:gd name="adj2" fmla="val 3580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AutoShape 35"/>
          <p:cNvSpPr/>
          <p:nvPr/>
        </p:nvSpPr>
        <p:spPr>
          <a:xfrm rot="235200">
            <a:off x="3924000" y="3715920"/>
            <a:ext cx="503280" cy="647640"/>
          </a:xfrm>
          <a:prstGeom prst="upArrow">
            <a:avLst>
              <a:gd name="adj1" fmla="val 50000"/>
              <a:gd name="adj2" fmla="val 3217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Cloud"/>
          <p:cNvSpPr/>
          <p:nvPr/>
        </p:nvSpPr>
        <p:spPr>
          <a:xfrm>
            <a:off x="6443640" y="907920"/>
            <a:ext cx="2484360" cy="1665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AutoShape 37"/>
          <p:cNvSpPr/>
          <p:nvPr/>
        </p:nvSpPr>
        <p:spPr>
          <a:xfrm rot="16200000">
            <a:off x="6611400" y="2541960"/>
            <a:ext cx="502920" cy="692280"/>
          </a:xfrm>
          <a:prstGeom prst="upArrow">
            <a:avLst>
              <a:gd name="adj1" fmla="val 50000"/>
              <a:gd name="adj2" fmla="val 3441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41"/>
          <p:cNvSpPr/>
          <p:nvPr/>
        </p:nvSpPr>
        <p:spPr>
          <a:xfrm rot="295200">
            <a:off x="3400920" y="494100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10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Text Box 42"/>
          <p:cNvSpPr/>
          <p:nvPr/>
        </p:nvSpPr>
        <p:spPr>
          <a:xfrm rot="623400">
            <a:off x="645480" y="400176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9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Text Box 43"/>
          <p:cNvSpPr/>
          <p:nvPr/>
        </p:nvSpPr>
        <p:spPr>
          <a:xfrm rot="20865600">
            <a:off x="6849360" y="1191960"/>
            <a:ext cx="1503360" cy="1373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Black"/>
              </a:rPr>
              <a:t>12                       класс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м. ПРИЛОЖЕНИЯ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ocument"/>
          <p:cNvSpPr/>
          <p:nvPr/>
        </p:nvSpPr>
        <p:spPr>
          <a:xfrm>
            <a:off x="324000" y="1341360"/>
            <a:ext cx="2952720" cy="403236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4427640" y="1916280"/>
            <a:ext cx="2016000" cy="100800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4427640" y="3933720"/>
            <a:ext cx="2016000" cy="1008000"/>
          </a:xfrm>
          <a:prstGeom prst="flowChartAlternateProcess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5940360" y="260280"/>
            <a:ext cx="2808360" cy="1513080"/>
          </a:xfrm>
          <a:prstGeom prst="flowChartAlternateProcess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6732720" y="2852640"/>
            <a:ext cx="1800000" cy="1224000"/>
          </a:xfrm>
          <a:prstGeom prst="flowChartAlternateProcess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AutoShape 12"/>
          <p:cNvSpPr/>
          <p:nvPr/>
        </p:nvSpPr>
        <p:spPr>
          <a:xfrm>
            <a:off x="5940360" y="5157720"/>
            <a:ext cx="295272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3564000" y="1413000"/>
            <a:ext cx="216036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3419640" y="2565360"/>
            <a:ext cx="86508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Line 21"/>
          <p:cNvSpPr/>
          <p:nvPr/>
        </p:nvSpPr>
        <p:spPr>
          <a:xfrm>
            <a:off x="3564000" y="3500280"/>
            <a:ext cx="316872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3492360" y="4365720"/>
            <a:ext cx="86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Line 23"/>
          <p:cNvSpPr/>
          <p:nvPr/>
        </p:nvSpPr>
        <p:spPr>
          <a:xfrm>
            <a:off x="3564000" y="5445000"/>
            <a:ext cx="230328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250920" y="1916280"/>
            <a:ext cx="3132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ИСПОЛЬЗУЕМЫЕ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СОВРЕМЕННЫЕ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ОБРАЗОВАТЕЛЬНЫ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4500720" y="206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дульное обучени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Text Box 30"/>
          <p:cNvSpPr/>
          <p:nvPr/>
        </p:nvSpPr>
        <p:spPr>
          <a:xfrm>
            <a:off x="4500720" y="4076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лемное обучени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6012000" y="54936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чностно – ориентированное обучение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Text Box 32"/>
          <p:cNvSpPr/>
          <p:nvPr/>
        </p:nvSpPr>
        <p:spPr>
          <a:xfrm>
            <a:off x="6804000" y="3284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К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012000" y="5445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оммуникативные технологи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5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Самообразование</a:t>
            </a:r>
            <a:endParaRPr b="0" lang="en-US" sz="3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0" y="2349360"/>
            <a:ext cx="2987640" cy="208764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2771640" y="2781360"/>
            <a:ext cx="3384720" cy="187164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6084720" y="2349360"/>
            <a:ext cx="3059280" cy="201636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250920" y="306864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хождение курс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300720" y="2852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Работа             в творческих групп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2987640" y="321300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абота над методическими темам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1332000" y="5229360"/>
            <a:ext cx="6048360" cy="14396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835280" y="558972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Работа в педагогических Интернет – сообществ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Line 16"/>
          <p:cNvSpPr/>
          <p:nvPr/>
        </p:nvSpPr>
        <p:spPr>
          <a:xfrm flipH="1">
            <a:off x="1835280" y="1773360"/>
            <a:ext cx="50472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4500720" y="191628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6588000" y="1773360"/>
            <a:ext cx="50508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 Black"/>
              </a:rPr>
              <a:t>Прохождение курсов</a:t>
            </a: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405" name="Рисунок 4" descr="Свво2278.jpg"/>
          <p:cNvPicPr/>
          <p:nvPr/>
        </p:nvPicPr>
        <p:blipFill>
          <a:blip r:embed="rId2"/>
          <a:stretch/>
        </p:blipFill>
        <p:spPr>
          <a:xfrm>
            <a:off x="250920" y="1268280"/>
            <a:ext cx="4267080" cy="29070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Свво2277.jpg"/>
          <p:cNvPicPr/>
          <p:nvPr/>
        </p:nvPicPr>
        <p:blipFill>
          <a:blip r:embed="rId3"/>
          <a:stretch/>
        </p:blipFill>
        <p:spPr>
          <a:xfrm>
            <a:off x="1619280" y="1989000"/>
            <a:ext cx="4267080" cy="28576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" descr="Свво2276.jpg"/>
          <p:cNvPicPr/>
          <p:nvPr/>
        </p:nvPicPr>
        <p:blipFill>
          <a:blip r:embed="rId4"/>
          <a:stretch/>
        </p:blipFill>
        <p:spPr>
          <a:xfrm>
            <a:off x="3276720" y="2421000"/>
            <a:ext cx="3887640" cy="27208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7" descr="Свво2275.jpg"/>
          <p:cNvPicPr/>
          <p:nvPr/>
        </p:nvPicPr>
        <p:blipFill>
          <a:blip r:embed="rId5"/>
          <a:stretch/>
        </p:blipFill>
        <p:spPr>
          <a:xfrm>
            <a:off x="4356000" y="2492280"/>
            <a:ext cx="4572000" cy="320508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8" descr="Свво2274.jpg"/>
          <p:cNvPicPr/>
          <p:nvPr/>
        </p:nvPicPr>
        <p:blipFill>
          <a:blip r:embed="rId6"/>
          <a:stretch/>
        </p:blipFill>
        <p:spPr>
          <a:xfrm>
            <a:off x="4859280" y="3068640"/>
            <a:ext cx="4800600" cy="33577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9" descr="Свво2273.jpg"/>
          <p:cNvPicPr/>
          <p:nvPr/>
        </p:nvPicPr>
        <p:blipFill>
          <a:blip r:embed="rId7"/>
          <a:stretch/>
        </p:blipFill>
        <p:spPr>
          <a:xfrm>
            <a:off x="5292720" y="3933720"/>
            <a:ext cx="46432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 Black"/>
              </a:rPr>
              <a:t>Моя методическая тема</a:t>
            </a:r>
            <a:br>
              <a:rPr sz="4000"/>
            </a:b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1547640" y="1268280"/>
            <a:ext cx="5545440" cy="496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268360" y="1916280"/>
            <a:ext cx="4105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С 2009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«Формирование коммуникативной компетенции учащихся на уроках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Результат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бобщение опыта                в форме реферат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4000" spc="-1" strike="noStrike">
                <a:solidFill>
                  <a:srgbClr val="cc0099"/>
                </a:solidFill>
                <a:latin typeface="Arial Black"/>
              </a:rPr>
              <a:t>Работа в творческой группе</a:t>
            </a: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1403280" y="2060640"/>
            <a:ext cx="6408720" cy="396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1547640" y="2349360"/>
            <a:ext cx="5905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009 – 2010    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в работе  районной творческой группы  по проблеме              «Педагогические Интернет – сообщества                                               как форма самообразования учителя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07:10:52Z</dcterms:created>
  <dc:creator>User</dc:creator>
  <dc:description/>
  <dc:language>en-US</dc:language>
  <cp:lastModifiedBy>Admin</cp:lastModifiedBy>
  <dcterms:modified xsi:type="dcterms:W3CDTF">2012-08-24T07:06:29Z</dcterms:modified>
  <cp:revision>127</cp:revision>
  <dc:subject/>
  <dc:title>Слайд 1</dc:title>
</cp:coreProperties>
</file>