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FF0-077D-44B3-BBD3-288FA18A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856-33F6-40E1-96D5-B672FE72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582-1DF7-4C4E-A8CD-EA599DDB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717-D1AF-4549-84DE-52578C14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25D-DA82-41AA-9C57-B8241D9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17B-A4D5-4AB5-AC47-19E1747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793-1055-4BBD-BAD9-5F44EC0D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8CC-D713-4AA7-ACF2-8BC9B54C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8F6-EA5C-4E40-9E3D-14C7A39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549-ACFF-46AE-8337-0DAD35B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5B6-9FEE-496F-BDB7-B3B536A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1B8-C701-4978-AFBC-9EEEAE0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2AFE-50EB-4090-8245-168E24CE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Животные живого угол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шина Ири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лицей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од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Черепах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150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Белые мыш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9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Охраняйте животных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Ухаживайте за ним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Берегите их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3500280"/>
            <a:ext cx="4168800" cy="314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Попуга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344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Канаре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29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6736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781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Морская сви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Хомя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715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4080" y="76320"/>
            <a:ext cx="46958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8:23:09Z</dcterms:created>
  <dc:creator>USER</dc:creator>
  <dc:description/>
  <dc:language>en-US</dc:language>
  <cp:lastModifiedBy>USER</cp:lastModifiedBy>
  <dcterms:modified xsi:type="dcterms:W3CDTF">2012-08-24T08:24:20Z</dcterms:modified>
  <cp:revision>3</cp:revision>
  <dc:subject/>
  <dc:title>Слайд 1</dc:title>
</cp:coreProperties>
</file>