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6E4-8C0D-4CB7-AEAA-64768FC3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FD0B-7ACD-4937-9956-AFA368EC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2B0D-4543-4586-A542-888AE662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9D4C-CC80-423F-91CD-5FD18D19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16D3-8A77-455F-9332-3C31F6A2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479-E073-4F98-97C4-4A07FE3F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893-6D97-4595-9AF8-53316BD4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6AD7-AD0C-4910-B156-1953750F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B93-B5FD-4B94-BDC4-808AA761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78E2-556C-4C9D-B88C-0635C53F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FCD-E44F-42AC-859D-DB09146D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EC1-8DEE-4C7F-83D7-BEA64057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0129-2CC0-4AE4-B14A-DB0475129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Животные живого угол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шина Ири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У лицей №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род Чех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9ff"/>
                </a:solidFill>
                <a:latin typeface="Arial"/>
              </a:rPr>
              <a:t>Черепах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71500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68800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9ff"/>
                </a:solidFill>
                <a:latin typeface="Arial"/>
              </a:rPr>
              <a:t>Белые мыш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5914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99ff"/>
                </a:solidFill>
                <a:latin typeface="Arial"/>
              </a:rPr>
              <a:t>Охраняйте животных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99ff"/>
                </a:solidFill>
                <a:latin typeface="Arial"/>
              </a:rPr>
              <a:t>Ухаживайте за ним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99ff"/>
                </a:solidFill>
                <a:latin typeface="Arial"/>
              </a:rPr>
              <a:t>Берегите их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88000" y="3500280"/>
            <a:ext cx="4168800" cy="3141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9ff"/>
                </a:solidFill>
                <a:latin typeface="Arial"/>
              </a:rPr>
              <a:t>Попуга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13440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9ff"/>
                </a:solidFill>
                <a:latin typeface="Arial"/>
              </a:rPr>
              <a:t>Канарей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62940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067360" cy="3809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41781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9ff"/>
                </a:solidFill>
                <a:latin typeface="Arial"/>
              </a:rPr>
              <a:t>Морская свин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1912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9ff"/>
                </a:solidFill>
                <a:latin typeface="Arial"/>
              </a:rPr>
              <a:t>Хомя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715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4080" y="76320"/>
            <a:ext cx="469584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8:23:09Z</dcterms:created>
  <dc:creator>USER</dc:creator>
  <dc:description/>
  <dc:language>en-US</dc:language>
  <cp:lastModifiedBy>USER</cp:lastModifiedBy>
  <dcterms:modified xsi:type="dcterms:W3CDTF">2012-08-24T08:24:20Z</dcterms:modified>
  <cp:revision>3</cp:revision>
  <dc:subject/>
  <dc:title>Слайд 1</dc:title>
</cp:coreProperties>
</file>