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1C00B-E1F1-4586-BAE0-DB089E4E3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11592-B298-4758-AE21-ABF4F8441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898AA-88DE-48AC-8822-8036716CE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942E2-4C89-4D70-8AE7-27A71E2A4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956A1-385D-4B58-864D-11BB6EF62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E5A24-4422-4BB2-9EE4-EE08FFBBC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BD693-1918-4918-9996-CCDEA71D9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C8585-B39C-4B9B-A76D-2282B5F13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865BF-123A-4E84-8125-99FF94951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74E2E-7A9B-4C6A-8E1A-09F7B02C0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F6539-09DD-4548-8672-77F5128EF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5BB8F-4CB8-4A76-8860-F189FA4A2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3FB1A-5D8C-44E5-8465-BFDC724AA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2EC32-767D-4CBD-BD43-AF609EF0C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12810-8FF1-40F3-A72B-AF32EA84F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8814F-1827-4C39-8462-1E632AE14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8C85B-57E2-47AA-968F-9DD712321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F256C-A1FB-4835-A251-5AF59EBEF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6061B-C0E2-4931-9744-4E2A9A50C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051A7-F634-4CD4-A6B4-90B78B186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78FDA-D318-4C43-9F21-499399E31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C2CF3-51C6-4A3F-BA6B-EC9AE6D29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F11EC-F8AE-47D4-85B5-C828FA3B9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BEA6B-5A7C-45C8-BE64-1CA854B7C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aae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B5903-52DD-4886-A304-BAA47D3B1562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aae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303DE-7F15-4F59-A341-BDB25F059156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slide" Target="slide3.xm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stihi.ru/pics/2010/06/19/3464.jpg" TargetMode="External"/><Relationship Id="rId3" Type="http://schemas.openxmlformats.org/officeDocument/2006/relationships/hyperlink" Target="http://super-photoshop.ucoz.ru/images/kliparti/myltiki/klipart_gnomi.jpg" TargetMode="External"/><Relationship Id="rId4" Type="http://schemas.openxmlformats.org/officeDocument/2006/relationships/hyperlink" Target="http://super-photoshop.ucoz.ru/images/kliparti/myltiki/klipart_gnomi.jpg" TargetMode="External"/><Relationship Id="rId5" Type="http://schemas.openxmlformats.org/officeDocument/2006/relationships/hyperlink" Target="http://super-photoshop.ucoz.ru/images/kliparti/myltiki/klipart_gnomi.jpg" TargetMode="External"/><Relationship Id="rId6" Type="http://schemas.openxmlformats.org/officeDocument/2006/relationships/hyperlink" Target="http://super-photoshop.ucoz.ru/images/kliparti/myltiki/klipart_gnomi.jpg" TargetMode="External"/><Relationship Id="rId7" Type="http://schemas.openxmlformats.org/officeDocument/2006/relationships/hyperlink" Target="http://super-photoshop.ucoz.ru/images/kliparti/myltiki/klipart_gnomi.jpg" TargetMode="External"/><Relationship Id="rId8" Type="http://schemas.openxmlformats.org/officeDocument/2006/relationships/hyperlink" Target="http://super-photoshop.ucoz.ru/images/kliparti/myltiki/klipart_gnomi.jpg" TargetMode="External"/><Relationship Id="rId9" Type="http://schemas.openxmlformats.org/officeDocument/2006/relationships/hyperlink" Target="http://super-photoshop.ucoz.ru/images/kliparti/myltiki/klipart_gnomi.jpg" TargetMode="External"/><Relationship Id="rId10" Type="http://schemas.openxmlformats.org/officeDocument/2006/relationships/hyperlink" Target="http://super-photoshop.ucoz.ru/images/kliparti/myltiki/klipart_gnomi.jpg" TargetMode="External"/><Relationship Id="rId11" Type="http://schemas.openxmlformats.org/officeDocument/2006/relationships/hyperlink" Target="http://super-photoshop.ucoz.ru/images/kliparti/myltiki/klipart_gnomi.jpg" TargetMode="External"/><Relationship Id="rId12" Type="http://schemas.openxmlformats.org/officeDocument/2006/relationships/hyperlink" Target="http://super-photoshop.ucoz.ru/images/kliparti/myltiki/klipart_gnomi.jpg" TargetMode="External"/><Relationship Id="rId13" Type="http://schemas.openxmlformats.org/officeDocument/2006/relationships/hyperlink" Target="http://super-photoshop.ucoz.ru/images/kliparti/klipart_koshki_1.jpg" TargetMode="External"/><Relationship Id="rId14" Type="http://schemas.openxmlformats.org/officeDocument/2006/relationships/hyperlink" Target="http://super-photoshop.ucoz.ru/images/kliparti/klipart_koshki_1.jpg" TargetMode="External"/><Relationship Id="rId15" Type="http://schemas.openxmlformats.org/officeDocument/2006/relationships/hyperlink" Target="http://super-photoshop.ucoz.ru/images/kliparti/klipart_koshki_1.jpg" TargetMode="External"/><Relationship Id="rId16" Type="http://schemas.openxmlformats.org/officeDocument/2006/relationships/hyperlink" Target="http://super-photoshop.ucoz.ru/images/kliparti/klipart_koshki_1.jpg" TargetMode="External"/><Relationship Id="rId17" Type="http://schemas.openxmlformats.org/officeDocument/2006/relationships/hyperlink" Target="http://super-photoshop.ucoz.ru/images/kliparti/klipart_koshki_1.jpg" TargetMode="External"/><Relationship Id="rId18" Type="http://schemas.openxmlformats.org/officeDocument/2006/relationships/hyperlink" Target="http://super-photoshop.ucoz.ru/images/kliparti/klipart_koshki_1.jpg" TargetMode="External"/><Relationship Id="rId19" Type="http://schemas.openxmlformats.org/officeDocument/2006/relationships/hyperlink" Target="http://super-photoshop.ucoz.ru/images/kliparti/klipart_koshki_1.jpg" TargetMode="External"/><Relationship Id="rId2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aae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 txBox="1"/>
          <p:nvPr/>
        </p:nvSpPr>
        <p:spPr>
          <a:xfrm>
            <a:off x="1763640" y="1197000"/>
            <a:ext cx="352908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   </a:t>
            </a:r>
            <a:r>
              <a:rPr b="1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В гостях 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35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у мудрого гнома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35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547640" y="2781360"/>
            <a:ext cx="41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e00"/>
                </a:solidFill>
                <a:latin typeface="Arial"/>
              </a:rPr>
              <a:t>Игры по обучению грамоте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411280" y="4005360"/>
            <a:ext cx="3024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46464"/>
                </a:solidFill>
                <a:latin typeface="Arial"/>
              </a:rPr>
              <a:t>Подготовила учитель начальных классов Касьяненко Татьяна Владимировна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aae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468360" y="260280"/>
            <a:ext cx="8675640" cy="192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ff5d"/>
                </a:solidFill>
                <a:latin typeface="Monotype Corsiva"/>
              </a:rPr>
              <a:t>В  гостях  у  мудрого  гнома</a:t>
            </a:r>
            <a:endParaRPr b="0" lang="en-US" sz="6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2166840" y="1395360"/>
            <a:ext cx="4810320" cy="40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900000" y="4653000"/>
            <a:ext cx="1193760" cy="15127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971640" y="2421000"/>
            <a:ext cx="1001520" cy="17287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1042920" y="404640"/>
            <a:ext cx="930240" cy="151164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2411280" y="981000"/>
            <a:ext cx="554544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6d100"/>
                </a:solidFill>
                <a:latin typeface="Arial"/>
              </a:rPr>
              <a:t>Слово в слове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 rot="10795800">
            <a:off x="2410920" y="2565000"/>
            <a:ext cx="6410520" cy="1434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6d100"/>
                </a:solidFill>
                <a:latin typeface="Arial"/>
              </a:rPr>
              <a:t>Найди спрятанное слово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340000" y="5300640"/>
            <a:ext cx="403236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6d100"/>
                </a:solidFill>
                <a:latin typeface="Arial"/>
              </a:rPr>
              <a:t>Кот-шутник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395280" y="3716280"/>
            <a:ext cx="2089080" cy="284184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1835280" y="189000"/>
            <a:ext cx="554508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5d"/>
                </a:solidFill>
                <a:latin typeface="Arial"/>
              </a:rPr>
              <a:t>Слово в слове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826920" y="1125360"/>
            <a:ext cx="93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До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403280" y="112536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рога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059280" y="1125360"/>
            <a:ext cx="158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рыба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284720" y="1125360"/>
            <a:ext cx="57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к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076720" y="1125360"/>
            <a:ext cx="7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бу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580000" y="112536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лыжник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900000" y="2133720"/>
            <a:ext cx="10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лес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692360" y="2133720"/>
            <a:ext cx="93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ка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987640" y="213372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уста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995640" y="2133720"/>
            <a:ext cx="5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л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076720" y="2133720"/>
            <a:ext cx="35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у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364000" y="2133720"/>
            <a:ext cx="15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точка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627280" y="3933720"/>
            <a:ext cx="3529080" cy="790560"/>
          </a:xfrm>
          <a:prstGeom prst="wedgeEllipseCallout">
            <a:avLst>
              <a:gd name="adj1" fmla="val -55217"/>
              <a:gd name="adj2" fmla="val 46986"/>
            </a:avLst>
          </a:prstGeom>
          <a:solidFill>
            <a:srgbClr val="ffcde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Здорово!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" name="">
            <a:hlinkClick r:id="rId3" action="ppaction://hlinksldjump"/>
          </p:cNvPr>
          <p:cNvSpPr/>
          <p:nvPr/>
        </p:nvSpPr>
        <p:spPr>
          <a:xfrm>
            <a:off x="8172360" y="6093000"/>
            <a:ext cx="755640" cy="620640"/>
          </a:xfrm>
          <a:custGeom>
            <a:avLst/>
            <a:gdLst>
              <a:gd name="textAreaLeft" fmla="*/ 39960 w 755640"/>
              <a:gd name="textAreaRight" fmla="*/ 715680 w 75564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26296" h="21600">
                <a:moveTo>
                  <a:pt x="0" y="0"/>
                </a:moveTo>
                <a:lnTo>
                  <a:pt x="26296" y="0"/>
                </a:lnTo>
                <a:lnTo>
                  <a:pt x="26296" y="21600"/>
                </a:lnTo>
                <a:lnTo>
                  <a:pt x="0" y="21600"/>
                </a:lnTo>
                <a:close/>
              </a:path>
              <a:path fill="lightenLess" w="26296" h="21600">
                <a:moveTo>
                  <a:pt x="0" y="0"/>
                </a:moveTo>
                <a:lnTo>
                  <a:pt x="26296" y="0"/>
                </a:lnTo>
                <a:lnTo>
                  <a:pt x="24896" y="1400"/>
                </a:lnTo>
                <a:lnTo>
                  <a:pt x="1400" y="1400"/>
                </a:lnTo>
                <a:close/>
              </a:path>
              <a:path fill="darken" w="26296" h="21600">
                <a:moveTo>
                  <a:pt x="26296" y="0"/>
                </a:moveTo>
                <a:lnTo>
                  <a:pt x="26296" y="21600"/>
                </a:lnTo>
                <a:lnTo>
                  <a:pt x="24896" y="20200"/>
                </a:lnTo>
                <a:lnTo>
                  <a:pt x="24896" y="1400"/>
                </a:lnTo>
                <a:close/>
              </a:path>
              <a:path fill="darkenLess" w="26296" h="21600">
                <a:moveTo>
                  <a:pt x="262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96" y="20200"/>
                </a:lnTo>
                <a:close/>
              </a:path>
              <a:path fill="lighten" w="262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296" h="21600">
                <a:moveTo>
                  <a:pt x="13148" y="3837"/>
                </a:moveTo>
                <a:lnTo>
                  <a:pt x="15724" y="6448"/>
                </a:lnTo>
                <a:lnTo>
                  <a:pt x="15724" y="4707"/>
                </a:lnTo>
                <a:lnTo>
                  <a:pt x="17500" y="4707"/>
                </a:lnTo>
                <a:lnTo>
                  <a:pt x="17500" y="8224"/>
                </a:lnTo>
                <a:lnTo>
                  <a:pt x="20111" y="10800"/>
                </a:lnTo>
                <a:lnTo>
                  <a:pt x="18457" y="10800"/>
                </a:lnTo>
                <a:lnTo>
                  <a:pt x="18457" y="17989"/>
                </a:lnTo>
                <a:lnTo>
                  <a:pt x="7839" y="17989"/>
                </a:lnTo>
                <a:lnTo>
                  <a:pt x="7839" y="10800"/>
                </a:lnTo>
                <a:lnTo>
                  <a:pt x="6185" y="10800"/>
                </a:lnTo>
                <a:close/>
              </a:path>
              <a:path fill="darkenLess" w="26296" h="21600">
                <a:moveTo>
                  <a:pt x="15724" y="6448"/>
                </a:moveTo>
                <a:lnTo>
                  <a:pt x="15724" y="4707"/>
                </a:lnTo>
                <a:lnTo>
                  <a:pt x="17500" y="4707"/>
                </a:lnTo>
                <a:lnTo>
                  <a:pt x="17500" y="8224"/>
                </a:lnTo>
                <a:close/>
              </a:path>
              <a:path fill="darkenLess" w="26296" h="21600">
                <a:moveTo>
                  <a:pt x="12225" y="14299"/>
                </a:moveTo>
                <a:lnTo>
                  <a:pt x="14070" y="14299"/>
                </a:lnTo>
                <a:lnTo>
                  <a:pt x="14070" y="17989"/>
                </a:lnTo>
                <a:lnTo>
                  <a:pt x="18457" y="17989"/>
                </a:lnTo>
                <a:lnTo>
                  <a:pt x="18457" y="10800"/>
                </a:lnTo>
                <a:lnTo>
                  <a:pt x="7839" y="10800"/>
                </a:lnTo>
                <a:lnTo>
                  <a:pt x="7839" y="17989"/>
                </a:lnTo>
                <a:lnTo>
                  <a:pt x="12225" y="17989"/>
                </a:lnTo>
                <a:close/>
              </a:path>
            </a:pathLst>
          </a:custGeom>
          <a:solidFill>
            <a:srgbClr val="75d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79b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79b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79b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79b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2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79b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79b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7236000" y="981000"/>
            <a:ext cx="1701720" cy="26082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250920" y="404640"/>
            <a:ext cx="756108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5d"/>
                </a:solidFill>
                <a:latin typeface="Arial"/>
              </a:rPr>
              <a:t>Найди спрятанное слово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484360" y="429264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радуга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24000" y="4292640"/>
            <a:ext cx="23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шлгентро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995640" y="4292640"/>
            <a:ext cx="19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смитчв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653080" y="4292640"/>
            <a:ext cx="15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гроза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877080" y="4292640"/>
            <a:ext cx="8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ма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95280" y="429264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па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900000" y="4292640"/>
            <a:ext cx="15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ручка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195640" y="6491160"/>
            <a:ext cx="223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195640" y="4292640"/>
            <a:ext cx="30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ьитнббрыю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59280" y="4292640"/>
            <a:ext cx="20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букварь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877080" y="429264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пенал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8207280" y="4292640"/>
            <a:ext cx="93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цр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451640" y="429264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снег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50920" y="1700280"/>
            <a:ext cx="67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cc"/>
                </a:solidFill>
                <a:latin typeface="Arial"/>
              </a:rPr>
              <a:t>Что обозначают эти слова?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24000" y="2565360"/>
            <a:ext cx="568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79bc"/>
                </a:solidFill>
                <a:latin typeface="Arial"/>
              </a:rPr>
              <a:t>Явления природы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50920" y="2565360"/>
            <a:ext cx="66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79bc"/>
                </a:solidFill>
                <a:latin typeface="Arial"/>
              </a:rPr>
              <a:t>Школьные принадлежности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59640" y="429264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к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rot="10638600">
            <a:off x="2339640" y="1557000"/>
            <a:ext cx="4030560" cy="927000"/>
          </a:xfrm>
          <a:prstGeom prst="wedgeEllipseCallout">
            <a:avLst>
              <a:gd name="adj1" fmla="val -75504"/>
              <a:gd name="adj2" fmla="val 39574"/>
            </a:avLst>
          </a:prstGeom>
          <a:solidFill>
            <a:srgbClr val="ffcde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Молодцы!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172360" y="6093000"/>
            <a:ext cx="755640" cy="620640"/>
          </a:xfrm>
          <a:custGeom>
            <a:avLst/>
            <a:gdLst>
              <a:gd name="textAreaLeft" fmla="*/ 39960 w 755640"/>
              <a:gd name="textAreaRight" fmla="*/ 715680 w 75564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26296" h="21600">
                <a:moveTo>
                  <a:pt x="0" y="0"/>
                </a:moveTo>
                <a:lnTo>
                  <a:pt x="26296" y="0"/>
                </a:lnTo>
                <a:lnTo>
                  <a:pt x="26296" y="21600"/>
                </a:lnTo>
                <a:lnTo>
                  <a:pt x="0" y="21600"/>
                </a:lnTo>
                <a:close/>
              </a:path>
              <a:path fill="lightenLess" w="26296" h="21600">
                <a:moveTo>
                  <a:pt x="0" y="0"/>
                </a:moveTo>
                <a:lnTo>
                  <a:pt x="26296" y="0"/>
                </a:lnTo>
                <a:lnTo>
                  <a:pt x="24896" y="1400"/>
                </a:lnTo>
                <a:lnTo>
                  <a:pt x="1400" y="1400"/>
                </a:lnTo>
                <a:close/>
              </a:path>
              <a:path fill="darken" w="26296" h="21600">
                <a:moveTo>
                  <a:pt x="26296" y="0"/>
                </a:moveTo>
                <a:lnTo>
                  <a:pt x="26296" y="21600"/>
                </a:lnTo>
                <a:lnTo>
                  <a:pt x="24896" y="20200"/>
                </a:lnTo>
                <a:lnTo>
                  <a:pt x="24896" y="1400"/>
                </a:lnTo>
                <a:close/>
              </a:path>
              <a:path fill="darkenLess" w="26296" h="21600">
                <a:moveTo>
                  <a:pt x="262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96" y="20200"/>
                </a:lnTo>
                <a:close/>
              </a:path>
              <a:path fill="lighten" w="262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296" h="21600">
                <a:moveTo>
                  <a:pt x="13148" y="3837"/>
                </a:moveTo>
                <a:lnTo>
                  <a:pt x="15724" y="6448"/>
                </a:lnTo>
                <a:lnTo>
                  <a:pt x="15724" y="4707"/>
                </a:lnTo>
                <a:lnTo>
                  <a:pt x="17500" y="4707"/>
                </a:lnTo>
                <a:lnTo>
                  <a:pt x="17500" y="8224"/>
                </a:lnTo>
                <a:lnTo>
                  <a:pt x="20111" y="10800"/>
                </a:lnTo>
                <a:lnTo>
                  <a:pt x="18457" y="10800"/>
                </a:lnTo>
                <a:lnTo>
                  <a:pt x="18457" y="17989"/>
                </a:lnTo>
                <a:lnTo>
                  <a:pt x="7839" y="17989"/>
                </a:lnTo>
                <a:lnTo>
                  <a:pt x="7839" y="10800"/>
                </a:lnTo>
                <a:lnTo>
                  <a:pt x="6185" y="10800"/>
                </a:lnTo>
                <a:close/>
              </a:path>
              <a:path fill="darkenLess" w="26296" h="21600">
                <a:moveTo>
                  <a:pt x="15724" y="6448"/>
                </a:moveTo>
                <a:lnTo>
                  <a:pt x="15724" y="4707"/>
                </a:lnTo>
                <a:lnTo>
                  <a:pt x="17500" y="4707"/>
                </a:lnTo>
                <a:lnTo>
                  <a:pt x="17500" y="8224"/>
                </a:lnTo>
                <a:close/>
              </a:path>
              <a:path fill="darkenLess" w="26296" h="21600">
                <a:moveTo>
                  <a:pt x="12225" y="14299"/>
                </a:moveTo>
                <a:lnTo>
                  <a:pt x="14070" y="14299"/>
                </a:lnTo>
                <a:lnTo>
                  <a:pt x="14070" y="17989"/>
                </a:lnTo>
                <a:lnTo>
                  <a:pt x="18457" y="17989"/>
                </a:lnTo>
                <a:lnTo>
                  <a:pt x="18457" y="10800"/>
                </a:lnTo>
                <a:lnTo>
                  <a:pt x="7839" y="10800"/>
                </a:lnTo>
                <a:lnTo>
                  <a:pt x="7839" y="17989"/>
                </a:lnTo>
                <a:lnTo>
                  <a:pt x="12225" y="17989"/>
                </a:lnTo>
                <a:close/>
              </a:path>
            </a:pathLst>
          </a:custGeom>
          <a:solidFill>
            <a:srgbClr val="75d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79b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79b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4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79b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79b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79b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79bc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179280" y="3429000"/>
            <a:ext cx="2440080" cy="30956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2268360" y="189000"/>
            <a:ext cx="403236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5d"/>
                </a:solidFill>
                <a:latin typeface="Arial"/>
              </a:rPr>
              <a:t>Кот-шутник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7380360" y="836640"/>
            <a:ext cx="1368360" cy="117792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900000" y="1052640"/>
            <a:ext cx="16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град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900000" y="1555920"/>
            <a:ext cx="14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крот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900000" y="2060640"/>
            <a:ext cx="15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сушки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900000" y="256392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лампа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900000" y="3068640"/>
            <a:ext cx="20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пилот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995640" y="1052640"/>
            <a:ext cx="2664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cc"/>
                </a:solidFill>
                <a:latin typeface="Arial"/>
              </a:rPr>
              <a:t>рад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995640" y="1555920"/>
            <a:ext cx="16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cc"/>
                </a:solidFill>
                <a:latin typeface="Arial"/>
              </a:rPr>
              <a:t>рот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995640" y="206064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cc"/>
                </a:solidFill>
                <a:latin typeface="Arial"/>
              </a:rPr>
              <a:t>ушки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995640" y="2563920"/>
            <a:ext cx="28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cc"/>
                </a:solidFill>
                <a:latin typeface="Arial"/>
              </a:rPr>
              <a:t>лапа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995640" y="3068640"/>
            <a:ext cx="208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cc"/>
                </a:solidFill>
                <a:latin typeface="Arial"/>
              </a:rPr>
              <a:t>плот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268360" y="2997360"/>
            <a:ext cx="4537080" cy="1223640"/>
          </a:xfrm>
          <a:prstGeom prst="wedgeEllipseCallout">
            <a:avLst>
              <a:gd name="adj1" fmla="val -50138"/>
              <a:gd name="adj2" fmla="val 50129"/>
            </a:avLst>
          </a:prstGeom>
          <a:solidFill>
            <a:srgbClr val="ffcde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Угадай, какое слово получилось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Убери одну букву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268360" y="2997360"/>
            <a:ext cx="4535640" cy="1223640"/>
          </a:xfrm>
          <a:prstGeom prst="wedgeEllipseCallout">
            <a:avLst>
              <a:gd name="adj1" fmla="val -48634"/>
              <a:gd name="adj2" fmla="val 47407"/>
            </a:avLst>
          </a:prstGeom>
          <a:solidFill>
            <a:srgbClr val="ffcde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Догадайся, какое слово было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Добавь одну букву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03640" y="393372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усы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443640" y="3933720"/>
            <a:ext cx="23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cc"/>
                </a:solidFill>
                <a:latin typeface="Arial"/>
              </a:rPr>
              <a:t>бусы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203640" y="4437000"/>
            <a:ext cx="129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укус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443640" y="443700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cc"/>
                </a:solidFill>
                <a:latin typeface="Arial"/>
              </a:rPr>
              <a:t>уксус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203640" y="5013360"/>
            <a:ext cx="143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рубка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443640" y="5013360"/>
            <a:ext cx="201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cc"/>
                </a:solidFill>
                <a:latin typeface="Arial"/>
              </a:rPr>
              <a:t>трубка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203640" y="5589720"/>
            <a:ext cx="172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дар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443640" y="5589720"/>
            <a:ext cx="165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cc"/>
                </a:solidFill>
                <a:latin typeface="Arial"/>
              </a:rPr>
              <a:t>удар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3640" y="6165720"/>
            <a:ext cx="151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клад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443640" y="6165720"/>
            <a:ext cx="151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cc"/>
                </a:solidFill>
                <a:latin typeface="Arial"/>
              </a:rPr>
              <a:t>склад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195640" y="2924280"/>
            <a:ext cx="4681440" cy="1296720"/>
          </a:xfrm>
          <a:prstGeom prst="wedgeEllipseCallout">
            <a:avLst>
              <a:gd name="adj1" fmla="val -51458"/>
              <a:gd name="adj2" fmla="val 49388"/>
            </a:avLst>
          </a:prstGeom>
          <a:solidFill>
            <a:srgbClr val="ffcde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Молодцы!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Спасибо за работу!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8172360" y="6093000"/>
            <a:ext cx="755640" cy="620640"/>
          </a:xfrm>
          <a:custGeom>
            <a:avLst/>
            <a:gdLst>
              <a:gd name="textAreaLeft" fmla="*/ 39960 w 755640"/>
              <a:gd name="textAreaRight" fmla="*/ 715680 w 75564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26296" h="21600">
                <a:moveTo>
                  <a:pt x="0" y="0"/>
                </a:moveTo>
                <a:lnTo>
                  <a:pt x="26296" y="0"/>
                </a:lnTo>
                <a:lnTo>
                  <a:pt x="26296" y="21600"/>
                </a:lnTo>
                <a:lnTo>
                  <a:pt x="0" y="21600"/>
                </a:lnTo>
                <a:close/>
              </a:path>
              <a:path fill="lightenLess" w="26296" h="21600">
                <a:moveTo>
                  <a:pt x="0" y="0"/>
                </a:moveTo>
                <a:lnTo>
                  <a:pt x="26296" y="0"/>
                </a:lnTo>
                <a:lnTo>
                  <a:pt x="24896" y="1400"/>
                </a:lnTo>
                <a:lnTo>
                  <a:pt x="1400" y="1400"/>
                </a:lnTo>
                <a:close/>
              </a:path>
              <a:path fill="darken" w="26296" h="21600">
                <a:moveTo>
                  <a:pt x="26296" y="0"/>
                </a:moveTo>
                <a:lnTo>
                  <a:pt x="26296" y="21600"/>
                </a:lnTo>
                <a:lnTo>
                  <a:pt x="24896" y="20200"/>
                </a:lnTo>
                <a:lnTo>
                  <a:pt x="24896" y="1400"/>
                </a:lnTo>
                <a:close/>
              </a:path>
              <a:path fill="darkenLess" w="26296" h="21600">
                <a:moveTo>
                  <a:pt x="262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96" y="20200"/>
                </a:lnTo>
                <a:close/>
              </a:path>
              <a:path fill="lighten" w="262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296" h="21600">
                <a:moveTo>
                  <a:pt x="13148" y="3837"/>
                </a:moveTo>
                <a:lnTo>
                  <a:pt x="15724" y="6448"/>
                </a:lnTo>
                <a:lnTo>
                  <a:pt x="15724" y="4707"/>
                </a:lnTo>
                <a:lnTo>
                  <a:pt x="17500" y="4707"/>
                </a:lnTo>
                <a:lnTo>
                  <a:pt x="17500" y="8224"/>
                </a:lnTo>
                <a:lnTo>
                  <a:pt x="20111" y="10800"/>
                </a:lnTo>
                <a:lnTo>
                  <a:pt x="18457" y="10800"/>
                </a:lnTo>
                <a:lnTo>
                  <a:pt x="18457" y="17989"/>
                </a:lnTo>
                <a:lnTo>
                  <a:pt x="7839" y="17989"/>
                </a:lnTo>
                <a:lnTo>
                  <a:pt x="7839" y="10800"/>
                </a:lnTo>
                <a:lnTo>
                  <a:pt x="6185" y="10800"/>
                </a:lnTo>
                <a:close/>
              </a:path>
              <a:path fill="darkenLess" w="26296" h="21600">
                <a:moveTo>
                  <a:pt x="15724" y="6448"/>
                </a:moveTo>
                <a:lnTo>
                  <a:pt x="15724" y="4707"/>
                </a:lnTo>
                <a:lnTo>
                  <a:pt x="17500" y="4707"/>
                </a:lnTo>
                <a:lnTo>
                  <a:pt x="17500" y="8224"/>
                </a:lnTo>
                <a:close/>
              </a:path>
              <a:path fill="darkenLess" w="26296" h="21600">
                <a:moveTo>
                  <a:pt x="12225" y="14299"/>
                </a:moveTo>
                <a:lnTo>
                  <a:pt x="14070" y="14299"/>
                </a:lnTo>
                <a:lnTo>
                  <a:pt x="14070" y="17989"/>
                </a:lnTo>
                <a:lnTo>
                  <a:pt x="18457" y="17989"/>
                </a:lnTo>
                <a:lnTo>
                  <a:pt x="18457" y="10800"/>
                </a:lnTo>
                <a:lnTo>
                  <a:pt x="7839" y="10800"/>
                </a:lnTo>
                <a:lnTo>
                  <a:pt x="7839" y="17989"/>
                </a:lnTo>
                <a:lnTo>
                  <a:pt x="12225" y="17989"/>
                </a:lnTo>
                <a:close/>
              </a:path>
            </a:pathLst>
          </a:custGeom>
          <a:solidFill>
            <a:srgbClr val="75d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1000"/>
                            </p:stCondLst>
                            <p:childTnLst>
                              <p:par>
                                <p:cTn id="2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1000"/>
                            </p:stCondLst>
                            <p:childTnLst>
                              <p:par>
                                <p:cTn id="2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1000"/>
                            </p:stCondLst>
                            <p:childTnLst>
                              <p:par>
                                <p:cTn id="2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8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1000"/>
                            </p:stCondLst>
                            <p:childTnLst>
                              <p:par>
                                <p:cTn id="2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1000"/>
                            </p:stCondLst>
                            <p:childTnLst>
                              <p:par>
                                <p:cTn id="2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1000"/>
                            </p:stCondLst>
                            <p:childTnLst>
                              <p:par>
                                <p:cTn id="3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1000"/>
                            </p:stCondLst>
                            <p:childTnLst>
                              <p:par>
                                <p:cTn id="3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395280" y="765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3366"/>
                </a:solidFill>
                <a:uFillTx/>
                <a:latin typeface="Arial"/>
                <a:hlinkClick r:id="rId2"/>
              </a:rPr>
              <a:t>http://www.stihi.ru/pics/2010/06/19/3464.jpg</a:t>
            </a:r>
            <a:r>
              <a:rPr b="0" lang="en-US" sz="1800" spc="-1" strike="noStrike" u="sng">
                <a:solidFill>
                  <a:srgbClr val="003366"/>
                </a:solidFill>
                <a:uFillTx/>
                <a:latin typeface="Arial"/>
              </a:rPr>
              <a:t> -  гном на 2 слайде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03200" y="1197000"/>
            <a:ext cx="814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3366"/>
                </a:solidFill>
                <a:uFillTx/>
                <a:latin typeface="Arial"/>
                <a:hlinkClick r:id="rId3"/>
              </a:rPr>
              <a:t>http://</a:t>
            </a:r>
            <a:r>
              <a:rPr b="0" lang="ru-RU" sz="1800" spc="-1" strike="noStrike" u="sng">
                <a:solidFill>
                  <a:srgbClr val="003366"/>
                </a:solidFill>
                <a:uFillTx/>
                <a:latin typeface="Arial"/>
                <a:hlinkClick r:id="rId4"/>
              </a:rPr>
              <a:t>super-photoshop.ucoz.ru</a:t>
            </a:r>
            <a:r>
              <a:rPr b="0" lang="ru-RU" sz="1800" spc="-1" strike="noStrike" u="sng">
                <a:solidFill>
                  <a:srgbClr val="003366"/>
                </a:solidFill>
                <a:uFillTx/>
                <a:latin typeface="Arial"/>
                <a:hlinkClick r:id="rId5"/>
              </a:rPr>
              <a:t>/</a:t>
            </a:r>
            <a:r>
              <a:rPr b="0" lang="ru-RU" sz="1800" spc="-1" strike="noStrike" u="sng">
                <a:solidFill>
                  <a:srgbClr val="003366"/>
                </a:solidFill>
                <a:uFillTx/>
                <a:latin typeface="Arial"/>
                <a:hlinkClick r:id="rId6"/>
              </a:rPr>
              <a:t>images</a:t>
            </a:r>
            <a:r>
              <a:rPr b="0" lang="ru-RU" sz="1800" spc="-1" strike="noStrike" u="sng">
                <a:solidFill>
                  <a:srgbClr val="003366"/>
                </a:solidFill>
                <a:uFillTx/>
                <a:latin typeface="Arial"/>
                <a:hlinkClick r:id="rId7"/>
              </a:rPr>
              <a:t>/</a:t>
            </a:r>
            <a:r>
              <a:rPr b="0" lang="ru-RU" sz="1800" spc="-1" strike="noStrike" u="sng">
                <a:solidFill>
                  <a:srgbClr val="003366"/>
                </a:solidFill>
                <a:uFillTx/>
                <a:latin typeface="Arial"/>
                <a:hlinkClick r:id="rId8"/>
              </a:rPr>
              <a:t>kliparti</a:t>
            </a:r>
            <a:r>
              <a:rPr b="0" lang="ru-RU" sz="1800" spc="-1" strike="noStrike" u="sng">
                <a:solidFill>
                  <a:srgbClr val="003366"/>
                </a:solidFill>
                <a:uFillTx/>
                <a:latin typeface="Arial"/>
                <a:hlinkClick r:id="rId9"/>
              </a:rPr>
              <a:t>/</a:t>
            </a:r>
            <a:r>
              <a:rPr b="0" lang="ru-RU" sz="1800" spc="-1" strike="noStrike" u="sng">
                <a:solidFill>
                  <a:srgbClr val="003366"/>
                </a:solidFill>
                <a:uFillTx/>
                <a:latin typeface="Arial"/>
                <a:hlinkClick r:id="rId10"/>
              </a:rPr>
              <a:t>myltiki</a:t>
            </a:r>
            <a:r>
              <a:rPr b="0" lang="ru-RU" sz="1800" spc="-1" strike="noStrike" u="sng">
                <a:solidFill>
                  <a:srgbClr val="003366"/>
                </a:solidFill>
                <a:uFillTx/>
                <a:latin typeface="Arial"/>
                <a:hlinkClick r:id="rId11"/>
              </a:rPr>
              <a:t>/</a:t>
            </a:r>
            <a:r>
              <a:rPr b="0" lang="ru-RU" sz="1800" spc="-1" strike="noStrike" u="sng">
                <a:solidFill>
                  <a:srgbClr val="003366"/>
                </a:solidFill>
                <a:uFillTx/>
                <a:latin typeface="Arial"/>
                <a:hlinkClick r:id="rId12"/>
              </a:rPr>
              <a:t>klipart_gnomi.jpg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- гномы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5280" y="1628640"/>
            <a:ext cx="84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3366"/>
                </a:solidFill>
                <a:uFillTx/>
                <a:latin typeface="Arial"/>
                <a:hlinkClick r:id="rId13"/>
              </a:rPr>
              <a:t>http://</a:t>
            </a:r>
            <a:r>
              <a:rPr b="0" lang="ru-RU" sz="1800" spc="-1" strike="noStrike" u="sng">
                <a:solidFill>
                  <a:srgbClr val="003366"/>
                </a:solidFill>
                <a:uFillTx/>
                <a:latin typeface="Arial"/>
                <a:hlinkClick r:id="rId14"/>
              </a:rPr>
              <a:t>super-photoshop.ucoz.ru</a:t>
            </a:r>
            <a:r>
              <a:rPr b="0" lang="ru-RU" sz="1800" spc="-1" strike="noStrike" u="sng">
                <a:solidFill>
                  <a:srgbClr val="003366"/>
                </a:solidFill>
                <a:uFillTx/>
                <a:latin typeface="Arial"/>
                <a:hlinkClick r:id="rId15"/>
              </a:rPr>
              <a:t>/</a:t>
            </a:r>
            <a:r>
              <a:rPr b="0" lang="ru-RU" sz="1800" spc="-1" strike="noStrike" u="sng">
                <a:solidFill>
                  <a:srgbClr val="003366"/>
                </a:solidFill>
                <a:uFillTx/>
                <a:latin typeface="Arial"/>
                <a:hlinkClick r:id="rId16"/>
              </a:rPr>
              <a:t>images</a:t>
            </a:r>
            <a:r>
              <a:rPr b="0" lang="ru-RU" sz="1800" spc="-1" strike="noStrike" u="sng">
                <a:solidFill>
                  <a:srgbClr val="003366"/>
                </a:solidFill>
                <a:uFillTx/>
                <a:latin typeface="Arial"/>
                <a:hlinkClick r:id="rId17"/>
              </a:rPr>
              <a:t>/</a:t>
            </a:r>
            <a:r>
              <a:rPr b="0" lang="ru-RU" sz="1800" spc="-1" strike="noStrike" u="sng">
                <a:solidFill>
                  <a:srgbClr val="003366"/>
                </a:solidFill>
                <a:uFillTx/>
                <a:latin typeface="Arial"/>
                <a:hlinkClick r:id="rId18"/>
              </a:rPr>
              <a:t>kliparti</a:t>
            </a:r>
            <a:r>
              <a:rPr b="0" lang="ru-RU" sz="1800" spc="-1" strike="noStrike" u="sng">
                <a:solidFill>
                  <a:srgbClr val="003366"/>
                </a:solidFill>
                <a:uFillTx/>
                <a:latin typeface="Arial"/>
                <a:hlinkClick r:id="rId19"/>
              </a:rPr>
              <a:t>/klipart_koshki_1.jpg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-котенок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843280" y="0"/>
            <a:ext cx="34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Источники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95280" y="2060640"/>
            <a:ext cx="820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http://www.photoshop-master.ru/adds/adds7089/1.jpg - рамка на 1 слайде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5280" y="2492280"/>
            <a:ext cx="748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Материал взят из книги Н.Н Масимук «Игры по обучению грамоте и чтению» Москва «ВАКО» 2006 г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5T11:07:20Z</dcterms:created>
  <dc:creator>User</dc:creator>
  <dc:description/>
  <dc:language>en-US</dc:language>
  <cp:lastModifiedBy>Татьяна</cp:lastModifiedBy>
  <dcterms:modified xsi:type="dcterms:W3CDTF">2011-11-15T15:26:32Z</dcterms:modified>
  <cp:revision>7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