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9A3-2C7D-4CD5-8878-A8C35939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0EAF-996D-41BE-96B6-2A4F53A2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C2B1-8EC1-453E-BDAA-B07D5FE0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33E1-80F2-42C1-B179-122D20B9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39FC-5499-4283-97A6-9FBA8AE7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75DB-1071-474B-B995-DB470FBD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0D0E-62F5-491B-8A86-63310961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5EEE-3824-40EF-BB36-C5A3E6A7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7D2C-0F08-4074-A42F-EF4AEFBA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43C1-B484-423B-9BE9-8ED5AF4B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529F-204F-4D06-AE77-1B794327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301B-82C2-48A4-BF3E-955AA015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9E45-9BE6-46FF-9E66-65CE4501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1DA3-C4F5-4400-9C77-D9EF062C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5848-E56D-4166-8247-2B6883A7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0CD4-69D4-43B2-9A40-5BADF034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B229-00EC-42FD-8ABE-1ADD84AA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CFAD-8CCA-42AA-B3F8-3CD704AF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3B2E-EA83-42BA-9FD4-F0DF6027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78B-E867-4458-A4A1-4A7DB188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EFED-BD22-43B6-981E-098ECFDF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472A-E8CC-4FC9-B1D8-B3408DE5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3786-720D-4B6F-9BBB-31AEB4C3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B233-2846-44CE-96B8-279DBA92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ae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BC2D-9928-4C8C-BC58-A48BC2342E6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ae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131C-1FB6-4B02-B464-5FEC2DF33D7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tihi.ru/pics/2010/06/19/3464.jpg" TargetMode="External"/><Relationship Id="rId3" Type="http://schemas.openxmlformats.org/officeDocument/2006/relationships/hyperlink" Target="http://super-photoshop.ucoz.ru/images/kliparti/myltiki/klipart_gnomi.jpg" TargetMode="External"/><Relationship Id="rId4" Type="http://schemas.openxmlformats.org/officeDocument/2006/relationships/hyperlink" Target="http://super-photoshop.ucoz.ru/images/kliparti/myltiki/klipart_gnomi.jpg" TargetMode="External"/><Relationship Id="rId5" Type="http://schemas.openxmlformats.org/officeDocument/2006/relationships/hyperlink" Target="http://super-photoshop.ucoz.ru/images/kliparti/myltiki/klipart_gnomi.jpg" TargetMode="External"/><Relationship Id="rId6" Type="http://schemas.openxmlformats.org/officeDocument/2006/relationships/hyperlink" Target="http://super-photoshop.ucoz.ru/images/kliparti/myltiki/klipart_gnomi.jpg" TargetMode="External"/><Relationship Id="rId7" Type="http://schemas.openxmlformats.org/officeDocument/2006/relationships/hyperlink" Target="http://super-photoshop.ucoz.ru/images/kliparti/myltiki/klipart_gnomi.jpg" TargetMode="External"/><Relationship Id="rId8" Type="http://schemas.openxmlformats.org/officeDocument/2006/relationships/hyperlink" Target="http://super-photoshop.ucoz.ru/images/kliparti/myltiki/klipart_gnomi.jpg" TargetMode="External"/><Relationship Id="rId9" Type="http://schemas.openxmlformats.org/officeDocument/2006/relationships/hyperlink" Target="http://super-photoshop.ucoz.ru/images/kliparti/myltiki/klipart_gnomi.jpg" TargetMode="External"/><Relationship Id="rId10" Type="http://schemas.openxmlformats.org/officeDocument/2006/relationships/hyperlink" Target="http://super-photoshop.ucoz.ru/images/kliparti/myltiki/klipart_gnomi.jpg" TargetMode="External"/><Relationship Id="rId11" Type="http://schemas.openxmlformats.org/officeDocument/2006/relationships/hyperlink" Target="http://super-photoshop.ucoz.ru/images/kliparti/myltiki/klipart_gnomi.jpg" TargetMode="External"/><Relationship Id="rId12" Type="http://schemas.openxmlformats.org/officeDocument/2006/relationships/hyperlink" Target="http://super-photoshop.ucoz.ru/images/kliparti/myltiki/klipart_gnomi.jpg" TargetMode="External"/><Relationship Id="rId13" Type="http://schemas.openxmlformats.org/officeDocument/2006/relationships/hyperlink" Target="http://super-photoshop.ucoz.ru/images/kliparti/klipart_koshki_1.jpg" TargetMode="External"/><Relationship Id="rId14" Type="http://schemas.openxmlformats.org/officeDocument/2006/relationships/hyperlink" Target="http://super-photoshop.ucoz.ru/images/kliparti/klipart_koshki_1.jpg" TargetMode="External"/><Relationship Id="rId15" Type="http://schemas.openxmlformats.org/officeDocument/2006/relationships/hyperlink" Target="http://super-photoshop.ucoz.ru/images/kliparti/klipart_koshki_1.jpg" TargetMode="External"/><Relationship Id="rId16" Type="http://schemas.openxmlformats.org/officeDocument/2006/relationships/hyperlink" Target="http://super-photoshop.ucoz.ru/images/kliparti/klipart_koshki_1.jpg" TargetMode="External"/><Relationship Id="rId17" Type="http://schemas.openxmlformats.org/officeDocument/2006/relationships/hyperlink" Target="http://super-photoshop.ucoz.ru/images/kliparti/klipart_koshki_1.jpg" TargetMode="External"/><Relationship Id="rId18" Type="http://schemas.openxmlformats.org/officeDocument/2006/relationships/hyperlink" Target="http://super-photoshop.ucoz.ru/images/kliparti/klipart_koshki_1.jpg" TargetMode="External"/><Relationship Id="rId19" Type="http://schemas.openxmlformats.org/officeDocument/2006/relationships/hyperlink" Target="http://super-photoshop.ucoz.ru/images/kliparti/klipart_koshki_1.jpg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aae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763640" y="1197000"/>
            <a:ext cx="3529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</a:t>
            </a: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гостях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 мудрого гнома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2781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Игры по обучению грамот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4005360"/>
            <a:ext cx="302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46464"/>
                </a:solidFill>
                <a:latin typeface="Arial"/>
              </a:rPr>
              <a:t>Подготовила учитель начальных классов Касьяненко Татьяна Владимировна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aae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260280"/>
            <a:ext cx="867564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5d"/>
                </a:solidFill>
                <a:latin typeface="Monotype Corsiva"/>
              </a:rPr>
              <a:t>В  гостях  у  мудрого  гнома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66840" y="1395360"/>
            <a:ext cx="481032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00000" y="4653000"/>
            <a:ext cx="1193760" cy="1512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971640" y="2421000"/>
            <a:ext cx="1001520" cy="1728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042920" y="404640"/>
            <a:ext cx="930240" cy="151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411280" y="981000"/>
            <a:ext cx="5545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100"/>
                </a:solidFill>
                <a:latin typeface="Arial"/>
              </a:rPr>
              <a:t>Слово в слове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 rot="10795800">
            <a:off x="2410920" y="2565000"/>
            <a:ext cx="64105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100"/>
                </a:solidFill>
                <a:latin typeface="Arial"/>
              </a:rPr>
              <a:t>Найди спрятанное слово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5300640"/>
            <a:ext cx="4032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100"/>
                </a:solidFill>
                <a:latin typeface="Arial"/>
              </a:rPr>
              <a:t>Кот-шутник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2089080" cy="2841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835280" y="189000"/>
            <a:ext cx="5545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5d"/>
                </a:solidFill>
                <a:latin typeface="Arial"/>
              </a:rPr>
              <a:t>Слово в слове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125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Д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1125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рог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112536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рыб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4720" y="112536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1125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бу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1125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лыжник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213372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лес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2133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2133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уст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213372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213372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2133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точк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27280" y="3933720"/>
            <a:ext cx="3529080" cy="790560"/>
          </a:xfrm>
          <a:prstGeom prst="wedgeEllipseCallout">
            <a:avLst>
              <a:gd name="adj1" fmla="val -55217"/>
              <a:gd name="adj2" fmla="val 46986"/>
            </a:avLst>
          </a:prstGeom>
          <a:solidFill>
            <a:srgbClr val="ffcde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Здорово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8172360" y="609300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7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236000" y="981000"/>
            <a:ext cx="1701720" cy="2608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404640"/>
            <a:ext cx="7561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5d"/>
                </a:solidFill>
                <a:latin typeface="Arial"/>
              </a:rPr>
              <a:t>Найди спрятанное слово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4360" y="4292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радуг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4292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шлгентр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95640" y="4292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митч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53080" y="4292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гроз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77080" y="4292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292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п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4292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ручк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5640" y="64911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5640" y="4292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ьитнббрыю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4292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буквар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77080" y="4292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пена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07280" y="429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ц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51640" y="429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нег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700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Что обозначают эти слова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56536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9bc"/>
                </a:solidFill>
                <a:latin typeface="Arial"/>
              </a:rPr>
              <a:t>Явления природ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9bc"/>
                </a:solidFill>
                <a:latin typeface="Arial"/>
              </a:rPr>
              <a:t>Школьные принадлежност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59640" y="429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638600">
            <a:off x="2339640" y="1557000"/>
            <a:ext cx="4030560" cy="927000"/>
          </a:xfrm>
          <a:prstGeom prst="wedgeEllipseCallout">
            <a:avLst>
              <a:gd name="adj1" fmla="val -75504"/>
              <a:gd name="adj2" fmla="val 39574"/>
            </a:avLst>
          </a:prstGeom>
          <a:solidFill>
            <a:srgbClr val="ffcde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олодцы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72360" y="609300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7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2440080" cy="3095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68360" y="189000"/>
            <a:ext cx="4032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5d"/>
                </a:solidFill>
                <a:latin typeface="Arial"/>
              </a:rPr>
              <a:t>Кот-шутник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380360" y="836640"/>
            <a:ext cx="1368360" cy="1177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00000" y="1052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град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15559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кро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2060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сушк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25639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ламп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3068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ило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95640" y="1052640"/>
            <a:ext cx="26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рад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95640" y="155592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ро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95640" y="2060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ушк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25639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лап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5640" y="3068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пло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8360" y="2997360"/>
            <a:ext cx="4537080" cy="1223640"/>
          </a:xfrm>
          <a:prstGeom prst="wedgeEllipseCallout">
            <a:avLst>
              <a:gd name="adj1" fmla="val -50138"/>
              <a:gd name="adj2" fmla="val 50129"/>
            </a:avLst>
          </a:prstGeom>
          <a:solidFill>
            <a:srgbClr val="ffcde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Угадай, какое слово получилось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Убери одну букв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2997360"/>
            <a:ext cx="4535640" cy="1223640"/>
          </a:xfrm>
          <a:prstGeom prst="wedgeEllipseCallout">
            <a:avLst>
              <a:gd name="adj1" fmla="val -48634"/>
              <a:gd name="adj2" fmla="val 47407"/>
            </a:avLst>
          </a:prstGeom>
          <a:solidFill>
            <a:srgbClr val="ffcde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Догадайся, какое слово было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Добавь одну букв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3933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ус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43640" y="3933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бус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3640" y="4437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уку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443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уксу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03640" y="5013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руб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43640" y="501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труб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3640" y="55897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да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43640" y="558972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уда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6165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клад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3640" y="616572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склад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95640" y="2924280"/>
            <a:ext cx="4681440" cy="1296720"/>
          </a:xfrm>
          <a:prstGeom prst="wedgeEllipseCallout">
            <a:avLst>
              <a:gd name="adj1" fmla="val -51458"/>
              <a:gd name="adj2" fmla="val 49388"/>
            </a:avLst>
          </a:prstGeom>
          <a:solidFill>
            <a:srgbClr val="ffcde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олодцы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пасибо за работу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72360" y="609300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7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5280" y="765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stihi.ru/pics/2010/06/19/3464.jpg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-  гном на 2 слайд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3200" y="119700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super-photoshop.ucoz.ru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images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kliparti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myltiki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2"/>
              </a:rPr>
              <a:t>klipart_gnomi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гном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628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3"/>
              </a:rPr>
              <a:t>http://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4"/>
              </a:rPr>
              <a:t>super-photoshop.ucoz.ru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6"/>
              </a:rPr>
              <a:t>images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7"/>
              </a:rPr>
              <a:t>/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8"/>
              </a:rPr>
              <a:t>kliparti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9"/>
              </a:rPr>
              <a:t>/klipart_koshki_1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котено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Источни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206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photoshop-master.ru/adds/adds7089/1.jpg - рамка на 1 слайд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24922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 взят из книги Н.Н Масимук «Игры по обучению грамоте и чтению» Москва «ВАКО» 2006 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1:07:20Z</dcterms:created>
  <dc:creator>User</dc:creator>
  <dc:description/>
  <dc:language>en-US</dc:language>
  <cp:lastModifiedBy>Татьяна</cp:lastModifiedBy>
  <dcterms:modified xsi:type="dcterms:W3CDTF">2011-11-15T15:26:32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