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C38C-C7AA-46B4-BF93-7C21514B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57D-B9A7-4964-A60A-94500282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A28-951A-4209-8299-80A0B211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DE6-AAEC-4E8E-BA51-ADA45C45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AEBD-0121-4D0D-B55C-93FA9A93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A79-A16A-40CC-8A2D-83D963F0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066-5C56-4DA4-8C7B-A575B0B9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B7C3-BE04-4835-8EAD-9D5F913D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412-A0E8-43F6-B057-62E9DA6A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CB73-3A66-41F9-87F9-27F2658A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2A7-ED46-48E3-8D3C-8CEB9047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AC86-142B-4181-8496-814EC588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480E-E29B-4305-8375-8407B3CEDDE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C0F8-D861-4E04-8B18-527FF09ACC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sholokhov.ru/museum/" TargetMode="External"/><Relationship Id="rId2" Type="http://schemas.openxmlformats.org/officeDocument/2006/relationships/hyperlink" Target="http://gazeta.aif.ru/online/aif/1282/63_01?print" TargetMode="External"/><Relationship Id="rId3" Type="http://schemas.openxmlformats.org/officeDocument/2006/relationships/hyperlink" Target="http://ru.wikipedia.org/wiki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2706840" y="-6480"/>
            <a:ext cx="6132240" cy="25974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4444444444.jpg"/>
          <p:cNvPicPr/>
          <p:nvPr/>
        </p:nvPicPr>
        <p:blipFill>
          <a:blip r:embed="rId2"/>
          <a:stretch/>
        </p:blipFill>
        <p:spPr>
          <a:xfrm>
            <a:off x="3929040" y="3857760"/>
            <a:ext cx="1857240" cy="27525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sholcentr_0.jpg"/>
          <p:cNvPicPr/>
          <p:nvPr/>
        </p:nvPicPr>
        <p:blipFill>
          <a:blip r:embed="rId3"/>
          <a:stretch/>
        </p:blipFill>
        <p:spPr>
          <a:xfrm>
            <a:off x="0" y="785880"/>
            <a:ext cx="2305080" cy="29685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1975г.jpg"/>
          <p:cNvPicPr/>
          <p:nvPr/>
        </p:nvPicPr>
        <p:blipFill>
          <a:blip r:embed="rId4"/>
          <a:stretch/>
        </p:blipFill>
        <p:spPr>
          <a:xfrm>
            <a:off x="1928880" y="2357280"/>
            <a:ext cx="2185920" cy="27162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7"/>
          <p:cNvSpPr/>
          <p:nvPr/>
        </p:nvSpPr>
        <p:spPr>
          <a:xfrm>
            <a:off x="2571840" y="135720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Жизн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4643280" y="2643120"/>
            <a:ext cx="35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Calibri"/>
              </a:rPr>
              <a:t>творчество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5786280" y="442908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46c0a"/>
                </a:solidFill>
                <a:latin typeface="Calibri"/>
              </a:rPr>
              <a:t>личность</a:t>
            </a:r>
            <a:r>
              <a:rPr b="1" lang="ru-RU" sz="5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1006-17EF-4700-A045-F082AE2D72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ижний колонтитул 10"/>
          <p:cNvSpPr/>
          <p:nvPr/>
        </p:nvSpPr>
        <p:spPr>
          <a:xfrm>
            <a:off x="607212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4572000" y="16430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28 г. в журнале «Октябрь» опубликованы первая и вторая книги романа «Тихий Дон», вышло в свет отдельное издание первой книги «Тихого До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29 г. вышло в свет первое отдельное издание второй книги романа «Тихий Дон», в Берлине издана в переводе на немецкий язык первая книга «Тихого Дона» - первое зарубежное издание ром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30 г. первая книга «Тихого Дона» выходит в переводе на иностранные языки в Мадриде, Париже, Праге, Стокгольме и Гаа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2" descr="1книга.jpg"/>
          <p:cNvPicPr/>
          <p:nvPr/>
        </p:nvPicPr>
        <p:blipFill>
          <a:blip r:embed="rId1"/>
          <a:stretch/>
        </p:blipFill>
        <p:spPr>
          <a:xfrm>
            <a:off x="214200" y="1357200"/>
            <a:ext cx="4429080" cy="4086360"/>
          </a:xfrm>
          <a:prstGeom prst="rect">
            <a:avLst/>
          </a:prstGeom>
          <a:ln w="0">
            <a:noFill/>
          </a:ln>
        </p:spPr>
      </p:pic>
      <p:sp>
        <p:nvSpPr>
          <p:cNvPr id="9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D01E-CEEA-4A1C-9710-DCC36E0FF4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428760" y="455040"/>
            <a:ext cx="4214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32 г. в журнале «Новый мир» опубликована первая книга романа «Поднятая целина», а в журнале «Октябрь» - третья книга романа «Тихий Дон». Первые части «Тихого Дона» в переводе на датский язык вышли в Копенгаг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33 г. вышло в свет первое отдельное издание третьей книги романа «Тихий Дон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40 году отдельным изданием вышла четвёртая книга романа «Тихий Дон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42 году в газете «Правда» опубликован рассказ «Наука ненавист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43 году в газете «Правда» опубликованы главы из романа «Они сражались за Родин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они сражались.jpg"/>
          <p:cNvPicPr/>
          <p:nvPr/>
        </p:nvPicPr>
        <p:blipFill>
          <a:blip r:embed="rId1"/>
          <a:stretch/>
        </p:blipFill>
        <p:spPr>
          <a:xfrm>
            <a:off x="4714920" y="1285920"/>
            <a:ext cx="4429080" cy="428616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5370-F490-4241-88C1-BED88FF8FF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4214880" y="28584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56-1957 гг. в газете «Правда» опубликован рассказ «Судьба челове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60 г. в издательстве «Молодая гвардия» вышел в свет роман «Поднятая цели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65 г. вышел сборник «Рассказы. Очерки. Стать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69 г. в газете «Правда» и журнале «Дон» опубликованы новые главы из романа «Они сражались за Родин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3" descr="поднятая целина.jpg"/>
          <p:cNvPicPr/>
          <p:nvPr/>
        </p:nvPicPr>
        <p:blipFill>
          <a:blip r:embed="rId1"/>
          <a:stretch/>
        </p:blipFill>
        <p:spPr>
          <a:xfrm>
            <a:off x="3286080" y="3000240"/>
            <a:ext cx="2540160" cy="33022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судьба чел.jpg"/>
          <p:cNvPicPr/>
          <p:nvPr/>
        </p:nvPicPr>
        <p:blipFill>
          <a:blip r:embed="rId2"/>
          <a:stretch/>
        </p:blipFill>
        <p:spPr>
          <a:xfrm>
            <a:off x="285840" y="214200"/>
            <a:ext cx="2539800" cy="4102200"/>
          </a:xfrm>
          <a:prstGeom prst="rect">
            <a:avLst/>
          </a:prstGeom>
          <a:ln w="0">
            <a:noFill/>
          </a:ln>
        </p:spPr>
      </p:pic>
      <p:sp>
        <p:nvSpPr>
          <p:cNvPr id="10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DC53-6A0C-48A6-A491-A38EC1FA2B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857160" y="1445400"/>
            <a:ext cx="7072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70 г. опубликованы сборники статей, очерков, выступлений, документов «По велению души» и «Слово о Родин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75 г. издан сборник рассказов, очерков, публицистики «Россия в сердц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76 г. в журнале «Вопросы литературы» опубликована статья М.А. Шолохова «Неустанно бороться за мир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81 г. в Москве вышло юбилейное издание рассказа «Судьба человека» с иллюстрациями О. Верейск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83 г. в журнале «Иностранная литература» опубликовано обращение М.А. Шолохова к писателям мира «Защитим жизнь, пока не поздн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99DE-B2D2-4A46-85C7-BA4523F71F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Monotype Corsiva"/>
              </a:rPr>
              <a:t>3. Награ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4" descr="нобел.jpg"/>
          <p:cNvPicPr/>
          <p:nvPr/>
        </p:nvPicPr>
        <p:blipFill>
          <a:blip r:embed="rId1"/>
          <a:stretch/>
        </p:blipFill>
        <p:spPr>
          <a:xfrm>
            <a:off x="214200" y="285840"/>
            <a:ext cx="306864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643200" y="928440"/>
            <a:ext cx="5043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ихаил Александрович Шолохов – лауреат Нобелевской, Государственной и Ленинской премий в области литературы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важды Герой Социалистического Труд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йствительный член Академии наук СССР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ладатель степени почетного доктора права Сент-Эндрюсского университета в Шотландии, доктора философии Лейпцигского университета в Германи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ктора филологии Ростовского государственного университет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путат Верховного Совета всех созыв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5" descr="ноб.jpg"/>
          <p:cNvPicPr/>
          <p:nvPr/>
        </p:nvPicPr>
        <p:blipFill>
          <a:blip r:embed="rId2"/>
          <a:stretch/>
        </p:blipFill>
        <p:spPr>
          <a:xfrm>
            <a:off x="214200" y="4143240"/>
            <a:ext cx="3144960" cy="2405160"/>
          </a:xfrm>
          <a:prstGeom prst="rect">
            <a:avLst/>
          </a:prstGeom>
          <a:ln w="0">
            <a:noFill/>
          </a:ln>
        </p:spPr>
      </p:pic>
      <p:sp>
        <p:nvSpPr>
          <p:cNvPr id="11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D89E-070E-4942-93AE-63F5DB626B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2857680" y="451440"/>
            <a:ext cx="3429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 награжден шестью орденами Ленина, орденом Октябрьской революции, другими наградами.  В станице Вёшенской ему при жизни установлен бронзовый бюст. И это далеко не полный перечень премий, наград, почетных званий и общественных обязанностей пис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памятник в вешенской.jpeg"/>
          <p:cNvPicPr/>
          <p:nvPr/>
        </p:nvPicPr>
        <p:blipFill>
          <a:blip r:embed="rId1"/>
          <a:stretch/>
        </p:blipFill>
        <p:spPr>
          <a:xfrm>
            <a:off x="6213600" y="1143000"/>
            <a:ext cx="2930400" cy="37861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" descr="памятник в москве.jpg"/>
          <p:cNvPicPr/>
          <p:nvPr/>
        </p:nvPicPr>
        <p:blipFill>
          <a:blip r:embed="rId2"/>
          <a:stretch/>
        </p:blipFill>
        <p:spPr>
          <a:xfrm>
            <a:off x="0" y="1071720"/>
            <a:ext cx="2786040" cy="3857400"/>
          </a:xfrm>
          <a:prstGeom prst="rect">
            <a:avLst/>
          </a:prstGeom>
          <a:ln w="0">
            <a:noFill/>
          </a:ln>
        </p:spPr>
      </p:pic>
      <p:sp>
        <p:nvSpPr>
          <p:cNvPr id="11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2933-2C92-4DBC-8BFA-63CFB0F660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 М.А. Шолохова издавались 1408 раз общим тиражом 105 349 943 экземпляра на более че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языках мир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6760" y="1856880"/>
            <a:ext cx="4040280" cy="121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 М.А. Шолохов 21 февраля 1984 года. Похоронен в саду у дома, на высоком донском берег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одержимое 6" descr="умер в Вешенской.jpg"/>
          <p:cNvPicPr/>
          <p:nvPr/>
        </p:nvPicPr>
        <p:blipFill>
          <a:blip r:embed="rId1"/>
          <a:stretch/>
        </p:blipFill>
        <p:spPr>
          <a:xfrm>
            <a:off x="357120" y="2500200"/>
            <a:ext cx="4040280" cy="3571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5840" y="2357280"/>
            <a:ext cx="404172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д смерти писателя на его родине образован Государственный музей-заповедник М.А.Шолох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Содержимое 7" descr="музей.jpg"/>
          <p:cNvPicPr/>
          <p:nvPr/>
        </p:nvPicPr>
        <p:blipFill>
          <a:blip r:embed="rId2"/>
          <a:stretch/>
        </p:blipFill>
        <p:spPr>
          <a:xfrm>
            <a:off x="4714920" y="3071880"/>
            <a:ext cx="4071960" cy="3571920"/>
          </a:xfrm>
          <a:prstGeom prst="rect">
            <a:avLst/>
          </a:prstGeom>
          <a:ln w="0">
            <a:noFill/>
          </a:ln>
        </p:spPr>
      </p:pic>
      <p:sp>
        <p:nvSpPr>
          <p:cNvPr id="12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08C9-A272-475B-A30B-2D5BEB32E6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Monotype Corsiva"/>
              </a:rPr>
              <a:t>4.Воспоминания о писате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85720" y="1785600"/>
            <a:ext cx="54435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2008 году старшая дочь писателя Светлана Михайловна Шолохова передала в фонды музея-заповедника М.А. Шолохова фоторепродукцию на ткани ленинградского художника И.Наровлянского «Алые паруса», где напечатано пожелание М.А. Шолохова ленинградским выпускникам 1973 го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3" descr="Светлана Шолохова.jpg"/>
          <p:cNvPicPr/>
          <p:nvPr/>
        </p:nvPicPr>
        <p:blipFill>
          <a:blip r:embed="rId1"/>
          <a:stretch/>
        </p:blipFill>
        <p:spPr>
          <a:xfrm>
            <a:off x="285840" y="1857240"/>
            <a:ext cx="2862000" cy="3387960"/>
          </a:xfrm>
          <a:prstGeom prst="rect">
            <a:avLst/>
          </a:prstGeom>
          <a:ln w="0">
            <a:noFill/>
          </a:ln>
        </p:spPr>
      </p:pic>
      <p:sp>
        <p:nvSpPr>
          <p:cNvPr id="13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57B9-8ACE-4A49-9F78-A1AC22AA54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что написал Шолохов, обращаясь к парням и девчатам Ленинград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13840" y="1285920"/>
            <a:ext cx="403884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юности каждый человек идёт на бригантине. Однако настоящий человек - под алыми революционными парусами. Плывущий неизбежно попадает в «ревущие сороковые широты». И вот тут уже предстоят суровые испытания и качеству оснастки, и воле, и мастерству ведущего бригантин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4" descr="пожелание ленингр выпускникам.jpg"/>
          <p:cNvPicPr/>
          <p:nvPr/>
        </p:nvPicPr>
        <p:blipFill>
          <a:blip r:embed="rId1"/>
          <a:stretch/>
        </p:blipFill>
        <p:spPr>
          <a:xfrm>
            <a:off x="4643280" y="1285920"/>
            <a:ext cx="4221360" cy="33735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4214880" y="48578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, чтобы при всех обстоятельствах выдержали и паруса, и плывущие под ними! М. Шолохов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42BA-C85D-429A-A09B-01B85E2676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285840" y="1798920"/>
            <a:ext cx="857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хаил Шолохов был любим властями, но «подачек» от них никогда не принимал: он так и не променял дом в Вешенской на шикарную дачу в Подмоск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НАЖДЫ папа посмеялся над фамилией своего друга Василия Кудашова, сказав: «Ну что за фамилия, куда шел?» На что тот ему ответил: «А ты шел и охал». Но по жизни мой отец никогда не охал и все переносил стойко, — рассказывает дочь писателя Светл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DA3A-5DCC-4400-A61D-3521939DCC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13840" y="285840"/>
            <a:ext cx="857268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Цели и задачи урок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ть обзор жизненного и творческого пути М.А.Шолохова; показать значение его творчества и обществен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ывать интерес к творчеству М.А. Шолохо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285840" y="1928880"/>
            <a:ext cx="8215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ип урока: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ение нов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Методы и приёмы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ообщение учителя о значении личности и произведений Шолохова в мировой культуре; показ слай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Форма проведен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айдовая презентация с применением новых информационных технолог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борудование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омпьютер, мультимедиа проектор, презентация, созданная в среде MS POWER POINT на тему: «М.А.Шолохов. Жизнь, творчество, личност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5146-845D-4922-A570-726D42C549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Содержимое 4" descr="книга.jpg"/>
          <p:cNvPicPr/>
          <p:nvPr/>
        </p:nvPicPr>
        <p:blipFill>
          <a:blip r:embed="rId1"/>
          <a:stretch/>
        </p:blipFill>
        <p:spPr>
          <a:xfrm>
            <a:off x="6215040" y="285840"/>
            <a:ext cx="2571840" cy="2770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214200"/>
            <a:ext cx="564372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лохов считался одним из лучших писателей Советского Союза, его книги печатались огромными тиражами, с ним искали встречи известнейшие люди, но вдруг самый главный роман — «Тихий Дон» — перестали переиздава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4000680" y="4000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ел слух, что сам Сталин запретил, потому что обиделся на писа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6" descr="сталин.jpg"/>
          <p:cNvPicPr/>
          <p:nvPr/>
        </p:nvPicPr>
        <p:blipFill>
          <a:blip r:embed="rId2"/>
          <a:stretch/>
        </p:blipFill>
        <p:spPr>
          <a:xfrm>
            <a:off x="285840" y="3000240"/>
            <a:ext cx="3257640" cy="3071880"/>
          </a:xfrm>
          <a:prstGeom prst="rect">
            <a:avLst/>
          </a:prstGeom>
          <a:ln w="0">
            <a:noFill/>
          </a:ln>
        </p:spPr>
      </p:pic>
      <p:sp>
        <p:nvSpPr>
          <p:cNvPr id="14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C867-BD98-48E1-ACC0-676678612A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Содержимое 4" descr="переписка.jpg"/>
          <p:cNvPicPr/>
          <p:nvPr/>
        </p:nvPicPr>
        <p:blipFill>
          <a:blip r:embed="rId1"/>
          <a:stretch/>
        </p:blipFill>
        <p:spPr>
          <a:xfrm>
            <a:off x="5357880" y="2428920"/>
            <a:ext cx="3014640" cy="36878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8760" y="213840"/>
            <a:ext cx="82152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то не знает, на что он обиделся. Но в 12-м томе собрания сочинений Сталина появилось письмо Кону, в котором вождь писал, что Шолохов в «Тихом Доне» допустил ошибки. Какие это были ошибки, не уточнялось. После этого папу перестали печатать и переиздавать «Тихий Дон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5"/>
          <p:cNvSpPr/>
          <p:nvPr/>
        </p:nvSpPr>
        <p:spPr>
          <a:xfrm>
            <a:off x="357120" y="2357280"/>
            <a:ext cx="5072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исал Сталину с просьбой принять его и объяснить, в чем заключаются его ошибки. Но Сталин сослался на занятость и отказал. И потом, сколько ни пытался отец попасть к нему на прием, тот его так и не принял. А вот почему, никто так и не знает. Но «Тихий Дон» потом боялись переиздавать до самой смерти Стал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289A-0559-450A-A93F-AF1CA53970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4" descr="дом.jpg"/>
          <p:cNvPicPr/>
          <p:nvPr/>
        </p:nvPicPr>
        <p:blipFill>
          <a:blip r:embed="rId1"/>
          <a:stretch/>
        </p:blipFill>
        <p:spPr>
          <a:xfrm>
            <a:off x="571680" y="214200"/>
            <a:ext cx="7929360" cy="37148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42960" y="4143240"/>
            <a:ext cx="785808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дом в войну был разбит, а дача в Подмосковье отцу была не нужна — он никуда не хотел уезжать из родной Вешенской. Поэтому отец попросил, чтобы вместо дачи ему построили дом на родине. За строительство взялся отдел ЦК. И во время этой стройки комитетчики так проворовались, что вместо 300 тысяч рублей дом обошелся в 900. Управляющий делами при Сталине Крупин свалил вину на отца и потом скрупулезно из всех гонораров отца вычитал его дол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9CF0-6937-440E-9A4E-1B7F3FBB88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Содержимое 4" descr="с женой на охоте.jpg"/>
          <p:cNvPicPr/>
          <p:nvPr/>
        </p:nvPicPr>
        <p:blipFill>
          <a:blip r:embed="rId1"/>
          <a:stretch/>
        </p:blipFill>
        <p:spPr>
          <a:xfrm>
            <a:off x="3795840" y="272880"/>
            <a:ext cx="4670280" cy="58532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57120" y="356760"/>
            <a:ext cx="3214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была старше папы на три года. Но когда он посватался и мама спросила: «Сколько тебе лет?» — он ответил: «Мы с тобой ровесники». Узнала она, что он ее обманул, уже когда в семье были дети. Родители всегда были вместе. Папа даже на охоту и рыбалку маму с собой возил, говорил ей: «Поедем охотиться». Она пыталась отговориться: «Мне некогда». Но он настаивал и уже в машине шутя журил ее: «Ну что за непутевая бабенка у меня жена: сидела бы дома, штопала мужу носки, так нет, она тащится на охоту». Но сам быть без нее нигде не мог. Для него это и не охота была, и не рыбалка, если ее нет рядом. Кстати, она стреляла не хуже, чем он, и как рыбак была гораздо терпеливе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8356-3BD3-49B9-BB31-7B9B6A3E19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ие подарки в семье Шолоховых дарить было не принято, но по случаю получения Нобелевской премии писатель вывез всю свою семью за границ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3280" y="1499760"/>
            <a:ext cx="40420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инскую премию в 41-м году папа отдал в Фонд обороны, Ленинскую — на восстановление школы, в которой он когда-то учился, Нобелевскую же оставил себе. Он потратил ее на то, чтобы показать нам, детям, Европу и Японию. Там ограничения для нас были только в плане общения: за границей мы жили в посольстве, поэтому папа не мог встречаться с теми, с кем бы хотел. В плане передвижения же никто нам препятствий не чинил. На машине мы объездили вдоль и поперек и Англию, и Францию, и Итал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Содержимое 8" descr="467px-Семья_Шолоховых.jpg"/>
          <p:cNvPicPr/>
          <p:nvPr/>
        </p:nvPicPr>
        <p:blipFill>
          <a:blip r:embed="rId1"/>
          <a:stretch/>
        </p:blipFill>
        <p:spPr>
          <a:xfrm>
            <a:off x="428760" y="1571760"/>
            <a:ext cx="4071960" cy="4554360"/>
          </a:xfrm>
          <a:prstGeom prst="rect">
            <a:avLst/>
          </a:prstGeom>
          <a:ln w="0">
            <a:noFill/>
          </a:ln>
        </p:spPr>
      </p:pic>
      <p:sp>
        <p:nvSpPr>
          <p:cNvPr id="16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C444-D1A6-4630-9C01-754DE4E866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214200" y="29088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Шолохов, как говорит его дочь Светлана, действительно никогда ни на что не жаловался и не охал. Даже когда ему поставили смертельный диагноз — неоперабельный рак горла, он отказался от обезболивающих, чтобы иметь возможность разговаривать со своими близк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85840" y="1662480"/>
            <a:ext cx="49291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жуткой контузии, которую он получил во время авиакатастрофы при перелете из Москвы в Куйбышев, у отца случился инсульт, затем второй. Потом начался сильнейший диабет, к которому добавился и рак. У него были жуткие боли, но он вел себя так стойко, что никто никогда бы не подумал, что он ужасно страдает. Я была с ним в больнице в Москве перед самой его смертью. Врачи меня просили: «Светлана Михайловна, уговорите его уколоть обезболивающее, это же такая боль!» Папа на все уговоры отвечал: «Никакой боли у меня нет, и уколы не нужны». Потом вообще попросил забрать его из больницы, сказал: «Вызывай самолет, мне здесь делать нечего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3" descr="болеющий.png"/>
          <p:cNvPicPr/>
          <p:nvPr/>
        </p:nvPicPr>
        <p:blipFill>
          <a:blip r:embed="rId1"/>
          <a:stretch/>
        </p:blipFill>
        <p:spPr>
          <a:xfrm>
            <a:off x="5214960" y="1714680"/>
            <a:ext cx="3665520" cy="30859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500040" y="528804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 боялся, что его похоронят в Москве. Он знал, что ему осталось недолго. И мы улетели в Вешенскую. 21 февраля 1984 года папы не ст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852D-998D-44F1-888B-8B5108D489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5. «Шолоховская весн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годно в станице Вёшенской проходит «Шолоховская весна» - Всероссийский литературно-фольклорный праздник, посвящённый дню рождения М.А. Шолохов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Содержимое 4" descr="PICT0492.JPG"/>
          <p:cNvPicPr/>
          <p:nvPr/>
        </p:nvPicPr>
        <p:blipFill>
          <a:blip r:embed="rId1"/>
          <a:stretch/>
        </p:blipFill>
        <p:spPr>
          <a:xfrm>
            <a:off x="428760" y="22860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648320" y="2714760"/>
            <a:ext cx="403848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годно на «Шолоховскую весну» приезжают более 100 тысяч человек со всего света, все, кто увлечён творчеством великого писателя, кто интересуется жизнью, культурой, бытом донского казачества, любит истинно народное искусств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E64B-3797-4982-A536-647E888AAA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Рисунок 4" descr="PICT0465.JPG"/>
          <p:cNvPicPr/>
          <p:nvPr/>
        </p:nvPicPr>
        <p:blipFill>
          <a:blip r:embed="rId1"/>
          <a:stretch/>
        </p:blipFill>
        <p:spPr>
          <a:xfrm>
            <a:off x="500040" y="214200"/>
            <a:ext cx="7858080" cy="45133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42600" y="4857480"/>
            <a:ext cx="764388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ти праздника становятся не только зрителями, но и участниками концертов, представлений, конкурсов певцов и танцоров, спортивных состяз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981E-EDF1-4B6F-9F9E-2E0EFE456B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642960" y="433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память о "Шолоховской весне" гости увозят не только яркие впечатления, но и многочисленные сувениры и изделия народных мастеров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2" descr="0_7b7c4_b7fb4cda_XL.jpeg"/>
          <p:cNvPicPr/>
          <p:nvPr/>
        </p:nvPicPr>
        <p:blipFill>
          <a:blip r:embed="rId1"/>
          <a:stretch/>
        </p:blipFill>
        <p:spPr>
          <a:xfrm>
            <a:off x="1285920" y="1714680"/>
            <a:ext cx="6858000" cy="4518000"/>
          </a:xfrm>
          <a:prstGeom prst="rect">
            <a:avLst/>
          </a:prstGeom>
          <a:ln w="0">
            <a:noFill/>
          </a:ln>
        </p:spPr>
      </p:pic>
      <p:sp>
        <p:nvSpPr>
          <p:cNvPr id="1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E2F4-6C7F-4C0F-AFA6-4B09E9E7E1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6.Пам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менем писателя назван астероид 2448 Шолох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005 год был объявлен ЮНЕСКО Годом Шолохо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мя Шолохова присвоено Московскому Государственному Гуманитарному Университету (МГГУ) им. М. А. Шолохо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менем Шолохова назван проспект в Ростове-на-Дон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. А. Шолохову установлены мемориальные доски и памятник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E73C-8A01-4BC4-BD6A-03FF6DCBFC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1.Био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143000"/>
            <a:ext cx="40402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хаил Александрович  Шолохов родился 24 мая 1905 г. в хуторе Кружилине станицы Вёшенской Донецкого округа Области Войска Донского (теперь Шолоховский район Ростовской област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9" descr="детство.jpg"/>
          <p:cNvPicPr/>
          <p:nvPr/>
        </p:nvPicPr>
        <p:blipFill>
          <a:blip r:embed="rId1"/>
          <a:stretch/>
        </p:blipFill>
        <p:spPr>
          <a:xfrm>
            <a:off x="4929120" y="1428840"/>
            <a:ext cx="328464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13F8-5707-4AAD-B553-2B0FC48CB2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7.Вклад  М.А.Шолохова  в мировое искус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785880" y="1500120"/>
            <a:ext cx="742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ад  М.А.Шолохова — одного из ведущих мастеров русской литературы — в мировое искусство определяется прежде всего тем, что в его романах впервые в истории мировой литературы трудовой народ предстаёт во всём богатстве типов и характеров, в такой полноте социальной, нравственной, эмоциональной жизни, которая ставит их в ряд неумирающих образов мировой литера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857160" y="521496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 писателя переведены почти на все языки народов СССР, а также иностранные яз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18F0-67DA-4450-BF4F-196F512A13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1" descr="эпиграф.jpg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978960"/>
          </a:xfrm>
          <a:prstGeom prst="rect">
            <a:avLst/>
          </a:prstGeom>
          <a:ln w="0">
            <a:noFill/>
          </a:ln>
        </p:spPr>
      </p:pic>
      <p:sp>
        <p:nvSpPr>
          <p:cNvPr id="20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AF92-A2DA-4E6C-B6B5-264DCC428F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определение жанра «роман-эпопе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, что «Тихий Дон» - роман-эпопе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тать 1-2 част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 романа «Тихий До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ндивидуальное зад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-доклад по истории казач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9530-5AA3-4DBA-9455-C426DA4DF9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ые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1071720" y="1285920"/>
            <a:ext cx="58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. http://www.sholokhov.ru/museu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1071720" y="178596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2.http://gazeta.aif.ru/online/aif/1282/63_01?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1214280" y="228600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3. http://ru.wikipedia.org/wik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FB8C-EE1C-465A-A7A5-1A15ACEA30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5840" y="285480"/>
            <a:ext cx="40003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10 году семья  Шолоховых переезжает в хутор Каргин, где в 7-летнем возрасте Миша был принят в мужское приходское училище. С 1914 по 1918 г. учится в мужских гимназиях Москвы, Богучара и Вёшенс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4" descr="с родителями.jpg"/>
          <p:cNvPicPr/>
          <p:nvPr/>
        </p:nvPicPr>
        <p:blipFill>
          <a:blip r:embed="rId1"/>
          <a:stretch/>
        </p:blipFill>
        <p:spPr>
          <a:xfrm>
            <a:off x="4286160" y="357120"/>
            <a:ext cx="4568760" cy="535788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0E38-6C86-4C25-A2C4-93F6EA4905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00240" y="214200"/>
            <a:ext cx="58248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0-1922 гг. работает служащим в станичном ревкоме, учителем по ликвидации неграмотности среди взрослых в х. Латышеве, делопроизводителем в заготконторе Донпродкома в ст. Каргинской, налоговым инспектором в ст. Букановс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5" descr="учитель.jpeg"/>
          <p:cNvPicPr/>
          <p:nvPr/>
        </p:nvPicPr>
        <p:blipFill>
          <a:blip r:embed="rId1"/>
          <a:stretch/>
        </p:blipFill>
        <p:spPr>
          <a:xfrm>
            <a:off x="428760" y="214200"/>
            <a:ext cx="2357280" cy="27241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285840" y="351216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ктябре 1922 г. уезжает в Москву. Работает грузчиком, каменщиком, счетоводом в жилуправлении на Красной Пресне. Он знакомится с представителями литературной среды, посещает занятия литобъединения «Молодая гвардия». К этому времени относятся первые писательские опыты молодого Шолохова. Осенью 1923 года «Юношеская правда» публикует два его фельетона – «Испытание» и «Тр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DEBE-5E4A-4AEE-9F6D-1C77331EDE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13840" y="214200"/>
            <a:ext cx="53578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1923 г. возвращается на Дон. 11 января 1924 г. венчается в Букановской церкви с Марией Петровной Громославской, дочерью бывшего станичного атама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4" descr="Шолохов и М.П.Шолохова.jpg"/>
          <p:cNvPicPr/>
          <p:nvPr/>
        </p:nvPicPr>
        <p:blipFill>
          <a:blip r:embed="rId1"/>
          <a:stretch/>
        </p:blipFill>
        <p:spPr>
          <a:xfrm>
            <a:off x="6143760" y="214200"/>
            <a:ext cx="2357280" cy="30718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современ с женой для воспоминаний.jpg"/>
          <p:cNvPicPr/>
          <p:nvPr/>
        </p:nvPicPr>
        <p:blipFill>
          <a:blip r:embed="rId2"/>
          <a:stretch/>
        </p:blipFill>
        <p:spPr>
          <a:xfrm>
            <a:off x="357120" y="2251080"/>
            <a:ext cx="3564000" cy="4035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4143240" y="3371040"/>
            <a:ext cx="464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рия Петровна, окончив Усть-Медведицкое  епархиальное училище, работала в ст. Букановской сначала учительницей  в начальной школе, затем делопроизводителем в исполкоме, где в то время был инспектором Шолохов. Поженившись, они были неразлучны до конца своих дней. Вместе Шолоховы прожили 60 лет, вырастив  и воспитав четверых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9B51-66E5-4036-AA28-A8A677C9C0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2. </a:t>
            </a: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Творч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1714680"/>
            <a:ext cx="58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декабря 1924 г. М.А. Шолохов публикует первое художественное произведение – рассказ «Родинка» в газете «Молодой ленинец». Вступает в члены Российской ассоциации пролетарских писател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раницах центральных изданий появляются рассказы Шолохова «Пастух», «Шибалково семя», «Нахалёнок», «Смертный враг», «Алёшкино сердце», «Двухмужняя», «Коловерть», повесть «Путь-дороженька», а в 1926 году выходят сборники «Донские рассказы» и «Лазоревая степь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5" descr="донские рассказы.jpg"/>
          <p:cNvPicPr/>
          <p:nvPr/>
        </p:nvPicPr>
        <p:blipFill>
          <a:blip r:embed="rId1"/>
          <a:stretch/>
        </p:blipFill>
        <p:spPr>
          <a:xfrm>
            <a:off x="6072120" y="1714680"/>
            <a:ext cx="2857680" cy="4505040"/>
          </a:xfrm>
          <a:prstGeom prst="rect">
            <a:avLst/>
          </a:prstGeom>
          <a:ln w="0">
            <a:noFill/>
          </a:ln>
        </p:spPr>
      </p:pic>
      <p:sp>
        <p:nvSpPr>
          <p:cNvPr id="8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4EE5-5F3C-4BCE-99EF-59F69CC488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785880" y="300600"/>
            <a:ext cx="5000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годы войны Михаил Александрович Шолохов – военный корреспондент Совинформбюро, газет «Правда» и «Красная звезда». Он публикует фронтовые очерки, рассказ «Наука ненависти», первые главы романа «Они сражались за Родину».  Государственную премию, присуждённую за роман «Тихий Дон», Шолохов передаёт в фонд обороны СССР,  а затем приобретает на свои собственные средства для фронта четыре новые ракетные у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" descr="на войне.jpg"/>
          <p:cNvPicPr/>
          <p:nvPr/>
        </p:nvPicPr>
        <p:blipFill>
          <a:blip r:embed="rId1"/>
          <a:stretch/>
        </p:blipFill>
        <p:spPr>
          <a:xfrm>
            <a:off x="6357960" y="214200"/>
            <a:ext cx="2381400" cy="3602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714240" y="4011120"/>
            <a:ext cx="8001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участие в Великой Отечественной войне имеет награды – орден Отечественной войны I степени, медали «За оборону Москвы», «За оборону Сталинграда», «За победу над Германией в Великой Отечественной войне 1941-1945 гг.», «Двадцать лет победы в Великой Отечественной войн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войны писатель заканчивает 2-ю книгу «Поднятой целины», работает над романом «Они сражались за Родину», пишет рассказ «Судьба челове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AAE9-FB64-48C3-B4A6-54618455BF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500040" y="3940560"/>
            <a:ext cx="8286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электронном каталоге </a:t>
            </a:r>
            <a:r>
              <a:rPr b="1" lang="ru-RU" sz="1800" spc="-1" strike="noStrike">
                <a:solidFill>
                  <a:srgbClr val="00b0f0"/>
                </a:solidFill>
                <a:latin typeface="Times New Roman"/>
                <a:ea typeface="Calibri"/>
              </a:rPr>
              <a:t>Книжной палат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чится 1408 изданий произведений М.А. Шолохова общим тиражом 105349943 экземпляра на более чем 90 языках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ентябре 1923 г. в газете «Юношеская правда» опубликован фельетон М.А. Шолохова «Испытан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декабре 1924 г. опубликовано первое художественное произведение – рассказ «Родинка» в газете «Молодой ленинец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25–1926 гг. массовыми тиражами  вышли в свет первые книги Шолохова и сборники «Донские рассказы» и «Лазоревая степ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2" descr="al_book_mini-93_1.jpg"/>
          <p:cNvPicPr/>
          <p:nvPr/>
        </p:nvPicPr>
        <p:blipFill>
          <a:blip r:embed="rId1"/>
          <a:stretch/>
        </p:blipFill>
        <p:spPr>
          <a:xfrm>
            <a:off x="1643040" y="214200"/>
            <a:ext cx="5522760" cy="3571920"/>
          </a:xfrm>
          <a:prstGeom prst="rect">
            <a:avLst/>
          </a:prstGeom>
          <a:ln w="0">
            <a:noFill/>
          </a:ln>
        </p:spPr>
      </p:pic>
      <p:sp>
        <p:nvSpPr>
          <p:cNvPr id="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0430-2F82-4163-93A6-9E42DF6AB3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омичева Светлана Владимировна ГБОУ школа 464 Пушк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7:23:31Z</dcterms:created>
  <dc:creator>света</dc:creator>
  <dc:description/>
  <dc:language>en-US</dc:language>
  <cp:lastModifiedBy>света</cp:lastModifiedBy>
  <dcterms:modified xsi:type="dcterms:W3CDTF">2012-08-23T23:03:14Z</dcterms:modified>
  <cp:revision>33</cp:revision>
  <dc:subject/>
  <dc:title>М.А.Шолохов</dc:title>
</cp:coreProperties>
</file>