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D94-4F2D-4A77-9FBF-40706B9C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54C-108A-4B28-8047-8566A013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002-17F7-46D2-92CC-D4CF1FBB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C4F-4FC9-4A07-84DE-DB83BE57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958-B9D0-4DFC-A6E1-DECC3C01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939-7A7F-482D-896F-2CA1213E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C6A-B104-4F60-A1A0-6C0A0932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FDD-308F-4AF3-9131-724D9F53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6D9-0A8C-41AC-9F57-4896EB76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55B-C102-49FF-ACDA-881A16ED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EBE-3B6E-4D0F-A6D1-4796D715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AB9-E7EE-4349-81B7-09DB0523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F415-1536-4BE8-B5DB-C979F633C09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0769-77F7-4859-BAD0-DE2C19F30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holokhov.ru/museum/" TargetMode="External"/><Relationship Id="rId2" Type="http://schemas.openxmlformats.org/officeDocument/2006/relationships/hyperlink" Target="http://gazeta.aif.ru/online/aif/1282/63_01?print" TargetMode="External"/><Relationship Id="rId3" Type="http://schemas.openxmlformats.org/officeDocument/2006/relationships/hyperlink" Target="http://ru.wikipedia.org/wiki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2706840" y="-6480"/>
            <a:ext cx="6132240" cy="25974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4444444444.jpg"/>
          <p:cNvPicPr/>
          <p:nvPr/>
        </p:nvPicPr>
        <p:blipFill>
          <a:blip r:embed="rId2"/>
          <a:stretch/>
        </p:blipFill>
        <p:spPr>
          <a:xfrm>
            <a:off x="3929040" y="3857760"/>
            <a:ext cx="1857240" cy="27525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sholcentr_0.jpg"/>
          <p:cNvPicPr/>
          <p:nvPr/>
        </p:nvPicPr>
        <p:blipFill>
          <a:blip r:embed="rId3"/>
          <a:stretch/>
        </p:blipFill>
        <p:spPr>
          <a:xfrm>
            <a:off x="0" y="785880"/>
            <a:ext cx="2305080" cy="2968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1975г.jpg"/>
          <p:cNvPicPr/>
          <p:nvPr/>
        </p:nvPicPr>
        <p:blipFill>
          <a:blip r:embed="rId4"/>
          <a:stretch/>
        </p:blipFill>
        <p:spPr>
          <a:xfrm>
            <a:off x="1928880" y="2357280"/>
            <a:ext cx="2185920" cy="27162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7"/>
          <p:cNvSpPr/>
          <p:nvPr/>
        </p:nvSpPr>
        <p:spPr>
          <a:xfrm>
            <a:off x="2571840" y="135720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Жизн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4643280" y="2643120"/>
            <a:ext cx="35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Calibri"/>
              </a:rPr>
              <a:t>творчество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5786280" y="44290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46c0a"/>
                </a:solidFill>
                <a:latin typeface="Calibri"/>
              </a:rPr>
              <a:t>личность</a:t>
            </a:r>
            <a:r>
              <a:rPr b="1" lang="ru-RU" sz="5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8F57-6E63-480E-AAAB-5C3082232B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10"/>
          <p:cNvSpPr/>
          <p:nvPr/>
        </p:nvSpPr>
        <p:spPr>
          <a:xfrm>
            <a:off x="607212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4572000" y="16430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28 г. в журнале «Октябрь» опубликованы первая и вторая книги романа «Тихий Дон», вышло в свет отдельное издание первой книги «Тихого До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29 г. вышло в свет первое отдельное издание второй книги романа «Тихий Дон», в Берлине издана в переводе на немецкий язык первая книга «Тихого Дона» - первое зарубежное издание ром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30 г. первая книга «Тихого Дона» выходит в переводе на иностранные языки в Мадриде, Париже, Праге, Стокгольме и Гаа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2" descr="1книга.jpg"/>
          <p:cNvPicPr/>
          <p:nvPr/>
        </p:nvPicPr>
        <p:blipFill>
          <a:blip r:embed="rId1"/>
          <a:stretch/>
        </p:blipFill>
        <p:spPr>
          <a:xfrm>
            <a:off x="214200" y="1357200"/>
            <a:ext cx="4429080" cy="408636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F23A-24EF-42A6-BEE5-EEBB0891FB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28760" y="455040"/>
            <a:ext cx="4214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32 г. в журнале «Новый мир» опубликована первая книга романа «Поднятая целина», а в журнале «Октябрь» - третья книга романа «Тихий Дон». Первые части «Тихого Дона» в переводе на датский язык вышли в Копенгаг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33 г. вышло в свет первое отдельное издание третьей книги романа «Тихий До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40 году отдельным изданием вышла четвёртая книга романа «Тихий До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42 году в газете «Правда» опубликован рассказ «Наука ненави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43 году в газете «Правда» опубликованы главы из романа «Они сражались за Родин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они сражались.jpg"/>
          <p:cNvPicPr/>
          <p:nvPr/>
        </p:nvPicPr>
        <p:blipFill>
          <a:blip r:embed="rId1"/>
          <a:stretch/>
        </p:blipFill>
        <p:spPr>
          <a:xfrm>
            <a:off x="4714920" y="1285920"/>
            <a:ext cx="4429080" cy="428616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E2A6-76F8-4428-AF44-A4C8A7A1A0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4214880" y="28584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56-1957 гг. в газете «Правда» опубликован рассказ «Судьба челове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60 г. в издательстве «Молодая гвардия» вышел в свет роман «Поднятая цел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65 г. вышел сборник «Рассказы. Очерки. Стать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69 г. в газете «Правда» и журнале «Дон» опубликованы новые главы из романа «Они сражались за Родин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3" descr="поднятая целина.jpg"/>
          <p:cNvPicPr/>
          <p:nvPr/>
        </p:nvPicPr>
        <p:blipFill>
          <a:blip r:embed="rId1"/>
          <a:stretch/>
        </p:blipFill>
        <p:spPr>
          <a:xfrm>
            <a:off x="3286080" y="3000240"/>
            <a:ext cx="2540160" cy="33022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судьба чел.jpg"/>
          <p:cNvPicPr/>
          <p:nvPr/>
        </p:nvPicPr>
        <p:blipFill>
          <a:blip r:embed="rId2"/>
          <a:stretch/>
        </p:blipFill>
        <p:spPr>
          <a:xfrm>
            <a:off x="285840" y="214200"/>
            <a:ext cx="2539800" cy="410220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C6EE-9F67-498B-B31A-0E01F968D8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857160" y="1445400"/>
            <a:ext cx="7072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70 г. опубликованы сборники статей, очерков, выступлений, документов «По велению души» и «Слово о Родин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75 г. издан сборник рассказов, очерков, публицистики «Россия в сердц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76 г. в журнале «Вопросы литературы» опубликована статья М.А. Шолохова «Неустанно бороться за ми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81 г. в Москве вышло юбилейное издание рассказа «Судьба человека» с иллюстрациями О. Верейск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83 г. в журнале «Иностранная литература» опубликовано обращение М.А. Шолохова к писателям мира «Защитим жизнь, пока не поздн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2E34-F1A9-4DD8-9E94-AE20825620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3. Наг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4" descr="нобел.jpg"/>
          <p:cNvPicPr/>
          <p:nvPr/>
        </p:nvPicPr>
        <p:blipFill>
          <a:blip r:embed="rId1"/>
          <a:stretch/>
        </p:blipFill>
        <p:spPr>
          <a:xfrm>
            <a:off x="214200" y="285840"/>
            <a:ext cx="306864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643200" y="928440"/>
            <a:ext cx="5043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хаил Александрович Шолохов – лауреат Нобелевской, Государственной и Ленинской премий в области литературы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важды Герой Социалистического Труд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йствительный член Академии наук СССР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ладатель степени почетного доктора права Сент-Эндрюсского университета в Шотландии, доктора философии Лейпцигского университета в Германи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ктора филологии Ростовского государственного университет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путат Верховного Совета всех созыв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5" descr="ноб.jpg"/>
          <p:cNvPicPr/>
          <p:nvPr/>
        </p:nvPicPr>
        <p:blipFill>
          <a:blip r:embed="rId2"/>
          <a:stretch/>
        </p:blipFill>
        <p:spPr>
          <a:xfrm>
            <a:off x="214200" y="4143240"/>
            <a:ext cx="3144960" cy="2405160"/>
          </a:xfrm>
          <a:prstGeom prst="rect">
            <a:avLst/>
          </a:prstGeom>
          <a:ln w="0">
            <a:noFill/>
          </a:ln>
        </p:spPr>
      </p:pic>
      <p:sp>
        <p:nvSpPr>
          <p:cNvPr id="1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4F53-BAAE-4E72-B3B0-5C3A8BC13E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2857680" y="451440"/>
            <a:ext cx="342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награжден шестью орденами Ленина, орденом Октябрьской революции, другими наградами.  В станице Вёшенской ему при жизни установлен бронзовый бюст. И это далеко не полный перечень премий, наград, почетных званий и общественных обязанностей пис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памятник в вешенской.jpeg"/>
          <p:cNvPicPr/>
          <p:nvPr/>
        </p:nvPicPr>
        <p:blipFill>
          <a:blip r:embed="rId1"/>
          <a:stretch/>
        </p:blipFill>
        <p:spPr>
          <a:xfrm>
            <a:off x="6213600" y="1143000"/>
            <a:ext cx="2930400" cy="37861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памятник в москве.jpg"/>
          <p:cNvPicPr/>
          <p:nvPr/>
        </p:nvPicPr>
        <p:blipFill>
          <a:blip r:embed="rId2"/>
          <a:stretch/>
        </p:blipFill>
        <p:spPr>
          <a:xfrm>
            <a:off x="0" y="1071720"/>
            <a:ext cx="2786040" cy="385740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DA72-DD06-47FA-83E2-2BCDA5826B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М.А. Шолохова издавались 1408 раз общим тиражом 105 349 943 экземпляра на более че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языках мир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4040280" cy="12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 М.А. Шолохов 21 февраля 1984 года. Похоронен в саду у дома, на высоком донском бере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6" descr="умер в Вешенской.jpg"/>
          <p:cNvPicPr/>
          <p:nvPr/>
        </p:nvPicPr>
        <p:blipFill>
          <a:blip r:embed="rId1"/>
          <a:stretch/>
        </p:blipFill>
        <p:spPr>
          <a:xfrm>
            <a:off x="357120" y="2500200"/>
            <a:ext cx="4040280" cy="3571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5840" y="2357280"/>
            <a:ext cx="404172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д смерти писателя на его родине образован Государственный музей-заповедник М.А.Шолох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7" descr="музей.jpg"/>
          <p:cNvPicPr/>
          <p:nvPr/>
        </p:nvPicPr>
        <p:blipFill>
          <a:blip r:embed="rId2"/>
          <a:stretch/>
        </p:blipFill>
        <p:spPr>
          <a:xfrm>
            <a:off x="4714920" y="3071880"/>
            <a:ext cx="4071960" cy="3571920"/>
          </a:xfrm>
          <a:prstGeom prst="rect">
            <a:avLst/>
          </a:prstGeom>
          <a:ln w="0">
            <a:noFill/>
          </a:ln>
        </p:spPr>
      </p:pic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F6EF-30FA-457C-8440-0EF8BDE72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Monotype Corsiva"/>
              </a:rPr>
              <a:t>4.Воспоминания о писате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85720" y="1785600"/>
            <a:ext cx="54435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2008 году старшая дочь писателя Светлана Михайловна Шолохова передала в фонды музея-заповедника М.А. Шолохова фоторепродукцию на ткани ленинградского художника И.Наровлянского «Алые паруса», где напечатано пожелание М.А. Шолохова ленинградским выпускникам 1973 г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Светлана Шолохова.jpg"/>
          <p:cNvPicPr/>
          <p:nvPr/>
        </p:nvPicPr>
        <p:blipFill>
          <a:blip r:embed="rId1"/>
          <a:stretch/>
        </p:blipFill>
        <p:spPr>
          <a:xfrm>
            <a:off x="285840" y="1857240"/>
            <a:ext cx="2862000" cy="338796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F3B2-B4D8-4A47-AE67-87CEB79847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что написал Шолохов, обращаясь к парням и девчатам Ленинград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13840" y="1285920"/>
            <a:ext cx="40388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юности каждый человек идёт на бригантине. Однако настоящий человек - под алыми революционными парусами. Плывущий неизбежно попадает в «ревущие сороковые широты». И вот тут уже предстоят суровые испытания и качеству оснастки, и воле, и мастерству ведущего бриганти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4" descr="пожелание ленингр выпускникам.jpg"/>
          <p:cNvPicPr/>
          <p:nvPr/>
        </p:nvPicPr>
        <p:blipFill>
          <a:blip r:embed="rId1"/>
          <a:stretch/>
        </p:blipFill>
        <p:spPr>
          <a:xfrm>
            <a:off x="4643280" y="1285920"/>
            <a:ext cx="4221360" cy="33735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4214880" y="48578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при всех обстоятельствах выдержали и паруса, и плывущие под ними! М. Шолохо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D6C2-3609-49DB-8DE2-2B12756DBC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285840" y="1798920"/>
            <a:ext cx="857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хаил Шолохов был любим властями, но «подачек» от них никогда не принимал: он так и не променял дом в Вешенской на шикарную дачу в Подмоск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АЖДЫ папа посмеялся над фамилией своего друга Василия Кудашова, сказав: «Ну что за фамилия, куда шел?» На что тот ему ответил: «А ты шел и охал». Но по жизни мой отец никогда не охал и все переносил стойко, — рассказывает дочь писателя Светл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1972-7C13-4382-892B-A9B109509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13840" y="285840"/>
            <a:ext cx="85726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Цели и задачи урок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обзор жизненного и творческого пути М.А.Шолохова; показать значение его творчества и обществе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ывать интерес к творчеству М.А. Шолох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285840" y="1928880"/>
            <a:ext cx="8215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ип урока: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етоды и приёмы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общение учителя о значении личности и произведений Шолохова в мировой культуре; показ слай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Форма провед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айдовая презентация с применением новых информационны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борудование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мпьютер, мультимедиа проектор, презентация, созданная в среде MS POWER POINT на тему: «М.А.Шолохов. Жизнь, творчество, личност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1729-A567-4FE5-A821-ECF38105A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Содержимое 4" descr="книга.jpg"/>
          <p:cNvPicPr/>
          <p:nvPr/>
        </p:nvPicPr>
        <p:blipFill>
          <a:blip r:embed="rId1"/>
          <a:stretch/>
        </p:blipFill>
        <p:spPr>
          <a:xfrm>
            <a:off x="6215040" y="285840"/>
            <a:ext cx="2571840" cy="2770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214200"/>
            <a:ext cx="56437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лохов считался одним из лучших писателей Советского Союза, его книги печатались огромными тиражами, с ним искали встречи известнейшие люди, но вдруг самый главный роман — «Тихий Дон» — перестали переиздава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4000680" y="4000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ел слух, что сам Сталин запретил, потому что обиделся на пис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6" descr="сталин.jpg"/>
          <p:cNvPicPr/>
          <p:nvPr/>
        </p:nvPicPr>
        <p:blipFill>
          <a:blip r:embed="rId2"/>
          <a:stretch/>
        </p:blipFill>
        <p:spPr>
          <a:xfrm>
            <a:off x="285840" y="3000240"/>
            <a:ext cx="3257640" cy="3071880"/>
          </a:xfrm>
          <a:prstGeom prst="rect">
            <a:avLst/>
          </a:prstGeom>
          <a:ln w="0">
            <a:noFill/>
          </a:ln>
        </p:spPr>
      </p:pic>
      <p:sp>
        <p:nvSpPr>
          <p:cNvPr id="14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C0ED-893B-4E0C-912F-5681C9551E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Содержимое 4" descr="переписка.jpg"/>
          <p:cNvPicPr/>
          <p:nvPr/>
        </p:nvPicPr>
        <p:blipFill>
          <a:blip r:embed="rId1"/>
          <a:stretch/>
        </p:blipFill>
        <p:spPr>
          <a:xfrm>
            <a:off x="5357880" y="2428920"/>
            <a:ext cx="3014640" cy="36878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8760" y="213840"/>
            <a:ext cx="82152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то не знает, на что он обиделся. Но в 12-м томе собрания сочинений Сталина появилось письмо Кону, в котором вождь писал, что Шолохов в «Тихом Доне» допустил ошибки. Какие это были ошибки, не уточнялось. После этого папу перестали печатать и переиздавать «Тихий Дон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5"/>
          <p:cNvSpPr/>
          <p:nvPr/>
        </p:nvSpPr>
        <p:spPr>
          <a:xfrm>
            <a:off x="357120" y="2357280"/>
            <a:ext cx="5072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исал Сталину с просьбой принять его и объяснить, в чем заключаются его ошибки. Но Сталин сослался на занятость и отказал. И потом, сколько ни пытался отец попасть к нему на прием, тот его так и не принял. А вот почему, никто так и не знает. Но «Тихий Дон» потом боялись переиздавать до самой смерти Стал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F1E5-2B66-484D-9EDF-49854AC45D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4" descr="дом.jpg"/>
          <p:cNvPicPr/>
          <p:nvPr/>
        </p:nvPicPr>
        <p:blipFill>
          <a:blip r:embed="rId1"/>
          <a:stretch/>
        </p:blipFill>
        <p:spPr>
          <a:xfrm>
            <a:off x="571680" y="214200"/>
            <a:ext cx="7929360" cy="37148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42960" y="4143240"/>
            <a:ext cx="785808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дом в войну был разбит, а дача в Подмосковье отцу была не нужна — он никуда не хотел уезжать из родной Вешенской. Поэтому отец попросил, чтобы вместо дачи ему построили дом на родине. За строительство взялся отдел ЦК. И во время этой стройки комитетчики так проворовались, что вместо 300 тысяч рублей дом обошелся в 900. Управляющий делами при Сталине Крупин свалил вину на отца и потом скрупулезно из всех гонораров отца вычитал его дол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1465-2FAB-48D5-A956-39FAA8593F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4" descr="с женой на охоте.jpg"/>
          <p:cNvPicPr/>
          <p:nvPr/>
        </p:nvPicPr>
        <p:blipFill>
          <a:blip r:embed="rId1"/>
          <a:stretch/>
        </p:blipFill>
        <p:spPr>
          <a:xfrm>
            <a:off x="3795840" y="272880"/>
            <a:ext cx="4670280" cy="5853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7120" y="356760"/>
            <a:ext cx="3214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была старше папы на три года. Но когда он посватался и мама спросила: «Сколько тебе лет?» — он ответил: «Мы с тобой ровесники». Узнала она, что он ее обманул, уже когда в семье были дети. Родители всегда были вместе. Папа даже на охоту и рыбалку маму с собой возил, говорил ей: «Поедем охотиться». Она пыталась отговориться: «Мне некогда». Но он настаивал и уже в машине шутя журил ее: «Ну что за непутевая бабенка у меня жена: сидела бы дома, штопала мужу носки, так нет, она тащится на охоту». Но сам быть без нее нигде не мог. Для него это и не охота была, и не рыбалка, если ее нет рядом. Кстати, она стреляла не хуже, чем он, и как рыбак была гораздо терпеливе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EF0E-45A0-4793-8D6D-58BD1439B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ие подарки в семье Шолоховых дарить было не принято, но по случаю получения Нобелевской премии писатель вывез всю свою семью за границ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3280" y="1499760"/>
            <a:ext cx="4042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нскую премию в 41-м году папа отдал в Фонд обороны, Ленинскую — на восстановление школы, в которой он когда-то учился, Нобелевскую же оставил себе. Он потратил ее на то, чтобы показать нам, детям, Европу и Японию. Там ограничения для нас были только в плане общения: за границей мы жили в посольстве, поэтому папа не мог встречаться с теми, с кем бы хотел. В плане передвижения же никто нам препятствий не чинил. На машине мы объездили вдоль и поперек и Англию, и Францию, и Итал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Содержимое 8" descr="467px-Семья_Шолоховых.jpg"/>
          <p:cNvPicPr/>
          <p:nvPr/>
        </p:nvPicPr>
        <p:blipFill>
          <a:blip r:embed="rId1"/>
          <a:stretch/>
        </p:blipFill>
        <p:spPr>
          <a:xfrm>
            <a:off x="428760" y="1571760"/>
            <a:ext cx="4071960" cy="4554360"/>
          </a:xfrm>
          <a:prstGeom prst="rect">
            <a:avLst/>
          </a:prstGeom>
          <a:ln w="0">
            <a:noFill/>
          </a:ln>
        </p:spPr>
      </p:pic>
      <p:sp>
        <p:nvSpPr>
          <p:cNvPr id="16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69B1-B3B4-4AFB-90EC-9E2169C35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214200" y="29088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олохов, как говорит его дочь Светлана, действительно никогда ни на что не жаловался и не охал. Даже когда ему поставили смертельный диагноз — неоперабельный рак горла, он отказался от обезболивающих, чтобы иметь возможность разговаривать со своими близк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85840" y="1662480"/>
            <a:ext cx="49291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жуткой контузии, которую он получил во время авиакатастрофы при перелете из Москвы в Куйбышев, у отца случился инсульт, затем второй. Потом начался сильнейший диабет, к которому добавился и рак. У него были жуткие боли, но он вел себя так стойко, что никто никогда бы не подумал, что он ужасно страдает. Я была с ним в больнице в Москве перед самой его смертью. Врачи меня просили: «Светлана Михайловна, уговорите его уколоть обезболивающее, это же такая боль!» Папа на все уговоры отвечал: «Никакой боли у меня нет, и уколы не нужны». Потом вообще попросил забрать его из больницы, сказал: «Вызывай самолет, мне здесь делать нечего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3" descr="болеющий.png"/>
          <p:cNvPicPr/>
          <p:nvPr/>
        </p:nvPicPr>
        <p:blipFill>
          <a:blip r:embed="rId1"/>
          <a:stretch/>
        </p:blipFill>
        <p:spPr>
          <a:xfrm>
            <a:off x="5214960" y="1714680"/>
            <a:ext cx="3665520" cy="3085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500040" y="52880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боялся, что его похоронят в Москве. Он знал, что ему осталось недолго. И мы улетели в Вешенскую. 21 февраля 1984 года папы не ст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8499-AB40-4527-8EF2-637E011B73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5. «Шолоховская весн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в станице Вёшенской проходит «Шолоховская весна» - Всероссийский литературно-фольклорный праздник, посвящённый дню рождения М.А. Шолохов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Содержимое 4" descr="PICT0492.JPG"/>
          <p:cNvPicPr/>
          <p:nvPr/>
        </p:nvPicPr>
        <p:blipFill>
          <a:blip r:embed="rId1"/>
          <a:stretch/>
        </p:blipFill>
        <p:spPr>
          <a:xfrm>
            <a:off x="428760" y="2286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48320" y="2714760"/>
            <a:ext cx="403848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на «Шолоховскую весну» приезжают более 100 тысяч человек со всего света, все, кто увлечён творчеством великого писателя, кто интересуется жизнью, культурой, бытом донского казачества, любит истинно народное искусств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68B9-363C-4B31-9C15-311430847E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Рисунок 4" descr="PICT0465.JPG"/>
          <p:cNvPicPr/>
          <p:nvPr/>
        </p:nvPicPr>
        <p:blipFill>
          <a:blip r:embed="rId1"/>
          <a:stretch/>
        </p:blipFill>
        <p:spPr>
          <a:xfrm>
            <a:off x="500040" y="214200"/>
            <a:ext cx="7858080" cy="4513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2600" y="4857480"/>
            <a:ext cx="76438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ти праздника становятся не только зрителями, но и участниками концертов, представлений, конкурсов певцов и танцоров, спортивных состяз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2167-627A-47CC-B575-F4863BB363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642960" y="433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память о "Шолоховской весне" гости увозят не только яркие впечатления, но и многочисленные сувениры и изделия народных мастеро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2" descr="0_7b7c4_b7fb4cda_XL.jpeg"/>
          <p:cNvPicPr/>
          <p:nvPr/>
        </p:nvPicPr>
        <p:blipFill>
          <a:blip r:embed="rId1"/>
          <a:stretch/>
        </p:blipFill>
        <p:spPr>
          <a:xfrm>
            <a:off x="1285920" y="1714680"/>
            <a:ext cx="6858000" cy="4518000"/>
          </a:xfrm>
          <a:prstGeom prst="rect">
            <a:avLst/>
          </a:prstGeom>
          <a:ln w="0">
            <a:noFill/>
          </a:ln>
        </p:spPr>
      </p:pic>
      <p:sp>
        <p:nvSpPr>
          <p:cNvPr id="1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E013-84E8-48DB-87B3-3701CF1BA9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6.Пам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нем писателя назван астероид 2448 Шолох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005 год был объявлен ЮНЕСКО Годом Шолохо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я Шолохова присвоено Московскому Государственному Гуманитарному Университету (МГГУ) им. М. А. Шолохо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нем Шолохова назван проспект в Ростове-на-Дон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. А. Шолохову установлены мемориальные доски и памятни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2610-C841-4E4C-A739-43914AF99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1.Би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143000"/>
            <a:ext cx="40402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хаил Александрович  Шолохов родился 24 мая 1905 г. в хуторе Кружилине станицы Вёшенской Донецкого округа Области Войска Донского (теперь Шолоховский район Ростовской област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9" descr="детство.jpg"/>
          <p:cNvPicPr/>
          <p:nvPr/>
        </p:nvPicPr>
        <p:blipFill>
          <a:blip r:embed="rId1"/>
          <a:stretch/>
        </p:blipFill>
        <p:spPr>
          <a:xfrm>
            <a:off x="4929120" y="1428840"/>
            <a:ext cx="328464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105D-CE95-4CF7-AF34-E476C47482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7.Вклад  М.А.Шолохова  в мировое искус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785880" y="1500120"/>
            <a:ext cx="742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ад  М.А.Шолохова — одного из ведущих мастеров русской литературы — в мировое искусство определяется прежде всего тем, что в его романах впервые в истории мировой литературы трудовой народ предстаёт во всём богатстве типов и характеров, в такой полноте социальной, нравственной, эмоциональной жизни, которая ставит их в ряд неумирающих образов мировой литера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857160" y="521496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писателя переведены почти на все языки народов СССР, а также иностранные я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E4F7-8587-48F4-9F1E-61C7C97336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1" descr="эпиграф.jpg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78960"/>
          </a:xfrm>
          <a:prstGeom prst="rect">
            <a:avLst/>
          </a:prstGeom>
          <a:ln w="0">
            <a:noFill/>
          </a:ln>
        </p:spPr>
      </p:pic>
      <p:sp>
        <p:nvSpPr>
          <p:cNvPr id="2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0F50-96AE-456C-8C91-2F93AC47CA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определение жанра «роман-эпопе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, что «Тихий Дон» - роман-эпопе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тать 1-2 час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 романа «Тихий До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ндивидуально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-доклад по истории казач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36F6-ACCD-46B3-B554-1A346AF4BB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1071720" y="1285920"/>
            <a:ext cx="58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. http://www.sholokhov.ru/museu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1071720" y="178596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2.http://gazeta.aif.ru/online/aif/1282/63_01?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214280" y="228600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3. http://ru.wikipedia.org/wik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A784-D6E2-404F-923F-B1C19A1443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840" y="285480"/>
            <a:ext cx="40003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10 году семья  Шолоховых переезжает в хутор Каргин, где в 7-летнем возрасте Миша был принят в мужское приходское училище. С 1914 по 1918 г. учится в мужских гимназиях Москвы, Богучара и Вёшенс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с родителями.jpg"/>
          <p:cNvPicPr/>
          <p:nvPr/>
        </p:nvPicPr>
        <p:blipFill>
          <a:blip r:embed="rId1"/>
          <a:stretch/>
        </p:blipFill>
        <p:spPr>
          <a:xfrm>
            <a:off x="4286160" y="357120"/>
            <a:ext cx="4568760" cy="535788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2812-84BB-479A-8E7E-60CF6F866E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00240" y="214200"/>
            <a:ext cx="5824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0-1922 гг. работает служащим в станичном ревкоме, учителем по ликвидации неграмотности среди взрослых в х. Латышеве, делопроизводителем в заготконторе Донпродкома в ст. Каргинской, налоговым инспектором в ст. Букановс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учитель.jpeg"/>
          <p:cNvPicPr/>
          <p:nvPr/>
        </p:nvPicPr>
        <p:blipFill>
          <a:blip r:embed="rId1"/>
          <a:stretch/>
        </p:blipFill>
        <p:spPr>
          <a:xfrm>
            <a:off x="428760" y="214200"/>
            <a:ext cx="2357280" cy="2724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85840" y="351216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ктябре 1922 г. уезжает в Москву. Работает грузчиком, каменщиком, счетоводом в жилуправлении на Красной Пресне. Он знакомится с представителями литературной среды, посещает занятия литобъединения «Молодая гвардия». К этому времени относятся первые писательские опыты молодого Шолохова. Осенью 1923 года «Юношеская правда» публикует два его фельетона – «Испытание» и «Тр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1B06-C3F8-4236-83E3-586380D789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3840" y="214200"/>
            <a:ext cx="53578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1923 г. возвращается на Дон. 11 января 1924 г. венчается в Букановской церкви с Марией Петровной Громославской, дочерью бывшего станичного атама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Шолохов и М.П.Шолохова.jpg"/>
          <p:cNvPicPr/>
          <p:nvPr/>
        </p:nvPicPr>
        <p:blipFill>
          <a:blip r:embed="rId1"/>
          <a:stretch/>
        </p:blipFill>
        <p:spPr>
          <a:xfrm>
            <a:off x="6143760" y="214200"/>
            <a:ext cx="235728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современ с женой для воспоминаний.jpg"/>
          <p:cNvPicPr/>
          <p:nvPr/>
        </p:nvPicPr>
        <p:blipFill>
          <a:blip r:embed="rId2"/>
          <a:stretch/>
        </p:blipFill>
        <p:spPr>
          <a:xfrm>
            <a:off x="357120" y="2251080"/>
            <a:ext cx="3564000" cy="4035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4143240" y="3371040"/>
            <a:ext cx="464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рия Петровна, окончив Усть-Медведицкое  епархиальное училище, работала в ст. Букановской сначала учительницей  в начальной школе, затем делопроизводителем в исполкоме, где в то время был инспектором Шолохов. Поженившись, они были неразлучны до конца своих дней. Вместе Шолоховы прожили 60 лет, вырастив  и воспитав четверы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1080-C33F-4E7F-82C9-38F942CEB2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2. </a:t>
            </a: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Твор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714680"/>
            <a:ext cx="58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декабря 1924 г. М.А. Шолохов публикует первое художественное произведение – рассказ «Родинка» в газете «Молодой ленинец». Вступает в члены Российской ассоциации пролетарских писател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раницах центральных изданий появляются рассказы Шолохова «Пастух», «Шибалково семя», «Нахалёнок», «Смертный враг», «Алёшкино сердце», «Двухмужняя», «Коловерть», повесть «Путь-дороженька», а в 1926 году выходят сборники «Донские рассказы» и «Лазоревая степь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5" descr="донские рассказы.jpg"/>
          <p:cNvPicPr/>
          <p:nvPr/>
        </p:nvPicPr>
        <p:blipFill>
          <a:blip r:embed="rId1"/>
          <a:stretch/>
        </p:blipFill>
        <p:spPr>
          <a:xfrm>
            <a:off x="6072120" y="1714680"/>
            <a:ext cx="2857680" cy="4505040"/>
          </a:xfrm>
          <a:prstGeom prst="rect">
            <a:avLst/>
          </a:prstGeom>
          <a:ln w="0">
            <a:noFill/>
          </a:ln>
        </p:spPr>
      </p:pic>
      <p:sp>
        <p:nvSpPr>
          <p:cNvPr id="8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2A4B-96C9-40E5-8F8F-AE225803FB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785880" y="300600"/>
            <a:ext cx="5000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годы войны Михаил Александрович Шолохов – военный корреспондент Совинформбюро, газет «Правда» и «Красная звезда». Он публикует фронтовые очерки, рассказ «Наука ненависти», первые главы романа «Они сражались за Родину».  Государственную премию, присуждённую за роман «Тихий Дон», Шолохов передаёт в фонд обороны СССР,  а затем приобретает на свои собственные средства для фронта четыре новые ракетные у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на войне.jpg"/>
          <p:cNvPicPr/>
          <p:nvPr/>
        </p:nvPicPr>
        <p:blipFill>
          <a:blip r:embed="rId1"/>
          <a:stretch/>
        </p:blipFill>
        <p:spPr>
          <a:xfrm>
            <a:off x="6357960" y="214200"/>
            <a:ext cx="2381400" cy="3602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714240" y="4011120"/>
            <a:ext cx="8001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участие в Великой Отечественной войне имеет награды – орден Отечественной войны I степени, медали «За оборону Москвы», «За оборону Сталинграда», «За победу над Германией в Великой Отечественной войне 1941-1945 гг.», «Двадцать лет победы в Великой Отечественной войн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войны писатель заканчивает 2-ю книгу «Поднятой целины», работает над романом «Они сражались за Родину», пишет рассказ «Судьба чело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775B-1F67-490B-BA0A-4ACC8B9D1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00040" y="3940560"/>
            <a:ext cx="828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электронном каталоге </a:t>
            </a: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Calibri"/>
              </a:rPr>
              <a:t>Книжной палат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ится 1408 изданий произведений М.А. Шолохова общим тиражом 105349943 экземпляра на более чем 90 языках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ентябре 1923 г. в газете «Юношеская правда» опубликован фельетон М.А. Шолохова «Испыта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екабре 1924 г. опубликовано первое художественное произведение – рассказ «Родинка» в газете «Молодой ленинец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25–1926 гг. массовыми тиражами  вышли в свет первые книги Шолохова и сборники «Донские рассказы» и «Лазоревая степ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al_book_mini-93_1.jpg"/>
          <p:cNvPicPr/>
          <p:nvPr/>
        </p:nvPicPr>
        <p:blipFill>
          <a:blip r:embed="rId1"/>
          <a:stretch/>
        </p:blipFill>
        <p:spPr>
          <a:xfrm>
            <a:off x="1643040" y="214200"/>
            <a:ext cx="5522760" cy="3571920"/>
          </a:xfrm>
          <a:prstGeom prst="rect">
            <a:avLst/>
          </a:prstGeom>
          <a:ln w="0">
            <a:noFill/>
          </a:ln>
        </p:spPr>
      </p:pic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32A3-C5F0-451F-A086-62DE234AB7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7:23:31Z</dcterms:created>
  <dc:creator>света</dc:creator>
  <dc:description/>
  <dc:language>en-US</dc:language>
  <cp:lastModifiedBy>света</cp:lastModifiedBy>
  <dcterms:modified xsi:type="dcterms:W3CDTF">2012-08-23T23:03:14Z</dcterms:modified>
  <cp:revision>33</cp:revision>
  <dc:subject/>
  <dc:title>М.А.Шолохов</dc:title>
</cp:coreProperties>
</file>