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8BD8-9E1D-4040-98A1-503B0694D0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AA1B-6CFB-499E-830F-E10E0AA976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32AD-6BD6-4EBB-A1C9-D7850EE4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DCF-3760-4F51-B1F8-557AE4B6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5A6-1310-463B-88AE-273A5E0E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7CF-25C4-4FAE-B645-FDC163AC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9A3-3401-46CA-8177-B09005E0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D03-4214-4369-803C-8FAEC820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DA6-F2A8-4E33-929B-9EC1BC2A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2B0C-4B61-46FA-9823-D1D1126E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AFE-E57D-46CD-B876-DC3BFD4A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CC15-1086-4B57-B2AD-581FC9E0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BDEC-1DA6-4E9E-868A-7F443C54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4B12-B11A-4319-AA23-237495DF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E00F-7AEE-427B-B790-4B6E96D19D9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3138-1B78-48ED-AE6D-E6BED1ACF4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300816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6" descr="абсурд.jpg"/>
          <p:cNvPicPr/>
          <p:nvPr/>
        </p:nvPicPr>
        <p:blipFill>
          <a:blip r:embed="rId1"/>
          <a:stretch/>
        </p:blipFill>
        <p:spPr>
          <a:xfrm>
            <a:off x="4214880" y="428760"/>
            <a:ext cx="4500360" cy="5500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356760"/>
            <a:ext cx="36147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лепость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ес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ысл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омер слайда 10"/>
          <p:cNvSpPr/>
          <p:nvPr/>
        </p:nvSpPr>
        <p:spPr>
          <a:xfrm>
            <a:off x="7786800" y="6356520"/>
            <a:ext cx="900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1</a:t>
            </a:r>
            <a:fld id="{CD0E4880-A910-40D6-8A02-71906EEAEE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DEA80006-2B1F-49B4-AFEE-5FA18F0528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Нижний колонтитул 11"/>
          <p:cNvSpPr/>
          <p:nvPr/>
        </p:nvSpPr>
        <p:spPr>
          <a:xfrm>
            <a:off x="5643720" y="6356520"/>
            <a:ext cx="37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7" descr="ас.jpg"/>
          <p:cNvPicPr/>
          <p:nvPr/>
        </p:nvPicPr>
        <p:blipFill>
          <a:blip r:embed="rId1"/>
          <a:stretch/>
        </p:blipFill>
        <p:spPr>
          <a:xfrm>
            <a:off x="5500800" y="357120"/>
            <a:ext cx="3429000" cy="5500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285480"/>
            <a:ext cx="4971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союз, объедин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 в психологии - связь, возникающая при определенных условиях между двумя или более психическими образованиями (ощущениями, двигательными актами, восприятиями, идеями и т. п.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92A3-6A03-4216-B049-413AC71476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ижний колонтитул 9"/>
          <p:cNvSpPr/>
          <p:nvPr/>
        </p:nvSpPr>
        <p:spPr>
          <a:xfrm>
            <a:off x="80722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7" descr="аналог.jpg"/>
          <p:cNvPicPr/>
          <p:nvPr/>
        </p:nvPicPr>
        <p:blipFill>
          <a:blip r:embed="rId1"/>
          <a:stretch/>
        </p:blipFill>
        <p:spPr>
          <a:xfrm>
            <a:off x="5572080" y="857160"/>
            <a:ext cx="3357720" cy="4143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4200" y="428400"/>
            <a:ext cx="53294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 греч. - соответствие - сходство), сходство предметов(явлений, процессов) в каких-либо свойствах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D0F3-0F31-40DA-A2DD-FCAE31838B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ижний колонтитул 9"/>
          <p:cNvSpPr/>
          <p:nvPr/>
        </p:nvSpPr>
        <p:spPr>
          <a:xfrm>
            <a:off x="7929720" y="6356520"/>
            <a:ext cx="100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7" descr="basni.jpg"/>
          <p:cNvPicPr/>
          <p:nvPr/>
        </p:nvPicPr>
        <p:blipFill>
          <a:blip r:embed="rId1"/>
          <a:stretch/>
        </p:blipFill>
        <p:spPr>
          <a:xfrm>
            <a:off x="5572080" y="214200"/>
            <a:ext cx="3429000" cy="62150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51148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осказание - изображение отвлеченной идеи(понятия) посредством образа. Смысл  иносказания однозначен и отделен от образа; связь между значением и образом  устанавливается по сходству (лев - сила, власть или царственность). Используется в баснях, притчах, моралите; в изобразительном искусстве выражается определенными атрибутами (правосудие - женщина с весами). Наиболее характерна для средневекового искус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693F-8521-4246-BC13-020611B228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ижний колонтитул 9"/>
          <p:cNvSpPr/>
          <p:nvPr/>
        </p:nvSpPr>
        <p:spPr>
          <a:xfrm>
            <a:off x="821520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Содержимое 7" descr="опт.jpg"/>
          <p:cNvPicPr/>
          <p:nvPr/>
        </p:nvPicPr>
        <p:blipFill>
          <a:blip r:embed="rId1"/>
          <a:stretch/>
        </p:blipFill>
        <p:spPr>
          <a:xfrm>
            <a:off x="4929120" y="500040"/>
            <a:ext cx="3757680" cy="5643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356760"/>
            <a:ext cx="45435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от лат.  - наилучший) - представление о том, что в мире господствует положительное начало, добро. Противоположность - пессимиз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B1E4-EA7F-4D03-9B02-B7B2D3B62A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ижний колонтитул 9"/>
          <p:cNvSpPr/>
          <p:nvPr/>
        </p:nvSpPr>
        <p:spPr>
          <a:xfrm>
            <a:off x="7286760" y="6356520"/>
            <a:ext cx="157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7" descr="тр.jpg"/>
          <p:cNvPicPr/>
          <p:nvPr/>
        </p:nvPicPr>
        <p:blipFill>
          <a:blip r:embed="rId1"/>
          <a:stretch/>
        </p:blipFill>
        <p:spPr>
          <a:xfrm>
            <a:off x="3929040" y="928800"/>
            <a:ext cx="5000760" cy="54291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928440"/>
            <a:ext cx="368604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давать объяснение чему-либо, расценивать, истолковывать что-либ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)рассуждать о чём-либо, обсуждать что-либ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A06B-18C4-473D-8266-0E9F1411D5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ижний колонтитул 9"/>
          <p:cNvSpPr/>
          <p:nvPr/>
        </p:nvSpPr>
        <p:spPr>
          <a:xfrm>
            <a:off x="7429680" y="635652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Абсур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Аллитер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Апог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Ассонан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Ваканс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Континге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. Абитурие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8. Инвести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9. Адапт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0. Ассоци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1. Аналог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2. Аллег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3. Оптим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4.Трактов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ижний колонтитул 5"/>
          <p:cNvSpPr/>
          <p:nvPr/>
        </p:nvSpPr>
        <p:spPr>
          <a:xfrm>
            <a:off x="7643880" y="6356520"/>
            <a:ext cx="121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A9E3-F148-4CE9-AC37-B3AD519D08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8" descr="алл.jpg"/>
          <p:cNvPicPr/>
          <p:nvPr/>
        </p:nvPicPr>
        <p:blipFill>
          <a:blip r:embed="rId1"/>
          <a:stretch/>
        </p:blipFill>
        <p:spPr>
          <a:xfrm>
            <a:off x="4714920" y="214200"/>
            <a:ext cx="4138560" cy="5572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404352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торение однородных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согласных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вуков в стихе, фразе, строфе.  Усиливает звуковую и интонационную выразительность стиха: "Шипенье пенистых бокалов и пунша пламень голубой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А. С. Пушкин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BE71-BF93-4BCB-8966-430DDA3B0C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8086680" y="61657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4"/>
          <p:cNvSpPr/>
          <p:nvPr/>
        </p:nvSpPr>
        <p:spPr>
          <a:xfrm>
            <a:off x="714240" y="571680"/>
            <a:ext cx="7858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) Высшая степень, расцвет чего-нибудь (книжн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) Наиболее удаленная от Земли точка орбиты или орбиты искусственного спутника Земл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F6BB-552E-4EAB-8FAB-A56B2DBF6D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ижний колонтитул 6"/>
          <p:cNvSpPr/>
          <p:nvPr/>
        </p:nvSpPr>
        <p:spPr>
          <a:xfrm flipH="1">
            <a:off x="7929000" y="6215040"/>
            <a:ext cx="5000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57440" y="272520"/>
            <a:ext cx="4329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ших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и на мак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ь утро осветило п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леса синие верх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и 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ранц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ы т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 как т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.Ю.Лермон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85480"/>
            <a:ext cx="3828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торение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ласных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звуков в высказывании. В поэзии имеет другие употребления — для описания поэтической фонетики. Так называется рифма, в которой совпадают только ударные гласные звуки, а также повторение в стихе однородных гласных зву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82D6-8CD8-430E-8302-BF7E8B04B6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6215040" y="6356520"/>
            <a:ext cx="2571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4"/>
          <p:cNvSpPr/>
          <p:nvPr/>
        </p:nvSpPr>
        <p:spPr>
          <a:xfrm>
            <a:off x="357120" y="2500200"/>
            <a:ext cx="8215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8" descr="вакансия.jpg"/>
          <p:cNvPicPr/>
          <p:nvPr/>
        </p:nvPicPr>
        <p:blipFill>
          <a:blip r:embed="rId1"/>
          <a:stretch/>
        </p:blipFill>
        <p:spPr>
          <a:xfrm>
            <a:off x="3575160" y="1065240"/>
            <a:ext cx="5111640" cy="4268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30081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)  (от лат. vacans - пустующий - свободный), незамещенная должность в учреждении, учебном завед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)  один из видов структурных дефектов кристаллической решетки -узел кристаллической решетки, в котором отсутствует атом или и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10"/>
          <p:cNvSpPr/>
          <p:nvPr/>
        </p:nvSpPr>
        <p:spPr>
          <a:xfrm>
            <a:off x="4786200" y="6356520"/>
            <a:ext cx="3900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5</a:t>
            </a:r>
            <a:fld id="{3FE3076B-0355-4B0F-808C-65C268E340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ижний колонтитул 11"/>
          <p:cNvSpPr/>
          <p:nvPr/>
        </p:nvSpPr>
        <p:spPr>
          <a:xfrm>
            <a:off x="7429680" y="6356520"/>
            <a:ext cx="1214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4"/>
          <p:cNvSpPr/>
          <p:nvPr/>
        </p:nvSpPr>
        <p:spPr>
          <a:xfrm>
            <a:off x="214200" y="357120"/>
            <a:ext cx="8501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от лат.  - достающийся на долю) 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вокупность людей, образующих однородную в каком-либо отношении группу, категори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становленное для определенных целей предельное количество, норма чего-либо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B311-0A74-4A6D-8730-9336FB7C38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ижний колонтитул 6"/>
          <p:cNvSpPr/>
          <p:nvPr/>
        </p:nvSpPr>
        <p:spPr>
          <a:xfrm>
            <a:off x="6643800" y="6356520"/>
            <a:ext cx="221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7" descr="абитуриент.jpg"/>
          <p:cNvPicPr/>
          <p:nvPr/>
        </p:nvPicPr>
        <p:blipFill>
          <a:blip r:embed="rId1"/>
          <a:stretch/>
        </p:blipFill>
        <p:spPr>
          <a:xfrm>
            <a:off x="5500800" y="571680"/>
            <a:ext cx="342900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85480"/>
            <a:ext cx="49006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от новолат. abituriens - собирающийся уходить) - в большинстве стран - оканчивающий среднее учебное заведение. В России (традиционно) -поступающий в высшее учебное заведени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4D00-21CB-44A5-9988-2920151038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ижний колонтитул 9"/>
          <p:cNvSpPr/>
          <p:nvPr/>
        </p:nvSpPr>
        <p:spPr>
          <a:xfrm>
            <a:off x="550080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7" descr="ин.jpg"/>
          <p:cNvPicPr/>
          <p:nvPr/>
        </p:nvPicPr>
        <p:blipFill>
          <a:blip r:embed="rId1"/>
          <a:stretch/>
        </p:blipFill>
        <p:spPr>
          <a:xfrm>
            <a:off x="5072040" y="285840"/>
            <a:ext cx="3614760" cy="6215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85480"/>
            <a:ext cx="447192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лгосрочные вложения капитала в отрасли экономики внутри страны и за границей. Различают финансовые (покупка ценных бумаг) и реальные (вложение капитала в промышленность, сельское хозяйство, строительство и др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67DC-76A3-424F-9D9B-F0F8C7F895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ижний колонтитул 9"/>
          <p:cNvSpPr/>
          <p:nvPr/>
        </p:nvSpPr>
        <p:spPr>
          <a:xfrm>
            <a:off x="8001000" y="6356520"/>
            <a:ext cx="785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ижний колонтитул 1"/>
          <p:cNvSpPr/>
          <p:nvPr/>
        </p:nvSpPr>
        <p:spPr>
          <a:xfrm>
            <a:off x="7572240" y="6356520"/>
            <a:ext cx="1214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928C-FA1C-43C2-9137-9514DC8055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285840" y="285840"/>
            <a:ext cx="87152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от средневекового лат. adaptatio - приспособление) - в биологии- совокупность морфофизиологических, поведенческих, популяционных и др.особенностей биологического вида, обеспечивающая возможность специфического образа жизни особей в определенных условиях внешней среды. Так называется и сам процесс выработки приспособлений. В физиологии, медицине обозначает также процесс привык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)   процесс взаимодействия личности или социальной группы со средой социальной; включает усвоение норм и ценностей среды в процессе социализации, а также изменение, преобразование среды в соответствии с новыми условиями и целями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07:16:37Z</dcterms:created>
  <dc:creator>Admin</dc:creator>
  <dc:description/>
  <dc:language>en-US</dc:language>
  <cp:lastModifiedBy>Admin</cp:lastModifiedBy>
  <dcterms:modified xsi:type="dcterms:W3CDTF">2011-10-02T09:46:33Z</dcterms:modified>
  <cp:revision>15</cp:revision>
  <dc:subject/>
  <dc:title> Нелепость,бесcмыслица</dc:title>
</cp:coreProperties>
</file>