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E8BF-DB50-4011-95B0-967C6C62D0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D34A-DCD0-4F60-9488-30EE88C8ED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053-69E3-41D1-B689-9B09168A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D3D-D154-41D3-A6B2-2A01E440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457-F3E8-4984-84F9-A652E88F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32C-3EBE-4890-848E-323EAF4C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220-78F0-4A10-8F69-5E07FACD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C1A-914C-457D-8145-D68CD034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603-E41C-4DB5-B668-F54DFCD9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9AE-591D-4E97-AF36-713F3E5B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44D-99C5-4C08-8445-141175FB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61A-EF0B-4B97-ADAC-0EF5D8CF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7F3-09D9-4A42-9D63-992DC02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91D-0F31-4E8B-B330-D9884E9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7E18-D2B7-4635-B5B9-F079D051F1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F0B4-61DD-44BE-BDF8-ED612A9C0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300816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6" descr="абсурд.jpg"/>
          <p:cNvPicPr/>
          <p:nvPr/>
        </p:nvPicPr>
        <p:blipFill>
          <a:blip r:embed="rId1"/>
          <a:stretch/>
        </p:blipFill>
        <p:spPr>
          <a:xfrm>
            <a:off x="4214880" y="428760"/>
            <a:ext cx="4500360" cy="5500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3614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лепость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с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ыс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10"/>
          <p:cNvSpPr/>
          <p:nvPr/>
        </p:nvSpPr>
        <p:spPr>
          <a:xfrm>
            <a:off x="7786800" y="6356520"/>
            <a:ext cx="90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1</a:t>
            </a:r>
            <a:fld id="{EEBF8F43-E5B9-4208-810E-2057267B5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EE3449A8-4A25-46CD-9F22-5F1B94F614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ижний колонтитул 11"/>
          <p:cNvSpPr/>
          <p:nvPr/>
        </p:nvSpPr>
        <p:spPr>
          <a:xfrm>
            <a:off x="5643720" y="6356520"/>
            <a:ext cx="37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7" descr="ас.jpg"/>
          <p:cNvPicPr/>
          <p:nvPr/>
        </p:nvPicPr>
        <p:blipFill>
          <a:blip r:embed="rId1"/>
          <a:stretch/>
        </p:blipFill>
        <p:spPr>
          <a:xfrm>
            <a:off x="5500800" y="357120"/>
            <a:ext cx="3429000" cy="5500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85480"/>
            <a:ext cx="4971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союз, объедин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 в психологии - связь, возникающая при определенных условиях между двумя или более психическими образованиями (ощущениями, двигательными актами, восприятиями, идеями и т. п.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8D1E-3484-4288-ABA7-D6469C53F6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9"/>
          <p:cNvSpPr/>
          <p:nvPr/>
        </p:nvSpPr>
        <p:spPr>
          <a:xfrm>
            <a:off x="80722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7" descr="аналог.jpg"/>
          <p:cNvPicPr/>
          <p:nvPr/>
        </p:nvPicPr>
        <p:blipFill>
          <a:blip r:embed="rId1"/>
          <a:stretch/>
        </p:blipFill>
        <p:spPr>
          <a:xfrm>
            <a:off x="5572080" y="857160"/>
            <a:ext cx="3357720" cy="4143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428400"/>
            <a:ext cx="53294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 греч. - соответствие - сходство), сходство предметов(явлений, процессов) в каких-либо свойствах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A263-841F-4BF3-9F44-A9D45870EB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ижний колонтитул 9"/>
          <p:cNvSpPr/>
          <p:nvPr/>
        </p:nvSpPr>
        <p:spPr>
          <a:xfrm>
            <a:off x="7929720" y="635652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7" descr="basni.jpg"/>
          <p:cNvPicPr/>
          <p:nvPr/>
        </p:nvPicPr>
        <p:blipFill>
          <a:blip r:embed="rId1"/>
          <a:stretch/>
        </p:blipFill>
        <p:spPr>
          <a:xfrm>
            <a:off x="5572080" y="214200"/>
            <a:ext cx="3429000" cy="62150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5114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осказание - изображение отвлеченной идеи(понятия) посредством образа. Смысл  иносказания однозначен и отделен от образа; связь между значением и образом  устанавливается по сходству (лев - сила, власть или царственность). Используется в баснях, притчах, моралите; в изобразительном искусстве выражается определенными атрибутами (правосудие - женщина с весами). Наиболее характерна для средневекового искус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F1EB-6941-4BE8-8DF7-878A9AD54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ижний колонтитул 9"/>
          <p:cNvSpPr/>
          <p:nvPr/>
        </p:nvSpPr>
        <p:spPr>
          <a:xfrm>
            <a:off x="821520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7" descr="опт.jpg"/>
          <p:cNvPicPr/>
          <p:nvPr/>
        </p:nvPicPr>
        <p:blipFill>
          <a:blip r:embed="rId1"/>
          <a:stretch/>
        </p:blipFill>
        <p:spPr>
          <a:xfrm>
            <a:off x="4929120" y="500040"/>
            <a:ext cx="3757680" cy="5643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45435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от лат.  - наилучший) - представление о том, что в мире господствует положительное начало, добро. Противоположность - пессимиз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8246-D954-4484-B8CE-848AA6A65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ижний колонтитул 9"/>
          <p:cNvSpPr/>
          <p:nvPr/>
        </p:nvSpPr>
        <p:spPr>
          <a:xfrm>
            <a:off x="7286760" y="6356520"/>
            <a:ext cx="157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7" descr="тр.jpg"/>
          <p:cNvPicPr/>
          <p:nvPr/>
        </p:nvPicPr>
        <p:blipFill>
          <a:blip r:embed="rId1"/>
          <a:stretch/>
        </p:blipFill>
        <p:spPr>
          <a:xfrm>
            <a:off x="3929040" y="928800"/>
            <a:ext cx="5000760" cy="5429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928440"/>
            <a:ext cx="36860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давать объяснение чему-либо, расценивать, истолковывать что-либ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рассуждать о чём-либо, обсуждать что-либ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124E-1E52-4F4E-AC8D-9CA192811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ижний колонтитул 9"/>
          <p:cNvSpPr/>
          <p:nvPr/>
        </p:nvSpPr>
        <p:spPr>
          <a:xfrm>
            <a:off x="7429680" y="635652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Абсур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Аллите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Апог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Ассонан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Вакан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Континг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Абитури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Инвести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. Адапт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. Ассоци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1. Анало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. Аллег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3. Оптим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4.Тракто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ижний колонтитул 5"/>
          <p:cNvSpPr/>
          <p:nvPr/>
        </p:nvSpPr>
        <p:spPr>
          <a:xfrm>
            <a:off x="7643880" y="6356520"/>
            <a:ext cx="121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F0A6-4847-48E3-A859-499B6FEA7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8" descr="алл.jpg"/>
          <p:cNvPicPr/>
          <p:nvPr/>
        </p:nvPicPr>
        <p:blipFill>
          <a:blip r:embed="rId1"/>
          <a:stretch/>
        </p:blipFill>
        <p:spPr>
          <a:xfrm>
            <a:off x="4714920" y="214200"/>
            <a:ext cx="413856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40435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торение однородных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огласны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уков в стихе, фразе, строфе.  Усиливает звуковую и интонационную выразительность стиха: "Шипенье пенистых бокалов и пунша пламень голубой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А. С. Пушкин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2F7E-4F74-4D68-A3BA-6A326EE923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8086680" y="6165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714240" y="571680"/>
            <a:ext cx="785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) Высшая степень, расцвет чего-нибудь (книжн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) Наиболее удаленная от Земли точка орбиты или орбиты искусственного спутника Зем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5046-0D2E-4D90-AB48-CD91DB7F2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6"/>
          <p:cNvSpPr/>
          <p:nvPr/>
        </p:nvSpPr>
        <p:spPr>
          <a:xfrm flipH="1">
            <a:off x="7929000" y="6215040"/>
            <a:ext cx="5000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7440" y="272520"/>
            <a:ext cx="4329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ших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и на мак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ь утро осветило п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леса синие верх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и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ранц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ы т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 как т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.Ю.Лермо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3828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торени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ласных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звуков в высказывании. В поэзии имеет другие употребления — для описания поэтической фонетики. Так называется рифма, в которой совпадают только ударные гласные звуки, а также повторение в стихе однородных гласных зву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2E75-9A6C-4333-ACED-86D4F734C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6215040" y="6356520"/>
            <a:ext cx="257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357120" y="2500200"/>
            <a:ext cx="8215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8" descr="вакансия.jpg"/>
          <p:cNvPicPr/>
          <p:nvPr/>
        </p:nvPicPr>
        <p:blipFill>
          <a:blip r:embed="rId1"/>
          <a:stretch/>
        </p:blipFill>
        <p:spPr>
          <a:xfrm>
            <a:off x="3575160" y="1065240"/>
            <a:ext cx="5111640" cy="4268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300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 (от лат. vacans - пустующий - свободный), незамещенная должность в учреждении, учебном завед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  один из видов структурных дефектов кристаллической решетки -узел кристаллической решетки, в котором отсутствует атом или и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10"/>
          <p:cNvSpPr/>
          <p:nvPr/>
        </p:nvSpPr>
        <p:spPr>
          <a:xfrm>
            <a:off x="4786200" y="6356520"/>
            <a:ext cx="390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5</a:t>
            </a:r>
            <a:fld id="{670CFAA9-8695-4ACE-A2E0-0EC73EBA8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11"/>
          <p:cNvSpPr/>
          <p:nvPr/>
        </p:nvSpPr>
        <p:spPr>
          <a:xfrm>
            <a:off x="7429680" y="6356520"/>
            <a:ext cx="121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4"/>
          <p:cNvSpPr/>
          <p:nvPr/>
        </p:nvSpPr>
        <p:spPr>
          <a:xfrm>
            <a:off x="214200" y="357120"/>
            <a:ext cx="850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от лат.  - достающийся на долю) 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вокупность людей, образующих однородную в каком-либо отношении группу, категори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становленное для определенных целей предельное количество, норма чего-либо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5614-781A-49A4-A9A8-647349F21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6643800" y="6356520"/>
            <a:ext cx="22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7" descr="абитуриент.jpg"/>
          <p:cNvPicPr/>
          <p:nvPr/>
        </p:nvPicPr>
        <p:blipFill>
          <a:blip r:embed="rId1"/>
          <a:stretch/>
        </p:blipFill>
        <p:spPr>
          <a:xfrm>
            <a:off x="5500800" y="571680"/>
            <a:ext cx="34290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480"/>
            <a:ext cx="4900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от новолат. abituriens - собирающийся уходить) - в большинстве стран - оканчивающий среднее учебное заведение. В России (традиционно) -поступающий в высшее учебное завед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0377-1B5B-4160-BA0B-A981D715D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ижний колонтитул 9"/>
          <p:cNvSpPr/>
          <p:nvPr/>
        </p:nvSpPr>
        <p:spPr>
          <a:xfrm>
            <a:off x="550080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7" descr="ин.jpg"/>
          <p:cNvPicPr/>
          <p:nvPr/>
        </p:nvPicPr>
        <p:blipFill>
          <a:blip r:embed="rId1"/>
          <a:stretch/>
        </p:blipFill>
        <p:spPr>
          <a:xfrm>
            <a:off x="5072040" y="285840"/>
            <a:ext cx="3614760" cy="6215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44719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лгосрочные вложения капитала в отрасли экономики внутри страны и за границей. Различают финансовые (покупка ценных бумаг) и реальные (вложение капитала в промышленность, сельское хозяйство, строительство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1CC9-8B5E-4DC8-B722-6C631FB36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ижний колонтитул 9"/>
          <p:cNvSpPr/>
          <p:nvPr/>
        </p:nvSpPr>
        <p:spPr>
          <a:xfrm>
            <a:off x="8001000" y="6356520"/>
            <a:ext cx="78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ижний колонтитул 1"/>
          <p:cNvSpPr/>
          <p:nvPr/>
        </p:nvSpPr>
        <p:spPr>
          <a:xfrm>
            <a:off x="7572240" y="6356520"/>
            <a:ext cx="1214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F21C-14B9-4D4D-B5BF-B443CF6EB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285840" y="285840"/>
            <a:ext cx="8715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от средневекового лат. adaptatio - приспособление) - в биологии- совокупность морфофизиологических, поведенческих, популяционных и др.особенностей биологического вида, обеспечивающая возможность специфического образа жизни особей в определенных условиях внешней среды. Так называется и сам процесс выработки приспособлений. В физиологии, медицине обозначает также процесс привык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  процесс взаимодействия личности или социальной группы со средой социальной; включает усвоение норм и ценностей среды в процессе социализации, а также изменение, преобразование среды в соответствии с новыми условиями и целями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07:16:37Z</dcterms:created>
  <dc:creator>Admin</dc:creator>
  <dc:description/>
  <dc:language>en-US</dc:language>
  <cp:lastModifiedBy>Admin</cp:lastModifiedBy>
  <dcterms:modified xsi:type="dcterms:W3CDTF">2011-10-02T09:46:33Z</dcterms:modified>
  <cp:revision>15</cp:revision>
  <dc:subject/>
  <dc:title> Нелепость,бесcмыслица</dc:title>
</cp:coreProperties>
</file>