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88A-F70A-4457-B63C-4325B244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E6F-9993-4A6F-920A-044085E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1C7-D14D-4D6F-B67A-8620B2B2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DE6-B48E-4D56-873B-7AF07195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B86B-2976-4FFB-AAB7-FB8B6775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E149-8F3B-4157-A646-39EA7E0C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105-8390-4DBA-8864-C55FF649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405F-5782-48ED-AF91-E047AC9E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D49A-CF0E-4CE8-8E40-A3A72BE3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683-C5A6-4729-81BF-D0B5A366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01A-4ED5-4092-8E58-5FAD8CB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E9C-B3A5-4775-874A-341DF9E3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2E29-6780-4ACC-B2AF-260347A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FEE2-BDC0-4151-892E-59AC162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528-C5B1-448E-9D46-649B85F3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DA38-654F-4023-9A58-808B043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56D-1433-4C65-B715-DBCB53A1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6E62-C1C8-42A3-B44A-BDBB906E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F5ED-CC4D-44F1-A21B-6EDC14D9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3F0F-94E0-4197-AF1D-FB7AF5F7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BAD5-15FE-421E-A0AB-83FF98E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8926-995B-414B-A222-7BC1791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E5B-7CA8-47F5-8EB6-B15FA43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99A3-93AC-419F-AF74-7AAC05AB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602D-A058-4D69-BC2E-0A7DBA9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2344-8E52-479F-A3C6-51B9F550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EFC9-CF69-4866-B772-76EAA99B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6601-F4EF-4BE3-9153-5377CE8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0A8A-65DD-4B4D-B5E1-7C6AE566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22E3-8617-4250-BCD8-A264B1B5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97E-065C-4BFF-9757-3457D5AB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650-F051-417E-BF04-8132B76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6FC-4F48-4145-9B32-5215525C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76D-0894-40D8-A937-E51B4FB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540-E066-4D95-98F4-8E91F71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762-25C1-4289-AC82-E5010D69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A668-0C6D-4020-9D55-F1998AC41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DDF4-3017-46BE-8D9A-642B520C63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5B2-7061-41B6-8D1E-9D400D93A9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Использование интернет – ресурсов на уроках немецкого язы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74152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йлова Надежда Владимиро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немец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Васюковская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жецкого райо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ер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users.skynet.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e/bd/pe/d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даются всевозможные страноведческие зада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Europäischer Spaziergang”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лицы, флаги, географическое положение, история, культура, гимны и т. д.). Здесь не только Германия, а все страны Европы, задания и все варианты ответов на немецком я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C:\Program Files\Microsoft Office\MEDIA\CAGCAT10\j0234657.wmf"/>
          <p:cNvPicPr/>
          <p:nvPr/>
        </p:nvPicPr>
        <p:blipFill>
          <a:blip r:embed="rId1"/>
          <a:stretch/>
        </p:blipFill>
        <p:spPr>
          <a:xfrm>
            <a:off x="6072120" y="4786200"/>
            <a:ext cx="2214720" cy="20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8543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ffff"/>
                </a:solidFill>
                <a:latin typeface="Tahoma"/>
              </a:rPr>
              <a:t>Интернет предоставляет очень много дополнительных возможностей для изучения и преподавания немецкого языка.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428480"/>
            <a:ext cx="4495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Для обучающихся э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работа с оригинальными текст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интересные материал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самостоятельного поиска необходимой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работы с аудио и видео материал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самостоятельного контроля своих зн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428840"/>
            <a:ext cx="4495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Для учителей э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поиска необходимой информации по любой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повышение заинтересованности обучающихся в изучении немецкого язы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работка лексики и граммат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наглядность предлагаемого мате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99920" y="272520"/>
            <a:ext cx="5643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ирная сеть, электронные образовательные ресурсы могут стать хорошим подспорьем как учителю, так и учени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Интернет на уроке вносит разнообразие в учебный процес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Его использование усиливает мотивацию к изучению 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C:\Program Files\Microsoft Office\MEDIA\CAGCAT10\j0287005.wmf"/>
          <p:cNvPicPr/>
          <p:nvPr/>
        </p:nvPicPr>
        <p:blipFill>
          <a:blip r:embed="rId1"/>
          <a:stretch/>
        </p:blipFill>
        <p:spPr>
          <a:xfrm>
            <a:off x="142920" y="214200"/>
            <a:ext cx="3286080" cy="6000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сурс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урнал «Иностранные языки в школе», №6, 2007 год. (Макаревич И. Г. «Первые шаги в Интернете» с.36-4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урнал «Иностранные языки в школе», №2, 2006 год. (Макаревич И. Г. «Интернет в начальной школе» с.38-4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214200"/>
            <a:ext cx="878688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использование компьютера в повседневной жизни становится нормой. Каждая школа имеет компьютерные классы и использует возможности электронных средств обучения на различных уроках. Наиболее актуальным и необходимым является умение работать в сети Интер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нет обладает колоссальными информационными возможностями. Обучающиеся могут пользоваться аутентичными текстами, слушать, а также общаться с носителями языка, т.е. они попадают в живую языковую среду. Основная цель предмета «иностранный язык» – формирование коммуникативной компетенции, которая предусматривает развитие способностей к межкультурному взаимодействию, что особенно актуально в связи с увеличением международных контак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нет может быть использован на уроке немецкого языка для следующих цел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включения материалов сети в содержание уро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самостоятельного поиска обучающимися необходимой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ликвидации пробелов в знаниях, умениях и навык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общения со сверстниками из стран, говорящих на данном язык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поддержания интереса к предм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Интернета в обучении ИЯ даёт возможность ученикам экспериментировать и наглядно видеть свои первые успех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 отметить и такой немаловажный аспект при работе с ресурсами Интернета как тот, что «ученики могут работать в собственном временном ритме. Кроме того, это даёт возможность самостоятельной работы по предмету и самостоятельного управления процессом обучения»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214200" y="1428840"/>
            <a:ext cx="3286080" cy="335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65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9720"/>
            <a:ext cx="4038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йты, которые можно использовать на уроках немецкого языка, можно разделить на следующ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сайты для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сайты для подрост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грамматические сай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сайты по страноведению.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4714920" y="1214280"/>
            <a:ext cx="4143240" cy="4286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deutsch-lernen.at.ua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57440" y="999720"/>
            <a:ext cx="4786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дарты деловой переписки в Германии (как писать правильно письмо, как обратиться к малознакомому человеку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hr geehrter Herr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Статьи о Германии: о литературе, этикет, географическое положение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Земли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Фотоальбом: достопримечательности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0" y="178596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deutsch-lernen-mit.narod.ru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5714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В рубрике «Грамматика»: алфавит немецкий в картинках и стихах для детей; основные правила чтения; теория по темам глагол, имя существительное, артикль, прилагательное, местоимения, предлог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В рубрике «Словарный запас» представлена лексика по алфавиту и по темам: цвета, одежда, месяцы, погода, семья, фрукты, дни недели, праздники и т. 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0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В рубрике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eversteh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– тексты на немецком языке для чтения. Тексты даны с переводами и к  каждому тексту есть подборка словарного запа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Послов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Упражнения – на различные грамматические 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Экзамен – об ЕГЭ по немец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C:\Program Files\Microsoft Office\MEDIA\CAGCAT10\j0300520.gif"/>
          <p:cNvPicPr/>
          <p:nvPr/>
        </p:nvPicPr>
        <p:blipFill>
          <a:blip r:embed="rId1"/>
          <a:stretch/>
        </p:blipFill>
        <p:spPr>
          <a:xfrm>
            <a:off x="6143760" y="5000760"/>
            <a:ext cx="1785960" cy="157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zzzebra.d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2920" y="1071720"/>
            <a:ext cx="885816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граммы по немец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Сценарий праздника во 2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Структура портфолио уч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Анализ урока немецкого я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Грамм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Тексты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lin, Zwinger, Berliner Zoo, Goethe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Анкеты дл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Презентации, контрольные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Сайты, развивающие знания по немец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5:54:29Z</dcterms:created>
  <dc:creator>Рома</dc:creator>
  <dc:description/>
  <dc:language>en-US</dc:language>
  <cp:lastModifiedBy>Admin</cp:lastModifiedBy>
  <dcterms:modified xsi:type="dcterms:W3CDTF">2012-08-26T12:52:11Z</dcterms:modified>
  <cp:revision>24</cp:revision>
  <dc:subject/>
  <dc:title>Подготовка к ЕГЭ</dc:title>
</cp:coreProperties>
</file>