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AA99-6C3E-4D56-B20D-9EED2F8E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9E7-CD37-4356-B181-5E61C5B1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93F-FBFC-45BE-8280-DED12253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7AA-8B9A-4682-83F4-537E530B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A272-6515-4C7B-8767-89E994E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4DE8-FD7A-4CBE-9D17-FF13931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FCC2-1474-4159-B06F-4673A630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F231-7DC8-450F-8AC2-0A138C29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20FB-1852-4E7B-9D72-F1DB4048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7DAE-C9A4-4535-B03B-581CF4EC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AB6E-5EC3-4E76-BD10-A22111DD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EDB-8869-41C0-A4E0-82080CA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A2C-09C9-497B-A803-7F709B2A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EF41-02BD-406D-82F1-064676F3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5043-D39A-4390-8703-C5E3710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DED9-3E37-47C0-AF31-CEB2F9B5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2674-D3A0-4EB3-BF54-A9A87E86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6ACA-CA0C-4343-89BA-838D5307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C8D3-F7F3-45D5-837F-F0574CE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C1B5-6834-43F3-98D7-B5F55370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F824-9D93-4E20-8F3D-03BDA1C6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031A-21A2-469C-BBDC-F3781A6D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13A-AA32-446F-8A6E-EA4DBF8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74B9-8AB1-4EBD-B233-8FCC1AD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AD44-224B-472F-B22B-A06EA6F8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1819-DB44-4CAA-A152-38C15A0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97B4-5EC0-4FC6-B401-8761D56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60A7-6825-4F99-9426-C47E840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5B95-2ECC-4415-A204-0036EBE0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1B1E-CAA2-4637-8EEF-B410E92A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350-1869-40E8-A49E-896E1358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FA2-F6C8-499C-A4DF-B780CF9D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F5B-56FF-4E6A-B0E8-EB527921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2EC-B69B-4E5D-A5BD-D356AA8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E34-34C7-4BB2-BA63-D2067FB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56E-1D32-4BE9-9F20-8192237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9AF1-1E09-4103-A43B-E8C565549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1D67-8D06-4B2D-8996-2B71DBC3DEF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6B6-9914-410B-98FB-5A21DC8805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Использование интернет – ресурсов на уроках немецкого язы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74152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йлова Надежда Владимиро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немец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Васюковская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жецкого райо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ер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users.skynet.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be/bd/pe/d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даются всевозможные страноведческие зада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Europäischer Spaziergang”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лицы, флаги, географическое положение, история, культура, гимны и т. д.). Здесь не только Германия, а все страны Европы, задания и все варианты ответов на немецком я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C:\Program Files\Microsoft Office\MEDIA\CAGCAT10\j0234657.wmf"/>
          <p:cNvPicPr/>
          <p:nvPr/>
        </p:nvPicPr>
        <p:blipFill>
          <a:blip r:embed="rId1"/>
          <a:stretch/>
        </p:blipFill>
        <p:spPr>
          <a:xfrm>
            <a:off x="6072120" y="4786200"/>
            <a:ext cx="2214720" cy="207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8543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ffff"/>
                </a:solidFill>
                <a:latin typeface="Tahoma"/>
              </a:rPr>
              <a:t>Интернет предоставляет очень много дополнительных возможностей для изучения и преподавания немецкого языка.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428480"/>
            <a:ext cx="4495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Для обучающихся э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работа с оригинальными текст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интересные материал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самостоятельного поиска необходимой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работы с аудио и видео материал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самостоятельного контроля своих зн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428840"/>
            <a:ext cx="4495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Для учителей эт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возможность поиска необходимой информации по любой те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повышение заинтересованности обучающихся в изучении немецкого язы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работка лексики и граммат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наглядность предлагаемого матери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99920" y="272520"/>
            <a:ext cx="5643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мирная сеть, электронные образовательные ресурсы могут стать хорошим подспорьем как учителю, так и учени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Tahoma"/>
              </a:rPr>
              <a:t>Интернет на уроке вносит разнообразие в учебный процес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Tahoma"/>
              </a:rPr>
              <a:t>Его использование усиливает мотивацию к изучению 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C:\Program Files\Microsoft Office\MEDIA\CAGCAT10\j0287005.wmf"/>
          <p:cNvPicPr/>
          <p:nvPr/>
        </p:nvPicPr>
        <p:blipFill>
          <a:blip r:embed="rId1"/>
          <a:stretch/>
        </p:blipFill>
        <p:spPr>
          <a:xfrm>
            <a:off x="142920" y="214200"/>
            <a:ext cx="3286080" cy="6000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сурс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урнал «Иностранные языки в школе», №6, 2007 год. (Макаревич И. Г. «Первые шаги в Интернете» с.36-4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урнал «Иностранные языки в школе», №2, 2006 год. (Макаревич И. Г. «Интернет в начальной школе» с.38-4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7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214200"/>
            <a:ext cx="878688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использование компьютера в повседневной жизни становится нормой. Каждая школа имеет компьютерные классы и использует возможности электронных средств обучения на различных уроках. Наиболее актуальным и необходимым является умение работать в сети Интер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тернет обладает колоссальными информационными возможностями. Обучающиеся могут пользоваться аутентичными текстами, слушать, а также общаться с носителями языка, т.е. они попадают в живую языковую среду. Основная цель предмета «иностранный язык» – формирование коммуникативной компетенции, которая предусматривает развитие способностей к межкультурному взаимодействию, что особенно актуально в связи с увеличением международных контак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нет может быть использован на уроке немецкого языка для следующих цел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включения материалов сети в содержание уро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самостоятельного поиска обучающимися необходимой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ликвидации пробелов в знаниях, умениях и навык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общения со сверстниками из стран, говорящих на данном язык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для поддержания интереса к предме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Интернета в обучении ИЯ даёт возможность ученикам экспериментировать и наглядно видеть свои первые успех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жно отметить и такой немаловажный аспект при работе с ресурсами Интернета как тот, что «ученики могут работать в собственном временном ритме. Кроме того, это даёт возможность самостоятельной работы по предмету и самостоятельного управления процессом обучения»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214200" y="1428840"/>
            <a:ext cx="3286080" cy="335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65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9720"/>
            <a:ext cx="40384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йты, которые можно использовать на уроках немецкого языка, можно разделить на следующ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сайты для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сайты для подрост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грамматические сай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* сайты по страноведению.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4714920" y="1214280"/>
            <a:ext cx="4143240" cy="4286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deutsch-lernen.at.ua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57440" y="999720"/>
            <a:ext cx="4786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дарты деловой переписки в Германии (как писать правильно письмо, как обратиться к малознакомому человеку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hr geehrter Herr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Статьи о Германии: о литературе, этикет, географическое положение и т. 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Земли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Фотоальбом: достопримечательности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0" y="1785960"/>
            <a:ext cx="4286160" cy="314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deutsch-lernen-mit.narod.ru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5714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В рубрике «Грамматика»: алфавит немецкий в картинках и стихах для детей; основные правила чтения; теория по темам глагол, имя существительное, артикль, прилагательное, местоимения, предлог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В рубрике «Словарный запас» представлена лексика по алфавиту и по темам: цвета, одежда, месяцы, погода, семья, фрукты, дни недели, праздники и т. 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0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В рубрике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everstehe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– тексты на немецком языке для чтения. Тексты даны с переводами и к  каждому тексту есть подборка словарного запа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Послови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Упражнения – на различные грамматические 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Экзамен – об ЕГЭ по немец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C:\Program Files\Microsoft Office\MEDIA\CAGCAT10\j0300520.gif"/>
          <p:cNvPicPr/>
          <p:nvPr/>
        </p:nvPicPr>
        <p:blipFill>
          <a:blip r:embed="rId1"/>
          <a:stretch/>
        </p:blipFill>
        <p:spPr>
          <a:xfrm>
            <a:off x="6143760" y="5000760"/>
            <a:ext cx="1785960" cy="1571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www.zzzebra.de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2920" y="1071720"/>
            <a:ext cx="885816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рограммы по немец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Сценарий праздника во 2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Структура портфолио уч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Анализ урока немецкого я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Грамма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Тексты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lin, Zwinger, Berliner Zoo, Goethe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Анкеты дл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Презентации, контрольные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 Сайты, развивающие знания по немецкому язы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5:54:29Z</dcterms:created>
  <dc:creator>Рома</dc:creator>
  <dc:description/>
  <dc:language>en-US</dc:language>
  <cp:lastModifiedBy>Admin</cp:lastModifiedBy>
  <dcterms:modified xsi:type="dcterms:W3CDTF">2012-08-26T12:52:11Z</dcterms:modified>
  <cp:revision>24</cp:revision>
  <dc:subject/>
  <dc:title>Подготовка к ЕГЭ</dc:title>
</cp:coreProperties>
</file>