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19C-4EC4-4D41-B3E7-80EDDF58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0BF-FB59-4845-99AD-BE2B5B4B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7E9-D5AD-4AED-98B7-F53051F7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E3B-3D7A-4282-95FF-8B9C1BC2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C10-C0EE-4BF9-8138-17C7060E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E9A-5D30-4A89-AE5F-F993240C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5D3-4B0C-4A59-AE87-CBC847FC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7C3-6E26-4BFF-9103-5724C3AC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EDA-04CD-4F6A-9EE6-8EB0E961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638-B278-4958-82A9-B7D34DDA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CBB-FBD4-4B50-AE47-68DAD5B6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BA9-E8CA-4380-B242-F1C97C34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9DF-BCF4-420C-84FB-EB7E2A8A4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95120" y="566640"/>
            <a:ext cx="892980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001.jpg"/>
          <p:cNvPicPr/>
          <p:nvPr/>
        </p:nvPicPr>
        <p:blipFill>
          <a:blip r:embed="rId2"/>
          <a:stretch/>
        </p:blipFill>
        <p:spPr>
          <a:xfrm>
            <a:off x="2124000" y="2781360"/>
            <a:ext cx="4759560" cy="356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108000" y="404640"/>
            <a:ext cx="4248000" cy="64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4572000" y="404640"/>
            <a:ext cx="4392720" cy="64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ариц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108000" y="1700280"/>
            <a:ext cx="4248000" cy="144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азвания единич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572000" y="1700280"/>
            <a:ext cx="4392720" cy="1441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азвания однородн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08000" y="3573360"/>
            <a:ext cx="4248000" cy="1584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Ен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4572000" y="3573360"/>
            <a:ext cx="4392720" cy="1584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Стрелка вниз 8"/>
          <p:cNvGrpSpPr/>
          <p:nvPr/>
        </p:nvGrpSpPr>
        <p:grpSpPr>
          <a:xfrm>
            <a:off x="1341360" y="1158840"/>
            <a:ext cx="1700280" cy="541440"/>
            <a:chOff x="1341360" y="1158840"/>
            <a:chExt cx="1700280" cy="541440"/>
          </a:xfrm>
        </p:grpSpPr>
        <p:pic>
          <p:nvPicPr>
            <p:cNvPr id="121" name="Стрелка вниз 8" descr=""/>
            <p:cNvPicPr/>
            <p:nvPr/>
          </p:nvPicPr>
          <p:blipFill>
            <a:blip r:embed="rId1"/>
            <a:stretch/>
          </p:blipFill>
          <p:spPr>
            <a:xfrm>
              <a:off x="1341360" y="1158840"/>
              <a:ext cx="17002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800360" y="1197000"/>
              <a:ext cx="792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Стрелка вниз 9"/>
          <p:cNvGrpSpPr/>
          <p:nvPr/>
        </p:nvGrpSpPr>
        <p:grpSpPr>
          <a:xfrm>
            <a:off x="6022800" y="1158840"/>
            <a:ext cx="1554480" cy="541440"/>
            <a:chOff x="6022800" y="1158840"/>
            <a:chExt cx="1554480" cy="541440"/>
          </a:xfrm>
        </p:grpSpPr>
        <p:pic>
          <p:nvPicPr>
            <p:cNvPr id="124" name="Стрелка вниз 9" descr=""/>
            <p:cNvPicPr/>
            <p:nvPr/>
          </p:nvPicPr>
          <p:blipFill>
            <a:blip r:embed="rId2"/>
            <a:stretch/>
          </p:blipFill>
          <p:spPr>
            <a:xfrm>
              <a:off x="6022800" y="1158840"/>
              <a:ext cx="15544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43640" y="1197000"/>
              <a:ext cx="720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Заголовок 1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Bookman Old Style"/>
              </a:rPr>
              <a:t>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907920"/>
          <a:ext cx="8856720" cy="329256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.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ж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ж.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онч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а (-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    , -о (-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юно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я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я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ыш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о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28" name="Прямоугольник 4"/>
          <p:cNvSpPr/>
          <p:nvPr/>
        </p:nvSpPr>
        <p:spPr>
          <a:xfrm>
            <a:off x="4932360" y="2708280"/>
            <a:ext cx="36036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7812000" y="2708280"/>
            <a:ext cx="360360" cy="21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468360" y="189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Bookman Old Style"/>
              </a:rPr>
              <a:t>Разносклоняемые существите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826920" y="1773360"/>
            <a:ext cx="309744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Bookman Old Style"/>
              </a:rPr>
              <a:t>Оконч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Bookman Old Style"/>
              </a:rPr>
              <a:t>2 и 3 скло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5219640" y="1700280"/>
            <a:ext cx="309744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Bookman Old Style"/>
              </a:rPr>
              <a:t>Суффикс –ен- в косвенных падеж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5"/>
          <p:cNvCxnSpPr/>
          <p:nvPr/>
        </p:nvCxnSpPr>
        <p:spPr>
          <a:xfrm flipH="1">
            <a:off x="2700000" y="907560"/>
            <a:ext cx="1728000" cy="793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4" name="Прямая со стрелкой 8"/>
          <p:cNvCxnSpPr/>
          <p:nvPr/>
        </p:nvCxnSpPr>
        <p:spPr>
          <a:xfrm>
            <a:off x="4779720" y="907920"/>
            <a:ext cx="1664280" cy="7214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135" name="Рисунок 12" descr="001.jpg"/>
          <p:cNvPicPr/>
          <p:nvPr/>
        </p:nvPicPr>
        <p:blipFill>
          <a:blip r:embed="rId1"/>
          <a:stretch/>
        </p:blipFill>
        <p:spPr>
          <a:xfrm>
            <a:off x="2484360" y="3141720"/>
            <a:ext cx="4399200" cy="329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468360" y="189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Bookman Old Style"/>
              </a:rPr>
              <a:t>Запомнить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Bookman Old Style"/>
              </a:rPr>
              <a:t>Разносклоняемые существитель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ы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Т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vosklicanie.jpg"/>
          <p:cNvPicPr/>
          <p:nvPr/>
        </p:nvPicPr>
        <p:blipFill>
          <a:blip r:embed="rId1"/>
          <a:stretch/>
        </p:blipFill>
        <p:spPr>
          <a:xfrm>
            <a:off x="6300720" y="1916280"/>
            <a:ext cx="2597040" cy="37098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vosklicanie.jpg"/>
          <p:cNvPicPr/>
          <p:nvPr/>
        </p:nvPicPr>
        <p:blipFill>
          <a:blip r:embed="rId2"/>
          <a:stretch/>
        </p:blipFill>
        <p:spPr>
          <a:xfrm>
            <a:off x="179280" y="1916280"/>
            <a:ext cx="2597400" cy="37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468360" y="189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Несклоняемые сущест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Ме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Паль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ш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е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vosklicanie.jpg"/>
          <p:cNvPicPr/>
          <p:nvPr/>
        </p:nvPicPr>
        <p:blipFill>
          <a:blip r:embed="rId1"/>
          <a:stretch/>
        </p:blipFill>
        <p:spPr>
          <a:xfrm>
            <a:off x="6300720" y="1916280"/>
            <a:ext cx="2597040" cy="3709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vosklicanie.jpg"/>
          <p:cNvPicPr/>
          <p:nvPr/>
        </p:nvPicPr>
        <p:blipFill>
          <a:blip r:embed="rId2"/>
          <a:stretch/>
        </p:blipFill>
        <p:spPr>
          <a:xfrm>
            <a:off x="179280" y="1916280"/>
            <a:ext cx="2597400" cy="370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468360" y="189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Род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324000" y="119700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муж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2987640" y="213372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сред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5508720" y="119700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ж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6"/>
          <p:cNvCxnSpPr/>
          <p:nvPr/>
        </p:nvCxnSpPr>
        <p:spPr>
          <a:xfrm flipH="1">
            <a:off x="3563640" y="907560"/>
            <a:ext cx="792720" cy="505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49" name="Прямая со стрелкой 8"/>
          <p:cNvCxnSpPr/>
          <p:nvPr/>
        </p:nvCxnSpPr>
        <p:spPr>
          <a:xfrm>
            <a:off x="4500720" y="907920"/>
            <a:ext cx="792720" cy="4341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50" name="Прямая со стрелкой 13"/>
          <p:cNvCxnSpPr/>
          <p:nvPr/>
        </p:nvCxnSpPr>
        <p:spPr>
          <a:xfrm>
            <a:off x="4427280" y="981000"/>
            <a:ext cx="1080" cy="10087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51" name="Заголовок 1"/>
          <p:cNvSpPr/>
          <p:nvPr/>
        </p:nvSpPr>
        <p:spPr>
          <a:xfrm>
            <a:off x="324000" y="321300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Bookman Old Style"/>
              </a:rPr>
              <a:t>Существительные общего род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Ябе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зади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Забия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Плак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Сласте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2"/>
          <p:cNvSpPr/>
          <p:nvPr/>
        </p:nvSpPr>
        <p:spPr>
          <a:xfrm>
            <a:off x="179280" y="47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Bookman Old Style"/>
              </a:rPr>
              <a:t>Котенок Мурзик сладко </a:t>
            </a:r>
            <a:r>
              <a:rPr b="1" i="1" lang="ru-RU" sz="2800" spc="-1" strike="noStrike">
                <a:solidFill>
                  <a:srgbClr val="254061"/>
                </a:solidFill>
                <a:latin typeface="Bookman Old Style"/>
              </a:rPr>
              <a:t>спит</a:t>
            </a:r>
            <a:r>
              <a:rPr b="1" i="1" lang="ru-RU" sz="2800" spc="-1" strike="noStrike">
                <a:solidFill>
                  <a:srgbClr val="376092"/>
                </a:solidFill>
                <a:latin typeface="Bookman Old Style"/>
              </a:rPr>
              <a:t> в теплой зимней маминой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шапке</a:t>
            </a:r>
            <a:r>
              <a:rPr b="1" i="1" lang="ru-RU" sz="2800" spc="-1" strike="noStrike">
                <a:solidFill>
                  <a:srgbClr val="376092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7"/>
          <p:cNvSpPr/>
          <p:nvPr/>
        </p:nvSpPr>
        <p:spPr>
          <a:xfrm>
            <a:off x="795672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8"/>
          <p:cNvCxnSpPr/>
          <p:nvPr/>
        </p:nvCxnSpPr>
        <p:spPr>
          <a:xfrm flipH="1">
            <a:off x="2986920" y="1341360"/>
            <a:ext cx="1586520" cy="7200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55" name="Прямая со стрелкой 10"/>
          <p:cNvCxnSpPr/>
          <p:nvPr/>
        </p:nvCxnSpPr>
        <p:spPr>
          <a:xfrm>
            <a:off x="4571640" y="1341360"/>
            <a:ext cx="1585080" cy="5040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156" name="Прямая со стрелкой 14"/>
          <p:cNvCxnSpPr/>
          <p:nvPr/>
        </p:nvCxnSpPr>
        <p:spPr>
          <a:xfrm flipH="1">
            <a:off x="2699640" y="1341000"/>
            <a:ext cx="1873800" cy="237528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57" name="Овал 17"/>
          <p:cNvSpPr/>
          <p:nvPr/>
        </p:nvSpPr>
        <p:spPr>
          <a:xfrm>
            <a:off x="108000" y="1916280"/>
            <a:ext cx="3166920" cy="13683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нкре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8"/>
          <p:cNvSpPr/>
          <p:nvPr/>
        </p:nvSpPr>
        <p:spPr>
          <a:xfrm>
            <a:off x="5724360" y="1844640"/>
            <a:ext cx="2881440" cy="1655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1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9"/>
          <p:cNvSpPr/>
          <p:nvPr/>
        </p:nvSpPr>
        <p:spPr>
          <a:xfrm>
            <a:off x="179280" y="3789360"/>
            <a:ext cx="4392720" cy="1079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еодуше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3"/>
          <p:cNvSpPr/>
          <p:nvPr/>
        </p:nvSpPr>
        <p:spPr>
          <a:xfrm>
            <a:off x="5364000" y="3933720"/>
            <a:ext cx="2881440" cy="1656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Женский 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15"/>
          <p:cNvCxnSpPr/>
          <p:nvPr/>
        </p:nvCxnSpPr>
        <p:spPr>
          <a:xfrm>
            <a:off x="4572000" y="1341360"/>
            <a:ext cx="1008720" cy="27360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250920" y="26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Bookman Old Style"/>
              </a:rPr>
              <a:t>Непостоянные морфологические признаки существ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395280" y="141300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4788000" y="1341360"/>
            <a:ext cx="3097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395280" y="2421000"/>
            <a:ext cx="309708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Bookman Old Style"/>
              </a:rPr>
              <a:t>Единственно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Bookman Old Style"/>
              </a:rPr>
              <a:t>Множественно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3924360" y="2421000"/>
            <a:ext cx="4968720" cy="37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И (это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то? чт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Р (нет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ого? чег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Д (дать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ому? чему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В (вижу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ого? что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Т (любуюсь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кем? чем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П (думаю) </a:t>
            </a:r>
            <a:r>
              <a:rPr b="1" i="1" lang="ru-RU" sz="2700" spc="-1" strike="noStrike">
                <a:solidFill>
                  <a:srgbClr val="c00000"/>
                </a:solidFill>
                <a:latin typeface="Bookman Old Style"/>
              </a:rPr>
              <a:t>о ком? о чем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179280" y="47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Котенок Мурзик сладко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пит</a:t>
            </a: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 в теплой зимней маминой шап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395280" y="2565360"/>
            <a:ext cx="3889440" cy="165564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5"/>
          <p:cNvSpPr/>
          <p:nvPr/>
        </p:nvSpPr>
        <p:spPr>
          <a:xfrm>
            <a:off x="4140360" y="4508640"/>
            <a:ext cx="3744720" cy="165708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редложный 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Прямая со стрелкой 6"/>
          <p:cNvCxnSpPr/>
          <p:nvPr/>
        </p:nvCxnSpPr>
        <p:spPr>
          <a:xfrm flipH="1">
            <a:off x="2916000" y="1412640"/>
            <a:ext cx="1800720" cy="1152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71" name="Прямая со стрелкой 10"/>
          <p:cNvCxnSpPr/>
          <p:nvPr/>
        </p:nvCxnSpPr>
        <p:spPr>
          <a:xfrm>
            <a:off x="4788000" y="1413000"/>
            <a:ext cx="1080000" cy="3024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72" name="Рисунок 16" descr="67a87f9fbc3361a8b0215e0e2b968247.jpg"/>
          <p:cNvPicPr/>
          <p:nvPr/>
        </p:nvPicPr>
        <p:blipFill>
          <a:blip r:embed="rId1"/>
          <a:stretch/>
        </p:blipFill>
        <p:spPr>
          <a:xfrm>
            <a:off x="7812000" y="5732640"/>
            <a:ext cx="947880" cy="94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762200" y="260280"/>
            <a:ext cx="54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Синтаксическ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250920" y="314172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Котенок Мурзик сладко спит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теплой зимней маминой шап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трелка вниз 6"/>
          <p:cNvGrpSpPr/>
          <p:nvPr/>
        </p:nvGrpSpPr>
        <p:grpSpPr>
          <a:xfrm>
            <a:off x="3359160" y="871560"/>
            <a:ext cx="1914480" cy="542880"/>
            <a:chOff x="3359160" y="871560"/>
            <a:chExt cx="1914480" cy="542880"/>
          </a:xfrm>
        </p:grpSpPr>
        <p:pic>
          <p:nvPicPr>
            <p:cNvPr id="176" name="Стрелка вниз 6" descr=""/>
            <p:cNvPicPr/>
            <p:nvPr/>
          </p:nvPicPr>
          <p:blipFill>
            <a:blip r:embed="rId1"/>
            <a:stretch/>
          </p:blipFill>
          <p:spPr>
            <a:xfrm>
              <a:off x="3359160" y="871560"/>
              <a:ext cx="1914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870360" y="907920"/>
              <a:ext cx="900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Управляющая кнопка: домой 14"/>
          <p:cNvSpPr/>
          <p:nvPr/>
        </p:nvSpPr>
        <p:spPr>
          <a:xfrm>
            <a:off x="795672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6"/>
          <p:cNvSpPr/>
          <p:nvPr/>
        </p:nvSpPr>
        <p:spPr>
          <a:xfrm flipV="1">
            <a:off x="7451640" y="2997360"/>
            <a:ext cx="0" cy="28728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8"/>
          <p:cNvSpPr/>
          <p:nvPr/>
        </p:nvSpPr>
        <p:spPr>
          <a:xfrm flipH="1">
            <a:off x="1692360" y="4149720"/>
            <a:ext cx="590400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20"/>
          <p:cNvCxnSpPr/>
          <p:nvPr/>
        </p:nvCxnSpPr>
        <p:spPr>
          <a:xfrm>
            <a:off x="7596000" y="4149360"/>
            <a:ext cx="1080" cy="36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2" name="TextBox 21"/>
          <p:cNvSpPr/>
          <p:nvPr/>
        </p:nvSpPr>
        <p:spPr>
          <a:xfrm>
            <a:off x="3890160" y="36450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Bookman Old Style"/>
              </a:rPr>
              <a:t>г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5"/>
          <p:cNvSpPr/>
          <p:nvPr/>
        </p:nvSpPr>
        <p:spPr>
          <a:xfrm>
            <a:off x="2411280" y="1413000"/>
            <a:ext cx="4032360" cy="863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стоя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4"/>
          <p:cNvSpPr/>
          <p:nvPr/>
        </p:nvSpPr>
        <p:spPr>
          <a:xfrm flipH="1">
            <a:off x="6875280" y="4941720"/>
            <a:ext cx="36180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2"/>
          <p:cNvSpPr/>
          <p:nvPr/>
        </p:nvSpPr>
        <p:spPr>
          <a:xfrm flipH="1">
            <a:off x="7451280" y="2997360"/>
            <a:ext cx="136836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9"/>
          <p:cNvSpPr/>
          <p:nvPr/>
        </p:nvSpPr>
        <p:spPr>
          <a:xfrm flipH="1">
            <a:off x="7524360" y="4941720"/>
            <a:ext cx="36036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22"/>
          <p:cNvSpPr/>
          <p:nvPr/>
        </p:nvSpPr>
        <p:spPr>
          <a:xfrm flipH="1">
            <a:off x="8243640" y="4941720"/>
            <a:ext cx="36180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23"/>
          <p:cNvSpPr/>
          <p:nvPr/>
        </p:nvSpPr>
        <p:spPr>
          <a:xfrm flipH="1">
            <a:off x="8172360" y="3860640"/>
            <a:ext cx="21744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5"/>
          <p:cNvSpPr/>
          <p:nvPr/>
        </p:nvSpPr>
        <p:spPr>
          <a:xfrm flipH="1">
            <a:off x="8675640" y="3860640"/>
            <a:ext cx="21744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7"/>
          <p:cNvSpPr/>
          <p:nvPr/>
        </p:nvSpPr>
        <p:spPr>
          <a:xfrm flipH="1">
            <a:off x="7308360" y="4941720"/>
            <a:ext cx="63720" cy="828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9"/>
          <p:cNvSpPr/>
          <p:nvPr/>
        </p:nvSpPr>
        <p:spPr>
          <a:xfrm>
            <a:off x="8028000" y="4941720"/>
            <a:ext cx="7308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35"/>
          <p:cNvSpPr/>
          <p:nvPr/>
        </p:nvSpPr>
        <p:spPr>
          <a:xfrm flipH="1">
            <a:off x="8532360" y="3860640"/>
            <a:ext cx="71640" cy="1764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4800" y="476280"/>
            <a:ext cx="76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Котенок Мурзик сладко спит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теплой зимней маминой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шапке</a:t>
            </a:r>
            <a:r>
              <a:rPr b="1" i="1" lang="ru-RU" sz="3600" spc="-1" strike="noStrike">
                <a:solidFill>
                  <a:srgbClr val="632523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котенок.gif"/>
          <p:cNvPicPr/>
          <p:nvPr/>
        </p:nvPicPr>
        <p:blipFill>
          <a:blip r:embed="rId1"/>
          <a:stretch/>
        </p:blipFill>
        <p:spPr>
          <a:xfrm>
            <a:off x="1979640" y="2276640"/>
            <a:ext cx="5162400" cy="357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Прямоугольник 1" descr=""/>
          <p:cNvPicPr/>
          <p:nvPr/>
        </p:nvPicPr>
        <p:blipFill>
          <a:blip r:embed="rId1"/>
          <a:stretch/>
        </p:blipFill>
        <p:spPr>
          <a:xfrm>
            <a:off x="2462040" y="-12600"/>
            <a:ext cx="4183200" cy="8776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179280" y="907920"/>
            <a:ext cx="856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(в) шап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Bookman Old Style"/>
              </a:rPr>
              <a:t>I. </a:t>
            </a: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н.ф. – шапка, сущ., где (в чем?), обозн. пред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Bookman Old Style"/>
              </a:rPr>
              <a:t>II. </a:t>
            </a: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Морфол. призна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Постоянные – конкр., нариц., неодуш., ж.р., 1 скл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Непостоянные – в ед.ч., пр.п.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Bookman Old Style"/>
              </a:rPr>
              <a:t>III. </a:t>
            </a:r>
            <a:r>
              <a:rPr b="1" i="1" lang="ru-RU" sz="3200" spc="-1" strike="noStrike">
                <a:solidFill>
                  <a:srgbClr val="17375e"/>
                </a:solidFill>
                <a:latin typeface="Bookman Old Style"/>
              </a:rPr>
              <a:t>Синт.роль – обстоятель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3" descr="kopiya2de75a8025ea.png"/>
          <p:cNvPicPr/>
          <p:nvPr/>
        </p:nvPicPr>
        <p:blipFill>
          <a:blip r:embed="rId2"/>
          <a:stretch/>
        </p:blipFill>
        <p:spPr>
          <a:xfrm>
            <a:off x="6372360" y="4724280"/>
            <a:ext cx="2377800" cy="185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4140360" y="404640"/>
            <a:ext cx="460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Зима недаром злит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ошла ее </a:t>
            </a:r>
            <a:r>
              <a:rPr b="1" i="1" lang="ru-RU" sz="4000" spc="-1" strike="noStrike">
                <a:solidFill>
                  <a:srgbClr val="953735"/>
                </a:solidFill>
                <a:latin typeface="Bookman Old Style"/>
              </a:rPr>
              <a:t>пора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Весна </a:t>
            </a:r>
            <a:r>
              <a:rPr b="1" i="1" lang="ru-RU" sz="4000" spc="-1" strike="noStrike">
                <a:solidFill>
                  <a:srgbClr val="953735"/>
                </a:solidFill>
                <a:latin typeface="Bookman Old Style"/>
              </a:rPr>
              <a:t>в окно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стуч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И гонит </a:t>
            </a:r>
            <a:r>
              <a:rPr b="1" i="1" lang="ru-RU" sz="4000" spc="-1" strike="noStrike">
                <a:solidFill>
                  <a:srgbClr val="953735"/>
                </a:solidFill>
                <a:latin typeface="Bookman Old Style"/>
              </a:rPr>
              <a:t>со дв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250920" y="260280"/>
            <a:ext cx="4176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орядок раз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72000" y="260280"/>
            <a:ext cx="432108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бразец раз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>
            <a:hlinkClick r:id="rId1" action="ppaction://hlinksldjump"/>
          </p:cNvPr>
          <p:cNvSpPr/>
          <p:nvPr/>
        </p:nvSpPr>
        <p:spPr>
          <a:xfrm>
            <a:off x="250920" y="1413000"/>
            <a:ext cx="4176720" cy="64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ьная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>
            <a:hlinkClick r:id="rId2" action="ppaction://hlinksldjump"/>
          </p:cNvPr>
          <p:cNvSpPr/>
          <p:nvPr/>
        </p:nvSpPr>
        <p:spPr>
          <a:xfrm>
            <a:off x="250920" y="2133720"/>
            <a:ext cx="4176720" cy="863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лово как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>
            <a:hlinkClick r:id="rId3" action="ppaction://hlinksldjump"/>
          </p:cNvPr>
          <p:cNvSpPr/>
          <p:nvPr/>
        </p:nvSpPr>
        <p:spPr>
          <a:xfrm>
            <a:off x="250920" y="3068640"/>
            <a:ext cx="4176720" cy="792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остоянные морфо-логические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4572000" y="1413000"/>
            <a:ext cx="4321080" cy="64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.ф. ша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4572000" y="2133720"/>
            <a:ext cx="4321080" cy="863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сущ., в чем?, обозн. предм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4572000" y="3068640"/>
            <a:ext cx="4321080" cy="792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I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конкретн., нариц., неодуш., 1 скл., жен.р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>
            <a:hlinkClick r:id="rId4" action="ppaction://hlinksldjump"/>
          </p:cNvPr>
          <p:cNvSpPr/>
          <p:nvPr/>
        </p:nvSpPr>
        <p:spPr>
          <a:xfrm>
            <a:off x="250920" y="5013360"/>
            <a:ext cx="417672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интаксическ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4572000" y="5013360"/>
            <a:ext cx="4321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V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обстоя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Стрелка вниз 13"/>
          <p:cNvGrpSpPr/>
          <p:nvPr/>
        </p:nvGrpSpPr>
        <p:grpSpPr>
          <a:xfrm>
            <a:off x="1560600" y="798480"/>
            <a:ext cx="1481040" cy="615960"/>
            <a:chOff x="1560600" y="798480"/>
            <a:chExt cx="1481040" cy="615960"/>
          </a:xfrm>
        </p:grpSpPr>
        <p:pic>
          <p:nvPicPr>
            <p:cNvPr id="56" name="Стрелка вниз 13" descr=""/>
            <p:cNvPicPr/>
            <p:nvPr/>
          </p:nvPicPr>
          <p:blipFill>
            <a:blip r:embed="rId5"/>
            <a:stretch/>
          </p:blipFill>
          <p:spPr>
            <a:xfrm>
              <a:off x="1560600" y="798480"/>
              <a:ext cx="1481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962000" y="836640"/>
              <a:ext cx="6843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Стрелка вниз 14"/>
          <p:cNvGrpSpPr/>
          <p:nvPr/>
        </p:nvGrpSpPr>
        <p:grpSpPr>
          <a:xfrm>
            <a:off x="6022800" y="798480"/>
            <a:ext cx="1487520" cy="615960"/>
            <a:chOff x="6022800" y="798480"/>
            <a:chExt cx="1487520" cy="615960"/>
          </a:xfrm>
        </p:grpSpPr>
        <p:pic>
          <p:nvPicPr>
            <p:cNvPr id="59" name="Стрелка вниз 14" descr=""/>
            <p:cNvPicPr/>
            <p:nvPr/>
          </p:nvPicPr>
          <p:blipFill>
            <a:blip r:embed="rId6"/>
            <a:stretch/>
          </p:blipFill>
          <p:spPr>
            <a:xfrm>
              <a:off x="6022800" y="798480"/>
              <a:ext cx="14875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26360" y="836640"/>
              <a:ext cx="68400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оугольник 26"/>
          <p:cNvSpPr/>
          <p:nvPr/>
        </p:nvSpPr>
        <p:spPr>
          <a:xfrm>
            <a:off x="250920" y="3933720"/>
            <a:ext cx="4176720" cy="100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епостоянные морфо-логические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8"/>
          <p:cNvSpPr/>
          <p:nvPr/>
        </p:nvSpPr>
        <p:spPr>
          <a:xfrm>
            <a:off x="4572000" y="3933720"/>
            <a:ext cx="4321080" cy="100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I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в ед.ч., в предл.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9" descr="vosklicanie.jpg"/>
          <p:cNvPicPr/>
          <p:nvPr/>
        </p:nvPicPr>
        <p:blipFill>
          <a:blip r:embed="rId7"/>
          <a:stretch/>
        </p:blipFill>
        <p:spPr>
          <a:xfrm>
            <a:off x="7956720" y="5157720"/>
            <a:ext cx="1077840" cy="15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2400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Bookman Old Style"/>
              </a:rPr>
              <a:t>Начальная форма существ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0_45a6e_37c5b1ec_XL.jpg"/>
          <p:cNvPicPr/>
          <p:nvPr/>
        </p:nvPicPr>
        <p:blipFill>
          <a:blip r:embed="rId1"/>
          <a:stretch/>
        </p:blipFill>
        <p:spPr>
          <a:xfrm>
            <a:off x="5954760" y="4865760"/>
            <a:ext cx="3189240" cy="1992240"/>
          </a:xfrm>
          <a:prstGeom prst="rect">
            <a:avLst/>
          </a:prstGeom>
          <a:ln w="0">
            <a:noFill/>
          </a:ln>
        </p:spPr>
      </p:pic>
      <p:sp>
        <p:nvSpPr>
          <p:cNvPr id="66" name="Овал 5"/>
          <p:cNvSpPr/>
          <p:nvPr/>
        </p:nvSpPr>
        <p:spPr>
          <a:xfrm>
            <a:off x="2340000" y="1125360"/>
            <a:ext cx="4032360" cy="863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6"/>
          <p:cNvSpPr/>
          <p:nvPr/>
        </p:nvSpPr>
        <p:spPr>
          <a:xfrm>
            <a:off x="250920" y="2492280"/>
            <a:ext cx="4033800" cy="8654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4788000" y="2492280"/>
            <a:ext cx="4032000" cy="8654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2050920" y="3860640"/>
            <a:ext cx="4897440" cy="129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Ед.ч., им.паде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1"/>
          <p:cNvCxnSpPr>
            <a:stCxn id="66" idx="4"/>
            <a:endCxn id="67" idx="0"/>
          </p:cNvCxnSpPr>
          <p:nvPr/>
        </p:nvCxnSpPr>
        <p:spPr>
          <a:xfrm flipH="1">
            <a:off x="2267640" y="1989000"/>
            <a:ext cx="20883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Прямая со стрелкой 12"/>
          <p:cNvCxnSpPr>
            <a:stCxn id="66" idx="4"/>
            <a:endCxn id="68" idx="0"/>
          </p:cNvCxnSpPr>
          <p:nvPr/>
        </p:nvCxnSpPr>
        <p:spPr>
          <a:xfrm>
            <a:off x="4356000" y="1989000"/>
            <a:ext cx="244872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156040" y="260280"/>
            <a:ext cx="46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Слово как част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50920" y="1268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Часть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492360" y="83664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Гла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50920" y="3357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059280" y="2852640"/>
            <a:ext cx="57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Кто?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Какой? Какая? Какое? 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Что делать?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Где? Куда? Когда? От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очему? Зачем? Ка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0800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Bookman Old Style"/>
              </a:rPr>
              <a:t>Что обознач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635280" y="4869000"/>
            <a:ext cx="46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ри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Bookman Old Style"/>
              </a:rPr>
              <a:t>Признак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Левая фигурная скобка 8"/>
          <p:cNvSpPr/>
          <p:nvPr/>
        </p:nvSpPr>
        <p:spPr>
          <a:xfrm>
            <a:off x="3419640" y="907920"/>
            <a:ext cx="504720" cy="1729080"/>
          </a:xfrm>
          <a:custGeom>
            <a:avLst/>
            <a:gdLst>
              <a:gd name="textAreaLeft" fmla="*/ 322560 w 504720"/>
              <a:gd name="textAreaRight" fmla="*/ 505080 w 504720"/>
              <a:gd name="textAreaTop" fmla="*/ 12960 h 1729080"/>
              <a:gd name="textAreaBottom" fmla="*/ 171612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6"/>
                </a:cubicBezTo>
                <a:lnTo>
                  <a:pt x="10800" y="10274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6"/>
                </a:cubicBezTo>
                <a:lnTo>
                  <a:pt x="10800" y="21074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Левая фигурная скобка 9"/>
          <p:cNvSpPr/>
          <p:nvPr/>
        </p:nvSpPr>
        <p:spPr>
          <a:xfrm>
            <a:off x="2771640" y="2924280"/>
            <a:ext cx="505080" cy="1873080"/>
          </a:xfrm>
          <a:custGeom>
            <a:avLst/>
            <a:gdLst>
              <a:gd name="textAreaLeft" fmla="*/ 322920 w 505080"/>
              <a:gd name="textAreaRight" fmla="*/ 505440 w 505080"/>
              <a:gd name="textAreaTop" fmla="*/ 12960 h 1873080"/>
              <a:gd name="textAreaBottom" fmla="*/ 186012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3"/>
                  <a:pt x="10800" y="485"/>
                </a:cubicBezTo>
                <a:lnTo>
                  <a:pt x="10800" y="10315"/>
                </a:lnTo>
                <a:cubicBezTo>
                  <a:pt x="10800" y="10558"/>
                  <a:pt x="5400" y="10800"/>
                  <a:pt x="0" y="10800"/>
                </a:cubicBezTo>
                <a:cubicBezTo>
                  <a:pt x="5400" y="10800"/>
                  <a:pt x="10800" y="11043"/>
                  <a:pt x="10800" y="11285"/>
                </a:cubicBezTo>
                <a:lnTo>
                  <a:pt x="10800" y="21115"/>
                </a:lnTo>
                <a:cubicBezTo>
                  <a:pt x="10800" y="21358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Левая фигурная скобка 10"/>
          <p:cNvSpPr/>
          <p:nvPr/>
        </p:nvSpPr>
        <p:spPr>
          <a:xfrm>
            <a:off x="3564000" y="4869000"/>
            <a:ext cx="503280" cy="1584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960 h 1584360"/>
              <a:gd name="textAreaBottom" fmla="*/ 157140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6"/>
                  <a:pt x="10800" y="572"/>
                </a:cubicBezTo>
                <a:lnTo>
                  <a:pt x="10800" y="10228"/>
                </a:lnTo>
                <a:cubicBezTo>
                  <a:pt x="10800" y="10514"/>
                  <a:pt x="5400" y="10800"/>
                  <a:pt x="0" y="10800"/>
                </a:cubicBezTo>
                <a:cubicBezTo>
                  <a:pt x="5400" y="10800"/>
                  <a:pt x="10800" y="11086"/>
                  <a:pt x="10800" y="11372"/>
                </a:cubicBezTo>
                <a:lnTo>
                  <a:pt x="10800" y="21028"/>
                </a:lnTo>
                <a:cubicBezTo>
                  <a:pt x="10800" y="21314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далее 11"/>
          <p:cNvSpPr/>
          <p:nvPr/>
        </p:nvSpPr>
        <p:spPr>
          <a:xfrm>
            <a:off x="8244000" y="6093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179280" y="476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Котенок Мурзик сладко </a:t>
            </a:r>
            <a:r>
              <a:rPr b="1" i="1" lang="ru-RU" sz="2800" spc="-1" strike="noStrike">
                <a:solidFill>
                  <a:srgbClr val="254061"/>
                </a:solidFill>
                <a:latin typeface="Bookman Old Style"/>
              </a:rPr>
              <a:t>спит</a:t>
            </a: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 в теплой зимней маминой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шап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правляющая кнопка: домой 7"/>
          <p:cNvSpPr/>
          <p:nvPr/>
        </p:nvSpPr>
        <p:spPr>
          <a:xfrm>
            <a:off x="795672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6"/>
          <p:cNvCxnSpPr/>
          <p:nvPr/>
        </p:nvCxnSpPr>
        <p:spPr>
          <a:xfrm flipH="1">
            <a:off x="3779640" y="981000"/>
            <a:ext cx="2305440" cy="11534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86" name="Прямая со стрелкой 11"/>
          <p:cNvCxnSpPr/>
          <p:nvPr/>
        </p:nvCxnSpPr>
        <p:spPr>
          <a:xfrm flipH="1">
            <a:off x="3058920" y="981000"/>
            <a:ext cx="3026160" cy="3888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87" name="Прямая со стрелкой 16"/>
          <p:cNvCxnSpPr/>
          <p:nvPr/>
        </p:nvCxnSpPr>
        <p:spPr>
          <a:xfrm>
            <a:off x="6084720" y="980640"/>
            <a:ext cx="720000" cy="208836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8" name="Овал 20"/>
          <p:cNvSpPr/>
          <p:nvPr/>
        </p:nvSpPr>
        <p:spPr>
          <a:xfrm>
            <a:off x="324000" y="1844640"/>
            <a:ext cx="3527280" cy="11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уществи-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1"/>
          <p:cNvSpPr/>
          <p:nvPr/>
        </p:nvSpPr>
        <p:spPr>
          <a:xfrm>
            <a:off x="611280" y="4869000"/>
            <a:ext cx="3529080" cy="11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(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2"/>
          <p:cNvSpPr/>
          <p:nvPr/>
        </p:nvSpPr>
        <p:spPr>
          <a:xfrm>
            <a:off x="4500720" y="3141720"/>
            <a:ext cx="4392360" cy="143964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бозначает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156320" y="260280"/>
            <a:ext cx="664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Постоянные морфолог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признаки существи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правляющая кнопка: далее 19"/>
          <p:cNvSpPr/>
          <p:nvPr/>
        </p:nvSpPr>
        <p:spPr>
          <a:xfrm>
            <a:off x="838836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2"/>
          <p:cNvSpPr/>
          <p:nvPr/>
        </p:nvSpPr>
        <p:spPr>
          <a:xfrm>
            <a:off x="2627280" y="1484280"/>
            <a:ext cx="3384720" cy="8650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азря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3059280" y="2852640"/>
            <a:ext cx="2952720" cy="180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онкр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твлеч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Вещ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обир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250920" y="2565360"/>
            <a:ext cx="2592360" cy="79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Одушев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еодушев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6"/>
          <p:cNvSpPr/>
          <p:nvPr/>
        </p:nvSpPr>
        <p:spPr>
          <a:xfrm>
            <a:off x="6227640" y="2565360"/>
            <a:ext cx="2592360" cy="792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об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риц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18"/>
          <p:cNvSpPr/>
          <p:nvPr/>
        </p:nvSpPr>
        <p:spPr>
          <a:xfrm>
            <a:off x="179280" y="4941720"/>
            <a:ext cx="3635640" cy="863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кло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0"/>
          <p:cNvSpPr/>
          <p:nvPr/>
        </p:nvSpPr>
        <p:spPr>
          <a:xfrm>
            <a:off x="5292720" y="4941720"/>
            <a:ext cx="3635280" cy="86364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619280" y="115920"/>
            <a:ext cx="5616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зряды по знач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98100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3456000"/>
                <a:gridCol w="302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я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ч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рет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ывают конкретные предм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, озеро, книга, др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леч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йства, качества, чувства, состоя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ь, грусть, доброта, крас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ществ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ывают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ка, чернила, соль,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ирате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ывают совокупность предметов как одно цел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вора, листва, студен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619280" y="333360"/>
            <a:ext cx="5616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душев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108000" y="1268280"/>
            <a:ext cx="4248000" cy="64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одушевл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4572000" y="1268280"/>
            <a:ext cx="4392720" cy="64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еодушевл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08000" y="2565360"/>
            <a:ext cx="4248000" cy="934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Мн.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=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4572000" y="2565360"/>
            <a:ext cx="4392720" cy="93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Мн.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И=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108000" y="3573360"/>
            <a:ext cx="4248000" cy="1584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Р. Ко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. Ко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4572000" y="3573360"/>
            <a:ext cx="4392720" cy="1584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И.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В.Тетрад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Стрелка вниз 8"/>
          <p:cNvGrpSpPr/>
          <p:nvPr/>
        </p:nvGrpSpPr>
        <p:grpSpPr>
          <a:xfrm>
            <a:off x="1341360" y="2023920"/>
            <a:ext cx="1700280" cy="543240"/>
            <a:chOff x="1341360" y="2023920"/>
            <a:chExt cx="1700280" cy="543240"/>
          </a:xfrm>
        </p:grpSpPr>
        <p:pic>
          <p:nvPicPr>
            <p:cNvPr id="109" name="Стрелка вниз 8" descr=""/>
            <p:cNvPicPr/>
            <p:nvPr/>
          </p:nvPicPr>
          <p:blipFill>
            <a:blip r:embed="rId1"/>
            <a:stretch/>
          </p:blipFill>
          <p:spPr>
            <a:xfrm>
              <a:off x="1341360" y="2023920"/>
              <a:ext cx="170028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800360" y="2060640"/>
              <a:ext cx="792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трелка вниз 9"/>
          <p:cNvGrpSpPr/>
          <p:nvPr/>
        </p:nvGrpSpPr>
        <p:grpSpPr>
          <a:xfrm>
            <a:off x="5950080" y="2023920"/>
            <a:ext cx="1554120" cy="543240"/>
            <a:chOff x="5950080" y="2023920"/>
            <a:chExt cx="1554120" cy="543240"/>
          </a:xfrm>
        </p:grpSpPr>
        <p:pic>
          <p:nvPicPr>
            <p:cNvPr id="112" name="Стрелка вниз 9" descr=""/>
            <p:cNvPicPr/>
            <p:nvPr/>
          </p:nvPicPr>
          <p:blipFill>
            <a:blip r:embed="rId2"/>
            <a:stretch/>
          </p:blipFill>
          <p:spPr>
            <a:xfrm>
              <a:off x="5950080" y="2023920"/>
              <a:ext cx="155412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372360" y="2060640"/>
              <a:ext cx="72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6:52:38Z</dcterms:created>
  <dc:creator>Русина</dc:creator>
  <dc:description/>
  <dc:language>en-US</dc:language>
  <cp:lastModifiedBy>Русина</cp:lastModifiedBy>
  <dcterms:modified xsi:type="dcterms:W3CDTF">2012-08-26T09:54:04Z</dcterms:modified>
  <cp:revision>41</cp:revision>
  <dc:subject/>
  <dc:title>Слайд 1</dc:title>
</cp:coreProperties>
</file>