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C42-DB12-42DF-BAB9-E0AECC2C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B864-DEF0-4361-A69A-88CD5A15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376-89FB-4678-BB44-36CA79ED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027B-0716-4D62-9C13-9183E41D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146D-50E7-4AFC-BE16-7C4B41B0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1E2E-BBA2-4D84-B780-B50485F4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5D6-62A3-4839-8C8C-A14C47CC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800B-BB70-4238-946A-91B5539A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C391-8C06-4876-962D-DE68AE94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55F-3E83-4459-A7B0-DF82ED09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BB3-27B6-4A52-969B-A040A707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257-7009-47D5-9320-FCF70CB8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B351-723C-491B-BE96-2586ED4D0C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1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95120" y="566640"/>
            <a:ext cx="892980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001.jpg"/>
          <p:cNvPicPr/>
          <p:nvPr/>
        </p:nvPicPr>
        <p:blipFill>
          <a:blip r:embed="rId2"/>
          <a:stretch/>
        </p:blipFill>
        <p:spPr>
          <a:xfrm>
            <a:off x="2124000" y="2781360"/>
            <a:ext cx="4759560" cy="356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"/>
          <p:cNvSpPr/>
          <p:nvPr/>
        </p:nvSpPr>
        <p:spPr>
          <a:xfrm>
            <a:off x="108000" y="404640"/>
            <a:ext cx="4248000" cy="64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обстве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4572000" y="404640"/>
            <a:ext cx="4392720" cy="648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нарица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108000" y="1700280"/>
            <a:ext cx="4248000" cy="1441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Названия единичных предм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4572000" y="1700280"/>
            <a:ext cx="4392720" cy="1441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Названия однородных предм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108000" y="3573360"/>
            <a:ext cx="4248000" cy="1584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Ен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4572000" y="3573360"/>
            <a:ext cx="4392720" cy="1584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Р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Г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Стрелка вниз 8"/>
          <p:cNvGrpSpPr/>
          <p:nvPr/>
        </p:nvGrpSpPr>
        <p:grpSpPr>
          <a:xfrm>
            <a:off x="1341360" y="1158840"/>
            <a:ext cx="1700280" cy="541440"/>
            <a:chOff x="1341360" y="1158840"/>
            <a:chExt cx="1700280" cy="541440"/>
          </a:xfrm>
        </p:grpSpPr>
        <p:pic>
          <p:nvPicPr>
            <p:cNvPr id="121" name="Стрелка вниз 8" descr=""/>
            <p:cNvPicPr/>
            <p:nvPr/>
          </p:nvPicPr>
          <p:blipFill>
            <a:blip r:embed="rId1"/>
            <a:stretch/>
          </p:blipFill>
          <p:spPr>
            <a:xfrm>
              <a:off x="1341360" y="1158840"/>
              <a:ext cx="17002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800360" y="1197000"/>
              <a:ext cx="792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Стрелка вниз 9"/>
          <p:cNvGrpSpPr/>
          <p:nvPr/>
        </p:nvGrpSpPr>
        <p:grpSpPr>
          <a:xfrm>
            <a:off x="6022800" y="1158840"/>
            <a:ext cx="1554480" cy="541440"/>
            <a:chOff x="6022800" y="1158840"/>
            <a:chExt cx="1554480" cy="541440"/>
          </a:xfrm>
        </p:grpSpPr>
        <p:pic>
          <p:nvPicPr>
            <p:cNvPr id="124" name="Стрелка вниз 9" descr=""/>
            <p:cNvPicPr/>
            <p:nvPr/>
          </p:nvPicPr>
          <p:blipFill>
            <a:blip r:embed="rId2"/>
            <a:stretch/>
          </p:blipFill>
          <p:spPr>
            <a:xfrm>
              <a:off x="6022800" y="1158840"/>
              <a:ext cx="15544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443640" y="1197000"/>
              <a:ext cx="720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Заголовок 1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Bookman Old Style"/>
              </a:rPr>
              <a:t>С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9280" y="907920"/>
          <a:ext cx="8856720" cy="329256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3280"/>
                <a:gridCol w="221436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 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 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 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.р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ж.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.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.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ж.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онч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а (-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    , -о (-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ме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юно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яд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я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е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ыш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о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28" name="Прямоугольник 4"/>
          <p:cNvSpPr/>
          <p:nvPr/>
        </p:nvSpPr>
        <p:spPr>
          <a:xfrm>
            <a:off x="4932360" y="2708280"/>
            <a:ext cx="360360" cy="216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7812000" y="2708280"/>
            <a:ext cx="360360" cy="216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Заголовок 1"/>
          <p:cNvSpPr/>
          <p:nvPr/>
        </p:nvSpPr>
        <p:spPr>
          <a:xfrm>
            <a:off x="468360" y="189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00000"/>
                </a:solidFill>
                <a:uFillTx/>
                <a:latin typeface="Bookman Old Style"/>
              </a:rPr>
              <a:t>Разносклоняемые существитель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Заголовок 1"/>
          <p:cNvSpPr/>
          <p:nvPr/>
        </p:nvSpPr>
        <p:spPr>
          <a:xfrm>
            <a:off x="826920" y="1773360"/>
            <a:ext cx="309744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Bookman Old Style"/>
              </a:rPr>
              <a:t>Оконча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Bookman Old Style"/>
              </a:rPr>
              <a:t>2 и 3 скло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5219640" y="1700280"/>
            <a:ext cx="309744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Bookman Old Style"/>
              </a:rPr>
              <a:t>Суффикс –ен- в косвенных падеж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Прямая со стрелкой 5"/>
          <p:cNvCxnSpPr/>
          <p:nvPr/>
        </p:nvCxnSpPr>
        <p:spPr>
          <a:xfrm flipH="1">
            <a:off x="2700000" y="907560"/>
            <a:ext cx="1728000" cy="793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4" name="Прямая со стрелкой 8"/>
          <p:cNvCxnSpPr/>
          <p:nvPr/>
        </p:nvCxnSpPr>
        <p:spPr>
          <a:xfrm>
            <a:off x="4779720" y="907920"/>
            <a:ext cx="1664280" cy="7214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pic>
        <p:nvPicPr>
          <p:cNvPr id="135" name="Рисунок 12" descr="001.jpg"/>
          <p:cNvPicPr/>
          <p:nvPr/>
        </p:nvPicPr>
        <p:blipFill>
          <a:blip r:embed="rId1"/>
          <a:stretch/>
        </p:blipFill>
        <p:spPr>
          <a:xfrm>
            <a:off x="2484360" y="3141720"/>
            <a:ext cx="4399200" cy="329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Заголовок 1"/>
          <p:cNvSpPr/>
          <p:nvPr/>
        </p:nvSpPr>
        <p:spPr>
          <a:xfrm>
            <a:off x="468360" y="189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00000"/>
                </a:solidFill>
                <a:uFillTx/>
                <a:latin typeface="Bookman Old Style"/>
              </a:rPr>
              <a:t>Запомнить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Bookman Old Style"/>
              </a:rPr>
              <a:t>Разносклоняемые существитель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Заголовок 1"/>
          <p:cNvSpPr/>
          <p:nvPr/>
        </p:nvSpPr>
        <p:spPr>
          <a:xfrm>
            <a:off x="250920" y="1268280"/>
            <a:ext cx="864216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П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т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ы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Пл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Т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Б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3" descr="vosklicanie.jpg"/>
          <p:cNvPicPr/>
          <p:nvPr/>
        </p:nvPicPr>
        <p:blipFill>
          <a:blip r:embed="rId1"/>
          <a:stretch/>
        </p:blipFill>
        <p:spPr>
          <a:xfrm>
            <a:off x="6300720" y="1916280"/>
            <a:ext cx="2597040" cy="37098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vosklicanie.jpg"/>
          <p:cNvPicPr/>
          <p:nvPr/>
        </p:nvPicPr>
        <p:blipFill>
          <a:blip r:embed="rId2"/>
          <a:stretch/>
        </p:blipFill>
        <p:spPr>
          <a:xfrm>
            <a:off x="179280" y="1916280"/>
            <a:ext cx="2597400" cy="370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Заголовок 1"/>
          <p:cNvSpPr/>
          <p:nvPr/>
        </p:nvSpPr>
        <p:spPr>
          <a:xfrm>
            <a:off x="468360" y="189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Несклоняемые существ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Заголовок 1"/>
          <p:cNvSpPr/>
          <p:nvPr/>
        </p:nvSpPr>
        <p:spPr>
          <a:xfrm>
            <a:off x="250920" y="1268280"/>
            <a:ext cx="864216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Мет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Паль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аш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Де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3" descr="vosklicanie.jpg"/>
          <p:cNvPicPr/>
          <p:nvPr/>
        </p:nvPicPr>
        <p:blipFill>
          <a:blip r:embed="rId1"/>
          <a:stretch/>
        </p:blipFill>
        <p:spPr>
          <a:xfrm>
            <a:off x="6300720" y="1916280"/>
            <a:ext cx="2597040" cy="37098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vosklicanie.jpg"/>
          <p:cNvPicPr/>
          <p:nvPr/>
        </p:nvPicPr>
        <p:blipFill>
          <a:blip r:embed="rId2"/>
          <a:stretch/>
        </p:blipFill>
        <p:spPr>
          <a:xfrm>
            <a:off x="179280" y="1916280"/>
            <a:ext cx="2597400" cy="370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Заголовок 1"/>
          <p:cNvSpPr/>
          <p:nvPr/>
        </p:nvSpPr>
        <p:spPr>
          <a:xfrm>
            <a:off x="468360" y="189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Род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Заголовок 1"/>
          <p:cNvSpPr/>
          <p:nvPr/>
        </p:nvSpPr>
        <p:spPr>
          <a:xfrm>
            <a:off x="324000" y="1197000"/>
            <a:ext cx="30970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муж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Заголовок 1"/>
          <p:cNvSpPr/>
          <p:nvPr/>
        </p:nvSpPr>
        <p:spPr>
          <a:xfrm>
            <a:off x="2987640" y="2133720"/>
            <a:ext cx="30970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сред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Заголовок 1"/>
          <p:cNvSpPr/>
          <p:nvPr/>
        </p:nvSpPr>
        <p:spPr>
          <a:xfrm>
            <a:off x="5508720" y="1197000"/>
            <a:ext cx="30970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же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Прямая со стрелкой 6"/>
          <p:cNvCxnSpPr/>
          <p:nvPr/>
        </p:nvCxnSpPr>
        <p:spPr>
          <a:xfrm flipH="1">
            <a:off x="3563640" y="907560"/>
            <a:ext cx="792720" cy="5058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49" name="Прямая со стрелкой 8"/>
          <p:cNvCxnSpPr/>
          <p:nvPr/>
        </p:nvCxnSpPr>
        <p:spPr>
          <a:xfrm>
            <a:off x="4500720" y="907920"/>
            <a:ext cx="792720" cy="4341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50" name="Прямая со стрелкой 13"/>
          <p:cNvCxnSpPr/>
          <p:nvPr/>
        </p:nvCxnSpPr>
        <p:spPr>
          <a:xfrm>
            <a:off x="4427280" y="981000"/>
            <a:ext cx="1080" cy="10087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51" name="Заголовок 1"/>
          <p:cNvSpPr/>
          <p:nvPr/>
        </p:nvSpPr>
        <p:spPr>
          <a:xfrm>
            <a:off x="324000" y="321300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c00000"/>
                </a:solidFill>
                <a:uFillTx/>
                <a:latin typeface="Bookman Old Style"/>
              </a:rPr>
              <a:t>Существительные общего рода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Ябе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зади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Забия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Плакс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Сласте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2"/>
          <p:cNvSpPr/>
          <p:nvPr/>
        </p:nvSpPr>
        <p:spPr>
          <a:xfrm>
            <a:off x="179280" y="4762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Bookman Old Style"/>
              </a:rPr>
              <a:t>Котенок Мурзик сладко </a:t>
            </a:r>
            <a:r>
              <a:rPr b="1" i="1" lang="ru-RU" sz="2800" spc="-1" strike="noStrike">
                <a:solidFill>
                  <a:srgbClr val="254061"/>
                </a:solidFill>
                <a:latin typeface="Bookman Old Style"/>
              </a:rPr>
              <a:t>спит</a:t>
            </a:r>
            <a:r>
              <a:rPr b="1" i="1" lang="ru-RU" sz="2800" spc="-1" strike="noStrike">
                <a:solidFill>
                  <a:srgbClr val="376092"/>
                </a:solidFill>
                <a:latin typeface="Bookman Old Style"/>
              </a:rPr>
              <a:t> в теплой зимней маминой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шапке</a:t>
            </a:r>
            <a:r>
              <a:rPr b="1" i="1" lang="ru-RU" sz="2800" spc="-1" strike="noStrike">
                <a:solidFill>
                  <a:srgbClr val="376092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домой 7"/>
          <p:cNvSpPr/>
          <p:nvPr/>
        </p:nvSpPr>
        <p:spPr>
          <a:xfrm>
            <a:off x="7956720" y="5805360"/>
            <a:ext cx="718920" cy="64800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3963" h="21600">
                <a:moveTo>
                  <a:pt x="0" y="0"/>
                </a:moveTo>
                <a:lnTo>
                  <a:pt x="23963" y="0"/>
                </a:lnTo>
                <a:lnTo>
                  <a:pt x="23963" y="21600"/>
                </a:lnTo>
                <a:lnTo>
                  <a:pt x="0" y="21600"/>
                </a:lnTo>
                <a:close/>
              </a:path>
              <a:path fill="lightenLess" w="23963" h="21600">
                <a:moveTo>
                  <a:pt x="0" y="0"/>
                </a:moveTo>
                <a:lnTo>
                  <a:pt x="23963" y="0"/>
                </a:lnTo>
                <a:lnTo>
                  <a:pt x="22563" y="1400"/>
                </a:lnTo>
                <a:lnTo>
                  <a:pt x="1400" y="1400"/>
                </a:lnTo>
                <a:close/>
              </a:path>
              <a:path fill="darken" w="23963" h="21600">
                <a:moveTo>
                  <a:pt x="23963" y="0"/>
                </a:moveTo>
                <a:lnTo>
                  <a:pt x="23963" y="21600"/>
                </a:lnTo>
                <a:lnTo>
                  <a:pt x="22563" y="20200"/>
                </a:lnTo>
                <a:lnTo>
                  <a:pt x="22563" y="1400"/>
                </a:lnTo>
                <a:close/>
              </a:path>
              <a:path fill="darkenLess" w="23963" h="21600">
                <a:moveTo>
                  <a:pt x="23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3" y="20200"/>
                </a:lnTo>
                <a:close/>
              </a:path>
              <a:path fill="lighten" w="23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3" h="21600">
                <a:moveTo>
                  <a:pt x="11981" y="3837"/>
                </a:moveTo>
                <a:lnTo>
                  <a:pt x="14558" y="6448"/>
                </a:ln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lnTo>
                  <a:pt x="18944" y="10800"/>
                </a:lnTo>
                <a:lnTo>
                  <a:pt x="17291" y="10800"/>
                </a:lnTo>
                <a:lnTo>
                  <a:pt x="17291" y="17989"/>
                </a:lnTo>
                <a:lnTo>
                  <a:pt x="6672" y="17989"/>
                </a:lnTo>
                <a:lnTo>
                  <a:pt x="6672" y="10800"/>
                </a:lnTo>
                <a:lnTo>
                  <a:pt x="5018" y="10800"/>
                </a:lnTo>
                <a:close/>
              </a:path>
              <a:path fill="darkenLess" w="23963" h="21600">
                <a:moveTo>
                  <a:pt x="14558" y="6448"/>
                </a:move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close/>
              </a:path>
              <a:path fill="darkenLess" w="23963" h="21600">
                <a:moveTo>
                  <a:pt x="11059" y="14299"/>
                </a:moveTo>
                <a:lnTo>
                  <a:pt x="12904" y="14299"/>
                </a:lnTo>
                <a:lnTo>
                  <a:pt x="12904" y="17989"/>
                </a:lnTo>
                <a:lnTo>
                  <a:pt x="17291" y="17989"/>
                </a:lnTo>
                <a:lnTo>
                  <a:pt x="17291" y="10800"/>
                </a:lnTo>
                <a:lnTo>
                  <a:pt x="6672" y="10800"/>
                </a:lnTo>
                <a:lnTo>
                  <a:pt x="6672" y="17989"/>
                </a:lnTo>
                <a:lnTo>
                  <a:pt x="11059" y="17989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8"/>
          <p:cNvCxnSpPr/>
          <p:nvPr/>
        </p:nvCxnSpPr>
        <p:spPr>
          <a:xfrm flipH="1">
            <a:off x="2986920" y="1341360"/>
            <a:ext cx="1586520" cy="72000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155" name="Прямая со стрелкой 10"/>
          <p:cNvCxnSpPr/>
          <p:nvPr/>
        </p:nvCxnSpPr>
        <p:spPr>
          <a:xfrm>
            <a:off x="4571640" y="1341360"/>
            <a:ext cx="1585080" cy="50400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156" name="Прямая со стрелкой 14"/>
          <p:cNvCxnSpPr/>
          <p:nvPr/>
        </p:nvCxnSpPr>
        <p:spPr>
          <a:xfrm flipH="1">
            <a:off x="2699640" y="1341000"/>
            <a:ext cx="1873800" cy="237528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triangle" w="med"/>
          </a:ln>
        </p:spPr>
      </p:cxnSp>
      <p:sp>
        <p:nvSpPr>
          <p:cNvPr id="157" name="Овал 17"/>
          <p:cNvSpPr/>
          <p:nvPr/>
        </p:nvSpPr>
        <p:spPr>
          <a:xfrm>
            <a:off x="108000" y="1916280"/>
            <a:ext cx="3166920" cy="13683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онкрет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8"/>
          <p:cNvSpPr/>
          <p:nvPr/>
        </p:nvSpPr>
        <p:spPr>
          <a:xfrm>
            <a:off x="5724360" y="1844640"/>
            <a:ext cx="2881440" cy="165564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1 скло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9"/>
          <p:cNvSpPr/>
          <p:nvPr/>
        </p:nvSpPr>
        <p:spPr>
          <a:xfrm>
            <a:off x="179280" y="3789360"/>
            <a:ext cx="4392720" cy="107964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одушевл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3"/>
          <p:cNvSpPr/>
          <p:nvPr/>
        </p:nvSpPr>
        <p:spPr>
          <a:xfrm>
            <a:off x="5364000" y="3933720"/>
            <a:ext cx="2881440" cy="1656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Женский 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Прямая со стрелкой 15"/>
          <p:cNvCxnSpPr/>
          <p:nvPr/>
        </p:nvCxnSpPr>
        <p:spPr>
          <a:xfrm>
            <a:off x="4572000" y="1341360"/>
            <a:ext cx="1008720" cy="273600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triangle" w="med"/>
          </a:ln>
        </p:spPr>
      </p:cxnSp>
    </p:spTree>
  </p:cSld>
  <p:transition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250920" y="2602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Bookman Old Style"/>
              </a:rPr>
              <a:t>Непостоянные морфологические признаки существи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Заголовок 1"/>
          <p:cNvSpPr/>
          <p:nvPr/>
        </p:nvSpPr>
        <p:spPr>
          <a:xfrm>
            <a:off x="395280" y="1413000"/>
            <a:ext cx="30970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4788000" y="1341360"/>
            <a:ext cx="30970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ад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Заголовок 1"/>
          <p:cNvSpPr/>
          <p:nvPr/>
        </p:nvSpPr>
        <p:spPr>
          <a:xfrm>
            <a:off x="395280" y="2421000"/>
            <a:ext cx="309708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Bookman Old Style"/>
              </a:rPr>
              <a:t>Единственно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Bookman Old Style"/>
              </a:rPr>
              <a:t>Множественно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3924360" y="2421000"/>
            <a:ext cx="4968720" cy="37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И (это) </a:t>
            </a:r>
            <a:r>
              <a:rPr b="1" i="1" lang="ru-RU" sz="2700" spc="-1" strike="noStrike">
                <a:solidFill>
                  <a:srgbClr val="c00000"/>
                </a:solidFill>
                <a:latin typeface="Bookman Old Style"/>
              </a:rPr>
              <a:t>кто? что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Р (нет) </a:t>
            </a:r>
            <a:r>
              <a:rPr b="1" i="1" lang="ru-RU" sz="2700" spc="-1" strike="noStrike">
                <a:solidFill>
                  <a:srgbClr val="c00000"/>
                </a:solidFill>
                <a:latin typeface="Bookman Old Style"/>
              </a:rPr>
              <a:t>кого? чего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Д (дать) </a:t>
            </a:r>
            <a:r>
              <a:rPr b="1" i="1" lang="ru-RU" sz="2700" spc="-1" strike="noStrike">
                <a:solidFill>
                  <a:srgbClr val="c00000"/>
                </a:solidFill>
                <a:latin typeface="Bookman Old Style"/>
              </a:rPr>
              <a:t>кому? чему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В (вижу) </a:t>
            </a:r>
            <a:r>
              <a:rPr b="1" i="1" lang="ru-RU" sz="2700" spc="-1" strike="noStrike">
                <a:solidFill>
                  <a:srgbClr val="c00000"/>
                </a:solidFill>
                <a:latin typeface="Bookman Old Style"/>
              </a:rPr>
              <a:t>кого? что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Т (любуюсь) </a:t>
            </a:r>
            <a:r>
              <a:rPr b="1" i="1" lang="ru-RU" sz="2700" spc="-1" strike="noStrike">
                <a:solidFill>
                  <a:srgbClr val="c00000"/>
                </a:solidFill>
                <a:latin typeface="Bookman Old Style"/>
              </a:rPr>
              <a:t>кем? чем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П (думаю) </a:t>
            </a:r>
            <a:r>
              <a:rPr b="1" i="1" lang="ru-RU" sz="2700" spc="-1" strike="noStrike">
                <a:solidFill>
                  <a:srgbClr val="c00000"/>
                </a:solidFill>
                <a:latin typeface="Bookman Old Style"/>
              </a:rPr>
              <a:t>о ком? о чем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179280" y="4762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Bookman Old Style"/>
              </a:rPr>
              <a:t>Котенок Мурзик сладко </a:t>
            </a: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спит</a:t>
            </a:r>
            <a:r>
              <a:rPr b="1" i="1" lang="ru-RU" sz="2800" spc="-1" strike="noStrike">
                <a:solidFill>
                  <a:srgbClr val="17375e"/>
                </a:solidFill>
                <a:latin typeface="Bookman Old Style"/>
              </a:rPr>
              <a:t> в теплой зимней маминой шап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2"/>
          <p:cNvSpPr/>
          <p:nvPr/>
        </p:nvSpPr>
        <p:spPr>
          <a:xfrm>
            <a:off x="395280" y="2565360"/>
            <a:ext cx="3889440" cy="165564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Единстве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5"/>
          <p:cNvSpPr/>
          <p:nvPr/>
        </p:nvSpPr>
        <p:spPr>
          <a:xfrm>
            <a:off x="4140360" y="4508640"/>
            <a:ext cx="3744720" cy="165708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редложный пад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Прямая со стрелкой 6"/>
          <p:cNvCxnSpPr/>
          <p:nvPr/>
        </p:nvCxnSpPr>
        <p:spPr>
          <a:xfrm flipH="1">
            <a:off x="2916000" y="1412640"/>
            <a:ext cx="1800720" cy="11527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71" name="Прямая со стрелкой 10"/>
          <p:cNvCxnSpPr/>
          <p:nvPr/>
        </p:nvCxnSpPr>
        <p:spPr>
          <a:xfrm>
            <a:off x="4788000" y="1413000"/>
            <a:ext cx="1080000" cy="30247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172" name="Рисунок 16" descr="67a87f9fbc3361a8b0215e0e2b968247.jpg"/>
          <p:cNvPicPr/>
          <p:nvPr/>
        </p:nvPicPr>
        <p:blipFill>
          <a:blip r:embed="rId1"/>
          <a:stretch/>
        </p:blipFill>
        <p:spPr>
          <a:xfrm>
            <a:off x="7812000" y="5732640"/>
            <a:ext cx="947880" cy="94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1762200" y="260280"/>
            <a:ext cx="54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Синтаксическая фу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250920" y="3141720"/>
            <a:ext cx="85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Bookman Old Style"/>
              </a:rPr>
              <a:t>Котенок Мурзик сладко спит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Bookman Old Style"/>
              </a:rPr>
              <a:t>теплой зимней маминой шап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Стрелка вниз 6"/>
          <p:cNvGrpSpPr/>
          <p:nvPr/>
        </p:nvGrpSpPr>
        <p:grpSpPr>
          <a:xfrm>
            <a:off x="3359160" y="871560"/>
            <a:ext cx="1914480" cy="542880"/>
            <a:chOff x="3359160" y="871560"/>
            <a:chExt cx="1914480" cy="542880"/>
          </a:xfrm>
        </p:grpSpPr>
        <p:pic>
          <p:nvPicPr>
            <p:cNvPr id="176" name="Стрелка вниз 6" descr=""/>
            <p:cNvPicPr/>
            <p:nvPr/>
          </p:nvPicPr>
          <p:blipFill>
            <a:blip r:embed="rId1"/>
            <a:stretch/>
          </p:blipFill>
          <p:spPr>
            <a:xfrm>
              <a:off x="3359160" y="871560"/>
              <a:ext cx="19144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870360" y="907920"/>
              <a:ext cx="900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Управляющая кнопка: домой 14"/>
          <p:cNvSpPr/>
          <p:nvPr/>
        </p:nvSpPr>
        <p:spPr>
          <a:xfrm>
            <a:off x="7956720" y="5805360"/>
            <a:ext cx="718920" cy="64800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3963" h="21600">
                <a:moveTo>
                  <a:pt x="0" y="0"/>
                </a:moveTo>
                <a:lnTo>
                  <a:pt x="23963" y="0"/>
                </a:lnTo>
                <a:lnTo>
                  <a:pt x="23963" y="21600"/>
                </a:lnTo>
                <a:lnTo>
                  <a:pt x="0" y="21600"/>
                </a:lnTo>
                <a:close/>
              </a:path>
              <a:path fill="lightenLess" w="23963" h="21600">
                <a:moveTo>
                  <a:pt x="0" y="0"/>
                </a:moveTo>
                <a:lnTo>
                  <a:pt x="23963" y="0"/>
                </a:lnTo>
                <a:lnTo>
                  <a:pt x="22563" y="1400"/>
                </a:lnTo>
                <a:lnTo>
                  <a:pt x="1400" y="1400"/>
                </a:lnTo>
                <a:close/>
              </a:path>
              <a:path fill="darken" w="23963" h="21600">
                <a:moveTo>
                  <a:pt x="23963" y="0"/>
                </a:moveTo>
                <a:lnTo>
                  <a:pt x="23963" y="21600"/>
                </a:lnTo>
                <a:lnTo>
                  <a:pt x="22563" y="20200"/>
                </a:lnTo>
                <a:lnTo>
                  <a:pt x="22563" y="1400"/>
                </a:lnTo>
                <a:close/>
              </a:path>
              <a:path fill="darkenLess" w="23963" h="21600">
                <a:moveTo>
                  <a:pt x="23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3" y="20200"/>
                </a:lnTo>
                <a:close/>
              </a:path>
              <a:path fill="lighten" w="23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3" h="21600">
                <a:moveTo>
                  <a:pt x="11981" y="3837"/>
                </a:moveTo>
                <a:lnTo>
                  <a:pt x="14558" y="6448"/>
                </a:ln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lnTo>
                  <a:pt x="18944" y="10800"/>
                </a:lnTo>
                <a:lnTo>
                  <a:pt x="17291" y="10800"/>
                </a:lnTo>
                <a:lnTo>
                  <a:pt x="17291" y="17989"/>
                </a:lnTo>
                <a:lnTo>
                  <a:pt x="6672" y="17989"/>
                </a:lnTo>
                <a:lnTo>
                  <a:pt x="6672" y="10800"/>
                </a:lnTo>
                <a:lnTo>
                  <a:pt x="5018" y="10800"/>
                </a:lnTo>
                <a:close/>
              </a:path>
              <a:path fill="darkenLess" w="23963" h="21600">
                <a:moveTo>
                  <a:pt x="14558" y="6448"/>
                </a:move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close/>
              </a:path>
              <a:path fill="darkenLess" w="23963" h="21600">
                <a:moveTo>
                  <a:pt x="11059" y="14299"/>
                </a:moveTo>
                <a:lnTo>
                  <a:pt x="12904" y="14299"/>
                </a:lnTo>
                <a:lnTo>
                  <a:pt x="12904" y="17989"/>
                </a:lnTo>
                <a:lnTo>
                  <a:pt x="17291" y="17989"/>
                </a:lnTo>
                <a:lnTo>
                  <a:pt x="17291" y="10800"/>
                </a:lnTo>
                <a:lnTo>
                  <a:pt x="6672" y="10800"/>
                </a:lnTo>
                <a:lnTo>
                  <a:pt x="6672" y="17989"/>
                </a:lnTo>
                <a:lnTo>
                  <a:pt x="11059" y="17989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16"/>
          <p:cNvSpPr/>
          <p:nvPr/>
        </p:nvSpPr>
        <p:spPr>
          <a:xfrm flipV="1">
            <a:off x="7451640" y="2997360"/>
            <a:ext cx="0" cy="28728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18"/>
          <p:cNvSpPr/>
          <p:nvPr/>
        </p:nvSpPr>
        <p:spPr>
          <a:xfrm flipH="1">
            <a:off x="1692360" y="4149720"/>
            <a:ext cx="590400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Прямая со стрелкой 20"/>
          <p:cNvCxnSpPr/>
          <p:nvPr/>
        </p:nvCxnSpPr>
        <p:spPr>
          <a:xfrm>
            <a:off x="7596000" y="4149360"/>
            <a:ext cx="1080" cy="36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2" name="TextBox 21"/>
          <p:cNvSpPr/>
          <p:nvPr/>
        </p:nvSpPr>
        <p:spPr>
          <a:xfrm>
            <a:off x="3890160" y="364500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Bookman Old Style"/>
              </a:rPr>
              <a:t>г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15"/>
          <p:cNvSpPr/>
          <p:nvPr/>
        </p:nvSpPr>
        <p:spPr>
          <a:xfrm>
            <a:off x="2411280" y="1413000"/>
            <a:ext cx="4032360" cy="863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бстоя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4"/>
          <p:cNvSpPr/>
          <p:nvPr/>
        </p:nvSpPr>
        <p:spPr>
          <a:xfrm flipH="1">
            <a:off x="6875280" y="4941720"/>
            <a:ext cx="36180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12"/>
          <p:cNvSpPr/>
          <p:nvPr/>
        </p:nvSpPr>
        <p:spPr>
          <a:xfrm flipH="1">
            <a:off x="7451280" y="2997360"/>
            <a:ext cx="136836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9"/>
          <p:cNvSpPr/>
          <p:nvPr/>
        </p:nvSpPr>
        <p:spPr>
          <a:xfrm flipH="1">
            <a:off x="7524360" y="4941720"/>
            <a:ext cx="36036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22"/>
          <p:cNvSpPr/>
          <p:nvPr/>
        </p:nvSpPr>
        <p:spPr>
          <a:xfrm flipH="1">
            <a:off x="8243640" y="4941720"/>
            <a:ext cx="36180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23"/>
          <p:cNvSpPr/>
          <p:nvPr/>
        </p:nvSpPr>
        <p:spPr>
          <a:xfrm flipH="1">
            <a:off x="8172360" y="3860640"/>
            <a:ext cx="21744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25"/>
          <p:cNvSpPr/>
          <p:nvPr/>
        </p:nvSpPr>
        <p:spPr>
          <a:xfrm flipH="1">
            <a:off x="8675640" y="3860640"/>
            <a:ext cx="21744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27"/>
          <p:cNvSpPr/>
          <p:nvPr/>
        </p:nvSpPr>
        <p:spPr>
          <a:xfrm flipH="1">
            <a:off x="7308360" y="4941720"/>
            <a:ext cx="63720" cy="828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29"/>
          <p:cNvSpPr/>
          <p:nvPr/>
        </p:nvSpPr>
        <p:spPr>
          <a:xfrm>
            <a:off x="8028000" y="4941720"/>
            <a:ext cx="7308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35"/>
          <p:cNvSpPr/>
          <p:nvPr/>
        </p:nvSpPr>
        <p:spPr>
          <a:xfrm flipH="1">
            <a:off x="8532360" y="3860640"/>
            <a:ext cx="71640" cy="1764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84800" y="476280"/>
            <a:ext cx="768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Bookman Old Style"/>
              </a:rPr>
              <a:t>Котенок Мурзик сладко спит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в</a:t>
            </a:r>
            <a:r>
              <a:rPr b="1" i="1" lang="ru-RU" sz="3600" spc="-1" strike="noStrike">
                <a:solidFill>
                  <a:srgbClr val="632523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Bookman Old Style"/>
              </a:rPr>
              <a:t>теплой зимней маминой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шапке</a:t>
            </a:r>
            <a:r>
              <a:rPr b="1" i="1" lang="ru-RU" sz="3600" spc="-1" strike="noStrike">
                <a:solidFill>
                  <a:srgbClr val="632523"/>
                </a:solidFill>
                <a:latin typeface="Bookman Old Styl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котенок.gif"/>
          <p:cNvPicPr/>
          <p:nvPr/>
        </p:nvPicPr>
        <p:blipFill>
          <a:blip r:embed="rId1"/>
          <a:stretch/>
        </p:blipFill>
        <p:spPr>
          <a:xfrm>
            <a:off x="1979640" y="2276640"/>
            <a:ext cx="5162400" cy="3571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Прямоугольник 1" descr=""/>
          <p:cNvPicPr/>
          <p:nvPr/>
        </p:nvPicPr>
        <p:blipFill>
          <a:blip r:embed="rId1"/>
          <a:stretch/>
        </p:blipFill>
        <p:spPr>
          <a:xfrm>
            <a:off x="2462040" y="-12600"/>
            <a:ext cx="4183200" cy="8776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2"/>
          <p:cNvSpPr/>
          <p:nvPr/>
        </p:nvSpPr>
        <p:spPr>
          <a:xfrm>
            <a:off x="179280" y="907920"/>
            <a:ext cx="856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Bookman Old Style"/>
              </a:rPr>
              <a:t>(в) шап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Bookman Old Style"/>
              </a:rPr>
              <a:t>I. </a:t>
            </a:r>
            <a:r>
              <a:rPr b="1" i="1" lang="ru-RU" sz="3200" spc="-1" strike="noStrike">
                <a:solidFill>
                  <a:srgbClr val="17375e"/>
                </a:solidFill>
                <a:latin typeface="Bookman Old Style"/>
              </a:rPr>
              <a:t>н.ф. – шапка, сущ., где (в чем?), обозн. предм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Bookman Old Style"/>
              </a:rPr>
              <a:t>II. </a:t>
            </a:r>
            <a:r>
              <a:rPr b="1" i="1" lang="ru-RU" sz="3200" spc="-1" strike="noStrike">
                <a:solidFill>
                  <a:srgbClr val="17375e"/>
                </a:solidFill>
                <a:latin typeface="Bookman Old Style"/>
              </a:rPr>
              <a:t>Морфол. призна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Bookman Old Style"/>
              </a:rPr>
              <a:t>Постоянные – конкр., нариц., неодуш., ж.р., 1 скл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Bookman Old Style"/>
              </a:rPr>
              <a:t>Непостоянные – в ед.ч., пр.п.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Bookman Old Style"/>
              </a:rPr>
              <a:t>III. </a:t>
            </a:r>
            <a:r>
              <a:rPr b="1" i="1" lang="ru-RU" sz="3200" spc="-1" strike="noStrike">
                <a:solidFill>
                  <a:srgbClr val="17375e"/>
                </a:solidFill>
                <a:latin typeface="Bookman Old Style"/>
              </a:rPr>
              <a:t>Синт.роль – обстоятель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3" descr="kopiya2de75a8025ea.png"/>
          <p:cNvPicPr/>
          <p:nvPr/>
        </p:nvPicPr>
        <p:blipFill>
          <a:blip r:embed="rId2"/>
          <a:stretch/>
        </p:blipFill>
        <p:spPr>
          <a:xfrm>
            <a:off x="6372360" y="4724280"/>
            <a:ext cx="2377800" cy="1855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4140360" y="404640"/>
            <a:ext cx="460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Зима недаром злитс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Прошла ее </a:t>
            </a:r>
            <a:r>
              <a:rPr b="1" i="1" lang="ru-RU" sz="4000" spc="-1" strike="noStrike">
                <a:solidFill>
                  <a:srgbClr val="953735"/>
                </a:solidFill>
                <a:latin typeface="Bookman Old Style"/>
              </a:rPr>
              <a:t>пора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Весна </a:t>
            </a:r>
            <a:r>
              <a:rPr b="1" i="1" lang="ru-RU" sz="4000" spc="-1" strike="noStrike">
                <a:solidFill>
                  <a:srgbClr val="953735"/>
                </a:solidFill>
                <a:latin typeface="Bookman Old Style"/>
              </a:rPr>
              <a:t>в окно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стучи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И гонит </a:t>
            </a:r>
            <a:r>
              <a:rPr b="1" i="1" lang="ru-RU" sz="4000" spc="-1" strike="noStrike">
                <a:solidFill>
                  <a:srgbClr val="953735"/>
                </a:solidFill>
                <a:latin typeface="Bookman Old Style"/>
              </a:rPr>
              <a:t>со дво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2"/>
          <p:cNvSpPr/>
          <p:nvPr/>
        </p:nvSpPr>
        <p:spPr>
          <a:xfrm>
            <a:off x="250920" y="260280"/>
            <a:ext cx="4176720" cy="647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Порядок раз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4572000" y="260280"/>
            <a:ext cx="4321080" cy="647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Образец раз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>
            <a:hlinkClick r:id="rId1" action="ppaction://hlinksldjump"/>
          </p:cNvPr>
          <p:cNvSpPr/>
          <p:nvPr/>
        </p:nvSpPr>
        <p:spPr>
          <a:xfrm>
            <a:off x="250920" y="1413000"/>
            <a:ext cx="4176720" cy="64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ачальная 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>
            <a:hlinkClick r:id="rId2" action="ppaction://hlinksldjump"/>
          </p:cNvPr>
          <p:cNvSpPr/>
          <p:nvPr/>
        </p:nvSpPr>
        <p:spPr>
          <a:xfrm>
            <a:off x="250920" y="2133720"/>
            <a:ext cx="4176720" cy="863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лово как часть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>
            <a:hlinkClick r:id="rId3" action="ppaction://hlinksldjump"/>
          </p:cNvPr>
          <p:cNvSpPr/>
          <p:nvPr/>
        </p:nvSpPr>
        <p:spPr>
          <a:xfrm>
            <a:off x="250920" y="3068640"/>
            <a:ext cx="4176720" cy="792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остоянные морфо-логические призн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4572000" y="1413000"/>
            <a:ext cx="4321080" cy="64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.ф. ша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4572000" y="2133720"/>
            <a:ext cx="4321080" cy="863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I.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сущ., в чем?, обозн. предм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4572000" y="3068640"/>
            <a:ext cx="4321080" cy="792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II.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конкретн., нариц., неодуш., 1 скл., жен.р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0">
            <a:hlinkClick r:id="rId4" action="ppaction://hlinksldjump"/>
          </p:cNvPr>
          <p:cNvSpPr/>
          <p:nvPr/>
        </p:nvSpPr>
        <p:spPr>
          <a:xfrm>
            <a:off x="250920" y="5013360"/>
            <a:ext cx="417672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интаксическая фу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4572000" y="5013360"/>
            <a:ext cx="432108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IV.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обстоя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Стрелка вниз 13"/>
          <p:cNvGrpSpPr/>
          <p:nvPr/>
        </p:nvGrpSpPr>
        <p:grpSpPr>
          <a:xfrm>
            <a:off x="1560600" y="798480"/>
            <a:ext cx="1481040" cy="615960"/>
            <a:chOff x="1560600" y="798480"/>
            <a:chExt cx="1481040" cy="615960"/>
          </a:xfrm>
        </p:grpSpPr>
        <p:pic>
          <p:nvPicPr>
            <p:cNvPr id="56" name="Стрелка вниз 13" descr=""/>
            <p:cNvPicPr/>
            <p:nvPr/>
          </p:nvPicPr>
          <p:blipFill>
            <a:blip r:embed="rId5"/>
            <a:stretch/>
          </p:blipFill>
          <p:spPr>
            <a:xfrm>
              <a:off x="1560600" y="798480"/>
              <a:ext cx="1481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962000" y="836640"/>
              <a:ext cx="68436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Стрелка вниз 14"/>
          <p:cNvGrpSpPr/>
          <p:nvPr/>
        </p:nvGrpSpPr>
        <p:grpSpPr>
          <a:xfrm>
            <a:off x="6022800" y="798480"/>
            <a:ext cx="1487520" cy="615960"/>
            <a:chOff x="6022800" y="798480"/>
            <a:chExt cx="1487520" cy="615960"/>
          </a:xfrm>
        </p:grpSpPr>
        <p:pic>
          <p:nvPicPr>
            <p:cNvPr id="59" name="Стрелка вниз 14" descr=""/>
            <p:cNvPicPr/>
            <p:nvPr/>
          </p:nvPicPr>
          <p:blipFill>
            <a:blip r:embed="rId6"/>
            <a:stretch/>
          </p:blipFill>
          <p:spPr>
            <a:xfrm>
              <a:off x="6022800" y="798480"/>
              <a:ext cx="14875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26360" y="836640"/>
              <a:ext cx="68400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Прямоугольник 26"/>
          <p:cNvSpPr/>
          <p:nvPr/>
        </p:nvSpPr>
        <p:spPr>
          <a:xfrm>
            <a:off x="250920" y="3933720"/>
            <a:ext cx="4176720" cy="1008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епостоянные морфо-логические призн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8"/>
          <p:cNvSpPr/>
          <p:nvPr/>
        </p:nvSpPr>
        <p:spPr>
          <a:xfrm>
            <a:off x="4572000" y="3933720"/>
            <a:ext cx="4321080" cy="1008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II.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в ед.ч., в предл.п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9" descr="vosklicanie.jpg"/>
          <p:cNvPicPr/>
          <p:nvPr/>
        </p:nvPicPr>
        <p:blipFill>
          <a:blip r:embed="rId7"/>
          <a:stretch/>
        </p:blipFill>
        <p:spPr>
          <a:xfrm>
            <a:off x="7956720" y="5157720"/>
            <a:ext cx="1077840" cy="153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32400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Bookman Old Style"/>
              </a:rPr>
              <a:t>Начальная форма существите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0_45a6e_37c5b1ec_XL.jpg"/>
          <p:cNvPicPr/>
          <p:nvPr/>
        </p:nvPicPr>
        <p:blipFill>
          <a:blip r:embed="rId1"/>
          <a:stretch/>
        </p:blipFill>
        <p:spPr>
          <a:xfrm>
            <a:off x="5954760" y="4865760"/>
            <a:ext cx="3189240" cy="1992240"/>
          </a:xfrm>
          <a:prstGeom prst="rect">
            <a:avLst/>
          </a:prstGeom>
          <a:ln w="0">
            <a:noFill/>
          </a:ln>
        </p:spPr>
      </p:pic>
      <p:sp>
        <p:nvSpPr>
          <p:cNvPr id="66" name="Овал 5"/>
          <p:cNvSpPr/>
          <p:nvPr/>
        </p:nvSpPr>
        <p:spPr>
          <a:xfrm>
            <a:off x="2340000" y="1125360"/>
            <a:ext cx="4032360" cy="863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6"/>
          <p:cNvSpPr/>
          <p:nvPr/>
        </p:nvSpPr>
        <p:spPr>
          <a:xfrm>
            <a:off x="250920" y="2492280"/>
            <a:ext cx="4033800" cy="8654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К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7"/>
          <p:cNvSpPr/>
          <p:nvPr/>
        </p:nvSpPr>
        <p:spPr>
          <a:xfrm>
            <a:off x="4788000" y="2492280"/>
            <a:ext cx="4032000" cy="8654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Ч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2050920" y="3860640"/>
            <a:ext cx="4897440" cy="129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Ед.ч., им.падеж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11"/>
          <p:cNvCxnSpPr>
            <a:stCxn id="66" idx="4"/>
            <a:endCxn id="67" idx="0"/>
          </p:cNvCxnSpPr>
          <p:nvPr/>
        </p:nvCxnSpPr>
        <p:spPr>
          <a:xfrm flipH="1">
            <a:off x="2267640" y="1989000"/>
            <a:ext cx="208836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1" name="Прямая со стрелкой 12"/>
          <p:cNvCxnSpPr>
            <a:stCxn id="66" idx="4"/>
            <a:endCxn id="68" idx="0"/>
          </p:cNvCxnSpPr>
          <p:nvPr/>
        </p:nvCxnSpPr>
        <p:spPr>
          <a:xfrm>
            <a:off x="4356000" y="1989000"/>
            <a:ext cx="244872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</p:cxnSp>
    </p:spTree>
  </p:cSld>
  <p:transition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2156040" y="260280"/>
            <a:ext cx="46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Слово как часть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250920" y="1268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Bookman Old Style"/>
              </a:rPr>
              <a:t>Часть ре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492360" y="836640"/>
            <a:ext cx="46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Местои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Глаг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Наре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250920" y="3357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Bookman Old Style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3059280" y="2852640"/>
            <a:ext cx="57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Кто? Ч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Какой? Какая? Какое? Как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Что делать? Чт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Где? Куда? Когда? Отк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Почему? Зачем? Ка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108000" y="5516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Bookman Old Style"/>
              </a:rPr>
              <a:t>Что обознач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3635280" y="4869000"/>
            <a:ext cx="46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Предм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Призн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Признак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Левая фигурная скобка 8"/>
          <p:cNvSpPr/>
          <p:nvPr/>
        </p:nvSpPr>
        <p:spPr>
          <a:xfrm>
            <a:off x="3419640" y="907920"/>
            <a:ext cx="504720" cy="1729080"/>
          </a:xfrm>
          <a:custGeom>
            <a:avLst/>
            <a:gdLst>
              <a:gd name="textAreaLeft" fmla="*/ 322560 w 504720"/>
              <a:gd name="textAreaRight" fmla="*/ 505080 w 504720"/>
              <a:gd name="textAreaTop" fmla="*/ 12960 h 1729080"/>
              <a:gd name="textAreaBottom" fmla="*/ 1716120 h 17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3"/>
                  <a:pt x="10800" y="526"/>
                </a:cubicBezTo>
                <a:lnTo>
                  <a:pt x="10800" y="10274"/>
                </a:lnTo>
                <a:cubicBezTo>
                  <a:pt x="10800" y="10537"/>
                  <a:pt x="5400" y="10800"/>
                  <a:pt x="0" y="10800"/>
                </a:cubicBezTo>
                <a:cubicBezTo>
                  <a:pt x="5400" y="10800"/>
                  <a:pt x="10800" y="11063"/>
                  <a:pt x="10800" y="11326"/>
                </a:cubicBezTo>
                <a:lnTo>
                  <a:pt x="10800" y="21074"/>
                </a:lnTo>
                <a:cubicBezTo>
                  <a:pt x="10800" y="21337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Левая фигурная скобка 9"/>
          <p:cNvSpPr/>
          <p:nvPr/>
        </p:nvSpPr>
        <p:spPr>
          <a:xfrm>
            <a:off x="2771640" y="2924280"/>
            <a:ext cx="505080" cy="1873080"/>
          </a:xfrm>
          <a:custGeom>
            <a:avLst/>
            <a:gdLst>
              <a:gd name="textAreaLeft" fmla="*/ 322920 w 505080"/>
              <a:gd name="textAreaRight" fmla="*/ 505440 w 505080"/>
              <a:gd name="textAreaTop" fmla="*/ 12960 h 1873080"/>
              <a:gd name="textAreaBottom" fmla="*/ 186012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3"/>
                  <a:pt x="10800" y="485"/>
                </a:cubicBezTo>
                <a:lnTo>
                  <a:pt x="10800" y="10315"/>
                </a:lnTo>
                <a:cubicBezTo>
                  <a:pt x="10800" y="10558"/>
                  <a:pt x="5400" y="10800"/>
                  <a:pt x="0" y="10800"/>
                </a:cubicBezTo>
                <a:cubicBezTo>
                  <a:pt x="5400" y="10800"/>
                  <a:pt x="10800" y="11043"/>
                  <a:pt x="10800" y="11285"/>
                </a:cubicBezTo>
                <a:lnTo>
                  <a:pt x="10800" y="21115"/>
                </a:lnTo>
                <a:cubicBezTo>
                  <a:pt x="10800" y="21358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Левая фигурная скобка 10"/>
          <p:cNvSpPr/>
          <p:nvPr/>
        </p:nvSpPr>
        <p:spPr>
          <a:xfrm>
            <a:off x="3564000" y="4869000"/>
            <a:ext cx="503280" cy="1584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12960 h 1584360"/>
              <a:gd name="textAreaBottom" fmla="*/ 157140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6"/>
                  <a:pt x="10800" y="572"/>
                </a:cubicBezTo>
                <a:lnTo>
                  <a:pt x="10800" y="10228"/>
                </a:lnTo>
                <a:cubicBezTo>
                  <a:pt x="10800" y="10514"/>
                  <a:pt x="5400" y="10800"/>
                  <a:pt x="0" y="10800"/>
                </a:cubicBezTo>
                <a:cubicBezTo>
                  <a:pt x="5400" y="10800"/>
                  <a:pt x="10800" y="11086"/>
                  <a:pt x="10800" y="11372"/>
                </a:cubicBezTo>
                <a:lnTo>
                  <a:pt x="10800" y="21028"/>
                </a:lnTo>
                <a:cubicBezTo>
                  <a:pt x="10800" y="21314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правляющая кнопка: далее 11"/>
          <p:cNvSpPr/>
          <p:nvPr/>
        </p:nvSpPr>
        <p:spPr>
          <a:xfrm>
            <a:off x="8244000" y="6093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179280" y="4762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Bookman Old Style"/>
              </a:rPr>
              <a:t>Котенок Мурзик сладко </a:t>
            </a:r>
            <a:r>
              <a:rPr b="1" i="1" lang="ru-RU" sz="2800" spc="-1" strike="noStrike">
                <a:solidFill>
                  <a:srgbClr val="254061"/>
                </a:solidFill>
                <a:latin typeface="Bookman Old Style"/>
              </a:rPr>
              <a:t>спит</a:t>
            </a:r>
            <a:r>
              <a:rPr b="1" i="1" lang="ru-RU" sz="2800" spc="-1" strike="noStrike">
                <a:solidFill>
                  <a:srgbClr val="17375e"/>
                </a:solidFill>
                <a:latin typeface="Bookman Old Style"/>
              </a:rPr>
              <a:t> в теплой зимней маминой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шап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Управляющая кнопка: домой 7"/>
          <p:cNvSpPr/>
          <p:nvPr/>
        </p:nvSpPr>
        <p:spPr>
          <a:xfrm>
            <a:off x="7956720" y="5805360"/>
            <a:ext cx="718920" cy="64800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3963" h="21600">
                <a:moveTo>
                  <a:pt x="0" y="0"/>
                </a:moveTo>
                <a:lnTo>
                  <a:pt x="23963" y="0"/>
                </a:lnTo>
                <a:lnTo>
                  <a:pt x="23963" y="21600"/>
                </a:lnTo>
                <a:lnTo>
                  <a:pt x="0" y="21600"/>
                </a:lnTo>
                <a:close/>
              </a:path>
              <a:path fill="lightenLess" w="23963" h="21600">
                <a:moveTo>
                  <a:pt x="0" y="0"/>
                </a:moveTo>
                <a:lnTo>
                  <a:pt x="23963" y="0"/>
                </a:lnTo>
                <a:lnTo>
                  <a:pt x="22563" y="1400"/>
                </a:lnTo>
                <a:lnTo>
                  <a:pt x="1400" y="1400"/>
                </a:lnTo>
                <a:close/>
              </a:path>
              <a:path fill="darken" w="23963" h="21600">
                <a:moveTo>
                  <a:pt x="23963" y="0"/>
                </a:moveTo>
                <a:lnTo>
                  <a:pt x="23963" y="21600"/>
                </a:lnTo>
                <a:lnTo>
                  <a:pt x="22563" y="20200"/>
                </a:lnTo>
                <a:lnTo>
                  <a:pt x="22563" y="1400"/>
                </a:lnTo>
                <a:close/>
              </a:path>
              <a:path fill="darkenLess" w="23963" h="21600">
                <a:moveTo>
                  <a:pt x="23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3" y="20200"/>
                </a:lnTo>
                <a:close/>
              </a:path>
              <a:path fill="lighten" w="23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3" h="21600">
                <a:moveTo>
                  <a:pt x="11981" y="3837"/>
                </a:moveTo>
                <a:lnTo>
                  <a:pt x="14558" y="6448"/>
                </a:ln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lnTo>
                  <a:pt x="18944" y="10800"/>
                </a:lnTo>
                <a:lnTo>
                  <a:pt x="17291" y="10800"/>
                </a:lnTo>
                <a:lnTo>
                  <a:pt x="17291" y="17989"/>
                </a:lnTo>
                <a:lnTo>
                  <a:pt x="6672" y="17989"/>
                </a:lnTo>
                <a:lnTo>
                  <a:pt x="6672" y="10800"/>
                </a:lnTo>
                <a:lnTo>
                  <a:pt x="5018" y="10800"/>
                </a:lnTo>
                <a:close/>
              </a:path>
              <a:path fill="darkenLess" w="23963" h="21600">
                <a:moveTo>
                  <a:pt x="14558" y="6448"/>
                </a:move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close/>
              </a:path>
              <a:path fill="darkenLess" w="23963" h="21600">
                <a:moveTo>
                  <a:pt x="11059" y="14299"/>
                </a:moveTo>
                <a:lnTo>
                  <a:pt x="12904" y="14299"/>
                </a:lnTo>
                <a:lnTo>
                  <a:pt x="12904" y="17989"/>
                </a:lnTo>
                <a:lnTo>
                  <a:pt x="17291" y="17989"/>
                </a:lnTo>
                <a:lnTo>
                  <a:pt x="17291" y="10800"/>
                </a:lnTo>
                <a:lnTo>
                  <a:pt x="6672" y="10800"/>
                </a:lnTo>
                <a:lnTo>
                  <a:pt x="6672" y="17989"/>
                </a:lnTo>
                <a:lnTo>
                  <a:pt x="11059" y="17989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6"/>
          <p:cNvCxnSpPr/>
          <p:nvPr/>
        </p:nvCxnSpPr>
        <p:spPr>
          <a:xfrm flipH="1">
            <a:off x="3779640" y="981000"/>
            <a:ext cx="2305440" cy="115344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86" name="Прямая со стрелкой 11"/>
          <p:cNvCxnSpPr/>
          <p:nvPr/>
        </p:nvCxnSpPr>
        <p:spPr>
          <a:xfrm flipH="1">
            <a:off x="3058920" y="981000"/>
            <a:ext cx="3026160" cy="38887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87" name="Прямая со стрелкой 16"/>
          <p:cNvCxnSpPr/>
          <p:nvPr/>
        </p:nvCxnSpPr>
        <p:spPr>
          <a:xfrm>
            <a:off x="6084720" y="980640"/>
            <a:ext cx="720000" cy="208836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8" name="Овал 20"/>
          <p:cNvSpPr/>
          <p:nvPr/>
        </p:nvSpPr>
        <p:spPr>
          <a:xfrm>
            <a:off x="324000" y="1844640"/>
            <a:ext cx="3527280" cy="11527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уществи-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21"/>
          <p:cNvSpPr/>
          <p:nvPr/>
        </p:nvSpPr>
        <p:spPr>
          <a:xfrm>
            <a:off x="611280" y="4869000"/>
            <a:ext cx="3529080" cy="11523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Г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(в чем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22"/>
          <p:cNvSpPr/>
          <p:nvPr/>
        </p:nvSpPr>
        <p:spPr>
          <a:xfrm>
            <a:off x="4500720" y="3141720"/>
            <a:ext cx="4392360" cy="143964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Обозначает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156320" y="260280"/>
            <a:ext cx="664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Постоянные морфолог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признаки существитель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правляющая кнопка: далее 19"/>
          <p:cNvSpPr/>
          <p:nvPr/>
        </p:nvSpPr>
        <p:spPr>
          <a:xfrm>
            <a:off x="8388360" y="63086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2"/>
          <p:cNvSpPr/>
          <p:nvPr/>
        </p:nvSpPr>
        <p:spPr>
          <a:xfrm>
            <a:off x="2627280" y="1484280"/>
            <a:ext cx="3384720" cy="86508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разря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3059280" y="2852640"/>
            <a:ext cx="2952720" cy="180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Конкр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Отвлеч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Веще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обир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250920" y="2565360"/>
            <a:ext cx="2592360" cy="792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Одушевл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Неодушевл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6"/>
          <p:cNvSpPr/>
          <p:nvPr/>
        </p:nvSpPr>
        <p:spPr>
          <a:xfrm>
            <a:off x="6227640" y="2565360"/>
            <a:ext cx="2592360" cy="792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об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Нариц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18"/>
          <p:cNvSpPr/>
          <p:nvPr/>
        </p:nvSpPr>
        <p:spPr>
          <a:xfrm>
            <a:off x="179280" y="4941720"/>
            <a:ext cx="3635640" cy="86364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20"/>
          <p:cNvSpPr/>
          <p:nvPr/>
        </p:nvSpPr>
        <p:spPr>
          <a:xfrm>
            <a:off x="5292720" y="4941720"/>
            <a:ext cx="3635280" cy="86364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1619280" y="115920"/>
            <a:ext cx="5616720" cy="647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Разряды по знач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981000"/>
          <a:ext cx="8785440" cy="4114800"/>
        </p:xfrm>
        <a:graphic>
          <a:graphicData uri="http://schemas.openxmlformats.org/drawingml/2006/table">
            <a:tbl>
              <a:tblPr/>
              <a:tblGrid>
                <a:gridCol w="2305080"/>
                <a:gridCol w="3456000"/>
                <a:gridCol w="3024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ряд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ч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рет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ывают конкретные предм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, озеро, книга, дру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лечен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йства, качества, чувства, состоя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нь, грусть, доброта, крас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ществен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ывают ве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ка, чернила, соль, 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иратель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ывают совокупность предметов как одно цел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вора, листва, студен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1619280" y="333360"/>
            <a:ext cx="5616720" cy="647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одушевл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108000" y="1268280"/>
            <a:ext cx="4248000" cy="64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одушевле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4572000" y="1268280"/>
            <a:ext cx="4392720" cy="648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неодушевл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108000" y="2565360"/>
            <a:ext cx="4248000" cy="93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Мн.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Р=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4572000" y="2565360"/>
            <a:ext cx="4392720" cy="934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Мн.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И=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108000" y="3573360"/>
            <a:ext cx="4248000" cy="1584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Р. Ко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В. Ко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4572000" y="3573360"/>
            <a:ext cx="4392720" cy="1584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И. Тетр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В.Тетрад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Стрелка вниз 8"/>
          <p:cNvGrpSpPr/>
          <p:nvPr/>
        </p:nvGrpSpPr>
        <p:grpSpPr>
          <a:xfrm>
            <a:off x="1341360" y="2023920"/>
            <a:ext cx="1700280" cy="543240"/>
            <a:chOff x="1341360" y="2023920"/>
            <a:chExt cx="1700280" cy="543240"/>
          </a:xfrm>
        </p:grpSpPr>
        <p:pic>
          <p:nvPicPr>
            <p:cNvPr id="109" name="Стрелка вниз 8" descr=""/>
            <p:cNvPicPr/>
            <p:nvPr/>
          </p:nvPicPr>
          <p:blipFill>
            <a:blip r:embed="rId1"/>
            <a:stretch/>
          </p:blipFill>
          <p:spPr>
            <a:xfrm>
              <a:off x="1341360" y="2023920"/>
              <a:ext cx="1700280" cy="5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800360" y="2060640"/>
              <a:ext cx="792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Стрелка вниз 9"/>
          <p:cNvGrpSpPr/>
          <p:nvPr/>
        </p:nvGrpSpPr>
        <p:grpSpPr>
          <a:xfrm>
            <a:off x="5950080" y="2023920"/>
            <a:ext cx="1554120" cy="543240"/>
            <a:chOff x="5950080" y="2023920"/>
            <a:chExt cx="1554120" cy="543240"/>
          </a:xfrm>
        </p:grpSpPr>
        <p:pic>
          <p:nvPicPr>
            <p:cNvPr id="112" name="Стрелка вниз 9" descr=""/>
            <p:cNvPicPr/>
            <p:nvPr/>
          </p:nvPicPr>
          <p:blipFill>
            <a:blip r:embed="rId2"/>
            <a:stretch/>
          </p:blipFill>
          <p:spPr>
            <a:xfrm>
              <a:off x="5950080" y="2023920"/>
              <a:ext cx="1554120" cy="5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372360" y="2060640"/>
              <a:ext cx="720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6:52:38Z</dcterms:created>
  <dc:creator>Русина</dc:creator>
  <dc:description/>
  <dc:language>en-US</dc:language>
  <cp:lastModifiedBy>Русина</cp:lastModifiedBy>
  <dcterms:modified xsi:type="dcterms:W3CDTF">2012-08-26T09:54:04Z</dcterms:modified>
  <cp:revision>41</cp:revision>
  <dc:subject/>
  <dc:title>Слайд 1</dc:title>
</cp:coreProperties>
</file>