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4.png" ContentType="image/png"/>
  <Override PartName="/ppt/media/image12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1.png" ContentType="image/png"/>
  <Override PartName="/ppt/media/image48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5.png" ContentType="image/png"/>
  <Override PartName="/ppt/media/image43.jpeg" ContentType="image/jpeg"/>
  <Override PartName="/ppt/media/image40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B588-0DDF-4FF3-B339-B73B873C4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0E46-6F4E-45BC-AD21-3E27F82EB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4EB1-D319-4303-86DA-AFE4601CC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0EB7-F3BF-49D8-AD3F-48379C294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1AEE-166A-4AF1-9074-4E7539546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52F5-EAB4-4BB7-88C5-10895D165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76C8-0394-4B8D-AF1C-D6571D49F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3C2B-AEA8-4428-AA82-9B21BB694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6360-4E3B-4DEC-98EF-A3EDD368F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40A7-CC6C-4132-AA53-547CDAD7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34FD-9D7D-42AD-973B-F8424E0B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E31D-0794-40E8-8AC6-B7D0A443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ffc0"/>
            </a:gs>
            <a:gs pos="100000">
              <a:srgbClr val="c1ffc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A7E2B-B1C2-49E1-8612-B8830096A1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pn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image" Target="../media/image48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uchebnik/prov.html" TargetMode="External"/><Relationship Id="rId2" Type="http://schemas.openxmlformats.org/officeDocument/2006/relationships/hyperlink" Target="file:///uchebnik/kross.xls" TargetMode="External"/><Relationship Id="rId3" Type="http://schemas.openxmlformats.org/officeDocument/2006/relationships/hyperlink" Target="file:///uchebnik/otvv.html" TargetMode="External"/><Relationship Id="rId4" Type="http://schemas.openxmlformats.org/officeDocument/2006/relationships/hyperlink" Target="file:///uchebnik/sam.html" TargetMode="External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ffc0"/>
            </a:gs>
            <a:gs pos="100000">
              <a:srgbClr val="c1ffc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6600" y="692280"/>
            <a:ext cx="7768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Проектно – исследовательская рабо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Тема: Электронный учеб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«Планета Загадок».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700360" y="3068640"/>
            <a:ext cx="36720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ffc0"/>
            </a:gs>
            <a:gs pos="100000">
              <a:srgbClr val="c1ffc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770040" y="836640"/>
            <a:ext cx="750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Познакомились с удивительными растения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и необыкновенными деревь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1763640" y="1916280"/>
            <a:ext cx="503280" cy="576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2195280" y="2708280"/>
            <a:ext cx="647640" cy="16574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4716000" y="1844640"/>
            <a:ext cx="71640" cy="2232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51640" y="2133720"/>
            <a:ext cx="863640" cy="1871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300720" y="2060640"/>
            <a:ext cx="71928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50920" y="2708280"/>
            <a:ext cx="1944720" cy="1584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900000" y="4797360"/>
            <a:ext cx="1944720" cy="1368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7164360" y="2060640"/>
            <a:ext cx="1428840" cy="20574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5724360" y="4581360"/>
            <a:ext cx="2448000" cy="18003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 flipH="1">
            <a:off x="3850920" y="1916280"/>
            <a:ext cx="73080" cy="433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2987640" y="2421000"/>
            <a:ext cx="1468440" cy="17287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995640" y="4365720"/>
            <a:ext cx="1457280" cy="166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ffc0"/>
            </a:gs>
            <a:gs pos="100000">
              <a:srgbClr val="c1ffc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1040" y="692280"/>
            <a:ext cx="8898480" cy="1008720"/>
          </a:xfrm>
          <a:prstGeom prst="rect">
            <a:avLst/>
          </a:prstGeom>
          <a:noFill/>
          <a:ln w="9360">
            <a:solidFill>
              <a:srgbClr val="c1ff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В разделе «Утконос и компания» узнали о диковинных животны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о рыбе, которая считалась вымершей много миллионов лет назад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о гигантском кальмаре, о почтовых голуб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547280" y="1844640"/>
            <a:ext cx="792360" cy="1008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3276720" y="1989000"/>
            <a:ext cx="69840" cy="21607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708360" y="1844640"/>
            <a:ext cx="1150920" cy="2879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292720" y="1773360"/>
            <a:ext cx="2158920" cy="2808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24000" y="3141720"/>
            <a:ext cx="2089080" cy="14396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411280" y="4437000"/>
            <a:ext cx="1944720" cy="14558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4859280" y="4869000"/>
            <a:ext cx="1871640" cy="1368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7236000" y="4797360"/>
            <a:ext cx="1512720" cy="1440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4500720" y="2060640"/>
            <a:ext cx="4176720" cy="20876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084720" y="1700280"/>
            <a:ext cx="287640" cy="2887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ffc0"/>
            </a:gs>
            <a:gs pos="100000">
              <a:srgbClr val="c1ffc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-361080" y="836640"/>
            <a:ext cx="9861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В главе «Загадки под землей и под водой» узнали тайну озера Лох – Несс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связанную с чудовищем, о котором до сих пор ходят легенд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познакомились с материалами о Снежном человеке (йети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Загадки о них так и не разгада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2268360" y="2349360"/>
            <a:ext cx="216000" cy="28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40360" y="2205000"/>
            <a:ext cx="647640" cy="9367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732720" y="2276640"/>
            <a:ext cx="1904760" cy="28573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908000" y="3213000"/>
            <a:ext cx="2232360" cy="2735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324000" y="2637000"/>
            <a:ext cx="1801800" cy="2295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4427640" y="4149720"/>
            <a:ext cx="2565360" cy="22208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148360" y="2133720"/>
            <a:ext cx="360360" cy="1800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3419640" y="2205000"/>
            <a:ext cx="287280" cy="7905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ffc0"/>
            </a:gs>
            <a:gs pos="100000">
              <a:srgbClr val="c1ffc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4480" y="476280"/>
            <a:ext cx="9236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Самым необычным был разде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«Жили–были динозавры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Он заставлял нас вернуться на 140 миллионов лет наза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95280" y="2492280"/>
            <a:ext cx="2303640" cy="1800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763640" y="4581360"/>
            <a:ext cx="1224000" cy="17290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3635280" y="3213000"/>
            <a:ext cx="1727280" cy="1582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6012000" y="4653000"/>
            <a:ext cx="1800000" cy="1511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6516720" y="2492280"/>
            <a:ext cx="2305080" cy="1440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 flipH="1">
            <a:off x="1908000" y="1989000"/>
            <a:ext cx="216000" cy="360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2771280" y="2060640"/>
            <a:ext cx="287640" cy="23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95640" y="2060640"/>
            <a:ext cx="71640" cy="1008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148360" y="2205000"/>
            <a:ext cx="1079280" cy="2303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24360" y="2205000"/>
            <a:ext cx="576360" cy="5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ffc0"/>
            </a:gs>
            <a:gs pos="100000">
              <a:srgbClr val="c1ffc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3274920" cy="22543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940360" y="3645000"/>
            <a:ext cx="2303640" cy="1944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5292720" y="1844640"/>
            <a:ext cx="2724120" cy="16556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2843280" y="4437000"/>
            <a:ext cx="2519280" cy="18162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264200" y="496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4120" y="547560"/>
            <a:ext cx="877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Раздел «Что такое НЛО?» познакомил нас с понятием НЛ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с разными эпохами изучения этой тайны и загад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планеты Мар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2195640" y="1484280"/>
            <a:ext cx="288720" cy="432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067280" y="1773360"/>
            <a:ext cx="0" cy="23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356000" y="1844640"/>
            <a:ext cx="1224000" cy="2448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43280" y="1844640"/>
            <a:ext cx="505080" cy="432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ffc0"/>
            </a:gs>
            <a:gs pos="100000">
              <a:srgbClr val="c1ffc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902520" y="836640"/>
            <a:ext cx="66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Глава «Планета насекомых» рассказала на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о красоте и разнообразии мира насеком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708360" y="4653000"/>
            <a:ext cx="1366920" cy="17287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84360" y="4869000"/>
            <a:ext cx="2376360" cy="12967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3059280" y="2421000"/>
            <a:ext cx="2239920" cy="18000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684360" y="2708280"/>
            <a:ext cx="1950840" cy="12924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5796000" y="2492280"/>
            <a:ext cx="1938240" cy="15242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6"/>
          <a:stretch/>
        </p:blipFill>
        <p:spPr>
          <a:xfrm>
            <a:off x="6300720" y="4941720"/>
            <a:ext cx="1892520" cy="1332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 flipH="1">
            <a:off x="2050920" y="2060640"/>
            <a:ext cx="144720" cy="5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2484000" y="2060640"/>
            <a:ext cx="505080" cy="2663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40360" y="2060640"/>
            <a:ext cx="0" cy="2887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84720" y="4221000"/>
            <a:ext cx="0" cy="360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940360" y="2060640"/>
            <a:ext cx="71640" cy="2887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292720" y="2060640"/>
            <a:ext cx="863640" cy="3529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ffc0"/>
            </a:gs>
            <a:gs pos="100000">
              <a:srgbClr val="c1ffc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-34560" y="1844640"/>
            <a:ext cx="9526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Еще не работали над разделом «Тайны камней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И эта работа предстоит нам в марте и апрел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Здесь мы  познакомим читателей с  разнообразием камне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расскажем о загадках янтаря и жемчуг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о знаменитых бриллиантах и о многом друг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ffc0"/>
            </a:gs>
            <a:gs pos="100000">
              <a:srgbClr val="c1ffc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800640" y="1700280"/>
            <a:ext cx="7661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Каждый раздел в учебнике заканчива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заданием «Проверь себя» в виде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теста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кроссворда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,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ответов на вопросы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, рубр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«Самые, самые…»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и друг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ffc0"/>
            </a:gs>
            <a:gs pos="100000">
              <a:srgbClr val="c1ffc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24000" y="1413000"/>
            <a:ext cx="835164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Итогом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нашей работы считаем то, что мы  научились планировать свою работу, пользоваться различными источниками информации, отбирать нужный материал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анализировать его, аргументировать свое мнение, принимать решения, создавать реферат и представлять его перед аудиторией в виде презента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ffc0"/>
            </a:gs>
            <a:gs pos="100000">
              <a:srgbClr val="c1ffc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187280" y="1628640"/>
            <a:ext cx="6985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Ценность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учебника «Планета Загадок» в том, что мы узнали много интересного, раскрыли некоторые загадки планеты Земля, создали страницы электронного учебника и многие ребята стали авторами этого учебника. Эту работу могут продолжить не только ученики нашей школы, но и все желающ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ffc0"/>
            </a:gs>
            <a:gs pos="100000">
              <a:srgbClr val="c1ffc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-18360" y="1746360"/>
            <a:ext cx="9007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ff"/>
                </a:solidFill>
                <a:uFillTx/>
                <a:latin typeface="Arial"/>
              </a:rPr>
              <a:t>Цель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создать электронный учебни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«Планета Загадок» силами учащихс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как дополнительное учебное пособ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по окружающему мир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ffc0"/>
            </a:gs>
            <a:gs pos="100000">
              <a:srgbClr val="c1ffc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9640" y="692280"/>
            <a:ext cx="77756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ff"/>
                </a:solidFill>
                <a:uFillTx/>
                <a:latin typeface="Arial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1. Обсудить разделы учебника на основании возникшего интерес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2. Изучить возможные источники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 отобрать материал, соответствующий возрасту и интерес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3. Проанализировать и систематизировать собранный матери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4. Оформить свои работы в виде рефер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5. Произвести компьютерную верстку учебника, используя накопленный матери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6. Научиться представлять свои работы в фор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резентации перед учениками своей шко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ffc0"/>
            </a:gs>
            <a:gs pos="100000">
              <a:srgbClr val="c1ffc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33360" y="1484280"/>
            <a:ext cx="8810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Гипотеза: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познавательный интерес к предме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«Окружающий мир» будет повышен, есл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каждый учащийся получит возможность ст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одним из авторов учебни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учебник «Планета Загадок» будет использовать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как дополнительное учебное пособ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ffc0"/>
            </a:gs>
            <a:gs pos="100000">
              <a:srgbClr val="c1ffc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0280" y="549360"/>
            <a:ext cx="8883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Этапы р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На начальном этапе работы над проектом мы договорились о названии разделов учебника. Затем выбрали темы по интересам и изучили возможные источники информации (энциклопедии, справочники, Интернет, познавательную литературу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042920" y="2781360"/>
            <a:ext cx="3384720" cy="2016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076720" y="3500280"/>
            <a:ext cx="345600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ffc0"/>
            </a:gs>
            <a:gs pos="100000">
              <a:srgbClr val="c1ffc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2640" y="907920"/>
            <a:ext cx="9434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2. На следующем этапе работали каждый над своей темо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а в работе  над такими разделами, как «Тайны за горизонтом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и «Эпоха динозавров»,  ребята объединились в групп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Здесь же учились правильно оформлять свои работы в виде рефер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627280" y="2852640"/>
            <a:ext cx="424980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ffc0"/>
            </a:gs>
            <a:gs pos="100000">
              <a:srgbClr val="c1ffc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1120" y="717480"/>
            <a:ext cx="9081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3. Последний этап – это компьютерная верстка учебн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учителем и представление его нами в виде презен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перед учениками нашей шко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68360" y="2205000"/>
            <a:ext cx="5113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ffc0"/>
            </a:gs>
            <a:gs pos="100000">
              <a:srgbClr val="c1ffc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471320" y="981000"/>
            <a:ext cx="647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Мы узнали о семи чудесах све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1692360" y="1628640"/>
            <a:ext cx="358560" cy="360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907640" y="1773360"/>
            <a:ext cx="1295640" cy="2016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058920" y="1844640"/>
            <a:ext cx="433080" cy="3097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356000" y="2060640"/>
            <a:ext cx="0" cy="9367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48360" y="1773360"/>
            <a:ext cx="503280" cy="2950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435640" y="1700280"/>
            <a:ext cx="1512720" cy="1584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1628640"/>
            <a:ext cx="576360" cy="28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1766880" cy="1203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39640" y="4292640"/>
            <a:ext cx="1622520" cy="10634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2340000" y="5157720"/>
            <a:ext cx="1428840" cy="1224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3419640" y="3284640"/>
            <a:ext cx="1911240" cy="12459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5003640" y="4869000"/>
            <a:ext cx="2043360" cy="14238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6156360" y="3429000"/>
            <a:ext cx="2087640" cy="12398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7"/>
          <a:stretch/>
        </p:blipFill>
        <p:spPr>
          <a:xfrm>
            <a:off x="6948360" y="1989000"/>
            <a:ext cx="1584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ffc0"/>
            </a:gs>
            <a:gs pos="100000">
              <a:srgbClr val="c1ffc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85040" y="836640"/>
            <a:ext cx="888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Расширили знания о путешественника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которые открыли новые земли и нанесли на карту свои маршрут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195280" y="1773360"/>
            <a:ext cx="647640" cy="863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2050920" y="1844640"/>
            <a:ext cx="1152720" cy="27367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3708000" y="1989000"/>
            <a:ext cx="71640" cy="863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211640" y="1989000"/>
            <a:ext cx="289080" cy="2735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859280" y="1916280"/>
            <a:ext cx="576360" cy="1079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7280" y="1773360"/>
            <a:ext cx="1152720" cy="934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1584360" cy="17272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332000" y="4941720"/>
            <a:ext cx="1251000" cy="13687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2916360" y="3068640"/>
            <a:ext cx="1800000" cy="16556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4067280" y="4869000"/>
            <a:ext cx="1528560" cy="16858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5508720" y="3141720"/>
            <a:ext cx="1366920" cy="17272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>
            <a:off x="7308720" y="2421000"/>
            <a:ext cx="158436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6T12:23:41Z</dcterms:created>
  <dc:creator>Алекс</dc:creator>
  <dc:description/>
  <dc:language>en-US</dc:language>
  <cp:lastModifiedBy>Алекс</cp:lastModifiedBy>
  <dcterms:modified xsi:type="dcterms:W3CDTF">2007-02-04T06:56:55Z</dcterms:modified>
  <cp:revision>110</cp:revision>
  <dc:subject/>
  <dc:title>Слайд 1</dc:title>
</cp:coreProperties>
</file>