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4F6-2E06-4C16-8C21-F3E26BD6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361-E98C-4AF7-AC72-810D138E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656-0A15-425D-8101-1D3D6DB4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C12-5A38-4485-AFD1-6D6CDBFE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E6C-88BE-456F-A313-8E565072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611-9C97-43E2-9937-4E043505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B4A-6464-4BD2-A4F6-55BBA7AD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5C1-35AD-42F9-9E63-A07E819B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4DB-F52F-4F19-A63A-8F7613C4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5EA-1666-41D3-A505-8AD77A2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5F0-E9C8-4916-A9F0-5717286E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57A-D4B8-45DE-8405-2B271F38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F6D-A2B1-4301-9A91-FC18B5088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chebnik/prov.html" TargetMode="External"/><Relationship Id="rId2" Type="http://schemas.openxmlformats.org/officeDocument/2006/relationships/hyperlink" Target="file:///uchebnik/kross.xls" TargetMode="External"/><Relationship Id="rId3" Type="http://schemas.openxmlformats.org/officeDocument/2006/relationships/hyperlink" Target="file:///uchebnik/otvv.html" TargetMode="External"/><Relationship Id="rId4" Type="http://schemas.openxmlformats.org/officeDocument/2006/relationships/hyperlink" Target="file:///uchebnik/sam.html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6600" y="692280"/>
            <a:ext cx="77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ектно – исследовательская раб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ма: Электронный уче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Планета Загадок»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67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70040" y="836640"/>
            <a:ext cx="75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знакомились с удивительными раст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необыкновенными дере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63640" y="1916280"/>
            <a:ext cx="503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195280" y="2708280"/>
            <a:ext cx="647640" cy="1657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716000" y="1844640"/>
            <a:ext cx="71640" cy="22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2133720"/>
            <a:ext cx="863640" cy="18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2060640"/>
            <a:ext cx="719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00000" y="479736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164360" y="2060640"/>
            <a:ext cx="142884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24360" y="4581360"/>
            <a:ext cx="2448000" cy="1800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3850920" y="1916280"/>
            <a:ext cx="73080" cy="433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987640" y="2421000"/>
            <a:ext cx="146844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995640" y="4365720"/>
            <a:ext cx="14572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040" y="692280"/>
            <a:ext cx="8898480" cy="1008720"/>
          </a:xfrm>
          <a:prstGeom prst="rect">
            <a:avLst/>
          </a:prstGeom>
          <a:noFill/>
          <a:ln w="9360">
            <a:solidFill>
              <a:srgbClr val="c1f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 разделе «Утконос и компания» узнали о диковинных живот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 рыбе, которая считалась вымершей много миллионов лет наза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 гигантском кальмаре, о почтовых голуб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547280" y="1844640"/>
            <a:ext cx="79236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276720" y="1989000"/>
            <a:ext cx="69840" cy="216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08360" y="1844640"/>
            <a:ext cx="1150920" cy="287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1773360"/>
            <a:ext cx="2158920" cy="28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208908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1944720" cy="1455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59280" y="4869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236000" y="4797360"/>
            <a:ext cx="151272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500720" y="2060640"/>
            <a:ext cx="4176720" cy="208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84720" y="1700280"/>
            <a:ext cx="28764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1080" y="836640"/>
            <a:ext cx="986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главе «Загадки под землей и под водой» узнали тайну озера Лох – Нес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вязанную с чудовищем, о котором до сих пор ходят легенд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знакомились с материалами о Снежном человеке (йе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агадки о них так и не разгад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68360" y="2349360"/>
            <a:ext cx="21600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2205000"/>
            <a:ext cx="64764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32720" y="2276640"/>
            <a:ext cx="1904760" cy="2857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223236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" y="2637000"/>
            <a:ext cx="1801800" cy="2295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427640" y="4149720"/>
            <a:ext cx="2565360" cy="2220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48360" y="2133720"/>
            <a:ext cx="360360" cy="1800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419640" y="2205000"/>
            <a:ext cx="28728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480" y="476280"/>
            <a:ext cx="923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амым необычным был разд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«Жили–были динозавры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н заставлял нас вернуться на 140 миллионов лет наз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230364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4581360"/>
            <a:ext cx="1224000" cy="172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635280" y="3213000"/>
            <a:ext cx="1727280" cy="158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12000" y="465300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516720" y="2492280"/>
            <a:ext cx="2305080" cy="1440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1908000" y="1989000"/>
            <a:ext cx="216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771280" y="2060640"/>
            <a:ext cx="287640" cy="23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2060640"/>
            <a:ext cx="7164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205000"/>
            <a:ext cx="1079280" cy="230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2205000"/>
            <a:ext cx="57636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274920" cy="225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292720" y="1844640"/>
            <a:ext cx="2724120" cy="165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843280" y="4437000"/>
            <a:ext cx="2519280" cy="1816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64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120" y="547560"/>
            <a:ext cx="877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аздел «Что такое НЛО?» познакомил нас с понятием Н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 разными эпохами изучения этой тайны и загад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ланеты Мар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195640" y="1484280"/>
            <a:ext cx="28872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1773360"/>
            <a:ext cx="0" cy="23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1844640"/>
            <a:ext cx="1224000" cy="24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1844640"/>
            <a:ext cx="50508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2520" y="836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лава «Планета насекомых» рассказала н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 красоте и разнообразии мира насе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08360" y="4653000"/>
            <a:ext cx="136692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2376360" cy="1296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059280" y="2421000"/>
            <a:ext cx="2239920" cy="180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4360" y="2708280"/>
            <a:ext cx="195084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796000" y="2492280"/>
            <a:ext cx="1938240" cy="1524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6300720" y="4941720"/>
            <a:ext cx="1892520" cy="133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2050920" y="2060640"/>
            <a:ext cx="1447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2060640"/>
            <a:ext cx="50508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2060640"/>
            <a:ext cx="7164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060640"/>
            <a:ext cx="863640" cy="352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4560" y="1844640"/>
            <a:ext cx="952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Еще не работали над разделом «Тайны камн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эта работа предстоит нам в марте и апр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десь мы  познакомим читателей с  разнообразием кам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асскажем о загадках янтаря и жемчу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 знаменитых бриллиантах и о многом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00640" y="1700280"/>
            <a:ext cx="766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аждый раздел в учебнике заканч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данием «Проверь себя» в вид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ста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россворда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тветов на вопросы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, руб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«Самые, самые…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и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1413000"/>
            <a:ext cx="835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тогом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ашей работы считаем то, что мы  научились планировать свою работу, пользоваться различными источниками информации, отбирать нужный материа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анализировать его, аргументировать свое мнение, принимать решения, создавать реферат и представлять его перед аудиторией в виде презент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7280" y="1628640"/>
            <a:ext cx="69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Ценность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чебника «Планета Загадок» в том, что мы узнали много интересного, раскрыли некоторые загадки планеты Земля, создали страницы электронного учебника и многие ребята стали авторами этого учебника. Эту работу могут продолжить не только ученики нашей школы, но и все желающ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360" y="1746360"/>
            <a:ext cx="900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оздать электронный учеб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«Планета Загадок» силами учащих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ак дополнительное учебное пособ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 окружающему ми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692280"/>
            <a:ext cx="7775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. Обсудить разделы учебника на основании возникшего интер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 Изучить возможные 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отобрать материал, соответствующий возрасту и интере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. Проанализировать и систематизировать собран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4. Оформить свои работы в виде рефе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. Произвести компьютерную верстку учебника, используя накоплен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6. Научиться представлять свои работы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зентации перед учениками сво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360" y="1484280"/>
            <a:ext cx="8810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Гипотеза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познавательный интерес к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Окружающий мир» будет повышен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аждый учащийся получит возможность с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дним из авторов учеб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чебник «Планета Загадок» будет использов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ак дополнительное учебное пособ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280" y="549360"/>
            <a:ext cx="888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Этапы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 начальном этапе работы над проектом мы договорились о названии разделов учебника. Затем выбрали темы по интересам и изучили возможные источники информации (энциклопедии, справочники, Интернет, познавательную литератур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3384720" cy="201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456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2640" y="907920"/>
            <a:ext cx="9434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. На следующем этапе работали каждый над своей тем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а в работе  над такими разделами, как «Тайны за горизонто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и «Эпоха динозавров»,  ребята объединились в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десь же учились правильно оформлять свои работы в виде рефе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4249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1120" y="717480"/>
            <a:ext cx="90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 Последний этап – это компьютерная верстка учеб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чителем и представление его нами в виде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еред учениками наш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5113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71320" y="981000"/>
            <a:ext cx="64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ы узнали о семи чудесах св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692360" y="1628640"/>
            <a:ext cx="35856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907640" y="1773360"/>
            <a:ext cx="1295640" cy="20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58920" y="1844640"/>
            <a:ext cx="433080" cy="30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2060640"/>
            <a:ext cx="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1773360"/>
            <a:ext cx="503280" cy="295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1700280"/>
            <a:ext cx="1512720" cy="158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1628640"/>
            <a:ext cx="57636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766880" cy="1203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622520" cy="106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340000" y="5157720"/>
            <a:ext cx="142884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419640" y="3284640"/>
            <a:ext cx="1911240" cy="1245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003640" y="4869000"/>
            <a:ext cx="2043360" cy="1423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156360" y="3429000"/>
            <a:ext cx="2087640" cy="1239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948360" y="1989000"/>
            <a:ext cx="1584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ffc0"/>
            </a:gs>
            <a:gs pos="100000">
              <a:srgbClr val="c1ffc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5040" y="836640"/>
            <a:ext cx="888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асширили знания о путешественни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оторые открыли новые земли и нанесли на карту свои маршру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95280" y="1773360"/>
            <a:ext cx="647640" cy="8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050920" y="1844640"/>
            <a:ext cx="1152720" cy="27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708000" y="1989000"/>
            <a:ext cx="71640" cy="8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1989000"/>
            <a:ext cx="289080" cy="273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1916280"/>
            <a:ext cx="576360" cy="107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773360"/>
            <a:ext cx="1152720" cy="93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4941720"/>
            <a:ext cx="1251000" cy="1368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916360" y="3068640"/>
            <a:ext cx="1800000" cy="165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067280" y="4869000"/>
            <a:ext cx="1528560" cy="1685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508720" y="3141720"/>
            <a:ext cx="1366920" cy="172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308720" y="2421000"/>
            <a:ext cx="158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2:23:41Z</dcterms:created>
  <dc:creator>Алекс</dc:creator>
  <dc:description/>
  <dc:language>en-US</dc:language>
  <cp:lastModifiedBy>Алекс</cp:lastModifiedBy>
  <dcterms:modified xsi:type="dcterms:W3CDTF">2007-02-04T06:56:55Z</dcterms:modified>
  <cp:revision>110</cp:revision>
  <dc:subject/>
  <dc:title>Слайд 1</dc:title>
</cp:coreProperties>
</file>