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ED0-B5BB-4884-8F69-11FA1B22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8D1-34E3-4B99-9A3D-CFA148BD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97C-22B7-49B9-A352-BB7068C0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972-C3C1-4F6B-8EE6-87448838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091-84AB-436C-ABBB-7E4A265C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950-11AF-4462-843B-5BE1B886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A49-17AB-45D7-B035-6D381F93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9DC-D1F6-4A71-A3D9-464EBA5B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822-E6F7-4C17-864D-C2719857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659-1326-4897-B84E-EA40ABEA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1D8-7EAB-4009-B657-7C7E076B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E2B-78D1-43BC-B487-AEB789D8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9CDB-6F2B-4F90-BB4B-ED8A4B44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zelendol.ru/upload/Image/fam_2008-1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e-generator.ru/news/thumb.php?i=upload/iblock/4bc/Family_year_240x200.jpg&amp;neww=240&amp;propo=1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wmf"/><Relationship Id="rId3" Type="http://schemas.openxmlformats.org/officeDocument/2006/relationships/slide" Target="slide4.xml"/><Relationship Id="rId4" Type="http://schemas.openxmlformats.org/officeDocument/2006/relationships/image" Target="../media/image6.wmf"/><Relationship Id="rId5" Type="http://schemas.openxmlformats.org/officeDocument/2006/relationships/slide" Target="slide5.xml"/><Relationship Id="rId6" Type="http://schemas.openxmlformats.org/officeDocument/2006/relationships/image" Target="../media/image7.wmf"/><Relationship Id="rId7" Type="http://schemas.openxmlformats.org/officeDocument/2006/relationships/slide" Target="slide6.xml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47640" y="549360"/>
            <a:ext cx="576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Семейное лото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2852640"/>
            <a:ext cx="131436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</a:t>
            </a:r>
            <a:endParaRPr b="0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1989000"/>
            <a:ext cx="131436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</a:t>
            </a:r>
            <a:endParaRPr b="0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84720" y="4581360"/>
            <a:ext cx="131472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</a:t>
            </a:r>
            <a:endParaRPr b="0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720" y="3716280"/>
            <a:ext cx="131436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</a:t>
            </a:r>
            <a:endParaRPr b="0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Картинка 10 из 1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8360" y="4365720"/>
            <a:ext cx="233352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Картинка 11 из 13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56360" y="1628640"/>
            <a:ext cx="2519280" cy="2183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99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tt-RU" sz="5400" spc="-1" strike="noStrike">
                <a:solidFill>
                  <a:srgbClr val="cc0000"/>
                </a:solidFill>
                <a:latin typeface="Bookman Old Style"/>
              </a:rPr>
              <a:t>Счастлив тот, кто счастлив дом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176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</a:rPr>
              <a:t>Игровое п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91520" cy="4414680"/>
        </p:xfrm>
        <a:graphic>
          <a:graphicData uri="http://schemas.openxmlformats.org/drawingml/2006/table">
            <a:tbl>
              <a:tblPr/>
              <a:tblGrid>
                <a:gridCol w="2587680"/>
                <a:gridCol w="2813040"/>
                <a:gridCol w="2890800"/>
              </a:tblGrid>
              <a:tr h="21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2205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80000" y="2060640"/>
            <a:ext cx="1450800" cy="153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88000" y="1989000"/>
            <a:ext cx="1411560" cy="1679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71640" y="4292640"/>
            <a:ext cx="1657440" cy="158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516720" y="4149720"/>
            <a:ext cx="1584360" cy="1679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3635280" y="4149720"/>
            <a:ext cx="1727280" cy="180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6012000" y="1773360"/>
            <a:ext cx="252072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0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76720" y="1773360"/>
            <a:ext cx="237492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0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3860640"/>
            <a:ext cx="230508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0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27640" y="3933720"/>
            <a:ext cx="223200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8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76720" y="3933720"/>
            <a:ext cx="2374920" cy="35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0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844640"/>
            <a:ext cx="237672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0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latin typeface="Century Gothic"/>
              </a:rPr>
              <a:t>Семейное лото</a:t>
            </a:r>
            <a:endParaRPr b="1" lang="en-US" sz="16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62" name="">
            <a:hlinkClick r:id="" action="ppaction://hlinkshowjump?jump=lastslide"/>
          </p:cNvPr>
          <p:cNvSpPr/>
          <p:nvPr/>
        </p:nvSpPr>
        <p:spPr>
          <a:xfrm>
            <a:off x="795672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3429000"/>
            <a:ext cx="360360" cy="2667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09800 h 266760"/>
              <a:gd name="textAreaBottom" fmla="*/ 1569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5589720"/>
            <a:ext cx="360360" cy="266400"/>
          </a:xfrm>
          <a:custGeom>
            <a:avLst/>
            <a:gdLst>
              <a:gd name="textAreaLeft" fmla="*/ 148320 w 360360"/>
              <a:gd name="textAreaRight" fmla="*/ 212040 w 360360"/>
              <a:gd name="textAreaTop" fmla="*/ 109800 h 266400"/>
              <a:gd name="textAreaBottom" fmla="*/ 156600 h 26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357720"/>
            <a:ext cx="287280" cy="266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17080" y="3357720"/>
            <a:ext cx="287280" cy="266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5661000"/>
            <a:ext cx="287280" cy="266760"/>
          </a:xfrm>
          <a:custGeom>
            <a:avLst/>
            <a:gdLst>
              <a:gd name="textAreaLeft" fmla="*/ 65520 w 287280"/>
              <a:gd name="textAreaRight" fmla="*/ 221760 w 287280"/>
              <a:gd name="textAreaTop" fmla="*/ 60840 h 266760"/>
              <a:gd name="textAreaBottom" fmla="*/ 205920 h 26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584360" cy="1873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Bookman Old Style"/>
              </a:rPr>
              <a:t>Что такое семь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Bookman Old Style"/>
              </a:rPr>
              <a:t>Семья –</a:t>
            </a:r>
            <a:r>
              <a:rPr b="1" i="1" lang="en-US" sz="36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ff"/>
                </a:solidFill>
                <a:latin typeface="Bookman Old Style"/>
              </a:rPr>
              <a:t>группа живущих вместе близких родствен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8172360" y="587700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Bookman Old Style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Bookman Old Style"/>
              </a:rPr>
              <a:t>Кто такие </a:t>
            </a:r>
            <a:br>
              <a:rPr sz="4000"/>
            </a:br>
            <a:r>
              <a:rPr b="1" i="1" lang="en-US" sz="4000" spc="-1" strike="noStrike">
                <a:solidFill>
                  <a:srgbClr val="009999"/>
                </a:solidFill>
                <a:latin typeface="Bookman Old Style"/>
              </a:rPr>
              <a:t>мама и пап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Кто же такие мам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en-US" sz="2400" spc="-1" strike="noStrike">
                <a:solidFill>
                  <a:srgbClr val="6600ff"/>
                </a:solidFill>
                <a:latin typeface="Bookman Old Style"/>
              </a:rPr>
              <a:t>Внешним видом они напоминают девочек, но гораздо крупнее. Очень любят худеть. Ежедневно охотятся на мусор, но его не е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Bookman Old Style"/>
              </a:rPr>
              <a:t>Кто же такие папы?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en-US" sz="2400" spc="-1" strike="noStrike">
                <a:solidFill>
                  <a:srgbClr val="333399"/>
                </a:solidFill>
                <a:latin typeface="Bookman Old Style"/>
              </a:rPr>
              <a:t>Они имеют сильное тело, поросшее густой шерстью на подбородке и под носом. Шея у папы крепкая: на ней можно сидеть всей семьёй. Питается папа обычно тем, что даёт ему мама, за это папа дарит ей на 8 марта духи и мим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512720" cy="20160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317080" y="6237360"/>
            <a:ext cx="610920" cy="460440"/>
          </a:xfrm>
          <a:custGeom>
            <a:avLst/>
            <a:gdLst>
              <a:gd name="textAreaLeft" fmla="*/ 29520 w 610920"/>
              <a:gd name="textAreaRight" fmla="*/ 581400 w 61092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28654" h="21600">
                <a:moveTo>
                  <a:pt x="0" y="0"/>
                </a:moveTo>
                <a:lnTo>
                  <a:pt x="28654" y="0"/>
                </a:lnTo>
                <a:lnTo>
                  <a:pt x="28654" y="21600"/>
                </a:lnTo>
                <a:lnTo>
                  <a:pt x="0" y="21600"/>
                </a:lnTo>
                <a:close/>
              </a:path>
              <a:path fill="lightenLess" w="28654" h="21600">
                <a:moveTo>
                  <a:pt x="0" y="0"/>
                </a:moveTo>
                <a:lnTo>
                  <a:pt x="28654" y="0"/>
                </a:lnTo>
                <a:lnTo>
                  <a:pt x="27254" y="1400"/>
                </a:lnTo>
                <a:lnTo>
                  <a:pt x="1400" y="1400"/>
                </a:lnTo>
                <a:close/>
              </a:path>
              <a:path fill="darken" w="28654" h="21600">
                <a:moveTo>
                  <a:pt x="28654" y="0"/>
                </a:moveTo>
                <a:lnTo>
                  <a:pt x="28654" y="21600"/>
                </a:lnTo>
                <a:lnTo>
                  <a:pt x="27254" y="20200"/>
                </a:lnTo>
                <a:lnTo>
                  <a:pt x="27254" y="1400"/>
                </a:lnTo>
                <a:close/>
              </a:path>
              <a:path fill="darkenLess" w="28654" h="21600">
                <a:moveTo>
                  <a:pt x="28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4" y="20200"/>
                </a:lnTo>
                <a:close/>
              </a:path>
              <a:path fill="lighten" w="28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4" h="21600">
                <a:moveTo>
                  <a:pt x="7320" y="10800"/>
                </a:moveTo>
                <a:lnTo>
                  <a:pt x="21333" y="3794"/>
                </a:lnTo>
                <a:lnTo>
                  <a:pt x="213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Bookman Old Style"/>
              </a:rPr>
              <a:t>Объясните значение </a:t>
            </a:r>
            <a:br>
              <a:rPr sz="3600"/>
            </a:br>
            <a:r>
              <a:rPr b="1" lang="en-US" sz="3600" spc="-1" strike="noStrike">
                <a:solidFill>
                  <a:srgbClr val="009999"/>
                </a:solidFill>
                <a:latin typeface="Bookman Old Style"/>
              </a:rPr>
              <a:t>народной мудр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man Old Style"/>
              </a:rPr>
              <a:t>Имя дают родител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Bookman Old Style"/>
              </a:rPr>
              <a:t>славу добываешь 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1726920" cy="201636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172360" y="5950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99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Bookman Old Style"/>
              </a:rPr>
              <a:t>Как выглядят 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Bookman Old Style"/>
              </a:rPr>
              <a:t>логотипы 2008 го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7859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Bookman Old Style"/>
              </a:rPr>
              <a:t>2008 год – ГОД СЕМЬ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99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42920" y="981000"/>
            <a:ext cx="73454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Bookman Old Style"/>
              </a:rPr>
              <a:t>Россия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Bookman Old Style"/>
              </a:rPr>
              <a:t>                  </a:t>
            </a:r>
            <a:r>
              <a:rPr b="1" i="1" lang="en-US" sz="4400" spc="-1" strike="noStrike">
                <a:solidFill>
                  <a:srgbClr val="cc0000"/>
                </a:solidFill>
                <a:latin typeface="Bookman Old Style"/>
              </a:rPr>
              <a:t>Татарс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Картинка 11 из 130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447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10 из 130"/>
          <p:cNvPicPr/>
          <p:nvPr/>
        </p:nvPicPr>
        <p:blipFill>
          <a:blip r:embed="rId2"/>
          <a:stretch/>
        </p:blipFill>
        <p:spPr>
          <a:xfrm>
            <a:off x="5148360" y="3068640"/>
            <a:ext cx="280836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028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9999"/>
                </a:solidFill>
                <a:latin typeface="Bookman Old Style"/>
              </a:rPr>
              <a:t>Отгадайте ребу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4038480" cy="2343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3726000" cy="218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1656000" cy="2087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172360" y="602136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31" h="21600">
                <a:moveTo>
                  <a:pt x="5259" y="10800"/>
                </a:moveTo>
                <a:lnTo>
                  <a:pt x="19272" y="3794"/>
                </a:lnTo>
                <a:lnTo>
                  <a:pt x="192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9999"/>
                </a:solidFill>
                <a:latin typeface="Bookman Old Style"/>
              </a:rPr>
              <a:t>Изобразите </a:t>
            </a:r>
            <a:br>
              <a:rPr sz="4000"/>
            </a:br>
            <a:r>
              <a:rPr b="1" lang="tt-RU" sz="4000" spc="-1" strike="noStrike">
                <a:solidFill>
                  <a:srgbClr val="009999"/>
                </a:solidFill>
                <a:latin typeface="Bookman Old Style"/>
              </a:rPr>
              <a:t>мимик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3399"/>
                </a:solidFill>
                <a:latin typeface="Bookman Old Style"/>
              </a:rPr>
              <a:t>Сердитого деду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3399"/>
                </a:solidFill>
                <a:latin typeface="Bookman Old Style"/>
              </a:rPr>
              <a:t>Добрую бабу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3399"/>
                </a:solidFill>
                <a:latin typeface="Bookman Old Style"/>
              </a:rPr>
              <a:t>Сонного па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3399"/>
                </a:solidFill>
                <a:latin typeface="Bookman Old Style"/>
              </a:rPr>
              <a:t>Капризного брати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871640" cy="1944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885080" y="5877000"/>
            <a:ext cx="754200" cy="611280"/>
          </a:xfrm>
          <a:custGeom>
            <a:avLst/>
            <a:gdLst>
              <a:gd name="textAreaLeft" fmla="*/ 39600 w 754200"/>
              <a:gd name="textAreaRight" fmla="*/ 714600 w 75420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47" h="21600">
                <a:moveTo>
                  <a:pt x="0" y="0"/>
                </a:moveTo>
                <a:lnTo>
                  <a:pt x="26647" y="0"/>
                </a:lnTo>
                <a:lnTo>
                  <a:pt x="26647" y="21600"/>
                </a:lnTo>
                <a:lnTo>
                  <a:pt x="0" y="21600"/>
                </a:lnTo>
                <a:close/>
              </a:path>
              <a:path fill="lightenLess" w="26647" h="21600">
                <a:moveTo>
                  <a:pt x="0" y="0"/>
                </a:moveTo>
                <a:lnTo>
                  <a:pt x="26647" y="0"/>
                </a:lnTo>
                <a:lnTo>
                  <a:pt x="25247" y="1400"/>
                </a:lnTo>
                <a:lnTo>
                  <a:pt x="1400" y="1400"/>
                </a:lnTo>
                <a:close/>
              </a:path>
              <a:path fill="darken" w="26647" h="21600">
                <a:moveTo>
                  <a:pt x="26647" y="0"/>
                </a:moveTo>
                <a:lnTo>
                  <a:pt x="26647" y="21600"/>
                </a:lnTo>
                <a:lnTo>
                  <a:pt x="25247" y="20200"/>
                </a:lnTo>
                <a:lnTo>
                  <a:pt x="25247" y="1400"/>
                </a:lnTo>
                <a:close/>
              </a:path>
              <a:path fill="darkenLess" w="26647" h="21600">
                <a:moveTo>
                  <a:pt x="26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47" y="20200"/>
                </a:lnTo>
                <a:close/>
              </a:path>
              <a:path fill="lighten" w="26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47" h="21600">
                <a:moveTo>
                  <a:pt x="6317" y="10800"/>
                </a:moveTo>
                <a:lnTo>
                  <a:pt x="20330" y="3794"/>
                </a:lnTo>
                <a:lnTo>
                  <a:pt x="203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3:29:41Z</dcterms:created>
  <dc:creator>Stalker</dc:creator>
  <dc:description/>
  <dc:language>en-US</dc:language>
  <cp:lastModifiedBy>Mixa</cp:lastModifiedBy>
  <dcterms:modified xsi:type="dcterms:W3CDTF">2010-03-09T16:55:33Z</dcterms:modified>
  <cp:revision>6</cp:revision>
  <dc:subject/>
  <dc:title>Слайд 1</dc:title>
</cp:coreProperties>
</file>