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7AA0-D5C3-4681-AA6D-41B111CE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1C38-C4FF-4C48-BB08-D45D3BF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9C20-3CF5-45D0-A70D-B3B24DDD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AA62-F0B2-4082-B058-A2C78C1B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17B-42FA-49DF-9517-DA6EDB43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49C-F9F3-4637-8139-37BB87C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A330-B979-43AA-9B63-CD70A3BC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C138-F1F2-4B02-9977-AAE3081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750B-2D13-45C0-B655-A00B264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B8EE-7012-499F-B5D2-0E31F9EE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D29-5382-4C37-BBC2-E71A90A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9549-3A2C-447C-B56F-3BFB2622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7184-A3EA-4A14-A6DB-601C2B5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DAED-AD0F-4370-BD53-270B592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BA43-48E2-4944-8A3D-8E0F14A2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0A0F-D401-4FB7-99E5-BEBFBA8C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D36C-DE09-4423-BEC9-F8EBE749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71C6-15F5-444B-A697-900BD156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4F38-321D-4778-9841-B2FE7BBC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F2FD-7738-4264-8463-FBFC4F2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9AD2-1E66-4958-8998-ED146CD4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DBD2-64A9-4643-8FB2-5BF49264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089D-55EA-4905-9439-978110F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A967-8D4A-4153-BFA6-9FE3D911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F82-BD75-47D4-B017-3D6D525E9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389-FAEF-4E25-A788-FBC3E219E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зентация для детей «Узнай стихотворение и расскажи его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зентация – часть заня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Путешествие в зимний лес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втор-составитель Ульянцева Л.Б.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читель-логопед ГБОУ ЦДК Санкт-Петербург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012 год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-лод-цы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нен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емотехни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доровьесберегающая технология (элементы оздоровительной технологии-драматерапи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н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хи их детских сборни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хотворные фантазии автора през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гопед Лариса Борисов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ль: автоматизация звука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[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]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текстах (стихах)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льно произносить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стиха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помнить диких животных наших лес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знать ранее разученные с помощью мнемотаблиц стихи по предъявляемым элементам ячеек мнемотаблиц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 контурным изображениям персонаж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 последовательности  предъяв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сонаж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помнить стихи, рассказать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При чтении детьми стихов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изируется творческая активност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ся умение драматизировать, перевоплощать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вершенствуется эмоционально-волевая сфе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ся выразительность реч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вершенствуются темпо-ритмические характеристики реч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У белки на ёлке дуп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Там сухо, уютно, теп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Голодному волку в дупло белки на ёлке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удет попасть нелегко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549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Всё бело, бело, бело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Все дорожки заме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Лес весь снегом занесло. 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Спать в берлоге мне тепло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466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Зайка белый в поле бегал, 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Всех зверей боялся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И молоденькой лисе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Чуть в лапы не попался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750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Белый снег, белый мел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елый заяц тоже бел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А вот белка не бела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елой даже не была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364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« У волка есть волчий хвост, 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у волка есть волчья шуба.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На луну воет ночью волк,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И сверкают волчьи зубы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156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Я, лисица молодая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Зайца в чаще поджидаю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Зайка белый – скок да скок!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Стой! Попался, мой милок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626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2-08-26T10:51:1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