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C6C5-0B15-49D1-894D-DA743685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E2A6E-E803-4545-A936-FCEAE250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B94F-0B5A-46B6-ADBD-A3AF73B0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E8AD-8B0F-46D6-84A4-E156D1FB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BF2-53DB-4012-98C4-BB5E6EEB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2EF3-ED4B-47C9-B061-07027A52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EFFE-ED37-4422-AAAF-E8090DC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DE19-2978-43EE-8BB3-6E1B4741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3AC5-84AE-4605-8C8A-AECE0F11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1C87-E29E-4E1C-A531-18B439EE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9FD4-9DDA-4A3D-8390-BBA9B48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713C0-87B4-4C71-975A-B4E67498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69B3-023E-43FD-A8DE-63464D6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4DD9-35E6-4717-90B8-496D454B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E04B-86C0-4B17-B4CD-6673F53F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C35-4304-48C6-B797-11125C19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D43A-779E-485F-B3F8-E67B09D1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ED24-5EC6-45CE-8F57-F652F8B7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DEDA-91B6-4354-A84A-3A7D8CA1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43F2-EFC4-4168-8687-1A6DC638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8EBB8-FD9D-4257-9CB3-7139A503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1D22-EAEF-4340-AA31-0085A85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00D4-436F-415E-B916-CF25D447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858B-8F42-4400-81AF-B41EF987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EDCE-D98D-469D-B18E-E19E5C80DF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6D27-2671-47B9-A6C1-93853159CC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езентация для детей «Узнай стихотворение и расскажи его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зентация – часть заня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Путешествие в зимний лес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втор-составитель Ульянцева Л.Б.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читель-логопед ГБОУ ЦДК Санкт-Петербург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012 год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о-лод-цы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нен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немотехник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доровьесберегающая технология (элементы оздоровительной технологии-драматерапии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н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ихи их детских сборник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ихотворные фантазии автора презен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огопед Лариса Борисов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Цель: автоматизация звука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[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л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]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 текстах (стихах)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авильно произносить звук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 стиха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помнить диких животных наших лес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знать ранее разученные с помощью мнемотаблиц стихи по предъявляемым элементам ячеек мнемотаблиц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о контурным изображениям персонаж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по последовательности  предъяв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сонаж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помнить стихи, рассказать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При чтении детьми стихов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ктивизируется творческая активность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ется умение драматизировать, перевоплощатьс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вершенствуется эмоционально-волевая сфе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ется выразительность реч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вершенствуются темпо-ритмические характеристики реч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У белки на ёлке дупло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Там сухо, уютно, тепло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Голодному волку в дупло белки на ёлке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Будет попасть нелегко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549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Всё бело, бело, бело,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Все дорожки замело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Лес весь снегом занесло. 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Спать в берлоге мне тепло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8466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Зайка белый в поле бегал, 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Всех зверей боялся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И молоденькой лисе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Чуть в лапы не попался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7500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Белый снег, белый мел,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Белый заяц тоже бел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А вот белка не бела,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Белой даже не была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3644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« У волка есть волчий хвост, </a:t>
            </a:r>
            <a:br>
              <a:rPr sz="1600"/>
            </a:b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у волка есть волчья шуба.</a:t>
            </a:r>
            <a:br>
              <a:rPr sz="1600"/>
            </a:b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На луну воет ночью волк,</a:t>
            </a:r>
            <a:br>
              <a:rPr sz="1600"/>
            </a:br>
            <a:r>
              <a:rPr b="1" lang="en-US" sz="1600" spc="-1" strike="noStrike">
                <a:solidFill>
                  <a:srgbClr val="e5e5ff"/>
                </a:solidFill>
                <a:latin typeface="Garamond"/>
              </a:rPr>
              <a:t>И сверкают волчьи зубы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156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«Я, лисица молодая,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Зайца в чаще поджидаю.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Зайка белый – скок да скок!</a:t>
            </a:r>
            <a:br>
              <a:rPr sz="1600"/>
            </a:br>
            <a:r>
              <a:rPr b="0" lang="en-US" sz="1600" spc="-1" strike="noStrike">
                <a:solidFill>
                  <a:srgbClr val="e5e5ff"/>
                </a:solidFill>
                <a:latin typeface="Garamond"/>
              </a:rPr>
              <a:t>Стой! Попался, мой милок!»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626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2-08-26T10:51:1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