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9A3-DD21-4141-8CFA-A77F7F08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EFF-C995-4160-95AA-E58F257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09B-BE42-47AE-B56E-EFDABBC8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358-83AB-4B58-8A98-78045408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586-1E0F-4B2B-8D39-3FA0447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3C0-3D65-490F-B04C-A9AF3EE8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1E1-5E85-49A1-87CF-31EF4DA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ACE-6FE7-4549-AD83-EC6AE05C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F31-16E3-4507-9577-272E225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980-862A-4B84-BAE7-DF2C1E7C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D9B-55E1-422A-B250-28A88EA0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618-70E9-42CB-AA04-6176625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034-FB54-4D50-B718-2028927C9B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336600"/>
                </a:solidFill>
                <a:latin typeface="Times New Roman"/>
              </a:rPr>
              <a:t>A Detective Show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68007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ance to be detectives of our 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27241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good detectiv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rea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p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>
            <a:off x="5003640" y="3027240"/>
            <a:ext cx="26640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920" y="333360"/>
            <a:ext cx="640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ood detective should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258560" y="1341360"/>
            <a:ext cx="66229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 educa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t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- w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1 “Intellectu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64785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Stratford-upon-Avon is William Shakespeare’s birth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«Don’t look behind you» is fantastic. It is a five star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Peter enjoyed rolling down a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pril’s brother wears contact l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’ll find the answers to all these questions in this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80360" y="404640"/>
            <a:ext cx="1579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“Well- educate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3672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East or West  home is best.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First thin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spea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As clear as day.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ter late than neve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Live and learn.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ver put off till tomorrow wha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can do toda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An apple a day keeps a doctor away.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My home is my castle.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Business before pleasure.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A friend in need is a friend indeed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остях хорошо, а дома лучш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в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с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чше поздно, чем никог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огда не откладывай на завтра то, что можно сделать сегод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ачала думай, потом говор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сн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у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знае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д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л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х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блоко в день сохраняет здоровь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еп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2133720"/>
            <a:ext cx="11509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2708280"/>
            <a:ext cx="1152720" cy="1441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3068640"/>
            <a:ext cx="1295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92360" y="2997000"/>
            <a:ext cx="1295640" cy="360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348000" y="2637000"/>
            <a:ext cx="151128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51280" y="3284280"/>
            <a:ext cx="936720" cy="865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4653000"/>
            <a:ext cx="1224000" cy="93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013360"/>
            <a:ext cx="1224000" cy="1079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9640" y="4941720"/>
            <a:ext cx="1368360" cy="93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80000" y="5229360"/>
            <a:ext cx="1008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“The fastest”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3809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al (stole, stol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3814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ов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ков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чезнов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юш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р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24720" y="4572000"/>
            <a:ext cx="161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4 “Careful”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1916280"/>
            <a:ext cx="755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What famous detective could you see in that dialogu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herlo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ol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What is the name of his best fri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r Wat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What was the subject of their convers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urder of a black 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kidnapping of  a ti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sappearance of the racehorse Silver Bla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Who was the owner of the ho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tai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nel 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rt Baxter, a pensio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Who created these characters as Sherlock Holmes and Dr Wats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sir A.C. Doy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308720" y="2421000"/>
            <a:ext cx="1609920" cy="190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4076640"/>
            <a:ext cx="504036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4869000"/>
            <a:ext cx="1512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nd 5 “Willingness to cooperate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V, video and computers give us information about everything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My sister Mary and I have different opinions on r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2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he book I’m reading now is “Fathers and Sons” written by Ivan Turgeniev in 18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y granny doesn’t like reading because it gives her a head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6 “Quick-witte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88000" y="3645000"/>
            <a:ext cx="2048040" cy="2303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85600" y="2284920"/>
            <a:ext cx="377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libr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wgli” by R. Kip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 Sawy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gey Yese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Riding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de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1081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nd 7 “Clever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or, writer, Avon, sonnets, the Globe theatre, England, “Romeo and Julie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(William Shakespe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r, woman, the 20-th century, Miss Marple, “Death on the Nile”, the investigation of th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(A. Chris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wide recognition, the “Corner Living Room”, the ancient clock, the sofa, “Fathers and Sons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(Ivan Turgeni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01-12-31T22:24:26Z</dcterms:modified>
  <cp:revision>6</cp:revision>
  <dc:subject/>
  <dc:title>PowerPoint Presentation</dc:title>
</cp:coreProperties>
</file>