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1FF-3AB3-48E1-A955-69E8790A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1D4-6E32-4E5B-B85B-A89F443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A48-E14C-4237-BB35-ACFA7101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CD8-5D8C-484E-9C8E-E9F713CB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194-95C6-4325-9A8A-E04E50D9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57F-5A02-4F6B-B8B7-19411081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2CB-F846-4789-A63A-308A249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1B8-A641-4AA7-BF41-8A211E6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8B0-0BF6-4065-A55D-735C59E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108-1AC8-4EC3-9515-484609A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E03-52AF-4A47-B418-4A06A53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613-A162-4C1A-A16C-6F245AE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9E1A-3EC4-4B7B-8E4C-E3A8BFB1F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336600"/>
                </a:solidFill>
                <a:latin typeface="Times New Roman"/>
              </a:rPr>
              <a:t>A Detective Show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68007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nce to be detectives of our 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2724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good detectiv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rea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p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>
            <a:off x="5003640" y="3027240"/>
            <a:ext cx="2664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333360"/>
            <a:ext cx="640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ood detective should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258560" y="1341360"/>
            <a:ext cx="6622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 educ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- w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1 “Intellectu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6478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tratford-upon-Avon is William Shakespeare’s birth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«Don’t look behind you» is fantastic. It is a five star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eter enjoyed rolling down a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pril’s brother wears contact l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find the answers to all these questions in this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579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“Well- educate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East or West  home is best.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First thin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spea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As clear as day.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ter late than neve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Live and learn.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ver put off till tomorrow wha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can do toda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An apple a day keeps a doctor away.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My home is my castle.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Business before pleasure.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A friend in need is a friend indeed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остях хорошо, а дома лучш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с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гда не откладывай на завтра то, что можно сделать сего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ачала думай, потом гово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с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е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д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л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х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блоко в день сохраняет здоровь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еп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2133720"/>
            <a:ext cx="11509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2708280"/>
            <a:ext cx="1152720" cy="144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3068640"/>
            <a:ext cx="1295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92360" y="2997000"/>
            <a:ext cx="1295640" cy="360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48000" y="2637000"/>
            <a:ext cx="151128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3284280"/>
            <a:ext cx="936720" cy="865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4653000"/>
            <a:ext cx="122400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013360"/>
            <a:ext cx="1224000" cy="1079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9640" y="4941720"/>
            <a:ext cx="1368360" cy="93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80000" y="522936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“The fastest”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al (stole, sto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814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ов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ков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чезнов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юш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457200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 “Careful”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1916280"/>
            <a:ext cx="755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What famous detective could you see in that dialogu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her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ol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What is the name of his best fri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r Wat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What was the subject of their conver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rder of a black 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kidnapping of  a ti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sappearance of the racehorse Silver Bla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Who was the owner of the ho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tai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nel 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t Baxter, a pensio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Who created these characters as Sherlock Holmes and Dr Wats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sir A.C. Doy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1609920" cy="190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4076640"/>
            <a:ext cx="50403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4869000"/>
            <a:ext cx="1512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5 “Willingness to cooperate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V, video and computers give us information about everything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My sister Mary and I have different opinions on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2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book I’m reading now is “Fathers and Sons” written by Ivan Turgeniev in 18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 granny doesn’t like reading because it gives her a head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6 “Quick-witte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3645000"/>
            <a:ext cx="2048040" cy="2303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85600" y="2284920"/>
            <a:ext cx="377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wgli” by R. Kip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 Sawy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gey Yese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Riding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e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1081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7 “Cleve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, writer, Avon, sonnets, the Globe theatre, England, “Romeo and Julie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William Shakespe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r, woman, the 20-th century, Miss Marple, “Death on the Nile”, the investigation of th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A. Chris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wide recognition, the “Corner Living Room”, the ancient clock, the sofa, “Fathers and Son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Ivan Turgeni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1-12-31T22:24:26Z</dcterms:modified>
  <cp:revision>6</cp:revision>
  <dc:subject/>
  <dc:title>PowerPoint Presentation</dc:title>
</cp:coreProperties>
</file>