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E45-D3E0-49DE-94F3-B5C34410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A55-D065-40DB-B992-72C2AF79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C6C-19E8-408D-84D5-768B846E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234-FBBD-4F45-AFC3-16D4932C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C20-0D00-448B-96E7-E3670640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D2C-E1C7-4B83-9EBB-01A4442E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B72-7C1C-4A1D-86B6-C99AE57C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CAD-DEBA-48F5-9EA6-1FE95EF3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AE9-8610-4A87-AA60-4B40E962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BB1-0441-4F8F-B99C-CC94473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24C-89CF-4728-BEE3-AD76832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649-F96C-48B3-BE0E-25847C07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0E5F-111F-4BF0-8904-F3D698F77A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ТЕМА: « ОПРЕДЕЛЕНИЕ СОСТАВА ТКАНЕЙ И ИЗУЧЕНИЕ ИХ СВОЙСТВ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повторение классификации текстильных волоко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закрепление основных свойств волокон натурального и химического происхож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развитие логического мыш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формирование навыков определения  тканей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ок разработан учителем технолог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Ш № 1 Батовой Т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вторение  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«Классификация волокон».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торение через таблицы и схемы классификации волокон, 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 коллекции моделей зима-лето с обсуждением и обобщением материала по гигиеническим, технологическим и эксплуатационным свойствам тканей из натуральных и химических волок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окн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AutoShape 5"/>
          <p:cNvSpPr/>
          <p:nvPr/>
        </p:nvSpPr>
        <p:spPr>
          <a:xfrm rot="3305400">
            <a:off x="3176280" y="590400"/>
            <a:ext cx="144360" cy="1443240"/>
          </a:xfrm>
          <a:prstGeom prst="downArrow">
            <a:avLst>
              <a:gd name="adj1" fmla="val 44750"/>
              <a:gd name="adj2" fmla="val 24961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AutoShape 6"/>
          <p:cNvSpPr/>
          <p:nvPr/>
        </p:nvSpPr>
        <p:spPr>
          <a:xfrm rot="18147600">
            <a:off x="6095160" y="601560"/>
            <a:ext cx="220680" cy="1359000"/>
          </a:xfrm>
          <a:prstGeom prst="downArrow">
            <a:avLst>
              <a:gd name="adj1" fmla="val 44750"/>
              <a:gd name="adj2" fmla="val 1537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384200" y="243540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00000" y="1700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тур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79600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имически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AutoShape 10"/>
          <p:cNvSpPr/>
          <p:nvPr/>
        </p:nvSpPr>
        <p:spPr>
          <a:xfrm rot="967200">
            <a:off x="964800" y="2176200"/>
            <a:ext cx="223920" cy="1384200"/>
          </a:xfrm>
          <a:prstGeom prst="downArrow">
            <a:avLst>
              <a:gd name="adj1" fmla="val 50000"/>
              <a:gd name="adj2" fmla="val 1545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2268360" y="2349360"/>
            <a:ext cx="216000" cy="1943280"/>
          </a:xfrm>
          <a:prstGeom prst="downArrow">
            <a:avLst>
              <a:gd name="adj1" fmla="val 50000"/>
              <a:gd name="adj2" fmla="val 22491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AutoShape 12"/>
          <p:cNvSpPr/>
          <p:nvPr/>
        </p:nvSpPr>
        <p:spPr>
          <a:xfrm rot="19802400">
            <a:off x="3203640" y="2204640"/>
            <a:ext cx="217440" cy="1440000"/>
          </a:xfrm>
          <a:prstGeom prst="downArrow">
            <a:avLst>
              <a:gd name="adj1" fmla="val 50000"/>
              <a:gd name="adj2" fmla="val 16556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3573360"/>
            <a:ext cx="21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го происхо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403280" y="44370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отного происхо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843280" y="3573360"/>
            <a:ext cx="208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нерального происхо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6"/>
          <p:cNvSpPr/>
          <p:nvPr/>
        </p:nvSpPr>
        <p:spPr>
          <a:xfrm rot="1006800">
            <a:off x="5919840" y="2292480"/>
            <a:ext cx="164880" cy="1620720"/>
          </a:xfrm>
          <a:prstGeom prst="downArrow">
            <a:avLst>
              <a:gd name="adj1" fmla="val 50000"/>
              <a:gd name="adj2" fmla="val 2457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17"/>
          <p:cNvSpPr/>
          <p:nvPr/>
        </p:nvSpPr>
        <p:spPr>
          <a:xfrm flipH="1" rot="20335200">
            <a:off x="7450920" y="2276640"/>
            <a:ext cx="209520" cy="1035000"/>
          </a:xfrm>
          <a:prstGeom prst="downArrow">
            <a:avLst>
              <a:gd name="adj1" fmla="val 50000"/>
              <a:gd name="adj2" fmla="val 12349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148360" y="3860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кусственны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020000" y="342900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нтетиче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826920" y="4365720"/>
            <a:ext cx="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2124000" y="5157720"/>
            <a:ext cx="0" cy="504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3924360" y="4292640"/>
            <a:ext cx="0" cy="1297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594036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812000" y="3789360"/>
            <a:ext cx="730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250920" y="530064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лоп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1619280" y="5805360"/>
            <a:ext cx="1152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ер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ел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5364000" y="4724280"/>
            <a:ext cx="1295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с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цета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3564000" y="580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сбес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380360" y="4581360"/>
            <a:ext cx="122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вс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про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войства тканей из натуральных и химических волокон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2781360"/>
          <a:ext cx="4038480" cy="33116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кань прочная, тонкая, мягкая, хорошо драпируется, обладает теплозащитными свойствами, имеет большую усадку, обладает большой пылеемкость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788000" y="2781360"/>
          <a:ext cx="4038480" cy="2160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кань обладает хорошей износостойкостью, тяжелая, жесткая, в мокром состоянии значительно теряет прочность, легко растягивается, сложна при раскрое и пошиве издел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>
            <a:off x="971640" y="1773360"/>
            <a:ext cx="28083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тураль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5651640" y="1773360"/>
            <a:ext cx="25923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имическ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634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да 2007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има - лет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6" descr="HWScan00034"/>
          <p:cNvPicPr/>
          <p:nvPr/>
        </p:nvPicPr>
        <p:blipFill>
          <a:blip r:embed="rId1"/>
          <a:stretch/>
        </p:blipFill>
        <p:spPr>
          <a:xfrm>
            <a:off x="2214720" y="2428920"/>
            <a:ext cx="1428480" cy="206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WScan00033"/>
          <p:cNvPicPr/>
          <p:nvPr/>
        </p:nvPicPr>
        <p:blipFill>
          <a:blip r:embed="rId2"/>
          <a:stretch/>
        </p:blipFill>
        <p:spPr>
          <a:xfrm>
            <a:off x="500040" y="2428920"/>
            <a:ext cx="1312920" cy="209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WScan00037"/>
          <p:cNvPicPr/>
          <p:nvPr/>
        </p:nvPicPr>
        <p:blipFill>
          <a:blip r:embed="rId3"/>
          <a:stretch/>
        </p:blipFill>
        <p:spPr>
          <a:xfrm>
            <a:off x="4357800" y="2286000"/>
            <a:ext cx="1635120" cy="235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WScan00035"/>
          <p:cNvPicPr/>
          <p:nvPr/>
        </p:nvPicPr>
        <p:blipFill>
          <a:blip r:embed="rId1"/>
          <a:stretch/>
        </p:blipFill>
        <p:spPr>
          <a:xfrm rot="413400">
            <a:off x="620280" y="584280"/>
            <a:ext cx="1521000" cy="2101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WScan00036"/>
          <p:cNvPicPr/>
          <p:nvPr/>
        </p:nvPicPr>
        <p:blipFill>
          <a:blip r:embed="rId2"/>
          <a:stretch/>
        </p:blipFill>
        <p:spPr>
          <a:xfrm rot="21184200">
            <a:off x="3679920" y="714240"/>
            <a:ext cx="1295280" cy="185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WScan00042"/>
          <p:cNvPicPr/>
          <p:nvPr/>
        </p:nvPicPr>
        <p:blipFill>
          <a:blip r:embed="rId3"/>
          <a:stretch/>
        </p:blipFill>
        <p:spPr>
          <a:xfrm rot="477600">
            <a:off x="3595680" y="3539880"/>
            <a:ext cx="17748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актическая работа: «Определение вида тка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довательность рабо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клеить образец тк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вид тк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ть характеристику тка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числить гигиенические свойства тка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назначение данного образца тка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2-08-27T10:14:24Z</dcterms:modified>
  <cp:revision>12</cp:revision>
  <dc:subject/>
  <dc:title>PowerPoint Presentation</dc:title>
</cp:coreProperties>
</file>