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4001-4E58-4984-B740-BEB87A4FF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F08C-139F-474D-94A8-89A48032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A4ED-5B9D-46B3-9466-56FCE290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4566-498C-4C19-B887-432F34DE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53E6-1D2F-44E8-ABF8-53BC7DE9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E0F0-1F5B-428C-B3C9-6887B969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E553-1CA7-4AE0-A9E2-461DCA6A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3C90-2540-40E5-ADA7-C3EE9FE0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4DB2-F010-416F-BB15-AF4A041F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A4A3-8797-426C-94E8-C3DB4391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90A8-2460-44DF-A09B-4D676349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9B6C-62E8-4482-A65A-66044C8B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DF0B-6944-427F-99CC-B3EC34537E9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ТЕМА: « ОПРЕДЕЛЕНИЕ СОСТАВА ТКАНЕЙ И ИЗУЧЕНИЕ ИХ СВОЙСТВ»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ЕЛ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повторение классификации текстильных волокон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закрепление основных свойств волокон натурального и химического происхожде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развитие логического мышле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формирование навыков определения  тканей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рок разработан учителем технолог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Ш № 1 Батовой Т.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Повторение  .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«Классификация волокон».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торение через таблицы и схемы классификации волокон,  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каз коллекции моделей зима-лето с обсуждением и обобщением материала по гигиеническим, технологическим и эксплуатационным свойствам тканей из натуральных и химических волок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9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98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98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Волокна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AutoShape 5"/>
          <p:cNvSpPr/>
          <p:nvPr/>
        </p:nvSpPr>
        <p:spPr>
          <a:xfrm rot="3305400">
            <a:off x="3176280" y="590400"/>
            <a:ext cx="144360" cy="1443240"/>
          </a:xfrm>
          <a:prstGeom prst="downArrow">
            <a:avLst>
              <a:gd name="adj1" fmla="val 44750"/>
              <a:gd name="adj2" fmla="val 24961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AutoShape 6"/>
          <p:cNvSpPr/>
          <p:nvPr/>
        </p:nvSpPr>
        <p:spPr>
          <a:xfrm rot="18147600">
            <a:off x="6095160" y="601560"/>
            <a:ext cx="220680" cy="1359000"/>
          </a:xfrm>
          <a:prstGeom prst="downArrow">
            <a:avLst>
              <a:gd name="adj1" fmla="val 44750"/>
              <a:gd name="adj2" fmla="val 15375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384200" y="2435400"/>
            <a:ext cx="297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900000" y="170028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тураль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5796000" y="1700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Химические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AutoShape 10"/>
          <p:cNvSpPr/>
          <p:nvPr/>
        </p:nvSpPr>
        <p:spPr>
          <a:xfrm rot="967200">
            <a:off x="964800" y="2176200"/>
            <a:ext cx="223920" cy="1384200"/>
          </a:xfrm>
          <a:prstGeom prst="downArrow">
            <a:avLst>
              <a:gd name="adj1" fmla="val 50000"/>
              <a:gd name="adj2" fmla="val 15454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2268360" y="2349360"/>
            <a:ext cx="216000" cy="1943280"/>
          </a:xfrm>
          <a:prstGeom prst="downArrow">
            <a:avLst>
              <a:gd name="adj1" fmla="val 50000"/>
              <a:gd name="adj2" fmla="val 22491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AutoShape 12"/>
          <p:cNvSpPr/>
          <p:nvPr/>
        </p:nvSpPr>
        <p:spPr>
          <a:xfrm rot="19802400">
            <a:off x="3203640" y="2204640"/>
            <a:ext cx="217440" cy="1440000"/>
          </a:xfrm>
          <a:prstGeom prst="downArrow">
            <a:avLst>
              <a:gd name="adj1" fmla="val 50000"/>
              <a:gd name="adj2" fmla="val 16556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0" y="3573360"/>
            <a:ext cx="212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тительного происхожд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1403280" y="4437000"/>
            <a:ext cx="21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Животного происхожд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2843280" y="3573360"/>
            <a:ext cx="208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инерального происхожд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AutoShape 16"/>
          <p:cNvSpPr/>
          <p:nvPr/>
        </p:nvSpPr>
        <p:spPr>
          <a:xfrm rot="1006800">
            <a:off x="5919840" y="2292480"/>
            <a:ext cx="164880" cy="1620720"/>
          </a:xfrm>
          <a:prstGeom prst="downArrow">
            <a:avLst>
              <a:gd name="adj1" fmla="val 50000"/>
              <a:gd name="adj2" fmla="val 24574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AutoShape 17"/>
          <p:cNvSpPr/>
          <p:nvPr/>
        </p:nvSpPr>
        <p:spPr>
          <a:xfrm flipH="1" rot="20335200">
            <a:off x="7450920" y="2276640"/>
            <a:ext cx="209520" cy="1035000"/>
          </a:xfrm>
          <a:prstGeom prst="downArrow">
            <a:avLst>
              <a:gd name="adj1" fmla="val 50000"/>
              <a:gd name="adj2" fmla="val 12349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5148360" y="386064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кусственны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7020000" y="342900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интетическ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Line 20"/>
          <p:cNvSpPr/>
          <p:nvPr/>
        </p:nvSpPr>
        <p:spPr>
          <a:xfrm>
            <a:off x="826920" y="4365720"/>
            <a:ext cx="0" cy="863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Line 22"/>
          <p:cNvSpPr/>
          <p:nvPr/>
        </p:nvSpPr>
        <p:spPr>
          <a:xfrm>
            <a:off x="2124000" y="5157720"/>
            <a:ext cx="0" cy="5047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Line 24"/>
          <p:cNvSpPr/>
          <p:nvPr/>
        </p:nvSpPr>
        <p:spPr>
          <a:xfrm>
            <a:off x="3924360" y="4292640"/>
            <a:ext cx="0" cy="12970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Line 25"/>
          <p:cNvSpPr/>
          <p:nvPr/>
        </p:nvSpPr>
        <p:spPr>
          <a:xfrm>
            <a:off x="5940360" y="429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Line 26"/>
          <p:cNvSpPr/>
          <p:nvPr/>
        </p:nvSpPr>
        <p:spPr>
          <a:xfrm>
            <a:off x="7812000" y="3789360"/>
            <a:ext cx="7308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27"/>
          <p:cNvSpPr/>
          <p:nvPr/>
        </p:nvSpPr>
        <p:spPr>
          <a:xfrm>
            <a:off x="250920" y="5300640"/>
            <a:ext cx="1225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лопо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ен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1619280" y="5805360"/>
            <a:ext cx="11523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Шер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Шелк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5364000" y="4724280"/>
            <a:ext cx="129564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иско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цета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3564000" y="58053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сбес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7380360" y="4581360"/>
            <a:ext cx="122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авс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прон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Свойства тканей из натуральных и химических волокон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95280" y="2781360"/>
          <a:ext cx="4038480" cy="331164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3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кань прочная, тонкая, мягкая, хорошо драпируется, обладает теплозащитными свойствами, имеет большую усадку, обладает большой пылеемкостью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4788000" y="2781360"/>
          <a:ext cx="4038480" cy="21603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кань обладает хорошей износостойкостью, тяжелая, жесткая, в мокром состоянии значительно теряет прочность, легко растягивается, сложна при раскрое и пошиве издели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 Box 41"/>
          <p:cNvSpPr/>
          <p:nvPr/>
        </p:nvSpPr>
        <p:spPr>
          <a:xfrm>
            <a:off x="971640" y="1773360"/>
            <a:ext cx="280836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туральны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42"/>
          <p:cNvSpPr/>
          <p:nvPr/>
        </p:nvSpPr>
        <p:spPr>
          <a:xfrm>
            <a:off x="5651640" y="1773360"/>
            <a:ext cx="259236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Химически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634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Мода 2007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зима - лето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7" name="Picture 6" descr="HWScan00034"/>
          <p:cNvPicPr/>
          <p:nvPr/>
        </p:nvPicPr>
        <p:blipFill>
          <a:blip r:embed="rId1"/>
          <a:stretch/>
        </p:blipFill>
        <p:spPr>
          <a:xfrm>
            <a:off x="2214720" y="2428920"/>
            <a:ext cx="1428480" cy="2063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HWScan00033"/>
          <p:cNvPicPr/>
          <p:nvPr/>
        </p:nvPicPr>
        <p:blipFill>
          <a:blip r:embed="rId2"/>
          <a:stretch/>
        </p:blipFill>
        <p:spPr>
          <a:xfrm>
            <a:off x="500040" y="2428920"/>
            <a:ext cx="1312920" cy="2090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HWScan00037"/>
          <p:cNvPicPr/>
          <p:nvPr/>
        </p:nvPicPr>
        <p:blipFill>
          <a:blip r:embed="rId3"/>
          <a:stretch/>
        </p:blipFill>
        <p:spPr>
          <a:xfrm>
            <a:off x="4357800" y="2286000"/>
            <a:ext cx="1635120" cy="2355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HWScan00035"/>
          <p:cNvPicPr/>
          <p:nvPr/>
        </p:nvPicPr>
        <p:blipFill>
          <a:blip r:embed="rId1"/>
          <a:stretch/>
        </p:blipFill>
        <p:spPr>
          <a:xfrm rot="413400">
            <a:off x="620280" y="584280"/>
            <a:ext cx="1521000" cy="2101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HWScan00036"/>
          <p:cNvPicPr/>
          <p:nvPr/>
        </p:nvPicPr>
        <p:blipFill>
          <a:blip r:embed="rId2"/>
          <a:stretch/>
        </p:blipFill>
        <p:spPr>
          <a:xfrm rot="21184200">
            <a:off x="3679920" y="714240"/>
            <a:ext cx="1295280" cy="1859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WScan00042"/>
          <p:cNvPicPr/>
          <p:nvPr/>
        </p:nvPicPr>
        <p:blipFill>
          <a:blip r:embed="rId3"/>
          <a:stretch/>
        </p:blipFill>
        <p:spPr>
          <a:xfrm rot="477600">
            <a:off x="3595680" y="3539880"/>
            <a:ext cx="177480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Практическая работа: «Определение вида ткани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ледовательность работ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клеить образец тка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ределить вид тка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ать характеристику ткан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ечислить гигиенические свойства ткан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ределить назначение данного образца тка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9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98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98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98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98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98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98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</cp:lastModifiedBy>
  <dcterms:modified xsi:type="dcterms:W3CDTF">2012-08-27T10:14:24Z</dcterms:modified>
  <cp:revision>12</cp:revision>
  <dc:subject/>
  <dc:title>PowerPoint Presentation</dc:title>
</cp:coreProperties>
</file>