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5.wmf" ContentType="image/x-wmf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1A1-9303-488C-A01B-F469CF8F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7FC-5680-4B8E-91B6-7CECCD6B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8D4-AF18-401F-94A2-DFE206AD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DCE-2B30-4BF7-A674-623BCA92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F50A-0149-4646-8C21-87C0C692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CE49-448C-44D1-B3E5-4028F644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84C5-3B6D-400E-BACC-53590A01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A721-F21D-4D03-A87C-D06FDEFF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95C4-E57B-41B9-B8FF-14AF7271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1871-C9EF-4107-B7C1-B240102F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CF97-17F0-400C-8BB8-A0AC3274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61A-58EF-45BE-8B13-1AABBDFB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A5FC-14E3-4AC8-B224-98B3281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7E6C-9033-4E94-A629-AA7DF45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4BF7-C788-442C-9BD3-EAA5B1BD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D4C4-617D-4DEC-9A3C-34FEC474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0F5F-F41F-4EB7-9D40-EC7BCEC9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5CD-FBCC-4B80-BAB6-FB621406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E1F-0AB8-427E-9B4B-9DF99170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E63-32C1-480B-8965-E4E8A937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BE7-A071-4CA8-A4AD-C3474281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DFD-8145-4792-A66F-5A25A72C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91E-084F-4C93-901B-6CA780AC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02C-38AB-46E0-9C1B-7E07326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6fe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F7D0-78A9-4D6C-986C-78BEFCF17F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1A18-E8CB-4A03-806E-8C4C0852A7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6914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Развитие творческих способностей на уроках технологии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042920" y="1413000"/>
            <a:ext cx="7561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педагогических задач сегодня является внедрение в образовательный процесс таких методов и приёмов, которые помогут учащимся не только овладеть определёнными знаниями, умениями и навыками в той или иной сфере деятельности, но и развивать их творческие способности, где важная роль отводится урокам технолог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ка показывает, что для учителя задача развития творческих способностей учащихся является наиболее сложной и трудно реализуемой. С одной стороны, нужно для каждого учащегося создать такие условия, которые позволят ему творчески подойти к решению различных проблем, с другой стороны, это должно происходить в рамках программы. Именно поэтому правильно выбранные методы и формы обучения помогают учителю определить ту возможную меру включённости учащихся в творческую деятельность, которая делает обучение интересным в рамках учебной про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0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7592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минаре выступила с докладом и показала мастер- клас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ли открытый интегрированный урок на тему «Матрёшки» совместно с учителем изо. Ребята приготовили заготовки матрёшек из дерева, из солёного теста и разукрашивали их. В работе семинара приняли участие и учителя технологии Новинской СОШ. Мастер- класс показали учителя по бисеру и резьбе по дерев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320" y="47592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Фото0458"/>
          <p:cNvPicPr/>
          <p:nvPr/>
        </p:nvPicPr>
        <p:blipFill>
          <a:blip r:embed="rId3"/>
          <a:stretch/>
        </p:blipFill>
        <p:spPr>
          <a:xfrm>
            <a:off x="1450800" y="108900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p:transition spd="med" advTm="66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Интегрированный урок «Матрёшки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7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F:\2011_11_14\IMG_0020.jpg"/>
          <p:cNvPicPr/>
          <p:nvPr/>
        </p:nvPicPr>
        <p:blipFill>
          <a:blip r:embed="rId3"/>
          <a:stretch/>
        </p:blipFill>
        <p:spPr>
          <a:xfrm>
            <a:off x="4788000" y="765000"/>
            <a:ext cx="3968640" cy="609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F:\2011_11_14\IMG_0021.jpg"/>
          <p:cNvPicPr/>
          <p:nvPr/>
        </p:nvPicPr>
        <p:blipFill>
          <a:blip r:embed="rId4"/>
          <a:stretch/>
        </p:blipFill>
        <p:spPr>
          <a:xfrm>
            <a:off x="611280" y="765000"/>
            <a:ext cx="4032000" cy="60930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62012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1304"/>
                </a:solidFill>
                <a:latin typeface="Arial"/>
              </a:rPr>
              <a:t>Также эта работа продолжается и во внеурочное время. Каждый год я провожу неделю технологии.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Arial"/>
              </a:rPr>
              <a:t>В 2007-2008г.-Интегрированный курс  «Обрядовые блюда православной кухни».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6920" y="1530000"/>
            <a:ext cx="7620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ить знакомство с обрядовыми праздниками. Научить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товить и оформлять блюда Пасхального разговения. Закрепить навыки и умения по сервировке праздничного сто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учиться красить и расписывать яйца. Приобщать детей к православной культуре: народным песням и танц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ип  урока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традиционн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предметные связи: история, основы православной веры, изо, музы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К особым пасхальным обрядам относится благословение «артоса»-хлеба в переводе с греческого. Раньше на этом хлебе изображался крест или сцена воскресения Христа. Происхождение обычая такого: на совместных трапезах со своими учениками Христос всегда произносил слова: «Я с вами во все дни». После распятия Христа его место за столом никто не занимал, и около него всегда оставляли хлеб. По окончании трапезы говорили: «Христос воскрес». Так этот обычай сохранился в веках, и теперь лежащий в храме хлеб служит напоминанием о том, что здесь незримо  присутствует Христос. После торжественной литургии(проповеди) артос освещали, разламывали, раздавали молящимся. У некоторых славянских народов был такой обычай: из церкви спешили домой с освященным куличом, даже бежали- это означало скорый урожай, а девушкам скорое замужество. Освященный кулич берегли, сушили и в самую тяжелую минуту давали кусочек на веру, на здоровье. И наши дни сохранился обычай на пасху печь и освящать кулич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066320" y="404640"/>
            <a:ext cx="762012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Вернувшись из церкви рано утром домой , верующие христовались и обменивались крашеными яйцами. Красное яйцо- символ Пасхи. По преданию оно было дано Марией Магдаленой римскому императору Тиберию перед началом проповеди. Ещё до появления Христа оно символизировало Вселенную. Славянские народы приписывали яйцу магическую силу: спасение дома от пожара, сбережение урожая от града, с яйцом в Ярославской губернии искали заблудившуюся овцу, корову. Белорусы опускали в воду яйца и омывали этой водой лицо, чтобы быть красивым. Коли болит голова, то надобно проводить яйцом по голове и оно вберёт себя боль, му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ло принято обмениваться пасхальными яйцами, сделанными из фарфора, дерева, хрусталя, стекла. Такие яйца изготавливались и деревенскими умельцами, и ювелирными фирмами. В кондитерских продавали шоколадные и сахарные яй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254040"/>
            <a:ext cx="9541080" cy="384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320" y="476280"/>
            <a:ext cx="7620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шеные яйца называют крашенки, расписанные- писанки. Для того чтобы яйца выглядели красиво на праздничном столе, за неделю до пасхи в специальную посуду с землёй сеяли пшеничные или овсяные зерна. К празднику земля покрывалась нежной зеленью, на которой красиво смотрелись крашенные яйц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Творожную пасху делали из жирного творога с различными наполнителями, с изюмом, миндалём, сливками, желтк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сметаной, пенками, фисташками. Готовили пасху заварную, миндальную, розовую и др. Иван Шмелёв описывает приготовление творожной пасхи в книге «Лето Господне». «На погребце мнут в широкой кадушке творог, засучив руки, тычут красными кулаками в творог, сыплют в него изюм и сахарку и проворно вминают в песочницы. Дают попробовать и мне на пальце: ну, как? Кисло, но я из вежливости хвалю. У нас в столовой толкут миндаль, по всему дому слышно. Я помогаю тереть творог на решете. Золотистые червячки лазают на блюдо- совсем живые. Протирают всё, в 5 решёт: пасх нам надо много. Для нас самая настоящая, пахнет Пасхой. Потом для гостей парадная,ещё маленькая пасха людям, и ещё бедным родственникам. Для народа, человек на 200…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66320" y="404640"/>
            <a:ext cx="762012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струкционная карта№1.Приготовление творожного кек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укты: масло сливочное-250г., сахар-2стакана, яйца-2шт., сырки творожные (творог)-2шт., мука-12ст.л., крахмал-4ст.л., уксус-1ст.л.,сода-1ч.л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приготовления: масло, сахар, яйца, сырки смешать, добавить просеянную и смешанную с крахмалом муку, добавить соду, погашенную уксусом. Тестом наполнить на ½ формочки. Выпекать при температуре 200 градусов. Готовые кексы сверху намазать глазурью и посыпать цветной карамелью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струкционная карта№2.Приготовление глазур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укты: яичные белки-2шт., сахар-200г., лимонный сок-1ст. л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приготовления: белок 2 яиц аккуратно отделить от желтков. Белки взбить, при непрерывном взбивании ввести 200г. сахара, можно добавить 1ст. л. Лимонного со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9L5"/>
          <p:cNvPicPr/>
          <p:nvPr/>
        </p:nvPicPr>
        <p:blipFill>
          <a:blip r:embed="rId2"/>
          <a:stretch/>
        </p:blipFill>
        <p:spPr>
          <a:xfrm>
            <a:off x="-396720" y="702936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86920" y="54900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рукционная карта №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ы: творог-1кг., сметана-100г.. масло сливочное-100г.,сахар- 100г.,соль- 1/2ч.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риготовления : творог протереть сквозь сито, положить в него сметану, растопленное масло, соль, сахар, перемешать до получения однородной массы. Мягкую мокрую салфетку уложить в форму, наполнить приготовленной массой. Сверху накрыть крышкой, положить гнёт, поставить на сутки в холодильник, чтобы стекла сыворотка. После этого убрать крышку, опрокинуть форму на тарелку. Подать на сто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3419640" y="4508640"/>
            <a:ext cx="3017520" cy="19447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59920"/>
            <a:ext cx="764388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2007-2008 учебном году были проведены игры-соревнования по кулинарии в 2 тура: среди учащихся 5-7 классов и  среди учащихся 8-11 клас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1. «Чёрный ящик». Что лежит в чёрном ящик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2. «Любимый салат моей семьи»-для уч-ся 5-7 клас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Любимая выпечка моей семьи»- для уч-ся 8-11 клас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омашнее задан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3   «Конкурс капитанов»- домашнее задание. Капитанам предлагается по очереди назвать овощи и фрукты (5-7 кл.); блюда и изделия из теста( 8-11 кл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4  «Составь кроссворд» ( из слов, имеющих отношение к технологии приготовления блюд и изделий из теста, к технологии приготовления салатов, к оборудованию кухн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5 «Угадай-ка».учащиеся должны отгадать загад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6 «Знаешь ли ты пословицы и поговорки?» (О продуктах пита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ы игры-соревнования среди 5-7 класс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место- команда 7А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место- команда 6 А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место- команда 5А клас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ы игры- соревнования среди 8-11 класс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место- команда 10А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место- команда 9А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место- команда 11А клас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404640"/>
            <a:ext cx="764388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2008-2009 учебном году  в рамках Недели по технологии  были проведены викторины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кторина «Что? Где? Когда?» среди учащихся 5-6 класс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ы:        1 место         2 место               3 мес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хметова С.    Самигулина Р.    Каналиева 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кторина «Смак» среди учащихся 8-9 класс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ы:         1 место         2 место                3 мес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йдралиева М.  Зинько К.    Нургалиева 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Копии грамот прилагаютс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2009-2010 учебном году в рамках предметной Недели технологии, Изо и музыки были проведены совместно с мальчиками конкурсы.(План проведения Недели прилагаетс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конкурс «Кулинарное царство. Обрядовые блюда православной кухни».(5-6-7 классы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ы конкурс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место- учащиеся 5 класса ( Яренкова А.. Панюшкина А., Курманалиев;  Камалов Т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место- девочки 6 класса (Асхарова А.; Канатова Б.; Самигулина Р., Каналиева Ю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 место- девочки 7 класса (Ахметова С., Пасочникова Е., Тлеугалиева Д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конкурс- «Пасхальное разговение» среди 8-9-10 класс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ы конкурс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место: Зинько К.-9 А класс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место: Уразгалиева Ф.- 10А класс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место: Максимова Ю.- 8А клас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560" y="476280"/>
            <a:ext cx="76201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вестно, творчество- это деятельность человека, направленная на создание какого-либо нового, оригинального продукта в сфере науки, искусства, техники, производства и организации. Творческий процесс-это всегда прорыв в неизвестное, но ему предшествует длительное накопление опыта, знаний, умений и навыков, он характеризуется переходом количества всевозможных идей и подходов в новое своеобразное качеств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- это такие психологические особенности человека, от которых зависит успешность приобретения знаний, умений и навыков, но которые сами к наличию этих знаний, умений и навыков не сводя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и критерии творческой деятельности: продуктивность, нестандартнос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гинальность, способность к ген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идей, возможность выхо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ределы ситуации», сверхнорматив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45000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2966760"/>
            <a:ext cx="9541080" cy="384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1258920" y="1700280"/>
            <a:ext cx="756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й проект- это хорошая творческая задача для самовыражения любого учащего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ность и необходимость в трудовом обучении была всегда. Мастерство передавалось от поколения к поколению методом “делай, как я”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ериканский ученый Джон Дьюи сто лет назад предложил строить обучение на активной основе, через целесообразную деятельность ученика, сообразуясь с его личным интересом и личными целями. Для того чтобы ученик воспринимал знания как действительно нужные ему, требуется проблема, взятая из реальной жизни, знакомая и значимая для ребенка, для решения которой ему предстоит применить имеющиеся знания и умения, а также и новые, которые еще предстоит приобре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0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42560" y="76464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иболее эффективно эти проблемы решаются мною путём организации целостного учебно-воспитательного процесса, технологической подготовки учащихся с использованием в преподавании современных педагогических технологий и развивающих личность методов обучения. Особую значимость при этом имеет метод проектов, который позволяет школьникам в системе овладеть организацией практической деятельности по всей проектно-технологической цепочке – от идеи до её реализации в модели, изделии (продукте труда). Главная особенность этого подхода - активизировать обучение, придав ему исследовательский, творческий характер, и таким образом передать учащемуся инициативу в организации своей познавательной деятель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50000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320" y="620640"/>
            <a:ext cx="76201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проектов рассматривается не как итоговая самостоятельная работа учащихся, а как способ, позволяющий приобрести навыки проектирования и изготовления изделий, удовлетворяющих индивидуальные потребности личности, а в перспективе и общества, другими словами: “Я сделаю свой мир полезным, красивым и удобным для себя и других”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ю моей педагогической деятельности является – развитие творческих способностей учащихся на уроках технолог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метода проектов на уроках повышает мотивацию к творческой деятельности. Школьники, осуществляя процесс проектирования, добиваются эффективных учебных результа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48000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66320" y="549360"/>
            <a:ext cx="76201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аждом классе есть ученики с различными способностями. Более сильные ученики могут предложить больше различных идей и изготовить более сложное изделие. Благодаря методу проектов у учащихся значительно повышается творческая активность не только на уроках технологии, но и за рамками урока. Метод проектов способствует развитию знаний, умений, навыков для решения физиологических, эмоциональных, интеллектуальных, социальных потребнос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 проектов помогает учащимся приобретать разнообразные знания и навыки по преобразованию материалов, энергии и информации, изучать технику и культуру дома, уточнять свои профессиональные планы. В технологическом образовании метод проектов позволяет гармонично сочетать в обучении интересы личности и общества, формировать интерес учащихся к технологическому образованию, знакомя их с той областью знаний и умений, которая способствует его становлению как будущего специалиста, гражданина. Сегодня уже доказано, что люди, подготовленные к творчеству, намного быстрее адаптируются в науке, на производстве, лучше осваивают свою работу, приносят больше польз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70000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E:\Изображение 148.jpg"/>
          <p:cNvPicPr/>
          <p:nvPr/>
        </p:nvPicPr>
        <p:blipFill>
          <a:blip r:embed="rId3"/>
          <a:stretch/>
        </p:blipFill>
        <p:spPr>
          <a:xfrm>
            <a:off x="754200" y="3392640"/>
            <a:ext cx="4105080" cy="32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E:\Изображение 149.jpg"/>
          <p:cNvPicPr/>
          <p:nvPr/>
        </p:nvPicPr>
        <p:blipFill>
          <a:blip r:embed="rId4"/>
          <a:stretch/>
        </p:blipFill>
        <p:spPr>
          <a:xfrm>
            <a:off x="4859280" y="260280"/>
            <a:ext cx="3975120" cy="324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E:\Изображение 152.jpg"/>
          <p:cNvPicPr/>
          <p:nvPr/>
        </p:nvPicPr>
        <p:blipFill>
          <a:blip r:embed="rId3"/>
          <a:stretch/>
        </p:blipFill>
        <p:spPr>
          <a:xfrm>
            <a:off x="4427640" y="333360"/>
            <a:ext cx="4321080" cy="388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E:\Изображение 153.jpg"/>
          <p:cNvPicPr/>
          <p:nvPr/>
        </p:nvPicPr>
        <p:blipFill>
          <a:blip r:embed="rId4"/>
          <a:stretch/>
        </p:blipFill>
        <p:spPr>
          <a:xfrm>
            <a:off x="1258920" y="2962440"/>
            <a:ext cx="4248000" cy="3511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8" descr="D:\Мои документы\Светлана\Клипарт\77e1116fb928.png"/>
          <p:cNvPicPr/>
          <p:nvPr/>
        </p:nvPicPr>
        <p:blipFill>
          <a:blip r:embed="rId1"/>
          <a:stretch/>
        </p:blipFill>
        <p:spPr>
          <a:xfrm>
            <a:off x="179280" y="-171360"/>
            <a:ext cx="8964720" cy="702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F:\2011_11_14\IMG_0002.jpg"/>
          <p:cNvPicPr/>
          <p:nvPr/>
        </p:nvPicPr>
        <p:blipFill>
          <a:blip r:embed="rId2"/>
          <a:stretch/>
        </p:blipFill>
        <p:spPr>
          <a:xfrm>
            <a:off x="5443560" y="523800"/>
            <a:ext cx="3730680" cy="4206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F:\2011_11_14\IMG_0001.jpg"/>
          <p:cNvPicPr/>
          <p:nvPr/>
        </p:nvPicPr>
        <p:blipFill>
          <a:blip r:embed="rId3"/>
          <a:stretch/>
        </p:blipFill>
        <p:spPr>
          <a:xfrm>
            <a:off x="957240" y="603360"/>
            <a:ext cx="3565440" cy="4181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9L5"/>
          <p:cNvPicPr/>
          <p:nvPr/>
        </p:nvPicPr>
        <p:blipFill>
          <a:blip r:embed="rId4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9L5"/>
          <p:cNvPicPr/>
          <p:nvPr/>
        </p:nvPicPr>
        <p:blipFill>
          <a:blip r:embed="rId5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Monotype Corsiva"/>
              </a:rPr>
              <a:t>Грамоты учител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0" name="Picture 17" descr="F:\2011_11_14\IMG_0003.jpg"/>
          <p:cNvPicPr/>
          <p:nvPr/>
        </p:nvPicPr>
        <p:blipFill>
          <a:blip r:embed="rId6"/>
          <a:stretch/>
        </p:blipFill>
        <p:spPr>
          <a:xfrm>
            <a:off x="3564000" y="2708280"/>
            <a:ext cx="2952720" cy="3905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Monotype Corsiva"/>
              </a:rPr>
              <a:t>Грамоты учащихс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2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F:\2011_11_14\IMG_0006.jpg"/>
          <p:cNvPicPr/>
          <p:nvPr/>
        </p:nvPicPr>
        <p:blipFill>
          <a:blip r:embed="rId3"/>
          <a:stretch/>
        </p:blipFill>
        <p:spPr>
          <a:xfrm rot="21144000">
            <a:off x="819000" y="1312920"/>
            <a:ext cx="2575080" cy="374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F:\2011_11_14\IMG_0007.jpg"/>
          <p:cNvPicPr/>
          <p:nvPr/>
        </p:nvPicPr>
        <p:blipFill>
          <a:blip r:embed="rId4"/>
          <a:stretch/>
        </p:blipFill>
        <p:spPr>
          <a:xfrm rot="753600">
            <a:off x="5882760" y="1230480"/>
            <a:ext cx="2700360" cy="3743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F:\2011_11_14\IMG_0008.jpg"/>
          <p:cNvPicPr/>
          <p:nvPr/>
        </p:nvPicPr>
        <p:blipFill>
          <a:blip r:embed="rId5"/>
          <a:stretch/>
        </p:blipFill>
        <p:spPr>
          <a:xfrm>
            <a:off x="3203640" y="1916280"/>
            <a:ext cx="284328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6000" y="620640"/>
            <a:ext cx="75470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ыявления и развития способностей зачастую решающую роль играет труд, возможность приобретения высокого мастерства и значительных успехов в творчеств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этого можно сформулировать основную цель развития творческих способностей учащих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ить учащихся к творческой работ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ивать интерес к творчеству, поиск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навыки созидания, самореал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е место в развитии творческих способностей принадлежит исследовательскому методу, которому присущи элементы творчества, новизны, формирования банка идей, приобретения опыта творчества, т.к. процесс изготовления любого изделия начинается с выполнения эскизов, зарисовок, выбора вариантов композиций, разработка конструкции моделей, её моделир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50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42560" y="476280"/>
            <a:ext cx="76201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отметить, если деятельность находится в зоне оптимальной трудности, т.е. на пределе возможностей ребёнка, то она ведёт за собой развитие его способностей, реализуя то, что Л.С.Выготский назвал «зоной потенциального развития». И, действительно, у учащихся, выполняющих исследовательский проект, развивается логическое мышление, воображение и формируется устойчивый интерес к труду, конечному результ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е внимание на занятиях уделяется групповым проектам. В творческих коллективах складываются отношения дружбы, взаимных симпатий, где учащиеся ориентируются на продуктивные формы общения и сотворчества. Творческ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рассматривается н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«деятельность, способствующ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ю целого комплекса качест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ой личности; ум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; смекалки и изобрета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48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320" y="620640"/>
            <a:ext cx="76201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я добывать знания, необходимые для выполнения конкретной практической работы; самостоятельность в выборе и решении задач; трудолюбие; способность видеть главное. Значит, творческая личность- это человек, овладевший подобной деятельностью. Творческая личность рождается тогда, когда учащиеся учатся самостоятельно применять свои ранее полученные знания, умеют представить себе объект, о котором идёт речь, сравнить его с другими, сделать выводы, выразить своё отношение к объек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ачинать целенаправленное развитие творческого мышления надо как можно раньше, чтобы не упустить весьма богатые возможности детского возраста»,- пишет М.Н.Скаткин( «Школа и всестороннее развитие детей»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же мы предпринимаем для развития способностей дет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64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66320" y="47592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е существуют различные формы урочной и внеурочной работы: различные формы проведения уроков, привлечение учащихся к подготовке докладов, рефератов об истории развития различных наук, о  жизни и творчестве великих учёных, организация разнообразной творческой деятельности учеников, составление кроссвордов, викторин, задач, наглядных пособий и рисун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азвитие творческих способностей направлена индивидуальная исследовательская работа с учени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амостоятельно над заранее выбранной темой, подбирая различный материал, ученики могут раскрыть своё творческое начало. В такой работе ребята учатся видеть главное, ставить цель, выбирать из дополнительной литературы наиболее интересный материал по те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59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66320" y="404640"/>
            <a:ext cx="762012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е недели, экскурсионная работа, проведение мероприятий, участие в конкурсах- эти и другие формы внеурочной деятельности применяются в школе для повышения творческого потенциала детей. Большие возможности для развития творческих способностей учащихся имеют кружковые занятия. Вызывая интерес к предмету, кружки способствуют развитию кругозора, творческих способнос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творческой деятельности необходимо для любого человека. Он становится более самостоятельным в своих суждениях, имеет свою точку зрения и аргументированно умеет её отстаивать. У него более высокая работоспособность. Но мне кажется, самое главное- это то, что у ребёнка развивается 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ая сфера, его чувства, душ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сли развиты его эмоции, то буд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ся и мышление. А думающ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это и есть тот человек, воспит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 мы стремимся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6012000" y="4724280"/>
            <a:ext cx="2828880" cy="1800360"/>
          </a:xfrm>
          <a:prstGeom prst="rect">
            <a:avLst/>
          </a:prstGeom>
          <a:ln w="0">
            <a:noFill/>
          </a:ln>
        </p:spPr>
      </p:pic>
    </p:spTree>
  </p:cSld>
  <p:transition spd="med" advTm="55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42560" y="260280"/>
            <a:ext cx="76201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развития творческой личности является «вечной» проблемой, и основные идеи и направления в её решении высказывались ещё Аристотелем, Дистервегом, наш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жиданное методическое решение у американских психологов 40-50-х годов (И.Войтинг- методы фокальных объектов; В.Гордон- метод «синектики»; А.Осборна- метод мозгового штурма и др.), поддерживались Выготским и , наконец, достаточно глубоко и всесторонне освещались в методических рекомендациях наших авторов: В.А.Худяковым, А.В.Шанкиным, Э.С.Чугуновым, В.Д.Бухаревым, В.Е.Алексеев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ой моего обучения является развитие творческих способностей у детей на уроках технологии. Этот процесс длительный, поэтому работу вести целесообразно с первых дней пребывания ребёнка в школе. Бесталанных детей нет. Важно только вовремя научить их, раскрыть свои способности, поверить в себя. И это задача каждого учите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е способности учащихся я развиваю на уроках, открытых уроках, семинарах, девочки пишут творческие проекты, рефераты, доклады на различные 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12.2009г. я провела районный семинар на базе нашей школы на эту те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55000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6" descr=""/>
          <p:cNvPicPr/>
          <p:nvPr/>
        </p:nvPicPr>
        <p:blipFill>
          <a:blip r:embed="rId3"/>
          <a:stretch/>
        </p:blipFill>
        <p:spPr>
          <a:xfrm>
            <a:off x="1042920" y="549360"/>
            <a:ext cx="3616560" cy="5462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18" name="Object 7" descr=""/>
          <p:cNvPicPr/>
          <p:nvPr/>
        </p:nvPicPr>
        <p:blipFill>
          <a:blip r:embed="rId4"/>
          <a:stretch/>
        </p:blipFill>
        <p:spPr>
          <a:xfrm>
            <a:off x="5219640" y="1052640"/>
            <a:ext cx="3384720" cy="48974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</p:spTree>
  </p:cSld>
  <p:transition spd="med" advTm="51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06:57Z</dcterms:created>
  <dc:creator>mar</dc:creator>
  <dc:description/>
  <dc:language>en-US</dc:language>
  <cp:lastModifiedBy>1</cp:lastModifiedBy>
  <dcterms:modified xsi:type="dcterms:W3CDTF">2012-08-26T17:26:44Z</dcterms:modified>
  <cp:revision>117</cp:revision>
  <dc:subject/>
  <dc:title>пифаг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320000000000010243100207f6000400038000</vt:lpwstr>
  </property>
</Properties>
</file>