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D1B-6B49-4439-AD1F-05204855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356-64F7-409C-BB75-0CEDE68B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66E-E38E-4BC0-889D-E4C75CC3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276-7989-4D50-9942-B205CC56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46A-615E-4BE8-8931-CFDCC5AF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D87-3864-4011-9612-9565322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379-EC86-41D2-8DD8-CAAAEEB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B3BE-941A-4DAF-A95C-8D3EA6D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3E01-544B-4A57-8255-E1D0F1F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3F6A-464E-445B-A08C-45030A8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B52-B705-4EFC-953E-FA3F9DEE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B61-EA11-4EB3-B93F-E57B79A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F0D-B2B7-4F8B-B4BC-51D072F2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1F66-DA97-4027-B295-2959D69B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F38E-9CBD-4EAC-A98C-23F79B60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AC1-F462-4D68-8A7C-2CE17A00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BA1-136A-4615-8DE7-A5F59570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593-A1A1-40F2-8C04-7776D885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547-89AE-43C2-8355-18DE5E8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E88-3C5A-4725-A0D9-B59FC9E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8C8-CBC1-40D5-90E5-7790D7C6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158-9FDD-4886-8365-130BED7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C59-BCBC-4D50-8EE7-B64F5F9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3CF-586D-41B5-B137-1EE97C3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6fe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C8C-ACA2-4A44-AEE1-B5074A0244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364-2B28-4043-B141-62DA64AB3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6914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Развитие творческих способностей на уроках технологии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042920" y="1413000"/>
            <a:ext cx="756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педагогических задач сегодня является внедрение в образовательный процесс таких методов и приёмов, которые помогут учащимся не только овладеть определёнными знаниями, умениями и навыками в той или иной сфере деятельности, но и развивать их творческие способности, где важная роль отводится урокам технолог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ка показывает, что для учителя задача развития творческих способностей учащихся является наиболее сложной и трудно реализуемой. С одной стороны, нужно для каждого учащегося создать такие условия, которые позволят ему творчески подойти к решению различных проблем, с другой стороны, это должно происходить в рамках программы. Именно поэтому правильно выбранные методы и формы обучения помогают учителю определить ту возможную меру включённости учащихся в творческую деятельность, которая делает обучение интересным в рамках учебной програм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минаре выступила с докладом и показала мастер- кла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ли открытый интегрированный урок на тему «Матрёшки» совместно с учителем изо. Ребята приготовили заготовки матрёшек из дерева, из солёного теста и разукрашивали их. В работе семинара приняли участие и учителя технологии Новинской СОШ. Мастер- класс показали учителя по бисеру и резьбе по дерев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Фото0458"/>
          <p:cNvPicPr/>
          <p:nvPr/>
        </p:nvPicPr>
        <p:blipFill>
          <a:blip r:embed="rId3"/>
          <a:stretch/>
        </p:blipFill>
        <p:spPr>
          <a:xfrm>
            <a:off x="1450800" y="1089000"/>
            <a:ext cx="62424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66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Интегрированный урок «Матрёшки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2011_11_14\IMG_0020.jpg"/>
          <p:cNvPicPr/>
          <p:nvPr/>
        </p:nvPicPr>
        <p:blipFill>
          <a:blip r:embed="rId3"/>
          <a:stretch/>
        </p:blipFill>
        <p:spPr>
          <a:xfrm>
            <a:off x="4788000" y="765000"/>
            <a:ext cx="3968640" cy="609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F:\2011_11_14\IMG_0021.jpg"/>
          <p:cNvPicPr/>
          <p:nvPr/>
        </p:nvPicPr>
        <p:blipFill>
          <a:blip r:embed="rId4"/>
          <a:stretch/>
        </p:blipFill>
        <p:spPr>
          <a:xfrm>
            <a:off x="611280" y="765000"/>
            <a:ext cx="4032000" cy="60930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2012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1304"/>
                </a:solidFill>
                <a:latin typeface="Arial"/>
              </a:rPr>
              <a:t>Также эта работа продолжается и во внеурочное время. Каждый год я провожу неделю технологии.</a:t>
            </a:r>
            <a:br>
              <a:rPr sz="1600"/>
            </a:br>
            <a:r>
              <a:rPr b="0" lang="ru-RU" sz="1600" spc="-1" strike="noStrike">
                <a:solidFill>
                  <a:srgbClr val="221304"/>
                </a:solidFill>
                <a:latin typeface="Arial"/>
              </a:rPr>
              <a:t>В 2007-2008г.-Интегрированный курс  «Обрядовые блюда православной кухни».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6920" y="1530000"/>
            <a:ext cx="7620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олжить знакомство с обрядовыми праздниками. Научить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товить и оформлять блюда Пасхального разговения. Закрепить навыки и умения по сервировке праздничного сто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учиться красить и расписывать яйца. Приобщать детей к православной культуре: народным песням и танц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ип  урок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традиционн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предметные связи: история, основы православной веры, изо, музы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К особым пасхальным обрядам относится благословение «артоса»-хлеба в переводе с греческого. Раньше на этом хлебе изображался крест или сцена воскресения Христа. Происхождение обычая такого: на совместных трапезах со своими учениками Христос всегда произносил слова: «Я с вами во все дни». После распятия Христа его место за столом никто не занимал, и около него всегда оставляли хлеб. По окончании трапезы говорили: «Христос воскрес». Так этот обычай сохранился в веках, и теперь лежащий в храме хлеб служит напоминанием о том, что здесь незримо  присутствует Христос. После торжественной литургии(проповеди) артос освещали, разламывали, раздавали молящимся. У некоторых славянских народов был такой обычай: из церкви спешили домой с освященным куличом, даже бежали- это означало скорый урожай, а девушкам скорое замужество. Освященный кулич берегли, сушили и в самую тяжелую минуту давали кусочек на веру, на здоровье. И наши дни сохранился обычай на пасху печь и освящать кулич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ернувшись из церкви рано утром домой , верующие христовались и обменивались крашеными яйцами. Красное яйцо- символ Пасхи. По преданию оно было дано Марией Магдаленой римскому императору Тиберию перед началом проповеди. Ещё до появления Христа оно символизировало Вселенную. Славянские народы приписывали яйцу магическую силу: спасение дома от пожара, сбережение урожая от града, с яйцом в Ярославской губернии искали заблудившуюся овцу, корову. Белорусы опускали в воду яйца и омывали этой водой лицо, чтобы быть красивым. Коли болит голова, то надобно проводить яйцом по голове и оно вберёт себя боль, му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ло принято обмениваться пасхальными яйцами, сделанными из фарфора, дерева, хрусталя, стекла. Такие яйца изготавливались и деревенскими умельцами, и ювелирными фирмами. В кондитерских продавали шоколадные и сахарные яй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254040"/>
            <a:ext cx="9541080" cy="38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320" y="476280"/>
            <a:ext cx="7620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шеные яйца называют крашенки, расписанные- писанки. Для того чтобы яйца выглядели красиво на праздничном столе, за неделю до пасхи в специальную посуду с землёй сеяли пшеничные или овсяные зерна. К празднику земля покрывалась нежной зеленью, на которой красиво смотрелись крашенные яйц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Творожную пасху делали из жирного творога с различными наполнителями, с изюмом, миндалём, сливками, желт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сметаной, пенками, фисташками. Готовили пасху заварную, миндальную, розовую и др. Иван Шмелёв описывает приготовление творожной пасхи в книге «Лето Господне». «На погребце мнут в широкой кадушке творог, засучив руки, тычут красными кулаками в творог, сыплют в него изюм и сахарку и проворно вминают в песочницы. Дают попробовать и мне на пальце: ну, как? Кисло, но я из вежливости хвалю. У нас в столовой толкут миндаль, по всему дому слышно. Я помогаю тереть творог на решете. Золотистые червячки лазают на блюдо- совсем живые. Протирают всё, в 5 решёт: пасх нам надо много. Для нас самая настоящая, пахнет Пасхой. Потом для гостей парадная,ещё маленькая пасха людям, и ещё бедным родственникам. Для народа, человек на 200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онная карта№1.Приготовление творожного кек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укты: масло сливочное-250г., сахар-2стакана, яйца-2шт., сырки творожные (творог)-2шт., мука-12ст.л., крахмал-4ст.л., уксус-1ст.л.,сода-1ч.л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: масло, сахар, яйца, сырки смешать, добавить просеянную и смешанную с крахмалом муку, добавить соду, погашенную уксусом. Тестом наполнить на ½ формочки. Выпекать при температуре 200 градусов. Готовые кексы сверху намазать глазурью и посыпать цветной карамелью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онная карта№2.Приготовление глазур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укты: яичные белки-2шт., сахар-200г., лимонный сок-1ст. л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: белок 2 яиц аккуратно отделить от желтков. Белки взбить, при непрерывном взбивании ввести 200г. сахара, можно добавить 1ст. л. Лимонного со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L5"/>
          <p:cNvPicPr/>
          <p:nvPr/>
        </p:nvPicPr>
        <p:blipFill>
          <a:blip r:embed="rId2"/>
          <a:stretch/>
        </p:blipFill>
        <p:spPr>
          <a:xfrm>
            <a:off x="-396720" y="702936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86920" y="54900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рукционная карта №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ы: творог-1кг., сметана-100г.. масло сливочное-100г.,сахар- 100г.,соль- 1/2ч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риготовления : творог протереть сквозь сито, положить в него сметану, растопленное масло, соль, сахар, перемешать до получения однородной массы. Мягкую мокрую салфетку уложить в форму, наполнить приготовленной массой. Сверху накрыть крышкой, положить гнёт, поставить на сутки в холодильник, чтобы стекла сыворотка. После этого убрать крышку, опрокинуть форму на тарелку. Подать на сто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3419640" y="4508640"/>
            <a:ext cx="3017520" cy="19447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59920"/>
            <a:ext cx="764388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2007-2008 учебном году были проведены игры-соревнования по кулинарии в 2 тура: среди учащихся 5-7 классов и  среди учащихся 8-11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1. «Чёрный ящик». Что лежит в чёрном ящик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2. «Любимый салат моей семьи»-для уч-ся 5-7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Любимая выпечка моей семьи»- для уч-ся 8-11 класс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омашнее зад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3   «Конкурс капитанов»- домашнее задание. Капитанам предлагается по очереди назвать овощи и фрукты (5-7 кл.); блюда и изделия из теста( 8-11 кл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4  «Составь кроссворд» ( из слов, имеющих отношение к технологии приготовления блюд и изделий из теста, к технологии приготовления салатов, к оборудованию кухн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5 «Угадай-ка».учащиеся должны отгадать загад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ание №6 «Знаешь ли ты пословицы и поговорки?» (О продуктах пита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ы игры-соревнования среди 5-7 класс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есто- команда 7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место- команда 6 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есто- команда 5А кл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ы игры- соревнования среди 8-11 класс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есто- команда 10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место- команда 9А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место- команда 11А клас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404640"/>
            <a:ext cx="764388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8-2009 учебном году  в рамках Недели по технологии  были проведены викторины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кторина «Что? Где? Когда?» среди учащихся 5-6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:        1 место         2 место               3 мес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хметова С.    Самигулина Р.    Каналиева 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кторина «Смак» среди учащихся 8-9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:         1 место         2 место                3 мес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йдралиева М.  Зинько К.    Нургалиева 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Копии грамот прилагаютс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9-2010 учебном году в рамках предметной Недели технологии, Изо и музыки были проведены совместно с мальчиками конкурсы.(План проведения Недели прилагаетс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конкурс «Кулинарное царство. Обрядовые блюда православной кухни».(5-6-7 классы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 конкурс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место- учащиеся 5 класса ( Яренкова А.. Панюшкина А., Курманалиев;  Камалов Т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место- девочки 6 класса (Асхарова А.; Канатова Б.; Самигулина Р., Каналиева Ю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место- девочки 7 класса (Ахметова С., Пасочникова Е., Тлеугалиева Д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конкурс- «Пасхальное разговение» среди 8-9-10 класс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ультаты конкурс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 место: Зинько К.-9 А класс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место: Уразгалиева Ф.- 10А класс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место: Максимова Ю.- 8А клас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560" y="476280"/>
            <a:ext cx="7620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вестно, творчество- это деятельность человека, направленная на создание какого-либо нового, оригинального продукта в сфере науки, искусства, техники, производства и организации. Творческий процесс-это всегда прорыв в неизвестное, но ему предшествует длительное накопление опыта, знаний, умений и навыков, он характеризуется переходом количества всевозможных идей и подходов в новое своеобразное каче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- это такие психологические особенности человека, от которых зависит успешность приобретения знаний, умений и навыков, но которые сами к наличию этих знаний, умений и навыков не сводя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и критерии творческой деятельности: продуктивность, нестандартнос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гинальность, способность к ген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идей, возможность вых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еделы ситуации», сверхнорма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5000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2966760"/>
            <a:ext cx="9541080" cy="384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258920" y="170028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роект- это хорошая творческая задача для самовыражения любого учащего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ь и необходимость в трудовом обучении была всегда. Мастерство передавалось от поколения к поколению методом “делай, как я”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ериканский ученый Джон Дьюи сто лет назад предложил строить обучение на активной основе, через целесообразную деятельность ученика, сообразуясь с его личным интересом и личными целями. Для того чтобы ученик воспринимал знания как действительно нужные ему, требуется проблема, взятая из реальной жизни, знакомая и значимая для ребенка, для решения которой ему предстоит применить имеющиеся знания и умения, а также и новые, которые еще предстоит приобре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0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042560" y="76464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эффективно эти проблемы решаются мною путём организации целостного учебно-воспитательного процесса, технологической подготовки учащихся с использованием в преподавании современных педагогических технологий и развивающих личность методов обучения. Особую значимость при этом имеет метод проектов, который позволяет школьникам в системе овладеть организацией практической деятельности по всей проектно-технологической цепочке – от идеи до её реализации в модели, изделии (продукте труда). Главная особенность этого подхода - активизировать обучение, придав ему исследовательский, творческий характер, и таким образом передать учащемуся инициативу в организации своей познавательной деятель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320" y="62064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проектов рассматривается не как итоговая самостоятельная работа учащихся, а как способ, позволяющий приобрести навыки проектирования и изготовления изделий, удовлетворяющих индивидуальные потребности личности, а в перспективе и общества, другими словами: “Я сделаю свой мир полезным, красивым и удобным для себя и других”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ю моей педагогической деятельности является – развитие творческих способностей учащихся на уроках технолог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метода проектов на уроках повышает мотивацию к творческой деятельности. Школьники, осуществляя процесс проектирования, добиваются эффективных учебных результ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8000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320" y="549360"/>
            <a:ext cx="76201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аждом классе есть ученики с различными способностями. Более сильные ученики могут предложить больше различных идей и изготовить более сложное изделие. Благодаря методу проектов у учащихся значительно повышается творческая активность не только на уроках технологии, но и за рамками урока. Метод проектов способствует развитию знаний, умений, навыков для решения физиологических, эмоциональных, интеллектуальных, социальных потребност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 проектов помогает учащимся приобретать разнообразные знания и навыки по преобразованию материалов, энергии и информации, изучать технику и культуру дома, уточнять свои профессиональные планы. В технологическом образовании метод проектов позволяет гармонично сочетать в обучении интересы личности и общества, формировать интерес учащихся к технологическому образованию, знакомя их с той областью знаний и умений, которая способствует его становлению как будущего специалиста, гражданина. Сегодня уже доказано, что люди, подготовленные к творчеству, намного быстрее адаптируются в науке, на производстве, лучше осваивают свою работу, приносят больше польз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70000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E:\Изображение 148.jpg"/>
          <p:cNvPicPr/>
          <p:nvPr/>
        </p:nvPicPr>
        <p:blipFill>
          <a:blip r:embed="rId3"/>
          <a:stretch/>
        </p:blipFill>
        <p:spPr>
          <a:xfrm>
            <a:off x="754200" y="3392640"/>
            <a:ext cx="4105080" cy="32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:\Изображение 149.jpg"/>
          <p:cNvPicPr/>
          <p:nvPr/>
        </p:nvPicPr>
        <p:blipFill>
          <a:blip r:embed="rId4"/>
          <a:stretch/>
        </p:blipFill>
        <p:spPr>
          <a:xfrm>
            <a:off x="4859280" y="260280"/>
            <a:ext cx="3975120" cy="324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E:\Изображение 152.jpg"/>
          <p:cNvPicPr/>
          <p:nvPr/>
        </p:nvPicPr>
        <p:blipFill>
          <a:blip r:embed="rId3"/>
          <a:stretch/>
        </p:blipFill>
        <p:spPr>
          <a:xfrm>
            <a:off x="4427640" y="333360"/>
            <a:ext cx="4321080" cy="38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E:\Изображение 153.jpg"/>
          <p:cNvPicPr/>
          <p:nvPr/>
        </p:nvPicPr>
        <p:blipFill>
          <a:blip r:embed="rId4"/>
          <a:stretch/>
        </p:blipFill>
        <p:spPr>
          <a:xfrm>
            <a:off x="1258920" y="2962440"/>
            <a:ext cx="4248000" cy="3511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8" descr="D:\Мои документы\Светлана\Клипарт\77e1116fb928.png"/>
          <p:cNvPicPr/>
          <p:nvPr/>
        </p:nvPicPr>
        <p:blipFill>
          <a:blip r:embed="rId1"/>
          <a:stretch/>
        </p:blipFill>
        <p:spPr>
          <a:xfrm>
            <a:off x="179280" y="-171360"/>
            <a:ext cx="8964720" cy="702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F:\2011_11_14\IMG_0002.jpg"/>
          <p:cNvPicPr/>
          <p:nvPr/>
        </p:nvPicPr>
        <p:blipFill>
          <a:blip r:embed="rId2"/>
          <a:stretch/>
        </p:blipFill>
        <p:spPr>
          <a:xfrm>
            <a:off x="5443560" y="523800"/>
            <a:ext cx="3730680" cy="4206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F:\2011_11_14\IMG_0001.jpg"/>
          <p:cNvPicPr/>
          <p:nvPr/>
        </p:nvPicPr>
        <p:blipFill>
          <a:blip r:embed="rId3"/>
          <a:stretch/>
        </p:blipFill>
        <p:spPr>
          <a:xfrm>
            <a:off x="957240" y="603360"/>
            <a:ext cx="3565440" cy="4181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9L5"/>
          <p:cNvPicPr/>
          <p:nvPr/>
        </p:nvPicPr>
        <p:blipFill>
          <a:blip r:embed="rId4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9L5"/>
          <p:cNvPicPr/>
          <p:nvPr/>
        </p:nvPicPr>
        <p:blipFill>
          <a:blip r:embed="rId5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Monotype Corsiva"/>
              </a:rPr>
              <a:t>Грамоты учител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0" name="Picture 17" descr="F:\2011_11_14\IMG_0003.jpg"/>
          <p:cNvPicPr/>
          <p:nvPr/>
        </p:nvPicPr>
        <p:blipFill>
          <a:blip r:embed="rId6"/>
          <a:stretch/>
        </p:blipFill>
        <p:spPr>
          <a:xfrm>
            <a:off x="3564000" y="2708280"/>
            <a:ext cx="2952720" cy="39052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Monotype Corsiva"/>
              </a:rPr>
              <a:t>Грамоты учащихс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2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F:\2011_11_14\IMG_0006.jpg"/>
          <p:cNvPicPr/>
          <p:nvPr/>
        </p:nvPicPr>
        <p:blipFill>
          <a:blip r:embed="rId3"/>
          <a:stretch/>
        </p:blipFill>
        <p:spPr>
          <a:xfrm rot="21144000">
            <a:off x="819000" y="1312920"/>
            <a:ext cx="2575080" cy="374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F:\2011_11_14\IMG_0007.jpg"/>
          <p:cNvPicPr/>
          <p:nvPr/>
        </p:nvPicPr>
        <p:blipFill>
          <a:blip r:embed="rId4"/>
          <a:stretch/>
        </p:blipFill>
        <p:spPr>
          <a:xfrm rot="753600">
            <a:off x="5882760" y="1230480"/>
            <a:ext cx="2700360" cy="3743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F:\2011_11_14\IMG_0008.jpg"/>
          <p:cNvPicPr/>
          <p:nvPr/>
        </p:nvPicPr>
        <p:blipFill>
          <a:blip r:embed="rId5"/>
          <a:stretch/>
        </p:blipFill>
        <p:spPr>
          <a:xfrm>
            <a:off x="3203640" y="1916280"/>
            <a:ext cx="284328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620640"/>
            <a:ext cx="7547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явления и развития способностей зачастую решающую роль играет труд, возможность приобретения высокого мастерства и значительных успехов в творчеств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этого можно сформулировать основную цель развития творческих способностей учащихс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ить учащихся к творческой работ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творчеству, поиск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созидания, саморе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место в развитии творческих способностей принадлежит исследовательскому методу, которому присущи элементы творчества, новизны, формирования банка идей, приобретения опыта творчества, т.к. процесс изготовления любого изделия начинается с выполнения эскизов, зарисовок, выбора вариантов композиций, разработка конструкции моделей, её моделир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42560" y="47628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отметить, если деятельность находится в зоне оптимальной трудности, т.е. на пределе возможностей ребёнка, то она ведёт за собой развитие его способностей, реализуя то, что Л.С.Выготский назвал «зоной потенциального развития». И, действительно, у учащихся, выполняющих исследовательский проект, развивается логическое мышление, воображение и формируется устойчивый интерес к труду, конечному результа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внимание на занятиях уделяется групповым проектам. В творческих коллективах складываются отношения дружбы, взаимных симпатий, где учащиеся ориентируются на продуктивные формы общения и сотворчества. Творческ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рассматривается 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«деятельность, способствующ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целого комплекса качест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й личности; ум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; смекалки и изобрета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48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320" y="620640"/>
            <a:ext cx="76201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я добывать знания, необходимые для выполнения конкретной практической работы; самостоятельность в выборе и решении задач; трудолюбие; способность видеть главное. Значит, творческая личность- это человек, овладевший подобной деятельностью. Творческая личность рождается тогда, когда учащиеся учатся самостоятельно применять свои ранее полученные знания, умеют представить себе объект, о котором идёт речь, сравнить его с другими, сделать выводы, выразить своё отношение к объек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чинать целенаправленное развитие творческого мышления надо как можно раньше, чтобы не упустить весьма богатые возможности детского возраста»,- пишет М.Н.Скаткин( «Школа и всестороннее развитие детей»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же мы предпринимаем для развития способностей дет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64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 существуют различные формы урочной и внеурочной работы: различные формы проведения уроков, привлечение учащихся к подготовке докладов, рефератов об истории развития различных наук, о  жизни и творчестве великих учёных, организация разнообразной творческой деятельности учеников, составление кроссвордов, викторин, задач, наглядных пособий и рисун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азвитие творческих способностей направлена индивидуальная исследовательская работа с учен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амостоятельно над заранее выбранной темой, подбирая различный материал, ученики могут раскрыть своё творческое начало. В такой работе ребята учатся видеть главное, ставить цель, выбирать из дополнительной литературы наиболее интересный материал по 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9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320" y="404640"/>
            <a:ext cx="7620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урочная дея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е недели, экскурсионная работа, проведение мероприятий, участие в конкурсах- эти и другие формы внеурочной деятельности применяются в школе для повышения творческого потенциала детей. Большие возможности для развития творческих способностей учащихся имеют кружковые занятия. Вызывая интерес к предмету, кружки способствуют развитию кругозора, творческих способнос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творческой деятельности необходимо для любого человека. Он становится более самостоятельным в своих суждениях, имеет свою точку зрения и аргументированно умеет её отстаивать. У него более высокая работоспособность. Но мне кажется, самое главное- это то, что у ребёнка развивается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ая сфера, его чувства, душ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сли развиты его эмоции, то буд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ся и мышление. А дума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это и есть тот человек, воспит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мы стремимся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828880" cy="1800360"/>
          </a:xfrm>
          <a:prstGeom prst="rect">
            <a:avLst/>
          </a:prstGeom>
          <a:ln w="0">
            <a:noFill/>
          </a:ln>
        </p:spPr>
      </p:pic>
    </p:spTree>
  </p:cSld>
  <p:transition spd="med" advTm="55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42560" y="260280"/>
            <a:ext cx="762012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развития творческой личности является «вечной» проблемой, и основные идеи и направления в её решении высказывались ещё Аристотелем, Дистервегом, наш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жиданное методическое решение у американских психологов 40-50-х годов (И.Войтинг- методы фокальных объектов; В.Гордон- метод «синектики»; А.Осборна- метод мозгового штурма и др.), поддерживались Выготским и , наконец, достаточно глубоко и всесторонне освещались в методических рекомендациях наших авторов: В.А.Худяковым, А.В.Шанкиным, Э.С.Чугуновым, В.Д.Бухаревым, В.Е.Алексеев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ой моего обучения является развитие творческих способностей у детей на уроках технологии. Этот процесс длительный, поэтому работу вести целесообразно с первых дней пребывания ребёнка в школе. Бесталанных детей нет. Важно только вовремя научить их, раскрыть свои способности, поверить в себя. И это задача каждого учите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е способности учащихся я развиваю на уроках, открытых уроках, семинарах, девочки пишут творческие проекты, рефераты, доклады на различные 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12.2009г. я провела районный семинар на базе нашей школы на эту т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</p:spTree>
  </p:cSld>
  <p:transition spd="med" advTm="55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9L5"/>
          <p:cNvPicPr/>
          <p:nvPr/>
        </p:nvPicPr>
        <p:blipFill>
          <a:blip r:embed="rId1"/>
          <a:stretch/>
        </p:blipFill>
        <p:spPr>
          <a:xfrm rot="16200000">
            <a:off x="4181400" y="303840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9L5"/>
          <p:cNvPicPr/>
          <p:nvPr/>
        </p:nvPicPr>
        <p:blipFill>
          <a:blip r:embed="rId2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6" descr=""/>
          <p:cNvPicPr/>
          <p:nvPr/>
        </p:nvPicPr>
        <p:blipFill>
          <a:blip r:embed="rId3"/>
          <a:stretch/>
        </p:blipFill>
        <p:spPr>
          <a:xfrm>
            <a:off x="1042920" y="549360"/>
            <a:ext cx="3616560" cy="54626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118" name="Object 7" descr=""/>
          <p:cNvPicPr/>
          <p:nvPr/>
        </p:nvPicPr>
        <p:blipFill>
          <a:blip r:embed="rId4"/>
          <a:stretch/>
        </p:blipFill>
        <p:spPr>
          <a:xfrm>
            <a:off x="5219640" y="1052640"/>
            <a:ext cx="3384720" cy="489744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p:transition spd="med" advTm="51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06:57Z</dcterms:created>
  <dc:creator>mar</dc:creator>
  <dc:description/>
  <dc:language>en-US</dc:language>
  <cp:lastModifiedBy>1</cp:lastModifiedBy>
  <dcterms:modified xsi:type="dcterms:W3CDTF">2012-08-26T17:26:44Z</dcterms:modified>
  <cp:revision>117</cp:revision>
  <dc:subject/>
  <dc:title>пифаг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320000000000010243100207f6000400038000</vt:lpwstr>
  </property>
</Properties>
</file>