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ricochet.wav" ContentType="audio/x-wav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10.jpeg" ContentType="image/jpeg"/>
  <Override PartName="/ppt/media/image5.jpeg" ContentType="image/jpeg"/>
  <Override PartName="/ppt/media/applause.wav" ContentType="audio/x-wav"/>
  <Override PartName="/ppt/media/image21.jpeg" ContentType="image/jpeg"/>
  <Override PartName="/ppt/media/explode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laser.wav" ContentType="audio/x-wav"/>
  <Override PartName="/ppt/media/image14.png" ContentType="image/png"/>
  <Override PartName="/ppt/media/cashreg.wav" ContentType="audio/x-wav"/>
  <Override PartName="/ppt/media/image13.png" ContentType="image/png"/>
  <Override PartName="/ppt/media/image12.png" ContentType="image/png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C91-B85A-477C-AEB3-9183EDF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04D-5D73-415D-BD8E-334A3D54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2A4D8-8981-4F5C-B5EF-8556315B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01E5A-494D-459D-894F-FE21BD5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41953-3165-4AB1-842E-63C0A40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6DD4C8-8D8E-454D-8E90-F7F6CB16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F52F6-FD7C-4D38-8F7F-FF73721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4A916E-253A-469F-8235-6A8679D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C807C-80AC-4D76-ADD9-E55E76A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30B59-C62B-40AF-9CC5-4CF29C83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1DC14-32B2-4322-A45C-99E742AB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DD24-0609-416F-B19D-0C7D4486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940-42DA-4A47-B424-5BBAE66A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A7412-0759-49CD-B846-5002236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5D8B4-A742-4065-9EF2-F0B0586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7FF1-6205-4DCF-8E85-E9B98CEA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08F91-F129-417D-A11D-D429672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4CC63-63DA-4FA0-8C78-993C87F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03499-3C61-4AF7-8224-01BB9A3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1992-744E-488E-83DF-7520F217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19E7-B46E-4C7C-8B35-DCD862F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3131D-3F34-44C1-955C-FC77D3C2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D4AC-1824-40DD-BAE8-22D99951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CA-D716-481D-BDFC-9BE3E88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767DF-B949-4027-80A3-31825EE8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2A473-A8A1-46D9-86AD-D2803548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9FA94-53C3-4427-B320-4583E46B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96738-EE7A-43C2-BA6C-0AD3610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BCC4-DD07-402C-B41A-45E90D62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91E75-94FC-49FF-8A5E-F74978A2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5CE7-E098-4963-BA64-358CD5C1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0ED74-5821-4508-9DF1-8293289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DD8-2026-49DB-AB5B-2F64849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0D1F-DA27-4F6A-A698-3425A12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45152-DBAC-40AB-A48D-21D6E6E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BE4AD-FF0C-48FF-B4D9-D23ED82A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41FE4-CB04-4D2E-BA86-CDF419B2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6C761-14B5-4A5E-A858-B8CA0C6B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92F8-C8B1-4692-80CD-5C012164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1C56-6BC8-4712-8080-9C4B26A3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63CB-17B5-4200-B679-428D412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C0E1-E57B-4D74-9805-7409023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B054-1521-4BEF-9FB6-88F0359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8BA-55C8-488B-AE06-BEA8C8C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05FE-4BD7-40E4-AF7B-B94BDF32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5677-51B5-4B4D-8A92-E5A99B8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A145-F6A7-40A1-BBC3-D36B527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6ABE-25EF-49B6-B665-07F62E5D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1EAA-28CC-4CC1-8ADC-9D1AA97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209A-8815-4401-84B8-564F85B4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DE43-F19F-4A77-A695-A8969595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6B8FF-A17D-48F4-81EF-572C12B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ECB29-B8F6-4215-8FF7-E6C4F68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353A1-3E08-4C49-818A-11527835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F82-989A-4EC0-AF3A-9CB8186E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362F0-1E9D-4927-BA9F-52AA5171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F92CB-4209-4D8A-8B8D-B1E2BDAB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FEE50-17CF-47EB-A980-1EBE975D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84C5D-FAF0-4C8C-8B58-C441C2C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4BE9D-F95E-4980-B2C4-BBD6EFA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0F1B3-69FC-46FC-8782-450F70F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1F26F-3A11-4B31-9EC6-E09B41A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04168-D6A1-4BE4-9E7A-26BFC8FE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468A7-DF49-4742-87E5-6BA51FBC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DA676-F4E1-497D-B9B7-8144C75B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285-B158-4606-AE40-F1ECD672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7822-0C64-40AD-AF44-838A1D92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0379-2262-408B-ACB7-E40522A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AAF6-8595-43E5-8991-1944336C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2061A-8D5A-438F-8C07-8681326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A1BB-4078-4C71-8E2D-57194278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D743-3250-4530-90D9-7971385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4FE3-3A31-477A-BCB2-AB4A831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89DD-CE02-4F41-A8B7-1645BF60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5307-D7F6-429F-A50A-072C462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D7179-0AD0-4AE6-85DC-1C34F0DE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E6C-55A9-4C4B-B17B-767EF4D5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08F8-C5EB-4D82-9EA0-0A15719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A56A-9981-460A-9295-68B17148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F1FE-9634-4CD3-B7F4-8F0877B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C57A-EFBB-446F-BCFF-E62BB76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6440-0B6C-48E4-8577-2736657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734E-FCF2-4547-8F22-52539303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926B-FB29-42C2-8D96-A23CC24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E2772-2A4F-404B-9E2B-2665ACC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F224-4520-4906-AC8B-6FECCFA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363C-4463-48F4-8210-E667008E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567-AF92-4462-9322-096C5EB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D160-6970-42B6-936A-E76CD74B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36DF5-B28F-44C5-BA9D-59758097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F23F-529C-40DB-9325-38195817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9660-F42E-4FAC-B800-597D76C2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B8C1-C541-44E2-87C7-94CF697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1278-D8F5-41B5-BFFE-225B89D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18F3-414B-497A-B677-B7CFA0A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A4F3-F5C0-41E1-A44B-BFED0D10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CC29-C35A-4A5A-8B4B-C2B36E0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29BC-47C9-440D-ACFE-3F07948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023-38F2-47D1-A385-682A391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9F43-A10E-4258-92F0-8F698BF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5520-E191-4425-A5DF-958ABE9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3679-2E77-4FCF-818F-3828477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FC72-E9BE-4288-B932-9B3E24A0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05A5-D194-47BF-AFBD-1C27E7DF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F73E90-C41F-476F-96D1-5AAA70C2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63C0E-83D6-4218-A421-564E2654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7D7F3-4F1E-44E8-9DFB-7D5BFE1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CAD5C-4F9C-4DFC-9AE3-F912F4E8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C66ECE-1240-41A7-93F6-7F0B24D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6BA-5BBA-4061-BBA2-1E52335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CE832-A3D3-47E2-8298-2FC4990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C41D1-1DBD-4DD8-9743-88863B1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3CCCF-738D-4BB6-BC60-CE11687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3EF1ED-3198-4B70-B16A-A89F0D3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CC252-68A2-406F-9838-7085403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EB066-B4DF-4138-BEA9-856E7AF7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EE8132-5126-40CD-938D-9F9D73B2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9306B-9C9A-42C9-8039-EBD077E3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332224-DB93-497A-A898-5029EAE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B450E-5490-4709-B47D-3AF826F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437-4EB9-41AD-9517-28B0EE96266D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423-CE01-4600-AFE1-48C521C11162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8DE-E3FC-4496-A375-9E2C2B007753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46A-FFBE-4C0B-BF3C-CD49C6C9B02C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828D-3866-473F-B695-F96015809090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B1E7-E25E-40AB-B780-1B82A7E6B8C1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65D-CE1C-4506-A9C3-B5665B1B1899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E89E-7274-4A50-A889-707582323768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1F83-C9BE-43EF-B2D4-3C1C0A1E104D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509-1B20-4668-B376-8764A1217D1C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24.xml"/><Relationship Id="rId21" Type="http://schemas.openxmlformats.org/officeDocument/2006/relationships/slide" Target="slide24.xml"/><Relationship Id="rId2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своя игра загл"/>
          <p:cNvPicPr/>
          <p:nvPr/>
        </p:nvPicPr>
        <p:blipFill>
          <a:blip r:embed="rId1"/>
          <a:stretch/>
        </p:blipFill>
        <p:spPr>
          <a:xfrm>
            <a:off x="438120" y="361800"/>
            <a:ext cx="8372520" cy="600084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5010120"/>
            <a:ext cx="8808840" cy="1152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" descr="15"/>
          <p:cNvPicPr/>
          <p:nvPr/>
        </p:nvPicPr>
        <p:blipFill>
          <a:blip r:embed="rId3"/>
          <a:stretch/>
        </p:blipFill>
        <p:spPr>
          <a:xfrm>
            <a:off x="941400" y="704880"/>
            <a:ext cx="737568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7948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317000" y="57103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33520" y="238140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нной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682560" y="-36360"/>
            <a:ext cx="7785000" cy="15793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419040" y="1619280"/>
            <a:ext cx="80582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былые времена существовало много праздников земледельческо-календарного плана. Одним из таких был Праздник первой каши. 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огда наши предки отмечали этот праздник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7317000" y="57294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9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19040" y="2629080"/>
            <a:ext cx="8020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22 октября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609480" y="1962000"/>
            <a:ext cx="811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 сказке «Каша из топора» солдат варил кашу. Что и в какой последовательности давала ему старух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498600" y="5729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72025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7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685800" y="628560"/>
            <a:ext cx="77914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отё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пор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оль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рупа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асло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"/>
          <p:cNvSpPr/>
          <p:nvPr/>
        </p:nvSpPr>
        <p:spPr>
          <a:xfrm>
            <a:off x="914400" y="146700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тгадай ребус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2"/>
          <a:stretch/>
        </p:blipFill>
        <p:spPr>
          <a:xfrm>
            <a:off x="401760" y="2468520"/>
            <a:ext cx="3511440" cy="305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3"/>
          <a:stretch/>
        </p:blipFill>
        <p:spPr>
          <a:xfrm>
            <a:off x="4164120" y="2523960"/>
            <a:ext cx="4724280" cy="30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1308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7202520" y="57294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19320" y="1085760"/>
            <a:ext cx="68007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кашка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Геркулес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682560" y="16524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895320" y="15238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акое блюдо скрывается под таким странным названием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«Этли шуле»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36540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6973920" y="57675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555480" y="946080"/>
            <a:ext cx="71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Рисовая каша с жаренной бараниной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819000" y="1771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Из каких крупы и растения делают манную кашу?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62080" y="-19080"/>
            <a:ext cx="858348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590400" y="2057400"/>
          <a:ext cx="7829640" cy="2914560"/>
        </p:xfrm>
        <a:graphic>
          <a:graphicData uri="http://schemas.openxmlformats.org/drawingml/2006/table">
            <a:tbl>
              <a:tblPr/>
              <a:tblGrid>
                <a:gridCol w="2533680"/>
                <a:gridCol w="1809720"/>
                <a:gridCol w="1886040"/>
                <a:gridCol w="16002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азки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цепты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125">
            <a:hlinkClick r:id="rId20" action="ppaction://hlinksldjump"/>
          </p:cNvPr>
          <p:cNvSpPr/>
          <p:nvPr/>
        </p:nvSpPr>
        <p:spPr>
          <a:xfrm>
            <a:off x="3681000" y="551664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1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7042680" y="573552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1123920" y="1504800"/>
            <a:ext cx="622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нная крупа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Пшеница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3506400" y="60260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3367440" y="600696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628560" y="3062160"/>
            <a:ext cx="77342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66ffff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История каш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8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336480" y="59119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2664000" y="-122400"/>
            <a:ext cx="6198840" cy="33163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522" name="Picture 5" descr="си2"/>
          <p:cNvPicPr/>
          <p:nvPr/>
        </p:nvPicPr>
        <p:blipFill>
          <a:blip r:embed="rId2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3"/>
          <p:cNvSpPr/>
          <p:nvPr/>
        </p:nvSpPr>
        <p:spPr>
          <a:xfrm>
            <a:off x="762120" y="2095560"/>
            <a:ext cx="76197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одолжи: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ff"/>
                </a:solidFill>
                <a:latin typeface="Times New Roman"/>
              </a:rPr>
              <a:t>Кашу маслом …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3616560" y="520272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343080" y="2666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не испортишь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74920" y="5748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25976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1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895320" y="24192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ff"/>
                </a:solidFill>
                <a:latin typeface="Times New Roman"/>
              </a:rPr>
              <a:t>Как обычно говорят о слабых людях?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719880" y="548784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7240680" y="5672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7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666720" y="238140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ло каши ел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3"/>
          <p:cNvSpPr/>
          <p:nvPr/>
        </p:nvSpPr>
        <p:spPr>
          <a:xfrm>
            <a:off x="247680" y="3809880"/>
            <a:ext cx="37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знай кашу: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63" name="Picture 5" descr="C:\Users\Елена\Desktop\IMG191-013.jpg"/>
          <p:cNvPicPr/>
          <p:nvPr/>
        </p:nvPicPr>
        <p:blipFill>
          <a:blip r:embed="rId3"/>
          <a:stretch/>
        </p:blipFill>
        <p:spPr>
          <a:xfrm>
            <a:off x="3613320" y="1506600"/>
            <a:ext cx="5035320" cy="45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3"/>
          <p:cNvSpPr/>
          <p:nvPr/>
        </p:nvSpPr>
        <p:spPr>
          <a:xfrm>
            <a:off x="441360" y="5691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7392960" y="57675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6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009800" y="2552760"/>
            <a:ext cx="6895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Рисовая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"/>
          <p:cNvSpPr/>
          <p:nvPr/>
        </p:nvSpPr>
        <p:spPr>
          <a:xfrm>
            <a:off x="876240" y="211464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акой кашей угощала Лиса Журавля в русской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народной сказке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Елена</cp:lastModifiedBy>
  <dcterms:modified xsi:type="dcterms:W3CDTF">2009-02-23T23:12:40Z</dcterms:modified>
  <cp:revision>144</cp:revision>
  <dc:subject/>
  <dc:title>Презентация PowerPoint</dc:title>
</cp:coreProperties>
</file>