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ricochet.wav" ContentType="audio/x-wav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drumroll.wav" ContentType="audio/x-wav"/>
  <Override PartName="/ppt/media/image3.jpeg" ContentType="image/jpeg"/>
  <Override PartName="/ppt/media/image15.png" ContentType="image/png"/>
  <Override PartName="/ppt/media/image10.jpeg" ContentType="image/jpeg"/>
  <Override PartName="/ppt/media/image5.jpeg" ContentType="image/jpeg"/>
  <Override PartName="/ppt/media/applause.wav" ContentType="audio/x-wav"/>
  <Override PartName="/ppt/media/image21.jpeg" ContentType="image/jpeg"/>
  <Override PartName="/ppt/media/explode.wav" ContentType="audio/x-wav"/>
  <Override PartName="/ppt/media/image20.png" ContentType="image/png"/>
  <Override PartName="/ppt/media/image18.png" ContentType="image/png"/>
  <Override PartName="/ppt/media/image17.png" ContentType="image/png"/>
  <Override PartName="/ppt/media/image4.png" ContentType="image/png"/>
  <Override PartName="/ppt/media/laser.wav" ContentType="audio/x-wav"/>
  <Override PartName="/ppt/media/image14.png" ContentType="image/png"/>
  <Override PartName="/ppt/media/cashreg.wav" ContentType="audio/x-wav"/>
  <Override PartName="/ppt/media/image13.png" ContentType="image/png"/>
  <Override PartName="/ppt/media/image12.png" ContentType="image/png"/>
  <Override PartName="/ppt/media/image1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2A20-0E5D-47D7-8F36-D9C5C6A5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F0D3-3728-454E-83E2-F12C2ED8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C4B89B-C913-4F3A-9853-24BC8BF3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3E7B26-F780-470B-BF34-B1EEDCF0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3966DA-0347-466C-8740-417BBDCD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4D7CC4-8FA7-4815-B19F-05F3FC10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2AA273-C1A3-4B59-B0FE-E3AFE16B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5F69C4-5167-4D19-9AA0-4C018757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BFFEAC-CFEF-4036-94B5-52093368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FC839D-2041-4CC9-A2B1-B29F1D93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723C91-930C-433A-AF72-C337A326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4205E-7626-4303-BC28-78CAB3E3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A21-7F08-47C7-9A6E-26E1CC71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C489B-8085-4F79-8E61-C5084842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015E4-B93F-424A-BEB3-0D8F12F0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EA20C-0D2E-4CF8-A632-E195B167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DCF8C-FC00-4583-85B3-7FB1BF00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ADCCA-38BB-4BB2-B210-7E13941D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3FE26-A327-4ECA-AAFB-D7DB3FB3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0F651-B90F-40C5-8374-284A6E5B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9A60D-36FA-4CEB-9040-F895C5D0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AE534-7484-431F-90F7-1927EC44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CC538-2FCC-4B7C-B672-C2149993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BE5B-8729-4800-B6E4-A876487F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73BB2-B929-41D4-A370-DEECE6FF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9E0DD-A59E-440B-923D-D6025028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A7349-C161-4614-9C99-D4D18A7D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4BE94-F989-4243-B54D-4649AEF0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B58E1-E677-4C2E-9C2C-FFA83288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9E83B-6698-4E92-9344-446B2272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F3214-E79E-414E-AF9C-95E4FDB9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FC2E3-0764-40E4-964C-3D9FB44A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D9B5-86A8-4DDC-8677-5AE97C45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3C4A3-8397-4519-A6AA-F1ACCB1C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B79C6-C80D-4C21-9A24-841CBA9C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D932A-7E46-4BD5-8CC6-BFC9349F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F1E03-304F-4193-A31F-74458BCD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19534-2038-4F8F-8100-016D814E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37563-5B29-4F0C-8B9E-BC166AB9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A9A99-CAD5-42F4-B70D-4FA4ECAD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D0055-2EF5-41DB-9F3F-D05C3BAB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8252D-7F09-45EC-8CD6-01E5C9E8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190ED-C591-4323-A98D-FF5E1BAD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956C-E2A8-4E22-9AFF-FC1D728C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8902E-3170-473C-B5FD-339CEBE1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4E02B-C709-4535-9790-74200B6B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B444C-E0A6-473C-9CC6-255EE890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1EC6C-6DFC-4AC1-86A9-ABFE37C9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83EF0-2E68-4871-B372-CD7B59E4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2A8CE-1B44-4F02-9BCF-190A7734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835CB-CE45-4086-9517-39EBE41F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9D397F-BECE-4C13-BF53-DAC7E625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770B30-EDEC-4422-9D1B-03692381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07625A-7A7E-4561-A58D-E9DD52D8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245-7CFB-4752-AF9D-949C819E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748200-E60A-4AF8-A3E6-0923EFCF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78864E-F0DA-4F48-8FCD-9CF3C8C9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847C92-A566-4C1C-8A51-CE0744C0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806D0B-972C-4171-963E-66FF2605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8B213C-3B83-43A8-8309-94DA3EC2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642C8D-062C-494D-8FA0-A1DE3042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6FA89B-D1F4-4B87-8569-758B0C04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CA7E3E-1F80-4020-AA17-99146698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A55B41-AB7E-445A-A839-0197617C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7B368-1798-439C-937D-2EECF7BC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ACFB-59D0-4D96-81C2-4C3E44AB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E3291-02EE-444A-BDC2-33C06A0A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484BE-36F5-4F1B-A6E3-4A4B3E8E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3893F-6929-4362-92E8-2489A43E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E27C6-2A7A-4595-B2BE-14F64A06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81DD5-4CB1-4FAF-AA0F-6FEBFF23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DB8A5-78EF-4EDD-81D3-D4F81B25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1866A-D487-4E60-8465-0991CD3A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7B88A-34CA-412F-A8B2-A3D2AC05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723E7-23DA-48A0-83FE-2125A424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A7972-F37E-45C1-A8AD-041216D6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E043-DFD3-4678-A2C7-27B63310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1A22E-4A9F-4163-860C-243A67E1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B163C-5137-4878-85BD-46DBDD22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94978-7622-4A94-A645-033EB7DE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8F276-A9EF-4228-A990-FAA4E89C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FB00C-1FFE-4230-9437-B7315623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31D22-A089-4FAA-AB92-10E05DB7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C88E3-71F7-460D-ACA1-AE8674EC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A69FB-3513-46C9-8F04-1BB941B8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662AE-8C15-4B98-A44B-E5A3A43D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BA1EA-B495-44FA-B725-9CD145D8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D7A-2AAC-46D3-A8ED-FB648F4B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61DDF-820C-4149-B601-D6197AE2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4EB87-7642-416E-BE0D-64BA4033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56A0F-9079-4CA9-94C6-B97ACED8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10CC2-9B3A-43C8-8D78-AEF04CCC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B37CC-4DB4-4DCE-B1C7-2313DBFA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8A6C9-43A3-4038-9931-388720C0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21C6B-D14A-487D-990C-4A0EAAD8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8BA48-00A6-4B92-A55A-DC98BDEE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755CC-4E31-45CC-9071-19BF0C01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0AEA4-D7DB-4810-BAEF-D1664506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655-04C2-4BF9-9676-B76D61D2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0BC1B-9FFE-4DF4-86CB-F4A3D808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ED317-3825-4E17-B4C3-42F8E336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C08B3-579F-44E6-ADC1-9CABC644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54B68-AAD5-40DC-AB2E-9A0E423E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34668-7DD4-4879-9E50-6D4ACF30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28C890-618E-45B8-BE26-B7E497C5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5BA517-94EC-4DA9-8695-2A5C88BC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C2B4F1-5522-4CCC-BF41-DA5D5D5A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B0DF81-632A-4AFB-AC50-D47D6B5D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4DBD72-2063-4A7A-8F24-67DDEB63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842-868C-4E55-972B-80371E12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F09796-A1EA-4E2A-9A6B-BB713847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C3C16D-5C57-41A5-84F2-5975FF67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6D191C-881A-45E8-BC38-8FF84F01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92C659-85B6-4693-8410-65D8E156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CCC4A3-B9BA-49FB-AEA5-08B5F60D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ED9573-0199-45F1-B36E-F5D06E2E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C4E165-26C3-47E0-9ACE-BAD8E839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85F4FB-E1AC-4475-B03B-A80C7641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9DBC6C-C64E-4F52-8EF8-72024162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AE195B-8762-4678-A566-717C3D43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C13B-DC2C-4C09-8CBB-259CB6B8B0FB}" type="slidenum">
              <a:rPr b="0" lang="ru-RU" sz="16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c8c8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388c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4005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95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c8c8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388c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4005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BAE1-951C-497F-9526-D94F0845E4E1}" type="slidenum">
              <a:rPr b="0" lang="ru-RU" sz="16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c8c8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388c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4005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72A7-09D8-460A-B119-3AF74426E4CA}" type="slidenum">
              <a:rPr b="0" lang="ru-RU" sz="16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f388c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c8c8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388c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4005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535A-AD24-4F6E-B132-051A17B27946}" type="slidenum">
              <a:rPr b="0" lang="ru-RU" sz="16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ff388c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c8c8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388c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4005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9B94-B12C-4F50-A724-E9BA3ACC13D4}" type="slidenum">
              <a:rPr b="0" lang="ru-RU" sz="16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f388c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c8c8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388c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4005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4726-5E40-4727-BA02-A97D96594DD9}" type="slidenum">
              <a:rPr b="0" lang="ru-RU" sz="16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ff388c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ff388c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c8c8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388c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4005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07BF-9D50-40F0-8BD5-8DFD8704D34A}" type="slidenum">
              <a:rPr b="0" lang="ru-RU" sz="16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f388c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c8c8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388c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4005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9772-A337-494A-9EE3-FEAE519E047B}" type="slidenum">
              <a:rPr b="0" lang="ru-RU" sz="16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ff388c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c8c8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388c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4005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D87E-9A5B-44E7-B7A6-79CC613BD1C0}" type="slidenum">
              <a:rPr b="0" lang="ru-RU" sz="16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c8c8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8c8c8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f388c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e4005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9c007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EF58-F389-411A-B536-5D0C5A488DFF}" type="slidenum">
              <a:rPr b="0" lang="ru-RU" sz="16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" Target="slide2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" Target="slide23.xml"/><Relationship Id="rId11" Type="http://schemas.openxmlformats.org/officeDocument/2006/relationships/slide" Target="slide23.xml"/><Relationship Id="rId12" Type="http://schemas.openxmlformats.org/officeDocument/2006/relationships/slide" Target="slide13.xml"/><Relationship Id="rId13" Type="http://schemas.openxmlformats.org/officeDocument/2006/relationships/slide" Target="slide13.xml"/><Relationship Id="rId14" Type="http://schemas.openxmlformats.org/officeDocument/2006/relationships/slide" Target="slide22.xml"/><Relationship Id="rId15" Type="http://schemas.openxmlformats.org/officeDocument/2006/relationships/slide" Target="slide22.xml"/><Relationship Id="rId16" Type="http://schemas.openxmlformats.org/officeDocument/2006/relationships/slide" Target="slide17.xml"/><Relationship Id="rId17" Type="http://schemas.openxmlformats.org/officeDocument/2006/relationships/slide" Target="slide17.xml"/><Relationship Id="rId18" Type="http://schemas.openxmlformats.org/officeDocument/2006/relationships/slide" Target="slide19.xml"/><Relationship Id="rId19" Type="http://schemas.openxmlformats.org/officeDocument/2006/relationships/slide" Target="slide19.xml"/><Relationship Id="rId20" Type="http://schemas.openxmlformats.org/officeDocument/2006/relationships/slide" Target="slide24.xml"/><Relationship Id="rId21" Type="http://schemas.openxmlformats.org/officeDocument/2006/relationships/slide" Target="slide24.xml"/><Relationship Id="rId22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8.xml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0.xml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4" descr="своя игра загл"/>
          <p:cNvPicPr/>
          <p:nvPr/>
        </p:nvPicPr>
        <p:blipFill>
          <a:blip r:embed="rId1"/>
          <a:stretch/>
        </p:blipFill>
        <p:spPr>
          <a:xfrm>
            <a:off x="438120" y="361800"/>
            <a:ext cx="8372520" cy="6000840"/>
          </a:xfrm>
          <a:prstGeom prst="rect">
            <a:avLst/>
          </a:prstGeom>
          <a:ln w="0">
            <a:noFill/>
          </a:ln>
        </p:spPr>
      </p:pic>
      <p:pic>
        <p:nvPicPr>
          <p:cNvPr id="439" name="Прямоугольник 2" descr=""/>
          <p:cNvPicPr/>
          <p:nvPr/>
        </p:nvPicPr>
        <p:blipFill>
          <a:blip r:embed="rId2"/>
          <a:stretch/>
        </p:blipFill>
        <p:spPr>
          <a:xfrm>
            <a:off x="212760" y="5010120"/>
            <a:ext cx="8808840" cy="1152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0" descr="15"/>
          <p:cNvPicPr/>
          <p:nvPr/>
        </p:nvPicPr>
        <p:blipFill>
          <a:blip r:embed="rId3"/>
          <a:stretch/>
        </p:blipFill>
        <p:spPr>
          <a:xfrm>
            <a:off x="941400" y="704880"/>
            <a:ext cx="7375680" cy="46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20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879480" y="5538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7317000" y="571032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33520" y="2381400"/>
            <a:ext cx="81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ff"/>
                </a:solidFill>
                <a:latin typeface="Times New Roman"/>
              </a:rPr>
              <a:t>Манной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Rectangle 2" descr=""/>
          <p:cNvPicPr/>
          <p:nvPr/>
        </p:nvPicPr>
        <p:blipFill>
          <a:blip r:embed="rId1"/>
          <a:stretch/>
        </p:blipFill>
        <p:spPr>
          <a:xfrm>
            <a:off x="682560" y="-36360"/>
            <a:ext cx="7785000" cy="15793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3"/>
          <p:cNvSpPr/>
          <p:nvPr/>
        </p:nvSpPr>
        <p:spPr>
          <a:xfrm>
            <a:off x="419040" y="1619280"/>
            <a:ext cx="805824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 былые времена существовало много праздников земледельческо-календарного плана. Одним из таких был Праздник первой каши. 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Когда наши предки отмечали этот праздник?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3658320" y="542448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231840" y="52912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7317000" y="57294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9" name="Rectangle 6">
            <a:hlinkClick r:id="rId3" action="ppaction://hlinksldjump"/>
          </p:cNvPr>
          <p:cNvSpPr/>
          <p:nvPr/>
        </p:nvSpPr>
        <p:spPr>
          <a:xfrm>
            <a:off x="1257480" y="6477120"/>
            <a:ext cx="645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419040" y="2629080"/>
            <a:ext cx="8020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ff"/>
                </a:solidFill>
                <a:latin typeface="Times New Roman"/>
              </a:rPr>
              <a:t>22 октября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1112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4"/>
          <p:cNvSpPr/>
          <p:nvPr/>
        </p:nvSpPr>
        <p:spPr>
          <a:xfrm>
            <a:off x="3850920" y="5808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83" name="Text Box 5"/>
          <p:cNvSpPr/>
          <p:nvPr/>
        </p:nvSpPr>
        <p:spPr>
          <a:xfrm>
            <a:off x="609480" y="1962000"/>
            <a:ext cx="8115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В сказке «Каша из топора» солдат варил кашу. Что и в какой последовательности давала ему старуха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498600" y="57294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7202520" y="58816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609480" y="38088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87" name="Rectangle 7">
            <a:hlinkClick r:id="rId3" action="ppaction://hlinksldjump"/>
          </p:cNvPr>
          <p:cNvSpPr/>
          <p:nvPr/>
        </p:nvSpPr>
        <p:spPr>
          <a:xfrm>
            <a:off x="1257480" y="6477120"/>
            <a:ext cx="64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685800" y="628560"/>
            <a:ext cx="77914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spcBef>
                <a:spcPts val="2500"/>
              </a:spcBef>
              <a:buClr>
                <a:srgbClr val="66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Котёл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 algn="ctr">
              <a:spcBef>
                <a:spcPts val="2500"/>
              </a:spcBef>
              <a:buClr>
                <a:srgbClr val="66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Топор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 algn="ctr">
              <a:spcBef>
                <a:spcPts val="2500"/>
              </a:spcBef>
              <a:buClr>
                <a:srgbClr val="66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Соль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 algn="ctr">
              <a:spcBef>
                <a:spcPts val="2500"/>
              </a:spcBef>
              <a:buClr>
                <a:srgbClr val="66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Крупа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 algn="ctr">
              <a:spcBef>
                <a:spcPts val="2500"/>
              </a:spcBef>
              <a:buClr>
                <a:srgbClr val="66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Масло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1112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3"/>
          <p:cNvSpPr/>
          <p:nvPr/>
        </p:nvSpPr>
        <p:spPr>
          <a:xfrm>
            <a:off x="914400" y="1467000"/>
            <a:ext cx="68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Отгадай ребус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3813120" y="56754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492" name="Picture 5" descr=""/>
          <p:cNvPicPr/>
          <p:nvPr/>
        </p:nvPicPr>
        <p:blipFill>
          <a:blip r:embed="rId2"/>
          <a:stretch/>
        </p:blipFill>
        <p:spPr>
          <a:xfrm>
            <a:off x="401760" y="2468520"/>
            <a:ext cx="3511440" cy="3054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3"/>
          <a:stretch/>
        </p:blipFill>
        <p:spPr>
          <a:xfrm>
            <a:off x="4164120" y="2523960"/>
            <a:ext cx="4724280" cy="303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61308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7202520" y="57294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2577960" y="2432160"/>
            <a:ext cx="4051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7" name="Text Box 14"/>
          <p:cNvSpPr/>
          <p:nvPr/>
        </p:nvSpPr>
        <p:spPr>
          <a:xfrm>
            <a:off x="1219320" y="1085760"/>
            <a:ext cx="68007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ffff"/>
                </a:solidFill>
                <a:latin typeface="Times New Roman"/>
              </a:rPr>
              <a:t>кашка</a:t>
            </a:r>
            <a:endParaRPr b="0" lang="en-US" sz="96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ffff"/>
                </a:solidFill>
                <a:latin typeface="Times New Roman"/>
              </a:rPr>
              <a:t>Геркулес</a:t>
            </a:r>
            <a:endParaRPr b="0" lang="en-US" sz="9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Rectangle 2" descr=""/>
          <p:cNvPicPr/>
          <p:nvPr/>
        </p:nvPicPr>
        <p:blipFill>
          <a:blip r:embed="rId1"/>
          <a:stretch/>
        </p:blipFill>
        <p:spPr>
          <a:xfrm>
            <a:off x="682560" y="165240"/>
            <a:ext cx="7785000" cy="13096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3"/>
          <p:cNvSpPr/>
          <p:nvPr/>
        </p:nvSpPr>
        <p:spPr>
          <a:xfrm>
            <a:off x="895320" y="152388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Какое блюдо скрывается под таким странным названием 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«Этли шуле»?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4079520" y="59277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36540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6973920" y="57675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555480" y="946080"/>
            <a:ext cx="7178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ff"/>
                </a:solidFill>
                <a:latin typeface="Times New Roman"/>
              </a:rPr>
              <a:t>Рисовая каша с жаренной бараниной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1112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3"/>
          <p:cNvSpPr/>
          <p:nvPr/>
        </p:nvSpPr>
        <p:spPr>
          <a:xfrm>
            <a:off x="819000" y="177156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ff"/>
                </a:solidFill>
                <a:latin typeface="Times New Roman"/>
              </a:rPr>
              <a:t>Из каких крупы и растения делают манную кашу?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3927240" y="57942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262080" y="-19080"/>
            <a:ext cx="8583480" cy="14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2" name=""/>
          <p:cNvGraphicFramePr/>
          <p:nvPr/>
        </p:nvGraphicFramePr>
        <p:xfrm>
          <a:off x="590400" y="2057400"/>
          <a:ext cx="7829640" cy="2914560"/>
        </p:xfrm>
        <a:graphic>
          <a:graphicData uri="http://schemas.openxmlformats.org/drawingml/2006/table">
            <a:tbl>
              <a:tblPr/>
              <a:tblGrid>
                <a:gridCol w="2533680"/>
                <a:gridCol w="1809720"/>
                <a:gridCol w="1886040"/>
                <a:gridCol w="1600200"/>
              </a:tblGrid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ловицы</a:t>
                      </a:r>
                      <a:endParaRPr b="0" lang="en-US" sz="2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8eba"/>
                      </a:solidFill>
                    </a:lnR>
                    <a:lnT>
                      <a:noFill/>
                    </a:lnT>
                    <a:lnB w="5760">
                      <a:solidFill>
                        <a:srgbClr val="ff8eb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</a:t>
                      </a:r>
                      <a:r>
                        <a:rPr b="0" lang="ru-RU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8eba"/>
                      </a:solidFill>
                    </a:lnL>
                    <a:lnR w="5760">
                      <a:solidFill>
                        <a:srgbClr val="ff8eba"/>
                      </a:solidFill>
                    </a:lnR>
                    <a:lnT>
                      <a:noFill/>
                    </a:lnT>
                    <a:lnB w="5760">
                      <a:solidFill>
                        <a:srgbClr val="ff8eb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2</a:t>
                      </a:r>
                      <a:r>
                        <a:rPr b="0" lang="ru-RU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8eba"/>
                      </a:solidFill>
                    </a:lnL>
                    <a:lnR w="5760">
                      <a:solidFill>
                        <a:srgbClr val="ff8eba"/>
                      </a:solidFill>
                    </a:lnR>
                    <a:lnT>
                      <a:noFill/>
                    </a:lnT>
                    <a:lnB w="5760">
                      <a:solidFill>
                        <a:srgbClr val="ff8eb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3</a:t>
                      </a:r>
                      <a:r>
                        <a:rPr b="0" lang="ru-RU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8eba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8eb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казки</a:t>
                      </a:r>
                      <a:endParaRPr b="0" lang="en-US" sz="2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8eba"/>
                      </a:solidFill>
                    </a:lnR>
                    <a:lnT w="5760">
                      <a:solidFill>
                        <a:srgbClr val="ff8eba"/>
                      </a:solidFill>
                    </a:lnT>
                    <a:lnB w="5760">
                      <a:solidFill>
                        <a:srgbClr val="ff8eb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1</a:t>
                      </a:r>
                      <a:r>
                        <a:rPr b="0" lang="ru-RU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8eba"/>
                      </a:solidFill>
                    </a:lnL>
                    <a:lnR w="5760">
                      <a:solidFill>
                        <a:srgbClr val="ff8eba"/>
                      </a:solidFill>
                    </a:lnR>
                    <a:lnT w="5760">
                      <a:solidFill>
                        <a:srgbClr val="ff8eba"/>
                      </a:solidFill>
                    </a:lnT>
                    <a:lnB w="5760">
                      <a:solidFill>
                        <a:srgbClr val="ff8eb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</a:t>
                      </a:r>
                      <a:r>
                        <a:rPr b="0" lang="ru-RU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8eba"/>
                      </a:solidFill>
                    </a:lnL>
                    <a:lnR w="5760">
                      <a:solidFill>
                        <a:srgbClr val="ff8eba"/>
                      </a:solidFill>
                    </a:lnR>
                    <a:lnT w="5760">
                      <a:solidFill>
                        <a:srgbClr val="ff8eba"/>
                      </a:solidFill>
                    </a:lnT>
                    <a:lnB w="5760">
                      <a:solidFill>
                        <a:srgbClr val="ff8eb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</a:t>
                      </a:r>
                      <a:r>
                        <a:rPr b="0" lang="ru-RU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8eba"/>
                      </a:solidFill>
                    </a:lnL>
                    <a:lnR>
                      <a:noFill/>
                    </a:lnR>
                    <a:lnT w="5760">
                      <a:solidFill>
                        <a:srgbClr val="ff8eba"/>
                      </a:solidFill>
                    </a:lnT>
                    <a:lnB w="5760">
                      <a:solidFill>
                        <a:srgbClr val="ff8eb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цепты</a:t>
                      </a:r>
                      <a:endParaRPr b="0" lang="en-US" sz="2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8eba"/>
                      </a:solidFill>
                    </a:lnR>
                    <a:lnT w="5760">
                      <a:solidFill>
                        <a:srgbClr val="ff8eba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1</a:t>
                      </a:r>
                      <a:r>
                        <a:rPr b="0" lang="ru-RU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8eba"/>
                      </a:solidFill>
                    </a:lnL>
                    <a:lnR w="5760">
                      <a:solidFill>
                        <a:srgbClr val="ff8eba"/>
                      </a:solidFill>
                    </a:lnR>
                    <a:lnT w="5760">
                      <a:solidFill>
                        <a:srgbClr val="ff8eba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2</a:t>
                      </a:r>
                      <a:r>
                        <a:rPr b="0" lang="ru-RU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8eba"/>
                      </a:solidFill>
                    </a:lnL>
                    <a:lnR w="5760">
                      <a:solidFill>
                        <a:srgbClr val="ff8eba"/>
                      </a:solidFill>
                    </a:lnR>
                    <a:lnT w="5760">
                      <a:solidFill>
                        <a:srgbClr val="ff8eba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</a:t>
                      </a:r>
                      <a:r>
                        <a:rPr b="0" lang="ru-RU" sz="3200" spc="-1" strike="noStrike" u="sng">
                          <a:solidFill>
                            <a:srgbClr val="17bbfd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8eba"/>
                      </a:solidFill>
                    </a:lnL>
                    <a:lnR>
                      <a:noFill/>
                    </a:lnR>
                    <a:lnT w="5760">
                      <a:solidFill>
                        <a:srgbClr val="ff8eba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443" name="Text Box 125">
            <a:hlinkClick r:id="rId20" action="ppaction://hlinksldjump"/>
          </p:cNvPr>
          <p:cNvSpPr/>
          <p:nvPr/>
        </p:nvSpPr>
        <p:spPr>
          <a:xfrm>
            <a:off x="3681000" y="551664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7bbfd"/>
                </a:solidFill>
                <a:uFillTx/>
                <a:latin typeface="Times New Roman"/>
                <a:hlinkClick r:id="rId21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270000" y="56149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7042680" y="573552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27620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1123920" y="1504800"/>
            <a:ext cx="62294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ff"/>
                </a:solidFill>
                <a:latin typeface="Times New Roman"/>
              </a:rPr>
              <a:t>Манная крупа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ff"/>
                </a:solidFill>
                <a:latin typeface="Times New Roman"/>
              </a:rPr>
              <a:t>Пшеница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343080" y="0"/>
            <a:ext cx="880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3"/>
          <p:cNvSpPr/>
          <p:nvPr/>
        </p:nvSpPr>
        <p:spPr>
          <a:xfrm>
            <a:off x="3506400" y="60260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3"/>
          <p:cNvSpPr/>
          <p:nvPr/>
        </p:nvSpPr>
        <p:spPr>
          <a:xfrm>
            <a:off x="3367440" y="600696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628560" y="3062160"/>
            <a:ext cx="77342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0" spc="-1" strike="noStrike">
                <a:solidFill>
                  <a:srgbClr val="66ffff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История каш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18" name="WordArt 3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3336480" y="591192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Rectangle 2" descr=""/>
          <p:cNvPicPr/>
          <p:nvPr/>
        </p:nvPicPr>
        <p:blipFill>
          <a:blip r:embed="rId1"/>
          <a:stretch/>
        </p:blipFill>
        <p:spPr>
          <a:xfrm>
            <a:off x="2664000" y="-122400"/>
            <a:ext cx="6198840" cy="331632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3"/>
          <p:cNvSpPr/>
          <p:nvPr/>
        </p:nvSpPr>
        <p:spPr>
          <a:xfrm>
            <a:off x="800280" y="3441600"/>
            <a:ext cx="75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Надеюсь,  что Вам понравилось</a:t>
            </a: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522" name="Picture 5" descr="си2"/>
          <p:cNvPicPr/>
          <p:nvPr/>
        </p:nvPicPr>
        <p:blipFill>
          <a:blip r:embed="rId2"/>
          <a:stretch/>
        </p:blipFill>
        <p:spPr>
          <a:xfrm>
            <a:off x="0" y="0"/>
            <a:ext cx="27558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3"/>
          <p:cNvSpPr/>
          <p:nvPr/>
        </p:nvSpPr>
        <p:spPr>
          <a:xfrm>
            <a:off x="762120" y="2095560"/>
            <a:ext cx="761976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родолжи: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6ffff"/>
                </a:solidFill>
                <a:latin typeface="Times New Roman"/>
              </a:rPr>
              <a:t>Кашу маслом …</a:t>
            </a:r>
            <a:endParaRPr b="0" lang="en-US" sz="8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6" name="AutoShape 5"/>
          <p:cNvSpPr/>
          <p:nvPr/>
        </p:nvSpPr>
        <p:spPr>
          <a:xfrm>
            <a:off x="3616560" y="520272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4"/>
          <p:cNvSpPr/>
          <p:nvPr/>
        </p:nvSpPr>
        <p:spPr>
          <a:xfrm>
            <a:off x="343080" y="26668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ff"/>
                </a:solidFill>
                <a:latin typeface="Times New Roman"/>
              </a:rPr>
              <a:t>… </a:t>
            </a:r>
            <a:r>
              <a:rPr b="0" lang="ru-RU" sz="7200" spc="-1" strike="noStrike">
                <a:solidFill>
                  <a:srgbClr val="66ffff"/>
                </a:solidFill>
                <a:latin typeface="Times New Roman"/>
              </a:rPr>
              <a:t>не испортишь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574920" y="57484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7259760" y="58626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1" name="Rectangle 9">
            <a:hlinkClick r:id="rId3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Rectangle 2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3"/>
          <p:cNvSpPr/>
          <p:nvPr/>
        </p:nvSpPr>
        <p:spPr>
          <a:xfrm>
            <a:off x="895320" y="241920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ffff"/>
                </a:solidFill>
                <a:latin typeface="Times New Roman"/>
              </a:rPr>
              <a:t>Как обычно говорят о слабых людях?</a:t>
            </a:r>
            <a:endParaRPr b="0" lang="en-US" sz="6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719880" y="548784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5"/>
          <p:cNvSpPr/>
          <p:nvPr/>
        </p:nvSpPr>
        <p:spPr>
          <a:xfrm>
            <a:off x="308160" y="5519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7240680" y="5672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7" name="Rectangle 9">
            <a:hlinkClick r:id="rId3" action="ppaction://hlinksldjump"/>
          </p:cNvPr>
          <p:cNvSpPr/>
          <p:nvPr/>
        </p:nvSpPr>
        <p:spPr>
          <a:xfrm>
            <a:off x="1257480" y="6515280"/>
            <a:ext cx="647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2286000" y="15541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666720" y="2381400"/>
            <a:ext cx="786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ff"/>
                </a:solidFill>
                <a:latin typeface="Times New Roman"/>
              </a:rPr>
              <a:t>Мало каши ел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Rectangle 2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3"/>
          <p:cNvSpPr/>
          <p:nvPr/>
        </p:nvSpPr>
        <p:spPr>
          <a:xfrm>
            <a:off x="247680" y="3809880"/>
            <a:ext cx="375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Узнай кашу: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3805560" y="597096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463" name="Picture 5" descr="C:\Users\Елена\Desktop\IMG191-013.jpg"/>
          <p:cNvPicPr/>
          <p:nvPr/>
        </p:nvPicPr>
        <p:blipFill>
          <a:blip r:embed="rId3"/>
          <a:stretch/>
        </p:blipFill>
        <p:spPr>
          <a:xfrm>
            <a:off x="3613320" y="1506600"/>
            <a:ext cx="5035320" cy="459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3"/>
          <p:cNvSpPr/>
          <p:nvPr/>
        </p:nvSpPr>
        <p:spPr>
          <a:xfrm>
            <a:off x="441360" y="56912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7392960" y="57675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66" name="Rectangle 8">
            <a:hlinkClick r:id="rId3" action="ppaction://hlinksldjump"/>
          </p:cNvPr>
          <p:cNvSpPr/>
          <p:nvPr/>
        </p:nvSpPr>
        <p:spPr>
          <a:xfrm>
            <a:off x="380880" y="5638680"/>
            <a:ext cx="6400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1009800" y="2552760"/>
            <a:ext cx="6895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ff"/>
                </a:solidFill>
                <a:latin typeface="Times New Roman"/>
              </a:rPr>
              <a:t>Рисовая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1112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3"/>
          <p:cNvSpPr/>
          <p:nvPr/>
        </p:nvSpPr>
        <p:spPr>
          <a:xfrm>
            <a:off x="876240" y="2114640"/>
            <a:ext cx="7620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Какой кашей угощала Лиса Журавля в русской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народной сказке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3774960" y="57513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bbfd"/>
                </a:solidFill>
                <a:uFillTx/>
                <a:latin typeface="Times New Roman"/>
                <a:hlinkClick r:id="rId2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7:12:29Z</dcterms:created>
  <dc:creator>Пользователь</dc:creator>
  <dc:description/>
  <dc:language>en-US</dc:language>
  <cp:lastModifiedBy>Елена</cp:lastModifiedBy>
  <dcterms:modified xsi:type="dcterms:W3CDTF">2009-02-23T23:12:40Z</dcterms:modified>
  <cp:revision>144</cp:revision>
  <dc:subject/>
  <dc:title>Презентация PowerPoint</dc:title>
</cp:coreProperties>
</file>