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7F997-046B-4FAE-8FAE-716B56C7033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4BCC5-AD54-4C90-9546-65A68B4FFCC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B38-E95F-4504-98C0-1479A24A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C28-C5FB-43A2-ACB8-3C76AE7E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B4E-A6D0-47B1-8E92-1EC562E9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7B5-768C-49C1-B22F-EDFFB20E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37B-45FD-4E21-9B1E-DD0D251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E8A-6240-4C2E-877B-7D7AD4B9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C25-5321-4B1D-973C-05B56316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0F3-B069-4E99-97E4-2F901EAB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309-C527-4DEF-9346-78FA4EAF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BBD-9DE0-4562-9E2F-9AD0D617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55E-D6D9-42D5-8953-05F99AE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AF9-7CB1-48E0-84E8-730A357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692-DEB7-45CF-A48B-789DB6F28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tnow.ru/ru/gallery/3/24246/picture/0/576836.html" TargetMode="External"/><Relationship Id="rId3" Type="http://schemas.openxmlformats.org/officeDocument/2006/relationships/hyperlink" Target="http://artnow.ru/ru/gallery/3/24246/picture/0/576836.html" TargetMode="External"/><Relationship Id="rId4" Type="http://schemas.openxmlformats.org/officeDocument/2006/relationships/hyperlink" Target="http://artnow.ru/ru/gallery/3/24246/picture/0/576836.html" TargetMode="External"/><Relationship Id="rId5" Type="http://schemas.openxmlformats.org/officeDocument/2006/relationships/hyperlink" Target="http://artnow.ru/ru/gallery/3/24246/picture/0/576836.html" TargetMode="External"/><Relationship Id="rId6" Type="http://schemas.openxmlformats.org/officeDocument/2006/relationships/hyperlink" Target="http://artnow.ru/ru/gallery/3/24246/picture/0/576836.html" TargetMode="External"/><Relationship Id="rId7" Type="http://schemas.openxmlformats.org/officeDocument/2006/relationships/hyperlink" Target="http://artnow.ru/ru/gallery/3/24246/picture/0/576836.html" TargetMode="External"/><Relationship Id="rId8" Type="http://schemas.openxmlformats.org/officeDocument/2006/relationships/hyperlink" Target="http://artnow.ru/ru/gallery/3/24246/picture/0/576836.html" TargetMode="External"/><Relationship Id="rId9" Type="http://schemas.openxmlformats.org/officeDocument/2006/relationships/hyperlink" Target="http://artnow.ru/ru/gallery/3/24246/picture/0/576836.html" TargetMode="External"/><Relationship Id="rId10" Type="http://schemas.openxmlformats.org/officeDocument/2006/relationships/hyperlink" Target="http://artnow.ru/ru/gallery/3/24246/picture/0/576836.html" TargetMode="External"/><Relationship Id="rId11" Type="http://schemas.openxmlformats.org/officeDocument/2006/relationships/hyperlink" Target="http://artnow.ru/ru/gallery/3/24246/picture/0/576836.html" TargetMode="External"/><Relationship Id="rId12" Type="http://schemas.openxmlformats.org/officeDocument/2006/relationships/hyperlink" Target="http://old.e-mordovia.ru/aboutMordovia/regions/ruzaevka/history.php" TargetMode="External"/><Relationship Id="rId13" Type="http://schemas.openxmlformats.org/officeDocument/2006/relationships/hyperlink" Target="http://old.e-mordovia.ru/aboutMordovia/regions/ruzaevka/history.php" TargetMode="External"/><Relationship Id="rId14" Type="http://schemas.openxmlformats.org/officeDocument/2006/relationships/hyperlink" Target="http://old.e-mordovia.ru/aboutMordovia/regions/ruzaevka/history.php" TargetMode="External"/><Relationship Id="rId15" Type="http://schemas.openxmlformats.org/officeDocument/2006/relationships/hyperlink" Target="http://old.e-mordovia.ru/aboutMordovia/regions/ruzaevka/history.php" TargetMode="External"/><Relationship Id="rId16" Type="http://schemas.openxmlformats.org/officeDocument/2006/relationships/hyperlink" Target="http://old.e-mordovia.ru/aboutMordovia/regions/ruzaevka/history.php" TargetMode="External"/><Relationship Id="rId17" Type="http://schemas.openxmlformats.org/officeDocument/2006/relationships/hyperlink" Target="http://old.e-mordovia.ru/aboutMordovia/regions/ruzaevka/history.php" TargetMode="External"/><Relationship Id="rId18" Type="http://schemas.openxmlformats.org/officeDocument/2006/relationships/hyperlink" Target="http://old.e-mordovia.ru/aboutMordovia/regions/ruzaevka/history.php" TargetMode="External"/><Relationship Id="rId19" Type="http://schemas.openxmlformats.org/officeDocument/2006/relationships/hyperlink" Target="http://old.e-mordovia.ru/aboutMordovia/regions/ruzaevka/history.php" TargetMode="External"/><Relationship Id="rId20" Type="http://schemas.openxmlformats.org/officeDocument/2006/relationships/hyperlink" Target="http://old.e-mordovia.ru/aboutMordovia/regions/ruzaevka/history.php" TargetMode="External"/><Relationship Id="rId21" Type="http://schemas.openxmlformats.org/officeDocument/2006/relationships/hyperlink" Target="http://old.e-mordovia.ru/aboutMordovia/regions/ruzaevka/history.php" TargetMode="External"/><Relationship Id="rId22" Type="http://schemas.openxmlformats.org/officeDocument/2006/relationships/hyperlink" Target="http://old.e-mordovia.ru/aboutMordovia/regions/ruzaevka/history.php" TargetMode="External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5760" y="1338120"/>
            <a:ext cx="5614920" cy="26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en-US" sz="4400" spc="-1" strike="noStrike">
                <a:solidFill>
                  <a:srgbClr val="c00000"/>
                </a:solidFill>
                <a:latin typeface="Monotype Corsiva"/>
              </a:rPr>
              <a:t>Проект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	</a:t>
            </a:r>
            <a:br>
              <a:rPr sz="4400"/>
            </a:b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История </a:t>
            </a:r>
            <a:br>
              <a:rPr sz="4800"/>
            </a:b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города Рузаев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71440" y="4438440"/>
            <a:ext cx="66150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042920" y="4721400"/>
            <a:ext cx="71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ученик 4 класса МБОУ «Арх-Голицынская основная общеобразовательная школа» Щербаков Ник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Руководитель: Марченкова Галина Андреевна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110740"/>
          <p:cNvPicPr/>
          <p:nvPr/>
        </p:nvPicPr>
        <p:blipFill>
          <a:blip r:embed="rId3"/>
          <a:stretch/>
        </p:blipFill>
        <p:spPr>
          <a:xfrm>
            <a:off x="23760" y="1764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785520"/>
            <a:ext cx="62863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Рузаевка в 1941-1945г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1484280"/>
            <a:ext cx="44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глыми сутками через станцию шли воинские эшелоны. Поездные бригады показывали чудеса выдержки, подлинного героизма. Рузаевцы приютили, накормили и одели сотни эвакуированных, окружили заботой раненых бойцов. На фронт, в осажденный Ленинград шли и шли посылки с продуктами и теплыми вещами, в освобожденные районы западных районов страны – строительные материалы и механизмы. Рузаевцы помогали восстанавливать Сталинград, Донб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384360" cy="3600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341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Эта история моей малой родины - скромная попытка поведать об одной странице истории России. Возможно, где-то забытой и не до конца понятой, но несомненно живой, трепетной, настоящей – вобравшей в себя то, что мы называем Отечест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сякий рассказ о прошлом является и рассказом о действительности, о нашем настоящ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Этот проект – дань уважения и признательности ко всем поколениям в разные времена своим мирным и ратным трудом обустраивавшими нашу древнюю землю, нашу великую матушку Росс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cover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3920" y="571680"/>
            <a:ext cx="5257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71680" y="1571400"/>
            <a:ext cx="78292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узаевка: История и современность. Люди и судьбы/ Авт.-сост.: Ф.К.Андрианов, Т.С.Баргова, М.Н. Бычков, И.С. Моисеев; Редкол.: А.Н.Старцев, Ю.Н.Лобода, И.С. Моисеев, Т.С.Баргова (гл.ред.); Фот. Э.Ретунского, Ф.Маскаева, В.Конищева и др. - Саранск: Мордов. кн. изд-во, 2004. - 416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468360" y="3284640"/>
            <a:ext cx="7961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 интерн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4"/>
              </a:rPr>
              <a:t>artnow.ru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8"/>
              </a:rPr>
              <a:t>gallery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9"/>
              </a:rPr>
              <a:t>/3/24246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0"/>
              </a:rPr>
              <a:t>picture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1"/>
              </a:rPr>
              <a:t>/0/576836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4"/>
              </a:rPr>
              <a:t>old.e-mordovia.ru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6"/>
              </a:rPr>
              <a:t>aboutMordovia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8"/>
              </a:rPr>
              <a:t>regions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0"/>
              </a:rPr>
              <a:t>ruzaevka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2"/>
              </a:rPr>
              <a:t>history.ph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знать историю моей малой родины, города Рузаевка, как одну из страниц Российской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олнить утерянные, но не забытые исторические события, больше узнать о родном кра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каждый будет больше знать о  родных местах, где часто бывает, все мы лучше будем знать историю нашей страны, нашей Род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тарский князь Ураза Танкаче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ословная Рузаевки уходит в далекую старину. Первое поселение на месте нынешнего города появилось в 1631 году, когда татарскому князю Уразу Танкачееву (отсюда Рузаевка) русским царем  Михаилом Федоровичем за верную службу были даны земли и сенокосные угодья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Tатарские князья и мурзы владели Рузаевкой { до 1715 года). За отказ их принять христианскую веру эти земли и крепостные крестьяне были отписаны на великого государя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960720" cy="350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ихон Лу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725году земли и крестьяне пожалованы лейб-гвардии поручику Тихону Лукину, который владел ею более 30 лет, а затем разорился и в 1757 году продал её надворному советнику Еремею Струйскому.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6913800" cy="3024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епостники Струй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ее ста лет (1757—1861 гг.) Рузаевка принадлежала богатым помещикам-крепостникам Струйским. На месте, где сейчас средняя школа № 9, находилась роскошная усадь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7272360" cy="3457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588000" y="1341000"/>
            <a:ext cx="2270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Николай Еремеевич Струй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054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иколаем Еремеевичем Струйским, связана одна из страниц в истории Рузаевки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ремееви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елился в Рузаевке в 1771 году. В ту пору ему было 24 года, он отслужил 8 лет в Преображенском полку и вышел в отставку в чине гвардии прапорщика. Именье купленное его отцом располагалось на землях, богатых подпочвенными водами и господин Струйский пригласил для проектирования дома и церкви знаменитого архитектора В.В. Растрелли. За полтора года был построен трехэтажный дом-дворец. В нем Николай Еремеевич жил и писал стихи, третий этаж его дома носил название "Парнас". В 1783 году он создал в Рузаевке частную типографию, в которой работали крепостные умельцы, обученные печатному делу в типографиях Самары и Нижнего Новгорода. Эта, одна из лучших своего времени, типография издавала, в основном, стихи самого Николая Еремеевича. Эти издания чрезвычайно редки и представляют собой большую библиографическую ценность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1944720" cy="237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7777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лександр Иванович Полеж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34136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мении Струйских 30 августа 1804 года родился известный поэт Александ Иванович Полежаев (1804-1838гг.). Его мать Аграфена Ивановна Федорова была крепостной крестьянкой. Фактическим отцом – Леонтий Николаевич Струйский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208400" cy="5519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Забастовка 1905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1268280"/>
            <a:ext cx="48258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05 году она стала одним из центров революционного движения, активно поддержав восстание московских рабочих. 10 (23) декабря 1905 года под руководством стачечного комитета во главе с машинистом паровозного депо Афасием Петровичем Байкузовым здесь началась забастовка, в результате которой власть в поселке и на ближайших железнодорожных станциях перешла в руки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«Рузаевская республика», которая просуществовала  12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333600" cy="3097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5676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Рузаевка – железнодорожный узел</a:t>
            </a:r>
            <a:r>
              <a:rPr b="0" i="1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1773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торой половине XIX века на территории Мордовии велось строительство железной дороги, соединившей Москву с Казанью. В 1893 году Казанская линия была закончена. Первоначально Рузаевка мыслилась железнодорожным разъездом. Однако из-за разногласий с саранскими властями фактический хозяин дороги фон Мекк паровозное депо и другие службы перевел из Саранска в Рузаевку, в результате чего она стала крупным железнодорожным у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456000" cy="3745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2:25:17Z</dcterms:created>
  <dc:creator>Елена и Анастасия</dc:creator>
  <dc:description/>
  <dc:language>en-US</dc:language>
  <cp:lastModifiedBy>Алёна</cp:lastModifiedBy>
  <dcterms:modified xsi:type="dcterms:W3CDTF">2012-05-11T17:33:41Z</dcterms:modified>
  <cp:revision>149</cp:revision>
  <dc:subject/>
  <dc:title>Дымковская игрушка</dc:title>
</cp:coreProperties>
</file>