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B46-C901-4F38-8D7C-3F2C3ADC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92C-9C96-4CBD-930F-95531C96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EFB8D-EEC2-4638-8243-BBE4034A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86584-9D0F-4703-9B28-3D9E47CD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D8A80-E0B3-44FC-BDE3-9733F81C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CBD11-6CA2-48C9-B3BF-CB6C30D9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43A00-00B1-43E9-8333-9EE0F33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3CBDB-E8CD-49C8-AD21-F27EBC78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7C2F5-F093-44CC-B391-9D0D9183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39389-0818-49A2-9F11-8192924E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B764B-8A43-4419-BFF3-F4DE6695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8FF83-3AEE-4106-B769-0785B54E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034-9295-4DE0-891B-249108F1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2D4DD-C8D5-49F9-B6C1-08342758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FF767-6144-45C6-A884-44570166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B4442-1A69-4E9A-BA6A-83355E22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CFCCD-A212-4B3C-9894-F16854BE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165DE-DEAE-48F2-8586-5477E21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82121-AB9E-4B45-8E23-A38005F2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8575F-92C1-45D6-BE83-401867E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1581C-96B8-4C9D-9672-973B8FC9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FB9DD-404E-4040-B84C-0D3AC863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B9930-0B22-44FE-A705-FCF1E5B6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C3C-55B2-4E3C-9A8C-81F43CF7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1E423-8512-4CB8-8ADE-48A75E88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52E41-C551-46A6-ABBC-7EDE5D0A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29C2A-403B-4DCC-A259-D5FE7A00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7BACB-20C0-47A8-8D64-F06C630A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E2322-FC6E-4104-8AEC-7E485AED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C1518-B67B-49D6-9C76-DAF012AB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3A070-081D-4E73-8598-BC892013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0D7B6-3C20-4368-900D-BD67585F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8664C-5A69-49E7-9FF6-60DE722B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4B02D-9007-41AB-B893-C0D5E7E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D634-7675-4A09-97C3-C76C5839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1429D-F11F-4F12-9360-CF512314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FD427-733E-4D6D-B6C1-7F3D600E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6D4CB-0107-4423-A206-468C720B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8A3FF-57C6-48BF-B691-2E54EE83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13843-55A9-4DCC-8C30-ADD846B0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A8CC8-5640-4A80-B0C4-D59F5F6E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BD5D4-DD37-4437-B945-5FFBBBA5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8C2EA-1CCD-4D46-B2D0-ABE03749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E8AC4-174D-46DB-BD44-5623FBB6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0C6B6-74AB-43F3-B72E-8B98569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50B0-33E4-42C7-88CD-61883B1A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D4C7D-E748-4BE7-BB74-567C8C1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D81C7-41B5-45B9-8318-D666A54D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181DA-A177-4D09-BF29-3D55C0D2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81E8F-0F3D-43B0-88B7-69EFB687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8B63F-235D-4A2A-8709-AF5668DF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8A28-F5ED-497F-ADD7-822D21DF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FC2B-6E8E-4F9E-89B3-E66E0F96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6C3F-78A5-4796-90A6-6D16DFF0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E5A9-3476-4C26-8CAA-FE2BCF9D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7388-318A-401B-9A12-3F143A35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DFF-360C-4F1F-AC51-47D735C5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91D4-FD85-4291-8983-BF342FDC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31D2-19BB-4053-A82B-C2011F45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2A50-58AB-4F51-9F26-E0F8EABC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ADEB-69B7-402C-B1CD-59EEA64D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1449-1118-4B7D-8CC4-313CEFEC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B41B2-5DA1-4EAA-A8DF-77EC15BD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E5C0-2435-438E-849B-2684D69B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262A-E82F-462F-8448-1D3BC676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2FF0-E4C9-41C6-91EE-2025B941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8B0E-A59E-4B7D-9CED-02923AEB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515-3581-434A-BA43-24E2B802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8E17-A04F-4E58-B138-91F54256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ABAB6-1118-4E17-B149-D41DC00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E340E-065F-4504-9E47-FAF2EDDB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DAD8-AA13-43A8-A07D-44E541C0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FE3B-C952-4A63-A0B5-0F88E20D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479BC-EBDF-45C1-ACE5-494EF823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0A682-D83B-41A3-93F5-C25FA6D9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ED240-B972-4FA3-83C9-3EE0C364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1216-9956-4B26-8A9F-3DEC7999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94C29-43A3-4D06-8960-FC28CE87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5EE-6A61-4362-BBD5-52E9FE02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8EEDE-F43E-4C87-9C72-1701EA8B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39D31-DF00-43EE-99AE-F18F53F1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2FC7C-E18D-4A11-8EAD-892765A2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57A15-9A93-4E81-9455-8B8D20E3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A2A7-90D4-41A1-B855-A07B4033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A232-429A-4BFB-BDBF-5ABBC2CE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4863-53AE-43BE-8B75-08679AF0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8F8A2-DBC7-424B-8AD0-B40BA8C9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AFB03-0F2F-499D-BA84-0A9F464C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F66D0-532B-43D7-8DBF-A85E1445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539-D9F9-4A15-AED2-9F12467E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12A1-1C52-4B62-B315-3907D236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61DD-3A43-47EC-950B-7FFB030D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1D31F-61A3-4DC4-9F72-37853AD1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EF582-3AE9-4C46-A817-0017C2E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54D2C-59FD-41A2-9DFA-16FD68BB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F273A-D3EE-43CF-8D8F-B1505303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72A0A-06E5-4A9D-9580-1528812E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FD578-C5F2-455B-B776-DE2F4D59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DFDF2-2BA0-4E89-8B7A-49DC4F5E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C5367-8EEE-431A-8327-F533549F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ECB-1AEF-4054-B891-AFF84DD4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F1BB3-E753-408B-B60C-47E4F07D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0CD90-2F0E-452C-AEDA-4320F63D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2625F-68EE-4B31-B150-D12DBFCF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5C320-9C16-4721-AC7F-69754141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B0814-16C0-45D7-B2BF-1635DE7E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44DB0-C47D-4B48-B732-8807805C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9D379-6C79-4A6A-A5CA-D3ABABB4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C085-6CBF-4080-9195-70B1723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BF9EC-DC53-4062-9173-9A61A6C1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F82F4-F61F-496D-8FBC-9B99ED0B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043-0F07-4689-A9EF-E56E7A2C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695A9-B2BF-4E8C-8C31-3A61AB28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1085B-F1B3-4392-93C0-D857AB9C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61235-F8DE-45EE-8F09-499A2B12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1D7E4-B3AA-4C2F-9390-85488B03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2454C-15CB-40D2-B813-B114E498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DAC43-16B5-4B6D-8B33-47C6A154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7BC37-9BC7-4A97-9627-A5A0ECCB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5089-A31B-4ACC-9AF8-9FB4A0A3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DF2A0-0295-4900-8F90-C3C2445E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7871D-5578-4379-B44D-671800E7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14D-FC9F-4972-9E7B-EA15B2EA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D7126-CB3C-40DA-971B-90A165E9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4569B-C3E1-4701-94FA-98F90457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A2899-98BA-438E-BB1E-E1D23A61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A1978-E034-4B72-B5F8-39772ABC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A3EF4-F514-4D81-80D0-3554933C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8F1B5-362B-422A-A873-67EE14D4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08066-BF65-4EB3-89B0-6AAFE46D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166A7-194E-4AB8-9D9D-A5AB6428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1FCA2-3EC8-43F8-B0EF-34D9ACE0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A997A-6D1B-40BF-B975-7DB7BF43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413-1468-41E2-AAA7-C9C51ACE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31B40-0613-44A7-BBB8-DA9D08A3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CE3EB-70F5-4773-99EE-A964FF85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471B0-DDA0-45F8-949A-7FD7B4B9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7F863-1FC1-4D31-A71B-E5E33A21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CC4F9-E74F-4F72-88A3-B8A99BE7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332A5-69C3-4566-8B3B-6A9BAE75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327E3-0CDC-4C2F-A1B1-3ECB3194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53B00-1F27-4BD7-8DE0-14293CB0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AF764-5D98-4A20-87B6-C3495663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BFF36-68F3-4E49-93B1-33697E70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8474-C929-470D-94F6-42155BE1E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9FEF-EA7C-420E-9028-61D202031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4349-90DF-4ECD-AE7E-74C5F5758C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2AC2-935B-44F8-A6F6-85887EB6B4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5595-0195-4E00-A72D-D30590327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19D9-54A5-47EB-B0BF-CFFD5EFAB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B1B6-6390-4E04-96D5-D18F50572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3CD3-6388-41B9-897F-A38389945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0063-3E9E-46CA-82FC-A988F6B1A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5972-115D-4685-804B-0D1F0EE2E4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14E3-39D5-408C-82C3-828D547F0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8A19-BA50-48D3-8516-0EBA6F475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395280" y="647640"/>
            <a:ext cx="792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952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Легенды о Короле Артуре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рыцарях Круглого стола 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Святом Граа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shadow_of_the_moon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http://luxaur.narod.ru/rubrika05/ris/Arthur_.gif"/>
          <p:cNvPicPr/>
          <p:nvPr/>
        </p:nvPicPr>
        <p:blipFill>
          <a:blip r:embed="rId1"/>
          <a:stretch/>
        </p:blipFill>
        <p:spPr>
          <a:xfrm>
            <a:off x="1979640" y="189000"/>
            <a:ext cx="503568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http://www.monsalvat.globalfolio.net/assets/trouver/knight015.jpg"/>
          <p:cNvPicPr/>
          <p:nvPr/>
        </p:nvPicPr>
        <p:blipFill>
          <a:blip r:embed="rId1"/>
          <a:stretch/>
        </p:blipFill>
        <p:spPr>
          <a:xfrm>
            <a:off x="1908000" y="201600"/>
            <a:ext cx="4608720" cy="636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"/>
          <p:cNvSpPr/>
          <p:nvPr/>
        </p:nvSpPr>
        <p:spPr>
          <a:xfrm>
            <a:off x="971640" y="635040"/>
            <a:ext cx="73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вный Артур со временем стал королем и поселился с молодой женой, красавицей Гиневрой в замке Камел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http://www.ibiblio.org/pub/docs/books/gutenberg/1/0/7/4/10745/10745-h/images/002.l.gif"/>
          <p:cNvPicPr/>
          <p:nvPr/>
        </p:nvPicPr>
        <p:blipFill>
          <a:blip r:embed="rId1"/>
          <a:stretch/>
        </p:blipFill>
        <p:spPr>
          <a:xfrm>
            <a:off x="2124000" y="316080"/>
            <a:ext cx="4319640" cy="631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"/>
          <p:cNvSpPr/>
          <p:nvPr/>
        </p:nvSpPr>
        <p:spPr>
          <a:xfrm>
            <a:off x="755640" y="1082880"/>
            <a:ext cx="756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анселот дю Л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Ланселот Озерный), ближайший соратник Артура, полюбил королеву Гиневру, и сердце королевы ответило ему. Их любовь была столь беззаветна, что перед ней отступили и рыцарская дружба, и супружеская че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http://luc.enchanteur.free.fr/page_1_fichiers/table.jpg"/>
          <p:cNvPicPr/>
          <p:nvPr/>
        </p:nvPicPr>
        <p:blipFill>
          <a:blip r:embed="rId1"/>
          <a:stretch/>
        </p:blipFill>
        <p:spPr>
          <a:xfrm>
            <a:off x="179280" y="333360"/>
            <a:ext cx="8747280" cy="49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1" descr=""/>
          <p:cNvPicPr/>
          <p:nvPr/>
        </p:nvPicPr>
        <p:blipFill>
          <a:blip r:embed="rId1"/>
          <a:stretch/>
        </p:blipFill>
        <p:spPr>
          <a:xfrm>
            <a:off x="463680" y="907920"/>
            <a:ext cx="8283600" cy="515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http://www.earlybritishkingdoms.com/arthur/images/grail.gif"/>
          <p:cNvPicPr/>
          <p:nvPr/>
        </p:nvPicPr>
        <p:blipFill>
          <a:blip r:embed="rId1"/>
          <a:stretch/>
        </p:blipFill>
        <p:spPr>
          <a:xfrm>
            <a:off x="1692360" y="184320"/>
            <a:ext cx="5235480" cy="648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рямоугольник 1"/>
          <p:cNvSpPr/>
          <p:nvPr/>
        </p:nvSpPr>
        <p:spPr>
          <a:xfrm>
            <a:off x="324000" y="333360"/>
            <a:ext cx="82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равшимся рыцарям было явлено видение в виде золотой чаши, прикрытой парчой, в которой витязи узнали Святой Грааль — чашу, в которую Иосиф Аримафейский собрал кровь распятого Иисуса Хри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 этого, многие рыцари Круглого Стола, и Галахад в их числе, поклялись отправиться в поход за священной ча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http://upload.wikimedia.org/wikipedia/commons/thumb/8/87/Galahad.jpg/220px-Galahad.jpg"/>
          <p:cNvPicPr/>
          <p:nvPr/>
        </p:nvPicPr>
        <p:blipFill>
          <a:blip r:embed="rId1"/>
          <a:stretch/>
        </p:blipFill>
        <p:spPr>
          <a:xfrm>
            <a:off x="826920" y="404640"/>
            <a:ext cx="2808360" cy="5781960"/>
          </a:xfrm>
          <a:prstGeom prst="rect">
            <a:avLst/>
          </a:prstGeom>
          <a:ln w="0">
            <a:noFill/>
          </a:ln>
        </p:spPr>
      </p:pic>
      <p:sp>
        <p:nvSpPr>
          <p:cNvPr id="512" name="Прямоугольник 3"/>
          <p:cNvSpPr/>
          <p:nvPr/>
        </p:nvSpPr>
        <p:spPr>
          <a:xfrm>
            <a:off x="3851280" y="40464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лахад — рыцарь Круглого стола Короля Артура и единственный, которому Грааль даётся в руки. После чего Галахад исчезает, и возносится на небеса как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http://chronarda.ru/graal/files/wallpaper/stounhange.jpg"/>
          <p:cNvPicPr/>
          <p:nvPr/>
        </p:nvPicPr>
        <p:blipFill>
          <a:blip r:embed="rId1"/>
          <a:stretch/>
        </p:blipFill>
        <p:spPr>
          <a:xfrm>
            <a:off x="611280" y="404640"/>
            <a:ext cx="7893000" cy="592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рямоугольник 1"/>
          <p:cNvSpPr/>
          <p:nvPr/>
        </p:nvSpPr>
        <p:spPr>
          <a:xfrm>
            <a:off x="250920" y="260280"/>
            <a:ext cx="84247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легендах, где он фигурирует, часто подчёркивается его непорочность и покровительство ему высших сил и судьбы, а сам Галахад считается «святым рыцар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лахад прибыл в Камелот, чтобы стать рыцарем короля Артура. Молодой рыцарь сел в запретное Гибельное Сиденье (Siege Perilous), которое считалось предназначенным лишь для достойнейшего из достойных, кому покровительствует Сам Б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Файл:MORDRED.jpg"/>
          <p:cNvPicPr/>
          <p:nvPr/>
        </p:nvPicPr>
        <p:blipFill>
          <a:blip r:embed="rId1"/>
          <a:stretch/>
        </p:blipFill>
        <p:spPr>
          <a:xfrm>
            <a:off x="2484360" y="333360"/>
            <a:ext cx="3960720" cy="62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1"/>
          <p:cNvSpPr/>
          <p:nvPr/>
        </p:nvSpPr>
        <p:spPr>
          <a:xfrm>
            <a:off x="468360" y="40464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дре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рыцарь Круглого стола,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один из главных отрицательных персонажей мифов о Короле Артуре. Сын и одновременно племянник  короля Артура  и его сест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дред — один из персонажей легенд о короле Артуре, известный как подлый предатель Артура, который дрался с ним насмерть на поле Камланна, где был убит Артуром, а сам Артур был смертельно ра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http://img15.nnm.ru/2/9/c/9/a/207d0fe774566da15e2c96b32f6.jpg"/>
          <p:cNvPicPr/>
          <p:nvPr/>
        </p:nvPicPr>
        <p:blipFill>
          <a:blip r:embed="rId1"/>
          <a:stretch/>
        </p:blipFill>
        <p:spPr>
          <a:xfrm>
            <a:off x="1258920" y="185760"/>
            <a:ext cx="6324480" cy="633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http://www.portrets.ru/images30/1.36.jpg"/>
          <p:cNvPicPr/>
          <p:nvPr/>
        </p:nvPicPr>
        <p:blipFill>
          <a:blip r:embed="rId1"/>
          <a:stretch/>
        </p:blipFill>
        <p:spPr>
          <a:xfrm>
            <a:off x="755640" y="276120"/>
            <a:ext cx="7905600" cy="632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http://www.mifograd.ru/srv006.gif"/>
          <p:cNvPicPr/>
          <p:nvPr/>
        </p:nvPicPr>
        <p:blipFill>
          <a:blip r:embed="rId1"/>
          <a:stretch/>
        </p:blipFill>
        <p:spPr>
          <a:xfrm>
            <a:off x="299880" y="692280"/>
            <a:ext cx="8194680" cy="590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http://metamedia.stanford.edu/imagebin/Knights%20at%20the%20Round%20Table.jpg"/>
          <p:cNvPicPr/>
          <p:nvPr/>
        </p:nvPicPr>
        <p:blipFill>
          <a:blip r:embed="rId1"/>
          <a:stretch/>
        </p:blipFill>
        <p:spPr>
          <a:xfrm>
            <a:off x="1619280" y="69840"/>
            <a:ext cx="5329080" cy="6612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Рисунок 1" descr="http://treasure-grifon.narod.ru/img/graal_200.jpg"/>
          <p:cNvPicPr/>
          <p:nvPr/>
        </p:nvPicPr>
        <p:blipFill>
          <a:blip r:embed="rId1"/>
          <a:stretch/>
        </p:blipFill>
        <p:spPr>
          <a:xfrm>
            <a:off x="324000" y="620640"/>
            <a:ext cx="5760720" cy="532944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2"/>
          <p:cNvSpPr/>
          <p:nvPr/>
        </p:nvSpPr>
        <p:spPr>
          <a:xfrm>
            <a:off x="6084720" y="1052640"/>
            <a:ext cx="305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Ч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4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4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ВЯ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4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49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ГРА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http://feduloff.ucoz.ru/_si/0/85873.jpg"/>
          <p:cNvPicPr/>
          <p:nvPr/>
        </p:nvPicPr>
        <p:blipFill>
          <a:blip r:embed="rId1"/>
          <a:stretch/>
        </p:blipFill>
        <p:spPr>
          <a:xfrm>
            <a:off x="1476360" y="171360"/>
            <a:ext cx="5688000" cy="647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http://sr.gallerix.ru/1710434100/L/1525048643/"/>
          <p:cNvPicPr/>
          <p:nvPr/>
        </p:nvPicPr>
        <p:blipFill>
          <a:blip r:embed="rId1"/>
          <a:stretch/>
        </p:blipFill>
        <p:spPr>
          <a:xfrm>
            <a:off x="1209600" y="189000"/>
            <a:ext cx="60102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http://media-2.web.britannica.com/eb-media/92/98992-004-4E55879F.jpg"/>
          <p:cNvPicPr/>
          <p:nvPr/>
        </p:nvPicPr>
        <p:blipFill>
          <a:blip r:embed="rId1"/>
          <a:stretch/>
        </p:blipFill>
        <p:spPr>
          <a:xfrm>
            <a:off x="1332000" y="193680"/>
            <a:ext cx="643248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http://i019.radikal.ru/0803/f0/d3d5fbfaec36t.jpg"/>
          <p:cNvPicPr/>
          <p:nvPr/>
        </p:nvPicPr>
        <p:blipFill>
          <a:blip r:embed="rId1"/>
          <a:srcRect l="0" t="0" r="1617" b="2737"/>
          <a:stretch/>
        </p:blipFill>
        <p:spPr>
          <a:xfrm>
            <a:off x="2266920" y="71280"/>
            <a:ext cx="459432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http://tainy.net/wp-content/uploads/2010/09/1263802390_king_arthur_31-300x432.jpg"/>
          <p:cNvPicPr/>
          <p:nvPr/>
        </p:nvPicPr>
        <p:blipFill>
          <a:blip r:embed="rId1"/>
          <a:stretch/>
        </p:blipFill>
        <p:spPr>
          <a:xfrm>
            <a:off x="1979640" y="263520"/>
            <a:ext cx="4464000" cy="6429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AutoShape 2"/>
          <p:cNvSpPr/>
          <p:nvPr/>
        </p:nvSpPr>
        <p:spPr>
          <a:xfrm>
            <a:off x="63360" y="-136440"/>
            <a:ext cx="39722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http://s40.radikal.ru/i090/0911/0e/20a71b16bb95.jpg"/>
          <p:cNvPicPr/>
          <p:nvPr/>
        </p:nvPicPr>
        <p:blipFill>
          <a:blip r:embed="rId1"/>
          <a:stretch/>
        </p:blipFill>
        <p:spPr>
          <a:xfrm>
            <a:off x="1908000" y="235080"/>
            <a:ext cx="5040360" cy="635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http://www.kidshannon.com/artists/elwell/lg/44.jpg"/>
          <p:cNvPicPr/>
          <p:nvPr/>
        </p:nvPicPr>
        <p:blipFill>
          <a:blip r:embed="rId1"/>
          <a:stretch/>
        </p:blipFill>
        <p:spPr>
          <a:xfrm>
            <a:off x="2124000" y="74520"/>
            <a:ext cx="4608720" cy="667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http://chronarda.ru/graal/gallery/illustrations/big_1/lovepotion.jpg"/>
          <p:cNvPicPr/>
          <p:nvPr/>
        </p:nvPicPr>
        <p:blipFill>
          <a:blip r:embed="rId1"/>
          <a:stretch/>
        </p:blipFill>
        <p:spPr>
          <a:xfrm>
            <a:off x="1116000" y="104760"/>
            <a:ext cx="6659640" cy="675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http://www.donatoart.com/paintings/lancelot.jpg"/>
          <p:cNvPicPr/>
          <p:nvPr/>
        </p:nvPicPr>
        <p:blipFill>
          <a:blip r:embed="rId1"/>
          <a:stretch/>
        </p:blipFill>
        <p:spPr>
          <a:xfrm>
            <a:off x="1547640" y="206280"/>
            <a:ext cx="5256360" cy="635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http://chronarda.ru/graal/gallery/illustrations/big_1/merlinfairy.jpg"/>
          <p:cNvPicPr/>
          <p:nvPr/>
        </p:nvPicPr>
        <p:blipFill>
          <a:blip r:embed="rId1"/>
          <a:stretch/>
        </p:blipFill>
        <p:spPr>
          <a:xfrm>
            <a:off x="1411200" y="189000"/>
            <a:ext cx="5392800" cy="643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Файл:How Mordred was Slain by Arthur.jpg"/>
          <p:cNvPicPr/>
          <p:nvPr/>
        </p:nvPicPr>
        <p:blipFill>
          <a:blip r:embed="rId1"/>
          <a:stretch/>
        </p:blipFill>
        <p:spPr>
          <a:xfrm>
            <a:off x="1692360" y="104760"/>
            <a:ext cx="4895640" cy="659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"/>
          <p:cNvSpPr/>
          <p:nvPr/>
        </p:nvSpPr>
        <p:spPr>
          <a:xfrm>
            <a:off x="395280" y="432720"/>
            <a:ext cx="84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9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Артур в кровавой битве убивает Модред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и Модред успевает смертельно ранить коро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Файл:Mortdarthur.jpg"/>
          <p:cNvPicPr/>
          <p:nvPr/>
        </p:nvPicPr>
        <p:blipFill>
          <a:blip r:embed="rId1"/>
          <a:stretch/>
        </p:blipFill>
        <p:spPr>
          <a:xfrm>
            <a:off x="1547640" y="55440"/>
            <a:ext cx="4996080" cy="661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1"/>
          <p:cNvSpPr/>
          <p:nvPr/>
        </p:nvSpPr>
        <p:spPr>
          <a:xfrm>
            <a:off x="250920" y="620640"/>
            <a:ext cx="84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лшебник Мер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 жил во времени «задом наперед», и поэтому будущее было для него раскрытой книгой, но прошлое таилось за семью замка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324000" y="575640"/>
            <a:ext cx="835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брали дамы Артура в ладью, и положил король голову на колени к Фее Морг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увезла его сестра на чудесный остров Авало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м среди чудесных яблонь, где росли золотые плоды забвения, исцеляется Артур от ран свои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http://www.knightsofavalon.com/book2_copy.jpg"/>
          <p:cNvPicPr/>
          <p:nvPr/>
        </p:nvPicPr>
        <p:blipFill>
          <a:blip r:embed="rId1"/>
          <a:stretch/>
        </p:blipFill>
        <p:spPr>
          <a:xfrm>
            <a:off x="1835280" y="61920"/>
            <a:ext cx="5257800" cy="671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http://firelion80.narod.ru/avalon6.jpg"/>
          <p:cNvPicPr/>
          <p:nvPr/>
        </p:nvPicPr>
        <p:blipFill>
          <a:blip r:embed="rId1"/>
          <a:stretch/>
        </p:blipFill>
        <p:spPr>
          <a:xfrm>
            <a:off x="1692360" y="258840"/>
            <a:ext cx="5256000" cy="631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2"/>
          <p:cNvSpPr/>
          <p:nvPr/>
        </p:nvSpPr>
        <p:spPr>
          <a:xfrm>
            <a:off x="63360" y="-136440"/>
            <a:ext cx="6096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63360" y="-136440"/>
            <a:ext cx="6096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http://s41.radikal.ru/i092/1005/a0/80758f0a06d3.jpg"/>
          <p:cNvPicPr/>
          <p:nvPr/>
        </p:nvPicPr>
        <p:blipFill>
          <a:blip r:embed="rId1"/>
          <a:stretch/>
        </p:blipFill>
        <p:spPr>
          <a:xfrm>
            <a:off x="430200" y="765000"/>
            <a:ext cx="8221680" cy="547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95280" y="64440"/>
            <a:ext cx="842472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9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ПРОСЫ ДЛЯ ЗАКРЕПЛЕНИЯ МАТЕРИА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ак звали легендарного мага, советника и наставника короля Арт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то был родителями будущего короля Арт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воспитывал Арт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Благодаря какому  легендарному  предмету все узнают о королевском происхождении Арт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 Артур становится корол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город Артур сделал своей столиц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5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Прямоугольник 2"/>
          <p:cNvSpPr/>
          <p:nvPr/>
        </p:nvSpPr>
        <p:spPr>
          <a:xfrm>
            <a:off x="395280" y="33336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 Почему Артур собрал своих рыцарей за круглым сто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Как Артур добыл Экскалибу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Кто такая фея Морг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Как звали самого доблестного рыцаря, возлюбленного королевы Гвиневры? Кем он был воспит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Расскажите о Святом Гра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Назовите основные качества, которыми должен был обладать рыц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В чем заключался Культ Прекрасной Да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Как погиб Король Артур? Где он оказывается по легенде после  своей смер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"/>
          <p:cNvSpPr/>
          <p:nvPr/>
        </p:nvSpPr>
        <p:spPr>
          <a:xfrm>
            <a:off x="324000" y="57240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ьте синквейн на одну 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х  т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РЫЦ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КРАСНАЯ Д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АРТ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ЧАША ГРАА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539640" y="-210600"/>
            <a:ext cx="77407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во “синквейн” происходит от французского слова, которое означает пятистроч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, синквейн – это стихотворение, из 5 строк, г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ая строка. 1 слово – понятие или тема - существительно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ая строка. 2 слова – описание этого понятия - прилага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тья строка. 3 слова – действия  - 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твертая строка. Фраза или предложение, показывающее отношение к теме - афор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ятая строка. 1 слово – синоним, который повторяет суть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Файл:Pyle Uther Pendragon.jpg"/>
          <p:cNvPicPr/>
          <p:nvPr/>
        </p:nvPicPr>
        <p:blipFill>
          <a:blip r:embed="rId1"/>
          <a:stretch/>
        </p:blipFill>
        <p:spPr>
          <a:xfrm>
            <a:off x="1547640" y="-476280"/>
            <a:ext cx="5160960" cy="708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"/>
          <p:cNvSpPr/>
          <p:nvPr/>
        </p:nvSpPr>
        <p:spPr>
          <a:xfrm>
            <a:off x="324000" y="990720"/>
            <a:ext cx="842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Утер Пендрагон был младшим из трех сыновей короля Константа.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Утер вступил на престол после безвременной гибели своих братьев Муана и Пендраго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память об одном из братьев он взял себе имя Утер Пендраг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http://camelotofbw.clan.su/bw_clanlogo.jpg"/>
          <p:cNvPicPr/>
          <p:nvPr/>
        </p:nvPicPr>
        <p:blipFill>
          <a:blip r:embed="rId1"/>
          <a:stretch/>
        </p:blipFill>
        <p:spPr>
          <a:xfrm>
            <a:off x="1332000" y="260280"/>
            <a:ext cx="619272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"/>
          <p:cNvSpPr/>
          <p:nvPr/>
        </p:nvSpPr>
        <p:spPr>
          <a:xfrm>
            <a:off x="539640" y="31680"/>
            <a:ext cx="81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тель замка и правитель Корнуолла славный рыцарь Горлуа был женат на неприступной красавице Игрэн, к которой воспылал страстной и безнадежной любовью король Утер Пен-драг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аявшемуся королю пришел на помощь его друг волшебник Мерлин. Он придал Утеру облик Горлуа и помог добиться расположения обманутой таким образом красавицы. Вскоре Игрэн родила мальчика, которого нарекли Арту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http://ega-math.narod.ru/Reid/Tales/IMG/Arthur.gif"/>
          <p:cNvPicPr/>
          <p:nvPr/>
        </p:nvPicPr>
        <p:blipFill>
          <a:blip r:embed="rId1"/>
          <a:stretch/>
        </p:blipFill>
        <p:spPr>
          <a:xfrm>
            <a:off x="276120" y="33336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6:20:33Z</dcterms:created>
  <dc:creator>Алексей</dc:creator>
  <dc:description/>
  <dc:language>en-US</dc:language>
  <cp:lastModifiedBy>Алексей</cp:lastModifiedBy>
  <dcterms:modified xsi:type="dcterms:W3CDTF">2012-08-29T05:41:27Z</dcterms:modified>
  <cp:revision>72</cp:revision>
  <dc:subject/>
  <dc:title>Слайд 1</dc:title>
</cp:coreProperties>
</file>