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444-0ADF-4E98-BB45-66CE1895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E3E-45FE-4F1B-BAAE-6320AD93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D28C1-88FC-4F0E-83F4-372B87EA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AA97D-9178-461B-AC17-7CAFE6F6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82430-DE2E-4920-BEE3-CF89E511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8176D-D436-4F20-B81E-D3E2A88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A999F-0E75-49A0-9F2D-890C79CA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F179F-FA89-4C4B-9C26-5CFC7DD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4226C-DE0E-4FAE-AF8C-68BBD87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C125E-A74E-42AD-BA49-284019A2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F0E60-D3B6-4BA6-BA8C-AC9EE007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CF677-2359-46C0-8282-C19BC382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705-454C-4C28-B9A2-90180073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73A0F-8C51-49DF-A042-35D6AA3D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30F18-5180-4FF2-947A-4D7A7F7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0551A-444B-4012-A77D-AD1E7A8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6DD05-78A5-4BF9-BDE2-FA1E1C6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AB39C-290A-47CD-973D-A1EA366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A6347-15CD-4019-84C0-AA36D56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CA065-87A4-42C1-A6C3-11BD201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1E886-1334-42EB-A92E-089B362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6D10E-24E3-4220-861B-291F919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FA5FC-5AB3-42A9-A73F-2E4802F9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91E-82D0-4BCC-AC37-8098A259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092A1-C91D-4B47-8D24-FB289A99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B951A-4478-4C00-B5A0-18595DF4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0EEDB-828C-40BE-969A-54C87916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B79DE-0AA7-4B9B-B936-263F9C2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34FA3-9790-4A2C-9BA6-65CE5B66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78F02-252B-4BDC-AA09-368EC7C3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43DB5-70C0-4968-95C7-ECCC2DE6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5391E-8BD8-44AD-9AA9-B906438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105E6-8FB6-43DE-A3C9-F2F6096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02B12-CDF8-49E8-9379-3E9D5164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DEB6-CC40-435D-8853-88D408FC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59958-A125-4F9F-B55E-F7BC8D18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A6F2B-924E-4371-9213-EDBB3BAE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217B0-B85B-4B7C-8231-04FC9ABE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0B71A-37FD-491B-89F8-589024CC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8926D-917E-43BE-90C0-8F0CC488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762A8-9A20-4416-B3DD-FBE79674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02B8C-76A2-40C5-AEBE-82B77918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6D6CD-EFEE-446D-BDA7-70D09C7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328CE-7412-4D6C-8AF5-7676AA58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72A40-D2D7-4513-A678-099C9BC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8CFA-1394-439F-AFE6-8AEED42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CBC43-562A-486C-BF21-483532F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514E4-D591-489B-A97C-C0CA854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FAF85-395A-4EF5-84B5-33A9027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0B8B6-913B-4B93-8DCC-222955E2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3AAD7-EC1D-48A4-B482-2A53FDDE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F56-35BC-41C2-8175-B417B71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F2BB-7623-4A67-B4B4-F2E00E7E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B42-815B-4551-9ABB-BD27621C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0E6C-2C3B-4112-97E2-51C6CBCE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1D5F-53F4-4FF9-A6D3-9A4EFBD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B16-9C6E-4962-8BC4-D44FB93C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B350-4713-4A18-96AA-58A1EE9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69A8-9D9E-4B63-97CE-4D387C6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4C19-68FF-4B04-8A4D-57E1F995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CF76-1C91-4005-9BCC-1C677F9A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1697-6519-42E1-B8FB-6FD258E9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754D-E82F-4DD0-BD39-148D4C1A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A1D8-D2B0-462F-877D-D96344D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EB0D-C132-4B33-8805-46E96D5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85A6-8970-4725-BB04-A233049F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C4D6-8B5C-464A-A87B-C41BEF56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5A6-CDAE-4528-B267-BC2856F0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FDCF-7002-4CC7-A416-37B2533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3A01-CEEE-4A07-91D7-608E341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2513-06F4-4E4C-B3DB-E847F80C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2CDF-2BDF-42B9-A7C6-59606A6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07A4-E18F-4761-9E0E-24F84406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3F46-4AAC-46DB-8502-5D629A8C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06F4-F58D-458E-869F-CA9D1507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2B63C-C44A-4D1D-B302-0CE3A375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C193-8B50-4900-8F33-669BD100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B886-F582-47E7-8B60-E7C3595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9EB-B4B3-4873-8962-2C0F5B22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064B-A16B-44A2-BF8F-CA892B06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088B-8D03-4FA5-8AD9-4780D3CE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6728-E51E-4099-B241-2A8ED038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F4C14-0A70-483D-918F-5B8B3EA7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25E43-AAC1-434C-B935-11EDAE5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66EC-94B2-4545-A2FF-95D6B5E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A4E0-E314-4FD9-A13E-CC4D63B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B1AD-31E8-4703-9FB9-322FA634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043F-1E3C-4954-A781-CF057910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08F6-2ED9-4416-9797-722818B7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B6F-6EDC-4DF3-AE23-23777F29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AE5FE-23BD-4BF3-9B58-7CD8105D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82BCA-E932-433D-9C4A-4B4E63CB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3D05-FB4D-4B1F-B944-25B702A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438B-5168-4D16-B576-EA1E76FA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DD41-4BF9-4B2A-B04A-7AAF54EC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87456-2784-4989-8DD0-C45CFF72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3BF5-3667-4792-A710-AB6C9AB3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3F23-FE38-47F4-8973-A5F1FB5A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AB6C-9E88-48CE-9E9B-6D625760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B925-50C3-42D1-BC5A-12E09C86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F35-908A-484A-862E-DD87F84C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1E51A-DC02-4F92-910E-450DACDD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F90A-CDF1-4A58-BB60-03196BB0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0F66-2CFC-480C-A754-43272F1F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8221-754B-4155-937D-6911E05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82CD-822A-4E94-8F03-CFBE4B0C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7DFE-3DC3-4150-B08B-B0F384EB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62E2-6886-40F7-9A66-CB8C548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9958-B6DF-4CE0-87D2-BE68038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5F7CF-1B82-4F34-85B6-9A6C74E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6FEB8-DBB7-441A-AF34-825318B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EA4-2DFD-4DA6-9B36-DBD9A2C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1427-3BEB-44C4-8D6D-EE9896A2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EE332-D5D4-459B-AEB2-2DF85D99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F163-739C-4C07-9D98-7361F1B0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6736-5595-409E-985E-040C357B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C507-A4D4-4519-AAFC-4D69C7E3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02B4B-1482-4291-8276-FF2F3059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9521-4240-4146-9EDB-8BAD7742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A6E5-EF1A-4D14-95FF-C2A2A0B9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878D-EF7D-4CB8-A261-CA2A7325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9B77-83B7-4014-9CF6-43E2005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1DD-E0ED-4AAB-AF71-B3556FEB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52BD-4CD9-4944-808D-45D68178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91A4D-7B74-4323-88D8-F13226C9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7183B-4AD5-4DB0-A9F8-BAB2FDE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98C3A-34FE-4094-B182-B81D1653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BEAC3-E604-40D3-B31D-8C042F50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3040-5245-49DA-A30E-F7052FAA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742A-7F3D-4081-8933-2E589579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62AEB-F3D0-4CCF-B91F-838F02BD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92396-0FA6-409C-965D-624FFC6E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87D66-69E5-42E0-89D4-F9F75BA6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709-F4BF-46C6-8A2E-809FA920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91A69-1E21-41C1-AF8F-9457DDA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DFDBC-502A-474A-8B6B-7C7F516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DF625-9429-43B4-BDC9-E86B95A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C2332-90FC-4BE2-9E3E-6A028FF0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5722D-F617-4EA2-BCFE-F69CCCF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A5CBF-126C-463E-B53D-65E12FE4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DC050-9027-4093-B993-9ABBBF5F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F66A6-4BAE-4C64-B732-E49BF6C9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04471-784E-40F2-BC7C-DC1E418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0D097-8B89-4B55-9DB9-94A32BAD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EC4-D8FC-4533-89AD-B869E1EC1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33A-1BB2-4EE8-950B-367343DC5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C663-B2AC-4759-8AC1-6BB21671D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88D-C585-4E8A-AFC4-B6FBBE96C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BEC0-168C-4ACC-8EC7-135DB099A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948-C01D-497D-8A59-758B28AC2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9487-B4D4-4BD4-8DA3-944FBEE62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4715-E8A0-40BB-8C83-77E77302C9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DA96-E93C-482F-BF5B-F6469FF9B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616A-CC56-4F4B-869B-C00F570C4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2F65-08F8-41B4-86D8-84F3FADC9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FA1-5654-43A8-AAC5-812FBE1A8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395280" y="64764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Легенды о Короле Артур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рыцарях Круглого стола 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Святом Граа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shadow_of_the_moon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http://luxaur.narod.ru/rubrika05/ris/Arthur_.gif"/>
          <p:cNvPicPr/>
          <p:nvPr/>
        </p:nvPicPr>
        <p:blipFill>
          <a:blip r:embed="rId1"/>
          <a:stretch/>
        </p:blipFill>
        <p:spPr>
          <a:xfrm>
            <a:off x="1979640" y="189000"/>
            <a:ext cx="503568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http://www.monsalvat.globalfolio.net/assets/trouver/knight015.jpg"/>
          <p:cNvPicPr/>
          <p:nvPr/>
        </p:nvPicPr>
        <p:blipFill>
          <a:blip r:embed="rId1"/>
          <a:stretch/>
        </p:blipFill>
        <p:spPr>
          <a:xfrm>
            <a:off x="1908000" y="201600"/>
            <a:ext cx="4608720" cy="636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971640" y="635040"/>
            <a:ext cx="73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вный Артур со временем стал королем и поселился с молодой женой, красавицей Гиневрой в замке Камел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http://www.ibiblio.org/pub/docs/books/gutenberg/1/0/7/4/10745/10745-h/images/002.l.gif"/>
          <p:cNvPicPr/>
          <p:nvPr/>
        </p:nvPicPr>
        <p:blipFill>
          <a:blip r:embed="rId1"/>
          <a:stretch/>
        </p:blipFill>
        <p:spPr>
          <a:xfrm>
            <a:off x="2124000" y="316080"/>
            <a:ext cx="4319640" cy="631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"/>
          <p:cNvSpPr/>
          <p:nvPr/>
        </p:nvSpPr>
        <p:spPr>
          <a:xfrm>
            <a:off x="755640" y="108288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анселот дю Л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Ланселот Озерный), ближайший соратник Артура, полюбил королеву Гиневру, и сердце королевы ответило ему. Их любовь была столь беззаветна, что перед ней отступили и рыцарская дружба, и супружеская че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http://luc.enchanteur.free.fr/page_1_fichiers/table.jpg"/>
          <p:cNvPicPr/>
          <p:nvPr/>
        </p:nvPicPr>
        <p:blipFill>
          <a:blip r:embed="rId1"/>
          <a:stretch/>
        </p:blipFill>
        <p:spPr>
          <a:xfrm>
            <a:off x="179280" y="333360"/>
            <a:ext cx="8747280" cy="49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1" descr=""/>
          <p:cNvPicPr/>
          <p:nvPr/>
        </p:nvPicPr>
        <p:blipFill>
          <a:blip r:embed="rId1"/>
          <a:stretch/>
        </p:blipFill>
        <p:spPr>
          <a:xfrm>
            <a:off x="463680" y="907920"/>
            <a:ext cx="8283600" cy="515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www.earlybritishkingdoms.com/arthur/images/grail.gif"/>
          <p:cNvPicPr/>
          <p:nvPr/>
        </p:nvPicPr>
        <p:blipFill>
          <a:blip r:embed="rId1"/>
          <a:stretch/>
        </p:blipFill>
        <p:spPr>
          <a:xfrm>
            <a:off x="1692360" y="184320"/>
            <a:ext cx="5235480" cy="648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1"/>
          <p:cNvSpPr/>
          <p:nvPr/>
        </p:nvSpPr>
        <p:spPr>
          <a:xfrm>
            <a:off x="324000" y="33336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вшимся рыцарям было явлено видение в виде золотой чаши, прикрытой парчой, в которой витязи узнали Святой Грааль — чашу, в которую Иосиф Аримафейский собрал кровь распятого Иисуса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 этого, многие рыцари Круглого Стола, и Галахад в их числе, поклялись отправиться в поход за священной ча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http://upload.wikimedia.org/wikipedia/commons/thumb/8/87/Galahad.jpg/220px-Galahad.jpg"/>
          <p:cNvPicPr/>
          <p:nvPr/>
        </p:nvPicPr>
        <p:blipFill>
          <a:blip r:embed="rId1"/>
          <a:stretch/>
        </p:blipFill>
        <p:spPr>
          <a:xfrm>
            <a:off x="826920" y="404640"/>
            <a:ext cx="2808360" cy="578196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3"/>
          <p:cNvSpPr/>
          <p:nvPr/>
        </p:nvSpPr>
        <p:spPr>
          <a:xfrm>
            <a:off x="3851280" y="4046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лахад — рыцарь Круглого стола Короля Артура и единственный, которому Грааль даётся в руки. После чего Галахад исчезает, и возносится на небеса как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http://chronarda.ru/graal/files/wallpaper/stounhange.jpg"/>
          <p:cNvPicPr/>
          <p:nvPr/>
        </p:nvPicPr>
        <p:blipFill>
          <a:blip r:embed="rId1"/>
          <a:stretch/>
        </p:blipFill>
        <p:spPr>
          <a:xfrm>
            <a:off x="611280" y="404640"/>
            <a:ext cx="7893000" cy="592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"/>
          <p:cNvSpPr/>
          <p:nvPr/>
        </p:nvSpPr>
        <p:spPr>
          <a:xfrm>
            <a:off x="250920" y="260280"/>
            <a:ext cx="84247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легендах, где он фигурирует, часто подчёркивается его непорочность и покровительство ему высших сил и судьбы, а сам Галахад считается «святым рыцар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лахад прибыл в Камелот, чтобы стать рыцарем короля Артура. Молодой рыцарь сел в запретное Гибельное Сиденье (Siege Perilous), которое считалось предназначенным лишь для достойнейшего из достойных, кому покровительствует Сам Б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Файл:MORDRED.jpg"/>
          <p:cNvPicPr/>
          <p:nvPr/>
        </p:nvPicPr>
        <p:blipFill>
          <a:blip r:embed="rId1"/>
          <a:stretch/>
        </p:blipFill>
        <p:spPr>
          <a:xfrm>
            <a:off x="2484360" y="333360"/>
            <a:ext cx="3960720" cy="62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468360" y="404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др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рыцарь Круглого стола,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один из главных отрицательных персонажей мифов о Короле Артуре. Сын и одновременно племянник  короля Артура  и его сест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дред — один из персонажей легенд о короле Артуре, известный как подлый предатель Артура, который дрался с ним насмерть на поле Камланна, где был убит Артуром, а сам Артур был смертельно ра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http://img15.nnm.ru/2/9/c/9/a/207d0fe774566da15e2c96b32f6.jpg"/>
          <p:cNvPicPr/>
          <p:nvPr/>
        </p:nvPicPr>
        <p:blipFill>
          <a:blip r:embed="rId1"/>
          <a:stretch/>
        </p:blipFill>
        <p:spPr>
          <a:xfrm>
            <a:off x="1258920" y="185760"/>
            <a:ext cx="6324480" cy="633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http://www.portrets.ru/images30/1.36.jpg"/>
          <p:cNvPicPr/>
          <p:nvPr/>
        </p:nvPicPr>
        <p:blipFill>
          <a:blip r:embed="rId1"/>
          <a:stretch/>
        </p:blipFill>
        <p:spPr>
          <a:xfrm>
            <a:off x="755640" y="276120"/>
            <a:ext cx="7905600" cy="632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www.mifograd.ru/srv006.gif"/>
          <p:cNvPicPr/>
          <p:nvPr/>
        </p:nvPicPr>
        <p:blipFill>
          <a:blip r:embed="rId1"/>
          <a:stretch/>
        </p:blipFill>
        <p:spPr>
          <a:xfrm>
            <a:off x="299880" y="692280"/>
            <a:ext cx="819468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http://metamedia.stanford.edu/imagebin/Knights%20at%20the%20Round%20Table.jpg"/>
          <p:cNvPicPr/>
          <p:nvPr/>
        </p:nvPicPr>
        <p:blipFill>
          <a:blip r:embed="rId1"/>
          <a:stretch/>
        </p:blipFill>
        <p:spPr>
          <a:xfrm>
            <a:off x="1619280" y="69840"/>
            <a:ext cx="5329080" cy="6612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1" descr="http://treasure-grifon.narod.ru/img/graal_200.jpg"/>
          <p:cNvPicPr/>
          <p:nvPr/>
        </p:nvPicPr>
        <p:blipFill>
          <a:blip r:embed="rId1"/>
          <a:stretch/>
        </p:blipFill>
        <p:spPr>
          <a:xfrm>
            <a:off x="324000" y="620640"/>
            <a:ext cx="5760720" cy="532944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2"/>
          <p:cNvSpPr/>
          <p:nvPr/>
        </p:nvSpPr>
        <p:spPr>
          <a:xfrm>
            <a:off x="6084720" y="1052640"/>
            <a:ext cx="305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ВЯ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ГРА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http://feduloff.ucoz.ru/_si/0/85873.jpg"/>
          <p:cNvPicPr/>
          <p:nvPr/>
        </p:nvPicPr>
        <p:blipFill>
          <a:blip r:embed="rId1"/>
          <a:stretch/>
        </p:blipFill>
        <p:spPr>
          <a:xfrm>
            <a:off x="1476360" y="171360"/>
            <a:ext cx="5688000" cy="647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http://sr.gallerix.ru/1710434100/L/1525048643/"/>
          <p:cNvPicPr/>
          <p:nvPr/>
        </p:nvPicPr>
        <p:blipFill>
          <a:blip r:embed="rId1"/>
          <a:stretch/>
        </p:blipFill>
        <p:spPr>
          <a:xfrm>
            <a:off x="1209600" y="189000"/>
            <a:ext cx="60102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media-2.web.britannica.com/eb-media/92/98992-004-4E55879F.jpg"/>
          <p:cNvPicPr/>
          <p:nvPr/>
        </p:nvPicPr>
        <p:blipFill>
          <a:blip r:embed="rId1"/>
          <a:stretch/>
        </p:blipFill>
        <p:spPr>
          <a:xfrm>
            <a:off x="1332000" y="193680"/>
            <a:ext cx="643248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http://i019.radikal.ru/0803/f0/d3d5fbfaec36t.jpg"/>
          <p:cNvPicPr/>
          <p:nvPr/>
        </p:nvPicPr>
        <p:blipFill>
          <a:blip r:embed="rId1"/>
          <a:srcRect l="0" t="0" r="1617" b="2737"/>
          <a:stretch/>
        </p:blipFill>
        <p:spPr>
          <a:xfrm>
            <a:off x="2266920" y="71280"/>
            <a:ext cx="459432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http://tainy.net/wp-content/uploads/2010/09/1263802390_king_arthur_31-300x432.jpg"/>
          <p:cNvPicPr/>
          <p:nvPr/>
        </p:nvPicPr>
        <p:blipFill>
          <a:blip r:embed="rId1"/>
          <a:stretch/>
        </p:blipFill>
        <p:spPr>
          <a:xfrm>
            <a:off x="1979640" y="263520"/>
            <a:ext cx="4464000" cy="642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2"/>
          <p:cNvSpPr/>
          <p:nvPr/>
        </p:nvSpPr>
        <p:spPr>
          <a:xfrm>
            <a:off x="63360" y="-136440"/>
            <a:ext cx="39722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http://s40.radikal.ru/i090/0911/0e/20a71b16bb95.jpg"/>
          <p:cNvPicPr/>
          <p:nvPr/>
        </p:nvPicPr>
        <p:blipFill>
          <a:blip r:embed="rId1"/>
          <a:stretch/>
        </p:blipFill>
        <p:spPr>
          <a:xfrm>
            <a:off x="1908000" y="235080"/>
            <a:ext cx="504036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http://www.kidshannon.com/artists/elwell/lg/44.jpg"/>
          <p:cNvPicPr/>
          <p:nvPr/>
        </p:nvPicPr>
        <p:blipFill>
          <a:blip r:embed="rId1"/>
          <a:stretch/>
        </p:blipFill>
        <p:spPr>
          <a:xfrm>
            <a:off x="2124000" y="74520"/>
            <a:ext cx="4608720" cy="667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http://chronarda.ru/graal/gallery/illustrations/big_1/lovepotion.jpg"/>
          <p:cNvPicPr/>
          <p:nvPr/>
        </p:nvPicPr>
        <p:blipFill>
          <a:blip r:embed="rId1"/>
          <a:stretch/>
        </p:blipFill>
        <p:spPr>
          <a:xfrm>
            <a:off x="1116000" y="104760"/>
            <a:ext cx="6659640" cy="675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http://www.donatoart.com/paintings/lancelot.jpg"/>
          <p:cNvPicPr/>
          <p:nvPr/>
        </p:nvPicPr>
        <p:blipFill>
          <a:blip r:embed="rId1"/>
          <a:stretch/>
        </p:blipFill>
        <p:spPr>
          <a:xfrm>
            <a:off x="1547640" y="206280"/>
            <a:ext cx="5256360" cy="635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http://chronarda.ru/graal/gallery/illustrations/big_1/merlinfairy.jpg"/>
          <p:cNvPicPr/>
          <p:nvPr/>
        </p:nvPicPr>
        <p:blipFill>
          <a:blip r:embed="rId1"/>
          <a:stretch/>
        </p:blipFill>
        <p:spPr>
          <a:xfrm>
            <a:off x="1411200" y="189000"/>
            <a:ext cx="5392800" cy="643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Файл:How Mordred was Slain by Arthur.jpg"/>
          <p:cNvPicPr/>
          <p:nvPr/>
        </p:nvPicPr>
        <p:blipFill>
          <a:blip r:embed="rId1"/>
          <a:stretch/>
        </p:blipFill>
        <p:spPr>
          <a:xfrm>
            <a:off x="1692360" y="104760"/>
            <a:ext cx="4895640" cy="659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"/>
          <p:cNvSpPr/>
          <p:nvPr/>
        </p:nvSpPr>
        <p:spPr>
          <a:xfrm>
            <a:off x="395280" y="43272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ур в кровавой битве убивает Модред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и Модред успевает смертельно ранить коро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Файл:Mortdarthur.jpg"/>
          <p:cNvPicPr/>
          <p:nvPr/>
        </p:nvPicPr>
        <p:blipFill>
          <a:blip r:embed="rId1"/>
          <a:stretch/>
        </p:blipFill>
        <p:spPr>
          <a:xfrm>
            <a:off x="1547640" y="55440"/>
            <a:ext cx="4996080" cy="661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1"/>
          <p:cNvSpPr/>
          <p:nvPr/>
        </p:nvSpPr>
        <p:spPr>
          <a:xfrm>
            <a:off x="250920" y="62064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лшебник Мер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жил во времени «задом наперед», и поэтому будущее было для него раскрытой книгой, но прошлое таилось за семью замка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324000" y="575640"/>
            <a:ext cx="835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брали дамы Артура в ладью, и положил король голову на колени к Фее Морг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увезла его сестра на чудесный остров Авало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м среди чудесных яблонь, где росли золотые плоды забвения, исцеляется Артур от ран сво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www.knightsofavalon.com/book2_copy.jpg"/>
          <p:cNvPicPr/>
          <p:nvPr/>
        </p:nvPicPr>
        <p:blipFill>
          <a:blip r:embed="rId1"/>
          <a:stretch/>
        </p:blipFill>
        <p:spPr>
          <a:xfrm>
            <a:off x="1835280" y="61920"/>
            <a:ext cx="5257800" cy="671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http://firelion80.narod.ru/avalon6.jpg"/>
          <p:cNvPicPr/>
          <p:nvPr/>
        </p:nvPicPr>
        <p:blipFill>
          <a:blip r:embed="rId1"/>
          <a:stretch/>
        </p:blipFill>
        <p:spPr>
          <a:xfrm>
            <a:off x="1692360" y="258840"/>
            <a:ext cx="5256000" cy="631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/>
          <p:cNvSpPr/>
          <p:nvPr/>
        </p:nvSpPr>
        <p:spPr>
          <a:xfrm>
            <a:off x="63360" y="-136440"/>
            <a:ext cx="6096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6096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http://s41.radikal.ru/i092/1005/a0/80758f0a06d3.jpg"/>
          <p:cNvPicPr/>
          <p:nvPr/>
        </p:nvPicPr>
        <p:blipFill>
          <a:blip r:embed="rId1"/>
          <a:stretch/>
        </p:blipFill>
        <p:spPr>
          <a:xfrm>
            <a:off x="430200" y="765000"/>
            <a:ext cx="8221680" cy="547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95280" y="64440"/>
            <a:ext cx="842472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 ДЛЯ ЗАКРЕПЛЕНИЯ МАТЕРИ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 звали легендарного мага, советника и наставника короля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то был родителями будущего короля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оспитывал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Благодаря какому  легендарному  предмету все узнают о королевском происхождении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Артур становится корол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город Артур сделал своей столиц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Прямоугольник 2"/>
          <p:cNvSpPr/>
          <p:nvPr/>
        </p:nvSpPr>
        <p:spPr>
          <a:xfrm>
            <a:off x="395280" y="33336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Почему Артур собрал своих рыцарей за круглым ст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к Артур добыл Экскалибу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то такая фея Морг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Как звали самого доблестного рыцаря, возлюбленного королевы Гвиневры? Кем он был воспит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Расскажите о Святом Гра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Назовите основные качества, которыми должен был обладать рыц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В чем заключался Культ Прекрасной Да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Как погиб Король Артур? Где он оказывается по легенде после  своей смер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324000" y="57240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ьте синквейн на одну 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х  т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ЫЦ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КРАСНАЯ Д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ША ГРАА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539640" y="-210600"/>
            <a:ext cx="7740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о “синквейн” происходит от французского слова, которое означает пятистроч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синквейн – это стихотворение, из 5 строк, г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строка. 1 слово – понятие или тема - существительно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ая строка. 2 слова – описание этого понятия - прилага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ья строка. 3 слова – действия  - 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вертая строка. Фраза или предложение, показывающее отношение к теме - афор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ятая строка. 1 слово – синоним, который повторяет суть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Файл:Pyle Uther Pendragon.jpg"/>
          <p:cNvPicPr/>
          <p:nvPr/>
        </p:nvPicPr>
        <p:blipFill>
          <a:blip r:embed="rId1"/>
          <a:stretch/>
        </p:blipFill>
        <p:spPr>
          <a:xfrm>
            <a:off x="1547640" y="-476280"/>
            <a:ext cx="5160960" cy="708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>
            <a:off x="324000" y="99072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ер Пендрагон был младшим из трех сыновей короля Константа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ер вступил на престол после безвременной гибели своих братьев Муана и Пендраго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амять об одном из братьев он взял себе имя Утер Пендраг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http://camelotofbw.clan.su/bw_clanlogo.jpg"/>
          <p:cNvPicPr/>
          <p:nvPr/>
        </p:nvPicPr>
        <p:blipFill>
          <a:blip r:embed="rId1"/>
          <a:stretch/>
        </p:blipFill>
        <p:spPr>
          <a:xfrm>
            <a:off x="1332000" y="26028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539640" y="31680"/>
            <a:ext cx="81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ель замка и правитель Корнуолла славный рыцарь Горлуа был женат на неприступной красавице Игрэн, к которой воспылал страстной и безнадежной любовью король Утер Пен-драг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аявшемуся королю пришел на помощь его друг волшебник Мерлин. Он придал Утеру облик Горлуа и помог добиться расположения обманутой таким образом красавицы. Вскоре Игрэн родила мальчика, которого нарекли Арту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http://ega-math.narod.ru/Reid/Tales/IMG/Arthur.gif"/>
          <p:cNvPicPr/>
          <p:nvPr/>
        </p:nvPicPr>
        <p:blipFill>
          <a:blip r:embed="rId1"/>
          <a:stretch/>
        </p:blipFill>
        <p:spPr>
          <a:xfrm>
            <a:off x="276120" y="33336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20:33Z</dcterms:created>
  <dc:creator>Алексей</dc:creator>
  <dc:description/>
  <dc:language>en-US</dc:language>
  <cp:lastModifiedBy>Алексей</cp:lastModifiedBy>
  <dcterms:modified xsi:type="dcterms:W3CDTF">2012-08-29T05:41:27Z</dcterms:modified>
  <cp:revision>72</cp:revision>
  <dc:subject/>
  <dc:title>Слайд 1</dc:title>
</cp:coreProperties>
</file>