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CCC-9419-4E41-B5F7-E87BCC69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030-5100-47C2-9472-61AF4D4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594-0E5B-4891-AB76-7563E503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342-78D8-4D18-B058-D7FFFCAE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FB4A-E52E-42E3-A674-B6CED11F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83E-01FF-42E5-9A1F-4B01FFB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C68-E5CD-44BF-8EF9-0F0CE6AC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04BC-98E0-4827-BFE1-09243A1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A11F-9366-4987-853F-A334F43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1291-2485-445D-9686-22F0A78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20DF-F4E6-4CD9-A575-6678BEC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D47-FFCA-4B3D-8E2E-3B78898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3BA4-7F8F-4D4E-8CE6-A183152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155-888B-4C46-9E71-1AC7A74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CCD-9F20-49C6-8D39-8D756029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9A2-8E4A-41BC-A044-A7DF73E0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EA87-E624-4F20-B8C4-D39C93BC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58D5-E4BB-4525-AD52-94257DE9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4862-E833-4DC2-917D-FC6AB766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F370-86C5-472C-B2B9-BF160E7D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8C7C-360E-4087-BD3C-CD70B8C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B73A-A9A3-4A9A-A5FC-2B88982F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1C0-5D3D-454F-86B9-78A88CFB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4835-F377-4AEB-954B-BDCC9E3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0325-71FC-46F0-B0F9-AF2ED61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2EDD-2AD1-4485-BA4F-2B4B5E9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5A21-317F-476B-A532-3D4EAED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AE6F-2B10-449E-A3AC-EA0D51DB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46E2-3AB4-4210-8C77-BB72D7C6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13C1-4C6C-42F4-B5AA-4D9A6495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605B-49D4-41F8-95D1-B3F5BAF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F2770-8426-45FF-913D-15D29581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F7D8-FF92-4E8A-AF14-6739C4AE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75C-4715-412D-B7E0-BB0E24E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D48A-7C63-432C-AF97-FBC57F5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75D6-D14E-4484-9561-D4BC1D42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DAEB-BC11-4FF5-B94F-FE26223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7571-34FE-4D2E-920B-0F953AB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2834F-1387-46B5-A1C0-3006D69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14C5-C4BA-465E-B7D8-DEE91D5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8A31-33F6-4160-8FDD-0F034D1F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FF3A-9CF9-4A22-977A-29A6CF5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E895-AF8B-40F1-890B-E2714A48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813F-8843-4D05-B894-D94F5AF6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0FC-1C57-45E4-86FF-D00BF2C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C9291-E2A2-410A-8E44-7BD128C4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EE8E-6CC8-4D27-A146-32B2F546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32C63-74CD-4DBE-AEB9-66713AD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56A4-B696-4FB6-B8C5-531492D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44AE-115E-464D-A9F1-D4C8EA49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ED86-0339-4747-B683-DF92BFD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1B687-A811-4949-8906-695CB428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7A46-1175-46EF-9F6C-5BF42BB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56C62-2D51-4D3D-9F4B-FB4085B1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E5CA-03C9-4F1C-88A2-BBC124F4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1B1-3D41-4525-A156-09DF453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E052-92C8-4AD8-AE43-A04092F3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CF7-F167-4BAE-BF10-B6EBD8F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701-0617-4EA8-9C7F-EB6CE3E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E8-A543-4BC1-96A7-BF312BB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681-30AB-45A5-82C8-0CF3B40F7C3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E268-10AC-416E-B098-A56F757B654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C4AE-76AA-48CD-B460-22638F0A19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636-80CB-45BE-A6FB-A18B442593E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702D-83A9-4598-9A95-14F201A566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200" spc="-1" strike="noStrike">
                <a:solidFill>
                  <a:srgbClr val="ffffff"/>
                </a:solidFill>
                <a:latin typeface="Trebuchet MS"/>
              </a:rPr>
              <a:t>Тип: ЛГК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480"/>
            <a:ext cx="76867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89 - "Offertorium" ("Офферториум") скрипка өчен оркестры белән концертны компакт-дискка яздырган өчен Кусевицкий премияс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4 - Компакт-дискка "Stimmen... verstummen..." (Слышу... умолкло...") язма өчен Кусевицкий премиясе;- 1991 -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emio Franko Abbiato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(иҗаты өчен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1 - Хайдельберг шәһәре премиясе (Германия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2 - Россия Федерациясенең Дәүләт премияс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5 - Людвиг Шпор премиясе (Брауншвейг шәһ., Германия)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8 - "Империале" премиясе (Япония)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- 1999 - Швеция король музыка академиясе әгъзасы, Берлин, Гамбург һәм Бавария сәнгать академияләре әгъзасы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 1995 - "Pour Le Merite"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дены әгъзасы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Әлеге орденга үз вакытында әгъзалар булып Мендельсо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Лис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оссини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арадей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арви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рам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исмар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е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ан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ланк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нтге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йнштей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ихард Штраус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Фуртвенгле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ильс Бо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есс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Швейце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омас Манн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окошк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ф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лиот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Яспере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Лигети сайланган булганнар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-2011</a:t>
            </a:r>
            <a:r>
              <a:rPr b="0" lang="tt-RU" sz="1600" spc="-1" strike="noStrike">
                <a:solidFill>
                  <a:srgbClr val="000000"/>
                </a:solidFill>
                <a:latin typeface="Trebuchet MS"/>
              </a:rPr>
              <a:t>нче ел,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3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оябрь</a:t>
            </a:r>
            <a:r>
              <a:rPr b="0" lang="tt-RU" sz="1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зан шәһәренең Мактаулы гражданины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”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1.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кушымчалары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–учы, - үче, -у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–үче, -ыйсы, -у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–у, -ү 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2.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буларак,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 н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рсә белдерә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процесс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предмет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предметның билгесен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3. Исем буларак,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 нәрсәләр белән төрләнә?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килеш, тартым, дәрәҗә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килеш, тартым, зат-сан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килеш, зат-сан, дәрәҗә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4. Төшем килешендәге исем фигы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ь</a:t>
            </a: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ләр рәтен табыгыз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а) төзүгә, басу, аңлауның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ә) аралашуга, танылуны, йөрүдә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400" spc="-1" strike="noStrike">
                <a:solidFill>
                  <a:srgbClr val="000000"/>
                </a:solidFill>
                <a:latin typeface="Arial"/>
                <a:ea typeface="Arial"/>
              </a:rPr>
              <a:t>б) авыртуны, тыңлауны, баруны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Затлы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з 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 л ы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Аягүрә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йа ғ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ү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ә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Су басу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су ба</a:t>
            </a:r>
            <a:r>
              <a:rPr b="0" lang="tt-RU" sz="2600" spc="-1" strike="noStrike" baseline="30000">
                <a:solidFill>
                  <a:srgbClr val="000000"/>
                </a:solidFill>
                <a:latin typeface="Trebuchet MS"/>
              </a:rPr>
              <a:t>0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Нәсел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н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әсе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Тыйнак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т ыйн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қ 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Остаз –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[ǒстаз]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Admin.MICROSOF-F9A59F\Мои документы\С.Гобәйдуллина.jpg"/>
          <p:cNvPicPr/>
          <p:nvPr/>
        </p:nvPicPr>
        <p:blipFill>
          <a:blip r:embed="rId2"/>
          <a:stretch/>
        </p:blipFill>
        <p:spPr>
          <a:xfrm>
            <a:off x="2857680" y="1643040"/>
            <a:ext cx="3214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Admin.MICROSOF-F9A59F\Мои документы\казанское музыкальное училище.jpg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Admin.MICROSOF-F9A59F\Мои документы\kgk.jpg"/>
          <p:cNvPicPr/>
          <p:nvPr/>
        </p:nvPicPr>
        <p:blipFill>
          <a:blip r:embed="rId2"/>
          <a:stretch/>
        </p:blipFill>
        <p:spPr>
          <a:xfrm>
            <a:off x="711360" y="2128680"/>
            <a:ext cx="673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Documents and Settings\Admin.MICROSOF-F9A59F\Мои документы\Moskovskaya_konservatoriya.jpg"/>
          <p:cNvPicPr/>
          <p:nvPr/>
        </p:nvPicPr>
        <p:blipFill>
          <a:blip r:embed="rId2"/>
          <a:stretch/>
        </p:blipFill>
        <p:spPr>
          <a:xfrm>
            <a:off x="457200" y="1785960"/>
            <a:ext cx="7238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Admin.MICROSOF-F9A59F\Мои документы\1hostokov.jpg"/>
          <p:cNvPicPr/>
          <p:nvPr/>
        </p:nvPicPr>
        <p:blipFill>
          <a:blip r:embed="rId2"/>
          <a:stretch/>
        </p:blipFill>
        <p:spPr>
          <a:xfrm>
            <a:off x="1504800" y="2033640"/>
            <a:ext cx="5143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Admin.MICROSOF-F9A59F\Мои документы\гобәйдуллина.jpg"/>
          <p:cNvPicPr/>
          <p:nvPr/>
        </p:nvPicPr>
        <p:blipFill>
          <a:blip r:embed="rId2"/>
          <a:stretch/>
        </p:blipFill>
        <p:spPr>
          <a:xfrm>
            <a:off x="1428840" y="1571760"/>
            <a:ext cx="63579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09T04:43:37Z</dcterms:modified>
  <cp:revision>4</cp:revision>
  <dc:subject/>
  <dc:title>“София Гобәйдуллина”тексты</dc:title>
</cp:coreProperties>
</file>