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FCD9-5F4A-4583-9A64-4C5B7B95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49AC-3C29-4A76-9FE5-EA153C1F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3041-5149-45C4-A761-614300F8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EEEB-F42E-4B52-8C4E-6C67C70B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60DA-E9B1-473E-BBEE-6AF8448F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E9C3-A5FE-4FF8-A14A-C60FC7EA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D611-5A73-4738-90B0-ACA8B253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EBAA-D7C9-4036-8251-4E97EFF1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BC40-59A6-4EDC-93A7-958EC776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CEAC-7FF6-491C-8EF2-EA06AE4B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9E3A-8F37-4F5C-B4FF-5630DA11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5B4F-45EF-4654-8A7B-94C8B1A5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F412-C6AE-4B68-8A20-32464BF6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BB64-C2DE-4D94-8681-1A407534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0CF0-2A3F-439D-A9B9-7B81BBBB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B749-2D57-4162-B550-61C3FBCC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2331-B988-45FB-9C58-39786545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05F2F-C555-4092-97F0-D2A6BCF4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319EE-8E82-4FC2-8297-AB4C001C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026E4-EFF1-4D2C-B73E-7E487E78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B1FCA-BF15-4965-96FA-E151756F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3064C-39FE-4395-9B30-6A64392A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C04C-DCD0-4A62-BEAE-45869EDC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7C3ED-F5B3-4329-8BC9-4BB46AF4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18FEC-BCE3-4504-AAC6-948A008D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51710-7B78-4325-B9FA-A9D26ED0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7043E-2BE5-4136-BAE8-20B522A1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41DDB-DA98-4279-A029-2C433BEE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C62EE-7BBD-4E78-8406-094BD794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7C375-B6FB-4131-9C5B-62F67DFE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2A343-FEB6-4ED2-AACD-04BB6D6B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D3B59-F5BE-4FEB-8F0C-C75CBC5F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1FA25-2624-4DE5-94A3-0C821CEF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BC8D-6E63-4813-952D-0EF7EBA7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D1D98-4321-4630-8A49-20A67F1F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B8BB3-E77E-4ECD-9243-998AC5C2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8F279-5FF3-47CA-AD36-C2500AEC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88A18-C7A8-46D3-9C96-2212CBB9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24BE9-ADAA-4B3A-8BFB-B4D95D92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4CF02-D5B7-4C04-AC53-AB784FA4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FBC30-E4F8-407F-8C27-40DC354D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39769-E760-4A32-92D3-87D379D5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A5155-C2A8-4E6B-8054-875384CE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22C13-2364-4A17-AA91-1558C57D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43B5-7549-437A-BEC9-6EB6376A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CDE83-00F0-46FC-A1E3-4A1DF476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691F0-0CAA-4349-9BBF-1E92FC76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F767D-EDAB-4976-A322-4D48DAAF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53166-A9F8-4238-9FC7-C9C6AF21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DD36A-07F6-4636-AB8C-5CF80D37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6142E-9F30-4798-AC11-A04B9F71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E26F8-1DCE-4DB7-9F78-EB3933B2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5FC6F-EFE4-466B-BBAA-4143150D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688DA-8121-48ED-A055-90C2DD20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823E2-2F9F-4710-8578-6BF24CB1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119F-1273-4A78-AD4F-B703070B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B3B0B-B4FC-4364-AF22-AC6AED30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DD51-D789-4FBE-8E72-13B3848D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B8FC-57F3-4AEE-A5D9-79E30E12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1462-9E6F-40ED-B768-E63E340E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02F7-4E40-470A-B1E2-A9057977B8B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1FA0-14E3-4BC4-AAAE-BD0AFE38256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666C-76C3-4BE1-B097-F7502B0720E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EA53-E77A-4E2F-ADA2-FBBA6E6D0B0F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C520-6402-4149-B899-C383FF96401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3572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200" spc="-1" strike="noStrike">
                <a:solidFill>
                  <a:srgbClr val="ffffff"/>
                </a:solidFill>
                <a:latin typeface="Trebuchet MS"/>
              </a:rPr>
              <a:t>Тип: ЛГКК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428480"/>
            <a:ext cx="768672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- 1989 - "Offertorium" ("Офферториум") скрипка өчен оркестры белән концертны компакт-дискка яздырган өчен Кусевицкий премиясе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- 1994 - Компакт-дискка "Stimmen... verstummen..." (Слышу... умолкло...") язма өчен Кусевицкий премиясе;- 1991 -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remio Franko Abbiato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(иҗаты өчен)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- 1991 - Хайдельберг шәһәре премиясе (Германия)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- 1992 - Россия Федерациясенең Дәүләт премиясе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- 1995 - Людвиг Шпор премиясе (Брауншвейг шәһ., Германия)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- 1998 - "Империале" премиясе (Япония);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- 1999 - Швеция король музыка академиясе әгъзасы, Берлин, Гамбург һәм Бавария сәнгать академияләре әгъзасы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- 1995 - "Pour Le Merite"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рдены әгъзасы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Әлеге орденга үз вакытында әгъзалар булып Мендельсон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Лист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Россини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Фарадей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Дарвин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Брамс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Бисмарк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ен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анс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ланк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Рентген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Эйнштейн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Рихард Штраус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Фуртвенглер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Нильс Бор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Гессе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Швейцер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Томас Манн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окошк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рф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Элиот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Яспере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Лигети сайланган булганнар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-2011</a:t>
            </a:r>
            <a:r>
              <a:rPr b="0" lang="tt-RU" sz="1600" spc="-1" strike="noStrike">
                <a:solidFill>
                  <a:srgbClr val="000000"/>
                </a:solidFill>
                <a:latin typeface="Trebuchet MS"/>
              </a:rPr>
              <a:t>нче ел,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3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ноябрь</a:t>
            </a:r>
            <a:r>
              <a:rPr b="0" lang="tt-RU" sz="1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азан шәһәренең Мактаулы гражданины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”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А1. Исем фигы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ь</a:t>
            </a: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 кушымчалары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а) –учы, - үче, -у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ә) –үче, -ыйсы, -у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б) –у, -ү 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А2. Фигы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ь</a:t>
            </a: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 буларак, исем фигы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ь н</a:t>
            </a: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әрсә белдерә?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а) процесс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ә) предмет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б) предметның билгесен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А3. Исем буларак, исем фигы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ь</a:t>
            </a: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 нәрсәләр белән төрләнә?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а) килеш, тартым, дәрәҗә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ә) килеш, тартым, зат-сан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б) килеш, зат-сан, дәрәҗә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А4. Төшем килешендәге исем фигы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ь</a:t>
            </a: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ләр рәтен табыгыз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а) төзүгә, басу, аңлауның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ә) аралашуга, танылуны, йөрүдә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б) авыртуны, тыңлауны, баруны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               </a:t>
            </a: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Затлы –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[з а</a:t>
            </a:r>
            <a:r>
              <a:rPr b="0" lang="tt-RU" sz="2600" spc="-1" strike="noStrike" baseline="30000">
                <a:solidFill>
                  <a:srgbClr val="000000"/>
                </a:solidFill>
                <a:latin typeface="Trebuchet MS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т л ы]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               </a:t>
            </a: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Аягүрә –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[</a:t>
            </a: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0" lang="tt-RU" sz="2600" spc="-1" strike="noStrike" baseline="30000">
                <a:solidFill>
                  <a:srgbClr val="000000"/>
                </a:solidFill>
                <a:latin typeface="Trebuchet MS"/>
              </a:rPr>
              <a:t>0</a:t>
            </a: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йа ғ </a:t>
            </a: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ү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 </a:t>
            </a: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ә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               </a:t>
            </a: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Су басу –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[су ба</a:t>
            </a:r>
            <a:r>
              <a:rPr b="0" lang="tt-RU" sz="2600" spc="-1" strike="noStrike" baseline="30000">
                <a:solidFill>
                  <a:srgbClr val="000000"/>
                </a:solidFill>
                <a:latin typeface="Trebuchet MS"/>
              </a:rPr>
              <a:t>0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у]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               </a:t>
            </a: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Нәсел –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[н</a:t>
            </a: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әсел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               </a:t>
            </a: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Тыйнак –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[</a:t>
            </a: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т ыйн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қ ]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                </a:t>
            </a: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Остаз –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[ǒстаз]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Documents and Settings\Admin.MICROSOF-F9A59F\Мои документы\С.Гобәйдуллина.jpg"/>
          <p:cNvPicPr/>
          <p:nvPr/>
        </p:nvPicPr>
        <p:blipFill>
          <a:blip r:embed="rId2"/>
          <a:stretch/>
        </p:blipFill>
        <p:spPr>
          <a:xfrm>
            <a:off x="2857680" y="1643040"/>
            <a:ext cx="32144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C:\Documents and Settings\Admin.MICROSOF-F9A59F\Мои документы\казанское музыкальное училище.jpg"/>
          <p:cNvPicPr/>
          <p:nvPr/>
        </p:nvPicPr>
        <p:blipFill>
          <a:blip r:embed="rId2"/>
          <a:stretch/>
        </p:blipFill>
        <p:spPr>
          <a:xfrm>
            <a:off x="846000" y="1609560"/>
            <a:ext cx="64612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C:\Documents and Settings\Admin.MICROSOF-F9A59F\Мои документы\kgk.jpg"/>
          <p:cNvPicPr/>
          <p:nvPr/>
        </p:nvPicPr>
        <p:blipFill>
          <a:blip r:embed="rId2"/>
          <a:stretch/>
        </p:blipFill>
        <p:spPr>
          <a:xfrm>
            <a:off x="711360" y="2128680"/>
            <a:ext cx="6730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C:\Documents and Settings\Admin.MICROSOF-F9A59F\Мои документы\Moskovskaya_konservatoriya.jpg"/>
          <p:cNvPicPr/>
          <p:nvPr/>
        </p:nvPicPr>
        <p:blipFill>
          <a:blip r:embed="rId2"/>
          <a:stretch/>
        </p:blipFill>
        <p:spPr>
          <a:xfrm>
            <a:off x="457200" y="1785960"/>
            <a:ext cx="723888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Documents and Settings\Admin.MICROSOF-F9A59F\Мои документы\1hostokov.jpg"/>
          <p:cNvPicPr/>
          <p:nvPr/>
        </p:nvPicPr>
        <p:blipFill>
          <a:blip r:embed="rId2"/>
          <a:stretch/>
        </p:blipFill>
        <p:spPr>
          <a:xfrm>
            <a:off x="1504800" y="2033640"/>
            <a:ext cx="51436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C:\Documents and Settings\Admin.MICROSOF-F9A59F\Мои документы\гобәйдуллина.jpg"/>
          <p:cNvPicPr/>
          <p:nvPr/>
        </p:nvPicPr>
        <p:blipFill>
          <a:blip r:embed="rId2"/>
          <a:stretch/>
        </p:blipFill>
        <p:spPr>
          <a:xfrm>
            <a:off x="1428840" y="1571760"/>
            <a:ext cx="635796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1-09T04:43:37Z</dcterms:modified>
  <cp:revision>4</cp:revision>
  <dc:subject/>
  <dc:title>“София Гобәйдуллина”тексты</dc:title>
</cp:coreProperties>
</file>