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1D5-64B9-4850-9CF7-945D17FD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23D-60C9-454C-8EA9-7C17F9A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AAE-6661-4E03-AF71-E46D4EB6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0C6-203E-4658-B529-DBC1C09B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E424-470A-4412-BFCA-07580A13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2C0D-C9E7-4541-A57F-4FA8C2B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2EF-8048-4C8C-8BE7-87042FD9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27D-72BE-4F3B-8232-1396745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C868-211F-443C-B5CE-B2E6D3D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9E82-DF8F-4460-B648-B02B7A92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AC7B-CE79-4D74-BF70-87FBF70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901-13D5-427A-9A63-66C8F19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9C8D-368E-4FDD-A73F-7668A0A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0215-31A3-4616-AA30-9052710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CC3-F4DB-46CB-A840-5AA8C90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E000-E9B5-4126-A377-0BBDA95B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9612-1956-4442-A381-8E0846C7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D8E5-237F-4553-8868-A92237F2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F56B-2F19-4E0C-B07B-5CF473BB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FEB7-0737-40B0-A558-68083D6C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74BC-711A-4A9C-B95A-B3AC3D9E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7E1A-C22B-4ED1-88BA-94BF3B0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CB9-2CD8-44A0-BE7F-0923968B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7EC2F-C407-4C18-9083-9D4F5081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AD27-239B-4D73-8DCA-56A593F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0303-843B-4839-96E9-023BB91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AB8D-0C26-4C32-9B27-59D68BD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8D1A-5D7D-4F94-AB96-83AE8B5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3657-7083-40FC-99BF-3440A123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1ACE-4A80-4401-B12C-E8A579FE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A18A-D15A-43C8-AAA6-B46B6FD8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3FED-5008-4D6B-A02B-1691CCD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13CB-04A9-49D3-A356-485B67F6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2D7-4C3B-4817-A4A9-11D17F6C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FA36-E8DF-48DE-AA16-0B44BFC1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7EEA-FCAC-4864-A470-588427F3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4405-3025-482E-A7E1-C7C84E9C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4DB8-1B04-4367-9678-30FD0F1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1454-326D-4554-96CA-F368D067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EF0A-3312-4C20-9243-30CBF0D1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5799-1B65-4EC8-826F-D6D72634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BDBE-54A5-425D-B3CB-680B41CE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D809-C5A6-4675-99B2-0009B70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7039-BFC9-4C74-9ABC-3073D06B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0A7-8B2C-4E78-92DB-A661A45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2DA6B-43A4-48F9-B64E-9537165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2EB40-BF80-46CF-9DC0-D5BD09E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0574C-3D35-4BA5-8AD2-3867ECE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01741-84F3-442A-ADE9-7809C334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3C80-5250-4525-9B15-0A98F70F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713D-C2F7-4F23-B494-91A7B13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CDC3-3846-4A20-BE3E-7DAAD87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2646-AFA9-4C1E-A7ED-DAF3D48C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86CF-1048-4219-A496-E02C110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CA63-E31D-4577-961B-C8228D24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CF9-F32E-4A5C-87BC-33857AE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5D63-878D-4AED-A6B5-082F1EB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3FCA9-65B0-44E7-B297-36DA8AF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280E-3CB0-48A1-BE14-82DF3E7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709F-33C7-47AF-92DF-2580B4D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1E93-3905-4610-A2FA-89FC2AD3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0710-E61F-4A5E-992D-87410D35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AC89-B143-49D8-A89E-82B04BBA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6789-3499-40E1-B59D-379F7CF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67AE-44FA-4300-A229-7150A625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A9459-F69E-464D-901F-32DD5924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8C5-77B1-4988-8FCA-6896B0AB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3837-6950-4771-9C19-3E4F403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E4C5-8348-4F0C-AA58-90D0D15D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98720-14F3-4643-913F-AF3366C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A17-6885-40BC-8B69-241F8C5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709-9FE6-41AC-9143-066B596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D6E-5119-4644-AF7B-8A408B1B7B0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086B-9CD7-4DA1-B865-F2B7D5F6B11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D659-2C0A-403E-88B5-EB4535E50F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9BF5-EA62-4EAD-990D-D15E3E5979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2ADD-ED60-4B39-A39C-460889F919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0814-B9E9-4726-9180-95058EA29F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176040" y="0"/>
            <a:ext cx="8967960" cy="2011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71680" y="3428640"/>
            <a:ext cx="8215200" cy="2143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d0d0d"/>
                </a:solidFill>
                <a:latin typeface="Arial"/>
              </a:rPr>
              <a:t>Представляет собой систему правовых норм, регулирующих имущественные отношения и личные неимущественные отношения граждан и юридических лиц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нной бумагой является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4000" y="26028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ные бума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овек обладает нематериальными благами, которые он имеет право защищ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ним относ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жиз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здоров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честь и доброе им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деловая репута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неприкосновенность частной жизн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личная и семейная тай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раво свободного передвиж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выбора места пребывания и жительств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право на им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на авторство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 и иные личные имущественные права и материальные блага, не отчуждаемы и не передаваемы другими сп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9760" y="260280"/>
            <a:ext cx="8124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материальные блага и их защи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22960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Сдел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йствия граждан и юридических лиц, направленные на установление, изменение или прекращение гражданских прав и обязан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700360" y="26028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делк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3068640"/>
            <a:ext cx="403848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договору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дееспособность лиц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правомерность объекта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взаи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мность соглашения 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стор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он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-участие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 двух или нескольких </a:t>
            </a:r>
            <a:r>
              <a:rPr b="0" i="1" lang="en-US" sz="2000" spc="-1" strike="noStrike">
                <a:solidFill>
                  <a:srgbClr val="cc66ff"/>
                </a:solidFill>
                <a:latin typeface="Arial"/>
              </a:rPr>
              <a:t>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27280" y="3141720"/>
            <a:ext cx="450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ения догов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оферта (предложение заключить договор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акцепт (принятие предложения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соблюдение требуемой в необходимых случаях форм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199"/>
                </a:solidFill>
                <a:latin typeface="Arial"/>
              </a:rPr>
              <a:t>-соглашение сторон по всем существенным условиям дого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гово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соглашение двух или нескольких лиц об установлении, изменении или прекращении гражданских прав и обязанностей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16000" y="260280"/>
            <a:ext cx="66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нятие и условия догово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4005360"/>
            <a:ext cx="40384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По заказ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аследство по очеред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-дети, супруг, родите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-братья,сестры,бабуш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-дяди,те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-прабаб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0" y="4005360"/>
            <a:ext cx="40384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По завещ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только в здравом у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только одни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не завещать животны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Наследств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 имущество, переходящее в порядке наследования от умершего (наследодателя) к наслед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нем открытия наследства является день смерти гражданина.              При объявлении гражданина умершим днем открытия наследств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является день вступления в законную силу решения суда об объявлении гражданина умерш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естом открытия наследства является последнее место жительства наследод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следственное пра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ажнейшая отрасль права, которая включает в себя науку «Гражданское право», учебную дисциплину и гражданское законодатель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-360"/>
            <a:ext cx="83628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ы гражданского права регулируют две групп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ичных неимуще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5e636a"/>
                </a:solidFill>
                <a:latin typeface="Arial"/>
              </a:rPr>
              <a:t>личные неимущественные отношения, связанные с имущественны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авторское право, фирменное  наименование, товарный знак и т.п.);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личные неимущественные отношения, не связанные с имуществ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ри нарушении которых могут возникнуть невыгодные личные или имущественные последствия для их участников (защита чести и достоинства организаций и граждан, их деловой репутации и т.п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114120"/>
            <a:ext cx="7221600" cy="143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255"/>
                </a:solidFill>
                <a:latin typeface="Arial"/>
              </a:rPr>
              <a:t>Принципы гражданского прав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Принципами, или основными началами,    гражданского законодательства являю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венство участников регулируемых отнош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неприкосновенность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вобода догово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недопустимость произвольного вмешательства кого-либо в част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обеспечение восстановления нарушенных пра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удебная защита нарушенных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11200" y="326880"/>
            <a:ext cx="7221600" cy="982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7df56"/>
                </a:solidFill>
                <a:latin typeface="Arial"/>
              </a:rPr>
              <a:t>Источники гражданского права:</a:t>
            </a:r>
            <a:endParaRPr b="0" lang="en-US" sz="3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213336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Конституция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Гражданский Кодекс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от 30 ноября 1994 г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Гражданский процессуальный Кодекс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от 30 октября 2002 г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Юридическое лиц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иные неимущественные права, нести обязанности, быть истцом и ответчиком в с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260280"/>
            <a:ext cx="660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бъекты гражданского прав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1773360"/>
            <a:ext cx="352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Физическое лиц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ражданском праве отдельный гражданин (иностранный гражданин, лицо без гражданства )как субъект гражданского права, в отличие от юридического лица, являющегося коллективным образ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Дееспособность малолетни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9165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6 до 14 лет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упка игрушек, продуктов на сумму до 500 руб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праве принимать подар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споряжаться деньгами предоставленные род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14 до 18 лет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жаться заработком, стипендией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праве осуществлять авторское прав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носить вкл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С 18 лет ……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иды сдел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Дееспособность может наступать досрочн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эмонсипация)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– вступление в брак, трудоустройство по догово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эмонсипация обратной силы не име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Объекты  пра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3399ff"/>
                </a:solidFill>
                <a:latin typeface="Arial"/>
              </a:rPr>
              <a:t>это то, по поводу чего стороны вступают в правоотнош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К ним относятс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вещи, информация, результаты деятельности, нематериальные бла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19280" y="0"/>
            <a:ext cx="590544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ъекты гражданского пра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3683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ccff"/>
                </a:solidFill>
                <a:uFillTx/>
                <a:latin typeface="Arial"/>
              </a:rPr>
              <a:t>Недвиж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е. объекты,перемещение которых без несоразмерного ущерба их назначению невозможно, в том числе леса, многочисленные насаждения, здания и соор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03280" y="1600200"/>
            <a:ext cx="36831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ccff"/>
                </a:solidFill>
                <a:uFillTx/>
                <a:latin typeface="Arial"/>
              </a:rPr>
              <a:t>Движим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относятся к недвижимости, включая деньги и ценные бумаги. Как правило эти вещи не требуют регист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отные рассматриваются как имущество, и к ним применяются правила об имуще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835280" y="333360"/>
            <a:ext cx="51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щ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050920" y="4668840"/>
          <a:ext cx="4035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668840"/>
                    <a:ext cx="4035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649760" y="1600200"/>
          <a:ext cx="4035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 txBox="1"/>
          <p:nvPr/>
        </p:nvSpPr>
        <p:spPr>
          <a:xfrm>
            <a:off x="900000" y="189000"/>
            <a:ext cx="7486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ужебная и коммерческая тай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284640"/>
            <a:ext cx="201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9280" y="2923920"/>
            <a:ext cx="814716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ая информация защищается зако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ца, которые нарушат эту тайну, обязаны возместить причиненные убы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21:00Z</dcterms:created>
  <dc:creator>User</dc:creator>
  <dc:description/>
  <dc:language>en-US</dc:language>
  <cp:lastModifiedBy>User</cp:lastModifiedBy>
  <dcterms:modified xsi:type="dcterms:W3CDTF">2009-04-12T16:17:36Z</dcterms:modified>
  <cp:revision>20</cp:revision>
  <dc:subject/>
  <dc:title>Гражданское право</dc:title>
</cp:coreProperties>
</file>