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2DC-BE71-463F-A5C7-16EF5307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1B3-298E-435A-A06A-0202C566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3D6-F85C-42E4-A3E1-78E4CB2B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1BC-1AC5-45B3-A125-A797E234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9E2-4A88-4CFA-80CD-31228537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3FB-DF1E-4C1D-AE9F-DF03D1C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6434-7312-4520-952E-47AA144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A36-D2A6-4887-9622-C8A646F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B9F4-C856-47B6-9822-1DDF56A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5127-518B-4EF8-A902-DFC4DCC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B93-BC10-443E-ADFA-33C8A27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3CF-BBE5-4491-80D9-BD7D3D3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250-0762-49B7-A596-B25EDFB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372D-3DA6-4860-A1B8-5681283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8926-E361-43D4-8848-6E81200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C08C-BE1A-42ED-9EF1-FC75099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0E63-0368-4084-AED3-FFE948DB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6246-08BA-40A7-A4C3-204DDA09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ECF5-2C53-422A-AA13-DA4DE5E0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D232-8FA0-4BDA-88C1-225FE4B6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6510-6A78-4EFB-8BCE-9B93055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A1CE-D86B-4D30-9E77-7E6BF29A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7DD-7990-4F2E-A980-9C4A919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A734-C921-4134-841F-5B39D20B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76C0-A8E0-4AF6-BBBA-D9CD4AD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7CC3-D8D8-4616-A50C-F6AF064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A16E-CE01-426E-BB7D-7C4516D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53A0-0610-41BC-93B1-F8288061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B311-866E-442C-B033-DDF876C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5384E-F6D3-4813-BB3B-E037468C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DA64-0407-49D7-8F4F-ABA711D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883C-0582-4002-A558-929503A3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F1D1-F349-470B-8D7F-E342189E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F5C-57AA-47BE-B555-88D95F5C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6D4C-398E-4079-A876-56188224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EB3E-410B-41F4-85A0-9FBF3261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B912-F225-41B0-93D7-67301C8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B8B0-BAE4-48D1-BB0B-14ADF92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FC36-E515-44DC-B6DD-19E4490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7A3E-1A6A-43E8-8BF2-A1FBBBB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3EF6-83C5-4094-A099-21B08CB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3423-3472-460A-9EA5-5462A5B5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ABCC0-BB64-4E22-8DFB-478A2D1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DDF1-17B0-48A8-9E54-2E7FBC14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13E-6E81-4836-B5C1-BE5E3B9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F212-95D2-4F1D-A101-F364BEF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4B44D-E6F0-4543-9B75-D206493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0384-D45C-49EF-A33B-9018C9A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26A2-A031-4CFF-A7EF-EDC6C3D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5EBB-8C08-476F-9F31-2D7E6530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C408-FB05-4CDE-A8D3-4B26E74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6BCA-6EF5-4E5D-888F-12249A0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40CF-CBA5-428B-A8E0-F3D996E1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8829-526C-4CC1-90EC-47A3B8EE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3B019-155A-42ED-A0DB-CE44839F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908-C0B5-480D-9A15-DC112186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0A33-69BF-4164-B1C4-A4468F15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7F2B-6F78-4196-9A8A-BAC1C9C9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1376-A476-440C-A966-DB3C8ADC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2F6E-F683-46EB-828B-A76D6040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FF96-CE33-4EE3-BF23-D574A876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9405F-7867-418B-B4E0-C3E5B5A7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F7DA-DB5C-452A-9863-6A750549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54EB-ECB7-4852-987E-8880AEE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8239-D356-4409-A127-06EFF5E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3436-9BDD-464E-A7F4-AD49A34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100-1384-49DC-A897-C680E09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9A36-ABAA-4089-8ED1-9427DFD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FA13-CD9B-457D-88A2-3443C242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8FC7-A730-4587-B962-6FDC2401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187-E664-4369-968A-E621E04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1F-281A-4140-9538-871B266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D07-3A64-4FF0-8A22-480ACC4C439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790-816E-4936-B640-EFA3F8B66E7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C5A9-7947-4374-8279-E73578E03B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35C-CE91-425B-8B86-0CBD82DC84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B07-2DD9-4515-8543-77AD610C2A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DCB-9A6D-4427-84D3-1AA21EFFC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176040" y="0"/>
            <a:ext cx="8967960" cy="2011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71680" y="3428640"/>
            <a:ext cx="8215200" cy="2143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d0d0d"/>
                </a:solidFill>
                <a:latin typeface="Arial"/>
              </a:rPr>
              <a:t>Представляет собой систему правовых норм, регулирующих имущественные отношения и личные неимущественные отношения граждан и юридических лиц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ной бумагой является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4000" y="26028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ные бума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 обладает нематериальными благами, которые он имеет право защищ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ним относ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жиз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здоров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честь и доброе им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деловая репута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неприкосновенность частной жизн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личная и семейная тай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раво свободного передвиж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выбора места пребывания и жительств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раво на им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на авторство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 и иные личные имущественные права и материальные блага, не отчуждаемы и не передаваемы другими сп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9760" y="260280"/>
            <a:ext cx="8124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материальные блага и их защи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22960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Сдел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йствия граждан и юридических лиц, направленные на установление, изменение или прекращение гражданских прав и обязан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700360" y="26028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дел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3068640"/>
            <a:ext cx="403848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договору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дееспособность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правомерность объекта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взаи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мность соглашения 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стор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он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-участие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 двух или нескольких 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27280" y="3141720"/>
            <a:ext cx="45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ения догов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оферта (предложение заключить договор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акцепт (принятие предложен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соблюдение требуемой в необходимых случаях форм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соглашение сторон по всем существенным условиям дого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гово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соглашение двух или нескольких лиц об установлении, изменении или прекращении гражданских прав и обязанностей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16000" y="260280"/>
            <a:ext cx="66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нятие и условия догово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4005360"/>
            <a:ext cx="4038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По заказ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следство по очеред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-дети, супруг, родите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-братья,сестры,бабуш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-дяди,те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-прабаб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0" y="4005360"/>
            <a:ext cx="40384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По завещ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лько в здравом у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только одни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не завещать животны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Наследств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имущество, переходящее в порядке наследования от умершего (наследодателя) к наслед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нем открытия наследства является день смерти гражданина.              При объявлении гражданина умершим днем открытия наследств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является день вступления в законную силу решения суда об объявлении гражданина умерш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естом открытия наследства является последнее место жительства наследод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следственное пра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ажнейшая отрасль права, которая включает в себя науку «Гражданское право», учебную дисциплину и гражданское законодатель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-360"/>
            <a:ext cx="83628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ы гражданского права регулируют две групп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ичных неимуще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5e636a"/>
                </a:solidFill>
                <a:latin typeface="Arial"/>
              </a:rPr>
              <a:t>личные неимущественные отношения, связанные с имущественны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авторское право, фирменное  наименование, товарный знак и т.п.);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личные неимущественные отношения, не связанные с имуществ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ри нарушении которых могут возникнуть невыгодные личные или имущественные последствия для их участников (защита чести и достоинства организаций и граждан, их деловой репутации и т.п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114120"/>
            <a:ext cx="7221600" cy="143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255"/>
                </a:solidFill>
                <a:latin typeface="Arial"/>
              </a:rPr>
              <a:t>Принципы гражданского пра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Принципами, или основными началами,    гражданского законодательства являю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венство участников регулируемых отнош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неприкосновенность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вобода догово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недопустимость произвольного вмешательства кого-либо в част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обеспечение восстановления нарушенных пра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удебная защита нарушенны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1200" y="326880"/>
            <a:ext cx="7221600" cy="982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df56"/>
                </a:solidFill>
                <a:latin typeface="Arial"/>
              </a:rPr>
              <a:t>Источники гражданского права:</a:t>
            </a: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213336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Конституция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Гражданский Кодекс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от 30 ноября 1994 г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Гражданский процессуальный Кодекс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от 30 октября 2002 г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Юридическое лиц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иные неимущественные права, нести обязанности, быть истцом и ответчиком в с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260280"/>
            <a:ext cx="660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бъекты гражданского прав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773360"/>
            <a:ext cx="352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Физическое лиц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ражданском праве отдельный гражданин (иностранный гражданин, лицо без гражданства )как субъект гражданского права, в отличие от юридического лица, являющегося коллективным образ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ееспособность малолетни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9165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6 до 14 лет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упка игрушек, продуктов на сумму до 500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праве принимать подар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споряжаться деньгами предоставленные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14 до 18 лет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жаться заработком, стипендией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праве осуществлять авторское прав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носить вкл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18 лет ……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иды сдел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ееспособность может наступать досрочн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эмонсипация)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– вступление в брак, трудоустройство по догово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монсипация обратной силы не име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Объекты  пра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3399ff"/>
                </a:solidFill>
                <a:latin typeface="Arial"/>
              </a:rPr>
              <a:t>это то, по поводу чего стороны вступают в правоотнош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К ним относятс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вещи, информация, результаты деятельности, нематериальные б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19280" y="0"/>
            <a:ext cx="59054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ъекты гражданского пра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3683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Arial"/>
              </a:rPr>
              <a:t>Недвиж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е. объекты,перемещение которых без несоразмерного ущерба их назначению невозможно, в том числе леса, многочисленные насаждения, здания и соор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03280" y="1600200"/>
            <a:ext cx="3683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ccff"/>
                </a:solidFill>
                <a:uFillTx/>
                <a:latin typeface="Arial"/>
              </a:rPr>
              <a:t>Движ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относятся к недвижимости, включая деньги и ценные бумаги. Как правило эти вещи не требуют регист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отные рассматриваются как имущество, и к ним применяются правила об иму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835280" y="333360"/>
            <a:ext cx="51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щ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050920" y="4668840"/>
          <a:ext cx="4035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668840"/>
                    <a:ext cx="4035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649760" y="1600200"/>
          <a:ext cx="4035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 txBox="1"/>
          <p:nvPr/>
        </p:nvSpPr>
        <p:spPr>
          <a:xfrm>
            <a:off x="900000" y="189000"/>
            <a:ext cx="7486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ужебная и коммерческая тай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284640"/>
            <a:ext cx="201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9280" y="2923920"/>
            <a:ext cx="8147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ая информация защищается зако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ца, которые нарушат эту тайну, обязаны возместить причиненные убы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21:00Z</dcterms:created>
  <dc:creator>User</dc:creator>
  <dc:description/>
  <dc:language>en-US</dc:language>
  <cp:lastModifiedBy>User</cp:lastModifiedBy>
  <dcterms:modified xsi:type="dcterms:W3CDTF">2009-04-12T16:17:36Z</dcterms:modified>
  <cp:revision>20</cp:revision>
  <dc:subject/>
  <dc:title>Гражданское право</dc:title>
</cp:coreProperties>
</file>