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23C-4C85-41C4-9704-C385F773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6B3-07E0-479A-ADBD-81E29BD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BA6-96AE-4848-A595-452DFE22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068-CE86-4E92-9451-6517F63D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5886-CB20-4659-B9B6-A9D8E38A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FFDE-5A3F-4008-AA24-887E470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8FF0-9F8B-4BE5-8B31-107FC968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DF87-AE3A-4C71-A8EA-B1C76098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FC8C-A770-415B-9F03-4002B83B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9484-1AAF-4565-936C-56F40714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05C4-F446-4F28-96B9-BCB10216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39A-01CA-446A-B5FB-17742E2D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1E5C-D52E-45B6-9641-63A1F61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DE98-73B8-4CD1-98B2-6CFC534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F5C9-6112-428C-8593-43148501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AA9B-D789-4FDE-B413-7B64288F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9DC6-BB08-40C3-9676-C2FC8131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9A0-F0BB-42D7-B3C1-77BB2F3E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B4A-4E55-4F8B-8867-DD10D67F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AF4-1250-4FFF-98D7-B14A8B5C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F65-2049-4EB9-823B-81C761E9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A1E-9ED9-4D7C-A68F-A0EAE74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54F-7DC9-41A6-AFB3-E2707B51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620-9704-488A-AD05-B968382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C440-A0B7-4CBB-8661-2D0003E382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0606-17FF-4FD1-BAF1-7F95199433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Good morning!!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Bloody Towe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wer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d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Bloody_tower"/>
          <p:cNvPicPr/>
          <p:nvPr/>
        </p:nvPicPr>
        <p:blipFill>
          <a:blip r:embed="rId1"/>
          <a:stretch/>
        </p:blipFill>
        <p:spPr>
          <a:xfrm>
            <a:off x="3132000" y="1557360"/>
            <a:ext cx="5619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Tower-Bridge"/>
          <p:cNvPicPr/>
          <p:nvPr/>
        </p:nvPicPr>
        <p:blipFill>
          <a:blip r:embed="rId1"/>
          <a:stretch/>
        </p:blipFill>
        <p:spPr>
          <a:xfrm>
            <a:off x="0" y="969840"/>
            <a:ext cx="9144000" cy="5888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ower Brid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famous and beautiful bridge in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uses of Parlia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7" name="Picture 4" descr="Houses of Parliament 1"/>
          <p:cNvPicPr/>
          <p:nvPr/>
        </p:nvPicPr>
        <p:blipFill>
          <a:blip r:embed="rId1"/>
          <a:stretch/>
        </p:blipFill>
        <p:spPr>
          <a:xfrm>
            <a:off x="539640" y="1117440"/>
            <a:ext cx="81378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Big Be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Engl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ck, the symb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Lond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Big Ben"/>
          <p:cNvPicPr/>
          <p:nvPr/>
        </p:nvPicPr>
        <p:blipFill>
          <a:blip r:embed="rId1"/>
          <a:stretch/>
        </p:blipFill>
        <p:spPr>
          <a:xfrm>
            <a:off x="4572000" y="1125360"/>
            <a:ext cx="4086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estminster Abbe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ce wh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ronation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kings takes pl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built by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Edw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WestminsterAbbey"/>
          <p:cNvPicPr/>
          <p:nvPr/>
        </p:nvPicPr>
        <p:blipFill>
          <a:blip r:embed="rId1"/>
          <a:stretch/>
        </p:blipFill>
        <p:spPr>
          <a:xfrm>
            <a:off x="4660920" y="1052640"/>
            <a:ext cx="4483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Buckingam Pala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sid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the Qu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.Paul Cathedr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famo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urch in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Соборо Святого Павла1"/>
          <p:cNvPicPr/>
          <p:nvPr/>
        </p:nvPicPr>
        <p:blipFill>
          <a:blip r:embed="rId1"/>
          <a:stretch/>
        </p:blipFill>
        <p:spPr>
          <a:xfrm>
            <a:off x="4067280" y="1484280"/>
            <a:ext cx="486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at is the name of the famous clock in Lond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Big John  b) Big Mike   c) Big B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ahoma"/>
              </a:rPr>
              <a:t>What did King Edward buil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Tower  b) Westminster Abbey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ahoma"/>
              </a:rPr>
              <a:t>Where does the Queen li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Buckingham Palace   b) Tow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Where does the coronation take pla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Houses of Parliament   b) Westminster Abb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What is the oldest Part of Tow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White tower   b) bloody t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What is St.Paul Cathedr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Church  b) Tower   c)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what tense are these questio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make present simp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make questions and negative sentenc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ction does Present Continuous me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make i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looking at the Big B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standing on the Tower Bri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een is meeting guests at the Buckingham Pal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many tourists visiting St.Paul Cathedral n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are they taking photos of the White Tow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is walking along Trafalgar Squa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, ou – [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– tower, house, m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i – [ai] – white, like, M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 [ i ] – big, bri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u – [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– but, run, up, B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king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e-bye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nswer my quest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language do we spea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hat countries do people speak Engl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arts does Great Britain consist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capital of the U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eum, gallery, theatre, cinema, stadium, park, parliament, history, square, taxi, radio, symbol, abbey, real, monument, touri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 we shall go on trip around the capital of Great Bri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LONDON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velikobr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OND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as a territory of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1706,8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square kilometers. Its population is about 8 million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Трафальгарская площадь"/>
          <p:cNvPicPr/>
          <p:nvPr/>
        </p:nvPicPr>
        <p:blipFill>
          <a:blip r:embed="rId1"/>
          <a:stretch/>
        </p:blipFill>
        <p:spPr>
          <a:xfrm>
            <a:off x="0" y="797040"/>
            <a:ext cx="9144000" cy="6060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rafalgar squa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e main square in Lond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Tower of Lond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wer of Londo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wer of London is the symbol of England. It was a fortress, a castle, a prison and a muse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White Towe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ighest tower in the Tower of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 olde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9780300112931"/>
          <p:cNvPicPr/>
          <p:nvPr/>
        </p:nvPicPr>
        <p:blipFill>
          <a:blip r:embed="rId1"/>
          <a:stretch/>
        </p:blipFill>
        <p:spPr>
          <a:xfrm>
            <a:off x="4067280" y="1746360"/>
            <a:ext cx="47908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4:22:21Z</dcterms:created>
  <dc:creator>Алмакаев</dc:creator>
  <dc:description/>
  <dc:language>en-US</dc:language>
  <cp:lastModifiedBy>Алмакаев</cp:lastModifiedBy>
  <dcterms:modified xsi:type="dcterms:W3CDTF">2012-03-27T13:14:08Z</dcterms:modified>
  <cp:revision>6</cp:revision>
  <dc:subject/>
  <dc:title>Good morning!!!</dc:title>
</cp:coreProperties>
</file>