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767-C8D0-4DA4-8D74-996F0CAC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D46-C897-471D-884C-C38AB6C1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021-12E2-4ED1-8FDA-D487AC5A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D02-B2C1-4AA3-9B9D-C9AC7D53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78C7-EF27-47EE-879F-9CC6F310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E87C-0B74-4C42-892A-CDC4E84D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1E87-F74F-4A3F-AFB7-A7FB8287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A156-7461-46F8-A7F9-CCE421F4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9182-B4CF-40E9-A4C7-14CBD2DE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F6D7-0045-44EA-8FA4-733B8FB0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4960-6733-413B-B166-AFF5BE3D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CA27-053A-4A3C-8DDC-51D3E071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2987-15A3-4CA0-9667-AFCCCD60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50BA-9D9C-409E-8940-C2FD9EBE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D134-522D-40E3-8D3F-463B98B8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5F68-A8A3-40AB-BCF3-A159DF5A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0D0A-2DC5-467A-A511-EF3B91BE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EAE1-0A7F-4991-AEBA-53E035F1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7C4B-E2A6-4607-BE19-6B2ED728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9762-0F1E-4ABF-B0AA-49FB9B2E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97DC-D94C-4E13-B812-2312C9C0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CA65-665E-4244-9779-0FBA8F3A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C99-AE2B-42B9-846C-7C23D536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3F18-69E1-40B9-AC64-D2188DED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2A32-231D-4515-85B5-474BDBFFFE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E32F-07FD-4371-AC80-B490CFFE6C9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Good morning!!!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Bloody Tower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 of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wer o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d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Bloody_tower"/>
          <p:cNvPicPr/>
          <p:nvPr/>
        </p:nvPicPr>
        <p:blipFill>
          <a:blip r:embed="rId1"/>
          <a:stretch/>
        </p:blipFill>
        <p:spPr>
          <a:xfrm>
            <a:off x="3132000" y="1557360"/>
            <a:ext cx="56199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Tower-Bridge"/>
          <p:cNvPicPr/>
          <p:nvPr/>
        </p:nvPicPr>
        <p:blipFill>
          <a:blip r:embed="rId1"/>
          <a:stretch/>
        </p:blipFill>
        <p:spPr>
          <a:xfrm>
            <a:off x="0" y="969840"/>
            <a:ext cx="9144000" cy="58881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ower Bridg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686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st famous and beautiful bridge in Lond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ouses of Parlia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7" name="Picture 4" descr="Houses of Parliament 1"/>
          <p:cNvPicPr/>
          <p:nvPr/>
        </p:nvPicPr>
        <p:blipFill>
          <a:blip r:embed="rId1"/>
          <a:stretch/>
        </p:blipFill>
        <p:spPr>
          <a:xfrm>
            <a:off x="539640" y="1117440"/>
            <a:ext cx="813780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Big Ben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in Engl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ck, the symb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Lond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Big Ben"/>
          <p:cNvPicPr/>
          <p:nvPr/>
        </p:nvPicPr>
        <p:blipFill>
          <a:blip r:embed="rId1"/>
          <a:stretch/>
        </p:blipFill>
        <p:spPr>
          <a:xfrm>
            <a:off x="4572000" y="1125360"/>
            <a:ext cx="40863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estminster Abbe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lace whe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ronation o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kings takes pl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built by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 Edwa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WestminsterAbbey"/>
          <p:cNvPicPr/>
          <p:nvPr/>
        </p:nvPicPr>
        <p:blipFill>
          <a:blip r:embed="rId1"/>
          <a:stretch/>
        </p:blipFill>
        <p:spPr>
          <a:xfrm>
            <a:off x="4660920" y="1052640"/>
            <a:ext cx="44830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Buckingam Pala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Buckingham Pala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sid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the Qu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.Paul Cathedr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st famo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urch in Lond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Соборо Святого Павла1"/>
          <p:cNvPicPr/>
          <p:nvPr/>
        </p:nvPicPr>
        <p:blipFill>
          <a:blip r:embed="rId1"/>
          <a:stretch/>
        </p:blipFill>
        <p:spPr>
          <a:xfrm>
            <a:off x="4067280" y="1484280"/>
            <a:ext cx="4860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at is the name of the famous clock in Lond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Big John  b) Big Mike   c) Big B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What did King Edward buil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Tower  b) Westminster Abbey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ahoma"/>
              </a:rPr>
              <a:t>Where does the Queen liv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Buckingham Palace   b) Tow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Where does the coronation take plac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Houses of Parliament   b) Westminster Abb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What is the oldest Part of Towe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White tower   b) bloody t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at is St.Paul Cathedral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Church  b) Tower   c) Bri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what tense are these question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do we make present simpl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do we make questions and negative sentence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ction does Present Continuous me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do we make i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re looking at the Big B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standing on the Tower Brid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Queen is meeting guests at the Buckingham Pal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many tourists visiting St.Paul Cathedral n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are they taking photos of the White Tow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is walking along Trafalgar Squa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w, ou – [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] – tower, house, mo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i – [ai] – white, like, Mi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 [ i ] – big, brid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u – [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Arial"/>
              </a:rPr>
              <a:t>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] – but, run, up, B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kingh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e-bye!!!!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swer my ques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language do we spea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what countries do people speak Englis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parts does Great Britain consist of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capital of the U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eum, gallery, theatre, cinema, stadium, park, parliament, history, square, taxi, radio, symbol, abbey, real, monument, touri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we shall go on trip around the capital of Great Bri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LONDON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velikobr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LOND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Has a territory of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1706,8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square kilometers. Its population is about 8 million peop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Трафальгарская площадь"/>
          <p:cNvPicPr/>
          <p:nvPr/>
        </p:nvPicPr>
        <p:blipFill>
          <a:blip r:embed="rId1"/>
          <a:stretch/>
        </p:blipFill>
        <p:spPr>
          <a:xfrm>
            <a:off x="0" y="797040"/>
            <a:ext cx="9144000" cy="60609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rafalgar squar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he main square in Lond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Tower of Lond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wer of London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wer of London is the symbol of England. It was a fortress, a castle, a prison and a muse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White Tower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507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highest tower in the Tower of Lond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the olde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9780300112931"/>
          <p:cNvPicPr/>
          <p:nvPr/>
        </p:nvPicPr>
        <p:blipFill>
          <a:blip r:embed="rId1"/>
          <a:stretch/>
        </p:blipFill>
        <p:spPr>
          <a:xfrm>
            <a:off x="4067280" y="1746360"/>
            <a:ext cx="47908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4:22:21Z</dcterms:created>
  <dc:creator>Алмакаев</dc:creator>
  <dc:description/>
  <dc:language>en-US</dc:language>
  <cp:lastModifiedBy>Алмакаев</cp:lastModifiedBy>
  <dcterms:modified xsi:type="dcterms:W3CDTF">2012-03-27T13:14:08Z</dcterms:modified>
  <cp:revision>6</cp:revision>
  <dc:subject/>
  <dc:title>Good morning!!!</dc:title>
</cp:coreProperties>
</file>