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3.jpeg" ContentType="image/jpeg"/>
  <Override PartName="/ppt/media/image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B24-6578-43D1-B32F-3F1B8733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136-D984-49E2-8D79-F697F0E8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400-1892-41E9-AC0E-B5C98A72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615-839A-4E35-A472-716BC22A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87EA-2BE4-45E3-B652-667B62AC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7269-8246-4A68-8394-BE1033D5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B08D-F4F3-447F-AD24-7B5B0ECC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47A9-0545-4958-8A5E-C965A2FD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2725-0FB2-4147-A9F2-983170B6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143F-C374-41B3-A568-04077AD6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D8DE-ADB2-4B2F-82BE-0D5E64B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9A0-5053-4262-94B4-6B1A2F66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A5CE-2F84-4C46-B710-78BE5023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886E-808B-4512-9E0F-9148F595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D82E-5E32-412C-AB14-3143B0FF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7B79-7118-4A16-AC82-7247A01D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68FA-CB49-4B0D-BBAD-E08A67A9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9613-F98C-420C-9FA5-DAB3CE86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00ED-E4CB-4363-89E3-A2B6C22B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D44A-6DE7-4E4D-BFE3-351228DB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4DA89-BEFB-4D76-838B-55C35FC9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3219C-3AF5-4D2E-AA7B-86A72D8C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D7D-EF22-40FC-B19E-871EF065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E759-49D2-4FA6-BE20-EA16BCC3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5ABA-704F-4238-9884-2DFDEB4B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FA7D-E7E3-4C09-A314-5CA56216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2838-DFF8-49AA-B1DE-5F22F886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7E56-B35C-4CE2-BA67-2982042C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50DCD-DC1B-4412-AEFC-55F4130F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DBCA-E649-49DA-B2FD-EC491C81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B76-1EF1-4D82-943F-FA169EBA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DE3-46D9-4BA2-A63F-FDFB27E5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517-5EA1-44C9-99E6-B3AA74C4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3DE-14F4-48EE-A67D-275E3041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3DBC-55FE-418B-BF48-68233B0C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8B9-65E8-4FCD-AC4F-013A7416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ee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CC88-51B2-4C6C-A83A-9DC0D94D4ED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ee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831F-5FF7-4FB2-8E3A-60076CC7FA5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ee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3466-53ED-45C2-972D-8492BA529B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357120" y="2643120"/>
            <a:ext cx="5531040" cy="4000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ГЕТАТИВНОЕ РАЗМНОЖЕНИЕ РАСТ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857920" y="2714760"/>
            <a:ext cx="32860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у выполнила Рожкова Марина, ученица 6 класса МОУ «Важинская СОШ №6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множение корневыми отпрыс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растения, подобно этой осине, могут образовывать побеги на корнях и таким образом размножа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3"/>
          <p:cNvPicPr/>
          <p:nvPr/>
        </p:nvPicPr>
        <p:blipFill>
          <a:blip r:embed="rId1"/>
          <a:stretch/>
        </p:blipFill>
        <p:spPr>
          <a:xfrm>
            <a:off x="4284720" y="2060640"/>
            <a:ext cx="424800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множение выводковыми поч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которых печеночных мхов тоже есть выводковые почки. Они состоят из 2–3 клет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каланхое на листьях развиваются также выводковые поч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4"/>
          <p:cNvPicPr/>
          <p:nvPr/>
        </p:nvPicPr>
        <p:blipFill>
          <a:blip r:embed="rId1"/>
          <a:stretch/>
        </p:blipFill>
        <p:spPr>
          <a:xfrm>
            <a:off x="5940360" y="1700280"/>
            <a:ext cx="2016360" cy="180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"/>
          <p:cNvPicPr/>
          <p:nvPr/>
        </p:nvPicPr>
        <p:blipFill>
          <a:blip r:embed="rId2"/>
          <a:stretch/>
        </p:blipFill>
        <p:spPr>
          <a:xfrm>
            <a:off x="6588000" y="3645000"/>
            <a:ext cx="14972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ививка почкой (окулировк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5" descr="Рисунок6"/>
          <p:cNvPicPr/>
          <p:nvPr/>
        </p:nvPicPr>
        <p:blipFill>
          <a:blip r:embed="rId1"/>
          <a:stretch/>
        </p:blipFill>
        <p:spPr>
          <a:xfrm>
            <a:off x="2009880" y="1981080"/>
            <a:ext cx="180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Рисунок7"/>
          <p:cNvPicPr/>
          <p:nvPr/>
        </p:nvPicPr>
        <p:blipFill>
          <a:blip r:embed="rId2"/>
          <a:stretch/>
        </p:blipFill>
        <p:spPr>
          <a:xfrm>
            <a:off x="5877000" y="1981080"/>
            <a:ext cx="1771560" cy="1981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57150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0033"/>
                </a:solidFill>
                <a:latin typeface="Calibri"/>
              </a:rPr>
              <a:t>        </a:t>
            </a:r>
            <a:r>
              <a:rPr b="1" i="1" lang="ru-RU" sz="2600" spc="-1" strike="noStrike">
                <a:solidFill>
                  <a:srgbClr val="990033"/>
                </a:solidFill>
                <a:latin typeface="Calibri"/>
              </a:rPr>
              <a:t>ПРИВОЙ                    ПОДВ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ножение отвод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обег смородины прижать к земле, он даст придаточные корни и побеги из боковых почек. Такой побег называют отводком. Отводками человек размножает многие садовые кустарники (крыжовник, смородин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6"/>
          <p:cNvPicPr/>
          <p:nvPr/>
        </p:nvPicPr>
        <p:blipFill>
          <a:blip r:embed="rId1"/>
          <a:stretch/>
        </p:blipFill>
        <p:spPr>
          <a:xfrm>
            <a:off x="4500720" y="1557360"/>
            <a:ext cx="38080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33"/>
                </a:solidFill>
                <a:latin typeface="Calibri"/>
              </a:rPr>
              <a:t>Размножение  отвод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0" descr="Рисунок4"/>
          <p:cNvPicPr/>
          <p:nvPr/>
        </p:nvPicPr>
        <p:blipFill>
          <a:blip r:embed="rId1"/>
          <a:stretch/>
        </p:blipFill>
        <p:spPr>
          <a:xfrm>
            <a:off x="628560" y="1843200"/>
            <a:ext cx="3695760" cy="403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Рисунок5"/>
          <p:cNvPicPr/>
          <p:nvPr/>
        </p:nvPicPr>
        <p:blipFill>
          <a:blip r:embed="rId2"/>
          <a:stretch/>
        </p:blipFill>
        <p:spPr>
          <a:xfrm>
            <a:off x="4819680" y="1843200"/>
            <a:ext cx="3695760" cy="40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множение стеблевыми черен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нок — это чаще всего кусочек побега (несколько узлов и междоузлий с почками). Если его воткнуть во влажный песок, он укоренится— даст придаточные корни, а из почек разовьет побеги. Так из одной веточки смородины можно получить несколько кус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7"/>
          <p:cNvPicPr/>
          <p:nvPr/>
        </p:nvPicPr>
        <p:blipFill>
          <a:blip r:embed="rId1"/>
          <a:stretch/>
        </p:blipFill>
        <p:spPr>
          <a:xfrm>
            <a:off x="4500720" y="2133720"/>
            <a:ext cx="417492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Calibri"/>
              </a:rPr>
              <a:t>Размножение стеблевыми  черенк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8" descr="Рисунок3"/>
          <p:cNvPicPr/>
          <p:nvPr/>
        </p:nvPicPr>
        <p:blipFill>
          <a:blip r:embed="rId1"/>
          <a:stretch/>
        </p:blipFill>
        <p:spPr>
          <a:xfrm>
            <a:off x="2131920" y="1614600"/>
            <a:ext cx="488016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множение листовыми черенк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торые виды комнатных растений – бегонию, сенполию (узамбарскую фиалку), лимон, размножают листовыми черенками. Листья сажают во влажный песок. После этого на листьях развиваются придаточные почки и придаточные кор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8" descr="1"/>
          <p:cNvPicPr/>
          <p:nvPr/>
        </p:nvPicPr>
        <p:blipFill>
          <a:blip r:embed="rId1"/>
          <a:stretch/>
        </p:blipFill>
        <p:spPr>
          <a:xfrm>
            <a:off x="4643280" y="2205000"/>
            <a:ext cx="3635640" cy="27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множение корневыми черен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рневой черенок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отрезок корня длиной 15—25 см. На посаженном в почву корневом черенке из придаточных почек развиваются надземные побеги, от оснований которых отрастают придаточные корни. Развивается новое, самостоятельно существующее растение. Корневыми черенками размножают садовую малину, шиповник, некоторые сорта яблонь и декоративных раст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2"/>
          <p:cNvPicPr/>
          <p:nvPr/>
        </p:nvPicPr>
        <p:blipFill>
          <a:blip r:embed="rId1"/>
          <a:stretch/>
        </p:blipFill>
        <p:spPr>
          <a:xfrm>
            <a:off x="6284880" y="1773360"/>
            <a:ext cx="25210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Calibri"/>
              </a:rPr>
              <a:t>Размножение  корневыми  черенк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8" descr="Рисунок2"/>
          <p:cNvPicPr/>
          <p:nvPr/>
        </p:nvPicPr>
        <p:blipFill>
          <a:blip r:embed="rId1"/>
          <a:stretch/>
        </p:blipFill>
        <p:spPr>
          <a:xfrm>
            <a:off x="1819440" y="1600200"/>
            <a:ext cx="5505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гетативное размн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82736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бесполое размноже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лько родителей участвует в бесполом размноже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органы растения осуществляют вегетативное размноже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Organization Chart 2"/>
          <p:cNvGrpSpPr/>
          <p:nvPr/>
        </p:nvGrpSpPr>
        <p:grpSpPr>
          <a:xfrm>
            <a:off x="3962520" y="1752480"/>
            <a:ext cx="5028480" cy="4951800"/>
            <a:chOff x="3962520" y="1752480"/>
            <a:chExt cx="5028480" cy="4951800"/>
          </a:xfrm>
        </p:grpSpPr>
        <p:cxnSp>
          <p:nvCxnSpPr>
            <p:cNvPr id="129" name="_s1028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6888960" y="3347640"/>
              <a:ext cx="934920" cy="1760760"/>
            </a:xfrm>
            <a:prstGeom prst="bentConnector3">
              <a:avLst>
                <a:gd name="adj1" fmla="val 122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29"/>
            <p:cNvCxnSpPr>
              <a:stCxn id="133" idx="0"/>
              <a:endCxn id="131" idx="2"/>
            </p:cNvCxnSpPr>
            <p:nvPr/>
          </p:nvCxnSpPr>
          <p:spPr>
            <a:xfrm flipV="1">
              <a:off x="6476760" y="3760560"/>
              <a:ext cx="2160" cy="9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0"/>
            <p:cNvCxnSpPr>
              <a:stCxn id="135" idx="0"/>
              <a:endCxn id="131" idx="2"/>
            </p:cNvCxnSpPr>
            <p:nvPr/>
          </p:nvCxnSpPr>
          <p:spPr>
            <a:xfrm flipH="1" flipV="1" rot="5400000">
              <a:off x="5129280" y="3347640"/>
              <a:ext cx="934920" cy="1760760"/>
            </a:xfrm>
            <a:prstGeom prst="bentConnector3">
              <a:avLst>
                <a:gd name="adj1" fmla="val 122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1031"/>
            <p:cNvSpPr/>
            <p:nvPr/>
          </p:nvSpPr>
          <p:spPr>
            <a:xfrm>
              <a:off x="5722560" y="1752480"/>
              <a:ext cx="1508400" cy="1980720"/>
            </a:xfrm>
            <a:prstGeom prst="rect">
              <a:avLst/>
            </a:prstGeom>
            <a:solidFill>
              <a:srgbClr val="4f81bd">
                <a:alpha val="50000"/>
              </a:srgbClr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ип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спол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азмноже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2"/>
            <p:cNvSpPr/>
            <p:nvPr/>
          </p:nvSpPr>
          <p:spPr>
            <a:xfrm>
              <a:off x="3962520" y="4723560"/>
              <a:ext cx="1508400" cy="1980720"/>
            </a:xfrm>
            <a:prstGeom prst="rect">
              <a:avLst/>
            </a:prstGeom>
            <a:solidFill>
              <a:srgbClr val="c0504d">
                <a:alpha val="50000"/>
              </a:srgbClr>
            </a:solidFill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Дел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клет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3"/>
            <p:cNvSpPr/>
            <p:nvPr/>
          </p:nvSpPr>
          <p:spPr>
            <a:xfrm>
              <a:off x="5722560" y="4723560"/>
              <a:ext cx="1508400" cy="1980720"/>
            </a:xfrm>
            <a:prstGeom prst="rect">
              <a:avLst/>
            </a:prstGeom>
            <a:solidFill>
              <a:srgbClr val="c0504d">
                <a:alpha val="50000"/>
              </a:srgbClr>
            </a:solidFill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Спор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>
              <a:off x="7482600" y="4723560"/>
              <a:ext cx="1508400" cy="1980720"/>
            </a:xfrm>
            <a:prstGeom prst="rect">
              <a:avLst/>
            </a:prstGeom>
            <a:solidFill>
              <a:srgbClr val="c0504d">
                <a:alpha val="50000"/>
              </a:srgbClr>
            </a:solidFill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Вегетатив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4" descr="j0298897"/>
          <p:cNvPicPr/>
          <p:nvPr/>
        </p:nvPicPr>
        <p:blipFill>
          <a:blip r:embed="rId1"/>
          <a:stretch/>
        </p:blipFill>
        <p:spPr>
          <a:xfrm rot="460200">
            <a:off x="7391520" y="36000"/>
            <a:ext cx="1749240" cy="18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ножение привив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рививках часть побега, называемую привоем, не укореняют, а приживляют к другому растению обычно того же или близкого вида. Это — отличный способ размножения плодовых деревьев ценных сортов, существующий издавна. В наше время часто размножают не целые растения, а культуру растительных клеток, получая из них целые раст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ививка  почкой  (окулировк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0" descr="Рисунок8"/>
          <p:cNvPicPr/>
          <p:nvPr/>
        </p:nvPicPr>
        <p:blipFill>
          <a:blip r:embed="rId1"/>
          <a:stretch/>
        </p:blipFill>
        <p:spPr>
          <a:xfrm>
            <a:off x="1447920" y="1828800"/>
            <a:ext cx="3124080" cy="2265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Рисунок9"/>
          <p:cNvPicPr/>
          <p:nvPr/>
        </p:nvPicPr>
        <p:blipFill>
          <a:blip r:embed="rId2"/>
          <a:stretch/>
        </p:blipFill>
        <p:spPr>
          <a:xfrm>
            <a:off x="5359320" y="1981080"/>
            <a:ext cx="2806920" cy="1981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4" descr="Рисунок10"/>
          <p:cNvPicPr/>
          <p:nvPr/>
        </p:nvPicPr>
        <p:blipFill>
          <a:blip r:embed="rId3"/>
          <a:stretch/>
        </p:blipFill>
        <p:spPr>
          <a:xfrm>
            <a:off x="159372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Рисунок11"/>
          <p:cNvPicPr/>
          <p:nvPr/>
        </p:nvPicPr>
        <p:blipFill>
          <a:blip r:embed="rId4"/>
          <a:stretch/>
        </p:blipFill>
        <p:spPr>
          <a:xfrm>
            <a:off x="5362560" y="4114800"/>
            <a:ext cx="2800440" cy="198108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549000"/>
            <a:ext cx="3610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ы прививок очень разнообразны. Прививают целые веточки и отдельные почки в расщеп побега, к его срезу или надрезу в ко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8"/>
          <p:cNvPicPr/>
          <p:nvPr/>
        </p:nvPicPr>
        <p:blipFill>
          <a:blip r:embed="rId1"/>
          <a:stretch/>
        </p:blipFill>
        <p:spPr>
          <a:xfrm>
            <a:off x="4788000" y="2205000"/>
            <a:ext cx="361152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ножение луковиц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Луковица — подземный, реже надземный побег с очень коротким  уплощенным стеблем (донцем)  и чешуевидными мясистыми, сочными листьями, запасающими воду и питательные вещества. Из верхушечной и пазушных почек луковиц вырастают надземные побеги, а на донце образуются придаточные корни. Луковицы характерны  для растений из   семейства   лилейных   (лилии, тюльпаны, пролески, лук)   и  амариллисовых (амариллисы,  нарциссы, гиацинты). В зависимости от размещения листьев различают луковицы чешуевидные (лук, гиацинт), черепитчатые (лилия) и сборные или сложные (чеснок). В пазухе некоторых чешуек  луковицы  есть  почки, из которых развиваются дочерние  луковицы — детки. Луковицы помогают растению выжить в неблагоприятных условиях и являются органом вегетативного размножен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1"/>
          <p:cNvPicPr/>
          <p:nvPr/>
        </p:nvPicPr>
        <p:blipFill>
          <a:blip r:embed="rId1"/>
          <a:stretch/>
        </p:blipFill>
        <p:spPr>
          <a:xfrm>
            <a:off x="6516720" y="2492280"/>
            <a:ext cx="2195640" cy="16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множение корневыми отпрыс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1600200"/>
            <a:ext cx="5940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которые растения размножаются корневыми отпрысками. Например: некоторые  из корней малины растут горизонтально, неглубоко от поверхности почвы. На них образуются придаточные почки, из которых вырастают молодые надземные побеги — отпрыски. Корневые отпрыски вместе с частью корней материнского растения можно отделить и посадить на новом мес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4" descr="2"/>
          <p:cNvPicPr/>
          <p:nvPr/>
        </p:nvPicPr>
        <p:blipFill>
          <a:blip r:embed="rId1"/>
          <a:stretch/>
        </p:blipFill>
        <p:spPr>
          <a:xfrm>
            <a:off x="6084720" y="2708280"/>
            <a:ext cx="280836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множение клубнелуковиц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убнелуковицы — внешне похожи на луковицы, но их листья не служат запасающими органами, они сухие, пленчатые, часто это остатки влагалищ отмерших зеленых листьев. Запасающий орган — стеблевая часть клубнелуковицы, она утолщена. Характерны для гладиолусов, шафранов (крокус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3"/>
          <p:cNvPicPr/>
          <p:nvPr/>
        </p:nvPicPr>
        <p:blipFill>
          <a:blip r:embed="rId1"/>
          <a:stretch/>
        </p:blipFill>
        <p:spPr>
          <a:xfrm>
            <a:off x="5724360" y="1268280"/>
            <a:ext cx="2592720" cy="2592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6156360" y="4417200"/>
            <a:ext cx="244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ки (2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разуются в конце вегетационного периода у основани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мещающей клубнелуковицы (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являются органами вегетативного размножения гладиолу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вод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егетативное размножение, как и семенное размножение,  способствует увеличению числа особей и расселению их. При вегетативном размножении растения наследуют признаки материнского растения. Это используют в практике сельского хозяйства для быстрого получения высоких урожаев (например, клубней картофеля) и для сохранения ценных сортов культурных растений (например, плодовых деревьев при прививк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oml.ru/d/17600/d/1158384213.jpg"/>
          <p:cNvPicPr/>
          <p:nvPr/>
        </p:nvPicPr>
        <p:blipFill>
          <a:blip r:embed="rId1"/>
          <a:stretch/>
        </p:blipFill>
        <p:spPr>
          <a:xfrm>
            <a:off x="179280" y="1168560"/>
            <a:ext cx="4248360" cy="4248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835920" y="560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картоф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http://oml.ru/d/17600/d/1158384213.jpg"/>
          <p:cNvPicPr/>
          <p:nvPr/>
        </p:nvPicPr>
        <p:blipFill>
          <a:blip r:embed="rId2"/>
          <a:stretch/>
        </p:blipFill>
        <p:spPr>
          <a:xfrm>
            <a:off x="0" y="1214280"/>
            <a:ext cx="4248000" cy="42483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Назовите способ размн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443640" y="602136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11"/>
          <p:cNvPicPr/>
          <p:nvPr/>
        </p:nvPicPr>
        <p:blipFill>
          <a:blip r:embed="rId1"/>
          <a:stretch/>
        </p:blipFill>
        <p:spPr>
          <a:xfrm>
            <a:off x="971640" y="2390760"/>
            <a:ext cx="3240000" cy="2717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11"/>
          <p:cNvPicPr/>
          <p:nvPr/>
        </p:nvPicPr>
        <p:blipFill>
          <a:blip r:embed="rId2"/>
          <a:stretch/>
        </p:blipFill>
        <p:spPr>
          <a:xfrm>
            <a:off x="928800" y="2428920"/>
            <a:ext cx="47685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resBCDB9C34-0A01-022A-002E-5A0174F2FC6A"/>
          <p:cNvPicPr/>
          <p:nvPr/>
        </p:nvPicPr>
        <p:blipFill>
          <a:blip r:embed="rId1"/>
          <a:stretch/>
        </p:blipFill>
        <p:spPr>
          <a:xfrm>
            <a:off x="380880" y="1523880"/>
            <a:ext cx="2352960" cy="5048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resBCDB9C19-0A01-022A-007C-62055501F467"/>
          <p:cNvPicPr/>
          <p:nvPr/>
        </p:nvPicPr>
        <p:blipFill>
          <a:blip r:embed="rId2"/>
          <a:stretch/>
        </p:blipFill>
        <p:spPr>
          <a:xfrm>
            <a:off x="6248520" y="1600200"/>
            <a:ext cx="2600280" cy="50482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3"/>
          <p:cNvSpPr/>
          <p:nvPr/>
        </p:nvSpPr>
        <p:spPr>
          <a:xfrm>
            <a:off x="6630840" y="3223440"/>
            <a:ext cx="2266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c5a19"/>
                </a:solidFill>
                <a:latin typeface="Arial"/>
              </a:rPr>
              <a:t>Луковые. Лук репчаты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6" descr="resBCDB9C0E-0A01-022A-0051-2BB1E4BFD47A"/>
          <p:cNvPicPr/>
          <p:nvPr/>
        </p:nvPicPr>
        <p:blipFill>
          <a:blip r:embed="rId3"/>
          <a:stretch/>
        </p:blipFill>
        <p:spPr>
          <a:xfrm>
            <a:off x="3429000" y="1676520"/>
            <a:ext cx="2533680" cy="5048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0"/>
          <p:cNvSpPr/>
          <p:nvPr/>
        </p:nvSpPr>
        <p:spPr>
          <a:xfrm>
            <a:off x="152280" y="0"/>
            <a:ext cx="8001000" cy="1447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3.Что общего у этих растений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01680"/>
            <a:ext cx="83059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особы вегетативного размн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лните табл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3880" y="2438280"/>
          <a:ext cx="7239240" cy="4160880"/>
        </p:xfrm>
        <a:graphic>
          <a:graphicData uri="http://schemas.openxmlformats.org/drawingml/2006/table">
            <a:tbl>
              <a:tblPr/>
              <a:tblGrid>
                <a:gridCol w="4419720"/>
                <a:gridCol w="28195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особ вегетативного размножен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са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стья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убня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уковица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ища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одка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ивко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Определите,  какой способ вегетативного размножения у папорот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{57259C5D-ABEC-4605-A4D5-A1BF71355635}"/>
          <p:cNvPicPr/>
          <p:nvPr/>
        </p:nvPicPr>
        <p:blipFill>
          <a:blip r:embed="rId1"/>
          <a:stretch/>
        </p:blipFill>
        <p:spPr>
          <a:xfrm>
            <a:off x="762120" y="17524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ьте на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8080" y="1599840"/>
            <a:ext cx="830592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Как называется тип размножения, в котором участвует только 1 родител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Как размножают яблон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Как размножают картофел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какой орган участвует в размножении картофел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При каком типе размножения растения полностью воспроизводят свойства материнского организ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гетативное размножение-это увеличение числа особей растений в результате их развития из частей материнского растения (побега, корн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ножение корневищ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невище-подземный побег, выполняющий функции отложения запасных питательных веществ, возобновления и вегетативного размножения например: ландыш, копытень, фиалка, пырей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3"/>
          <p:cNvPicPr/>
          <p:nvPr/>
        </p:nvPicPr>
        <p:blipFill>
          <a:blip r:embed="rId1"/>
          <a:stretch/>
        </p:blipFill>
        <p:spPr>
          <a:xfrm>
            <a:off x="5940360" y="1197000"/>
            <a:ext cx="2102040" cy="295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2"/>
          <p:cNvPicPr/>
          <p:nvPr/>
        </p:nvPicPr>
        <p:blipFill>
          <a:blip r:embed="rId2"/>
          <a:stretch/>
        </p:blipFill>
        <p:spPr>
          <a:xfrm>
            <a:off x="6012000" y="4292640"/>
            <a:ext cx="188748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ножение клубн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убни — утолщенные мясистые части стебля, состоящие из одного или нескольких междоузлий. Бывают надземными и подземными. Надземные — утолщение главного стебля (кольраби), боковых   побегов) Часто имеют листья. Надземные клубни являются вместилищем запасных питательных веществ и служат для вегетативного размножения, на них могут находиться пазушные почки с зачатками листьев, которые опадают и служат также для вегетативного размножения (живородная гречих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333000"/>
            <a:ext cx="4186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земные клубни — утолщение    подземных   побегов    (картофель,   топинамбур). На подземных клубнях листья редуцированы до чешуек, которые опадают. В пазухах листьев находятся почки — глазки. Подземные клубни обычно развиваются на столонах — дочерних побегах —из почек,  расположенных у основания основного побега,   выглядят   как очень тонкие белые стебельки, несущие маленькие бесцветные чешуевидные листья, растут горизонтально. Клубни развиваются из верхушечных почек столо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4"/>
          <p:cNvPicPr/>
          <p:nvPr/>
        </p:nvPicPr>
        <p:blipFill>
          <a:blip r:embed="rId1"/>
          <a:stretch/>
        </p:blipFill>
        <p:spPr>
          <a:xfrm>
            <a:off x="6012000" y="260280"/>
            <a:ext cx="2257200" cy="36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5"/>
          <p:cNvPicPr/>
          <p:nvPr/>
        </p:nvPicPr>
        <p:blipFill>
          <a:blip r:embed="rId2"/>
          <a:stretch/>
        </p:blipFill>
        <p:spPr>
          <a:xfrm>
            <a:off x="5076720" y="3933720"/>
            <a:ext cx="376740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ножение у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41360"/>
            <a:ext cx="512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дземные столоны (усы) — недолговечные ползучие побеги, служащие для вегетативного размножения. Встречаются у многих растений (костяника, полевица ползучая, лесная и садовая земляника). Обычно они лишены развитых зеленых листьев, стебли их тонкие, хрупкие, с очень длинными междоузлиями. Верхушечная почка столона, загибаясь вверх, дает розетку листьев, которая легко укореняется. После укоренения нового растения столоны разрушаются. Народное название этих надземных столонов — у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1"/>
          <p:cNvPicPr/>
          <p:nvPr/>
        </p:nvPicPr>
        <p:blipFill>
          <a:blip r:embed="rId1"/>
          <a:stretch/>
        </p:blipFill>
        <p:spPr>
          <a:xfrm>
            <a:off x="5364000" y="1773360"/>
            <a:ext cx="3535560" cy="29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33"/>
                </a:solidFill>
                <a:latin typeface="Calibri"/>
              </a:rPr>
              <a:t>Размножение «Усам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8" descr="Рисунок1"/>
          <p:cNvPicPr/>
          <p:nvPr/>
        </p:nvPicPr>
        <p:blipFill>
          <a:blip r:embed="rId1"/>
          <a:stretch/>
        </p:blipFill>
        <p:spPr>
          <a:xfrm>
            <a:off x="1068480" y="1614600"/>
            <a:ext cx="700704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46:41Z</dcterms:created>
  <dc:creator>*</dc:creator>
  <dc:description/>
  <dc:language>en-US</dc:language>
  <cp:lastModifiedBy>Admin</cp:lastModifiedBy>
  <dcterms:modified xsi:type="dcterms:W3CDTF">2012-08-29T19:39:24Z</dcterms:modified>
  <cp:revision>14</cp:revision>
  <dc:subject/>
  <dc:title>РАЗМНОЖЕНИЕ РАСТЕНИЙ</dc:title>
</cp:coreProperties>
</file>