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3.jpeg" ContentType="image/jpeg"/>
  <Override PartName="/ppt/media/image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62E-DC8A-45CA-A094-15CAB0BB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B8A-C252-436F-89AC-327E6C86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812-47A5-416F-9D78-E96FF2D9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1D5-C623-40FE-B563-E4EDE8EE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9A01-1FF3-4D8E-9F7A-0E904B51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FE5-60DC-44A5-8D59-690BCBD9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377-4573-4839-B39A-FC852EB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F22E-3166-40BC-8D33-013FEC0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F6B3-8EE5-457A-97D4-572672DE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5B91-9101-4E34-934D-AC2A356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191-0182-4FB0-8D75-00D8098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5D5-7975-4AF7-A8A8-0DA8822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8CA-9821-4F21-9C28-768A226B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E304-A0F1-4746-B3BD-29578DF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CFA-49D4-44D0-B724-08679AC7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BE1-2633-4266-B59E-5561120F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F49-4A02-4E30-B96B-FA96C0C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973E-72FB-48B8-9059-20A3643E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DB3E-306D-44C0-A638-70BC26E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1555-7B1F-4A8B-8B90-DEF6060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E6C5-903A-4149-A802-2AFAFF0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6BE2-BEA6-4659-AC16-8275907F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0AC-9CA2-40A6-AC0D-BBEBA593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8F28-4877-4029-AC67-4ABC56F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9FE4-1894-4E1F-B4C1-AADB8C5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91F2-706A-445F-A0A7-30B038F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44AF-AD99-4FEB-8348-512D54D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2249-8513-4D9C-8A91-A5A18DD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2007-5915-4F95-B79E-50DD928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E834-0177-42B6-B1E6-4A56E12C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E87-FF07-448E-98DC-584F15A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DF2-CF18-44F9-B994-8EC118A9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763-7750-4BDC-9EA2-7C45724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D44-E25C-4D11-8FD4-20421558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588-9A24-4D4A-A0CD-29FB9DB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81-E4F6-4FCA-8D90-D1124E0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14C1-944F-417E-9695-AE566A4F42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88E6-C759-4450-BCF5-98F2AA12583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e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5995-07C4-4234-92CC-E75B05505D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357120" y="2643120"/>
            <a:ext cx="5531040" cy="4000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ГЕТАТИВНОЕ РАЗМНОЖЕНИЕ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857920" y="2714760"/>
            <a:ext cx="3286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у выполнила Рожкова Марина, ученица 6 класса МОУ «Важинская СОШ №6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отпрыс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растения, подобно этой осине, могут образовывать побеги на корнях и таким образом размнож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3"/>
          <p:cNvPicPr/>
          <p:nvPr/>
        </p:nvPicPr>
        <p:blipFill>
          <a:blip r:embed="rId1"/>
          <a:stretch/>
        </p:blipFill>
        <p:spPr>
          <a:xfrm>
            <a:off x="4284720" y="2060640"/>
            <a:ext cx="424800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выводковыми поч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оторых печеночных мхов тоже есть выводковые почки. Они состоят из 2–3 клето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аланхое на листьях развиваются также выводковые поч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4"/>
          <p:cNvPicPr/>
          <p:nvPr/>
        </p:nvPicPr>
        <p:blipFill>
          <a:blip r:embed="rId1"/>
          <a:stretch/>
        </p:blipFill>
        <p:spPr>
          <a:xfrm>
            <a:off x="5940360" y="1700280"/>
            <a:ext cx="2016360" cy="180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"/>
          <p:cNvPicPr/>
          <p:nvPr/>
        </p:nvPicPr>
        <p:blipFill>
          <a:blip r:embed="rId2"/>
          <a:stretch/>
        </p:blipFill>
        <p:spPr>
          <a:xfrm>
            <a:off x="6588000" y="3645000"/>
            <a:ext cx="1497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вивка почкой (окулировк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5" descr="Рисунок6"/>
          <p:cNvPicPr/>
          <p:nvPr/>
        </p:nvPicPr>
        <p:blipFill>
          <a:blip r:embed="rId1"/>
          <a:stretch/>
        </p:blipFill>
        <p:spPr>
          <a:xfrm>
            <a:off x="2009880" y="1981080"/>
            <a:ext cx="180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Рисунок7"/>
          <p:cNvPicPr/>
          <p:nvPr/>
        </p:nvPicPr>
        <p:blipFill>
          <a:blip r:embed="rId2"/>
          <a:stretch/>
        </p:blipFill>
        <p:spPr>
          <a:xfrm>
            <a:off x="5877000" y="1981080"/>
            <a:ext cx="1771560" cy="198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57150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90033"/>
                </a:solidFill>
                <a:latin typeface="Calibri"/>
              </a:rPr>
              <a:t>        </a:t>
            </a:r>
            <a:r>
              <a:rPr b="1" i="1" lang="ru-RU" sz="2600" spc="-1" strike="noStrike">
                <a:solidFill>
                  <a:srgbClr val="990033"/>
                </a:solidFill>
                <a:latin typeface="Calibri"/>
              </a:rPr>
              <a:t>ПРИВОЙ                    ПОДВ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отвод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бег смородины прижать к земле, он даст придаточные корни и побеги из боковых почек. Такой побег называют отводком. Отводками человек размножает многие садовые кустарники (крыжовник, смородин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6"/>
          <p:cNvPicPr/>
          <p:nvPr/>
        </p:nvPicPr>
        <p:blipFill>
          <a:blip r:embed="rId1"/>
          <a:stretch/>
        </p:blipFill>
        <p:spPr>
          <a:xfrm>
            <a:off x="4500720" y="1557360"/>
            <a:ext cx="3808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Calibri"/>
              </a:rPr>
              <a:t>Размножение  отвод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0" descr="Рисунок4"/>
          <p:cNvPicPr/>
          <p:nvPr/>
        </p:nvPicPr>
        <p:blipFill>
          <a:blip r:embed="rId1"/>
          <a:stretch/>
        </p:blipFill>
        <p:spPr>
          <a:xfrm>
            <a:off x="628560" y="1843200"/>
            <a:ext cx="3695760" cy="403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Рисунок5"/>
          <p:cNvPicPr/>
          <p:nvPr/>
        </p:nvPicPr>
        <p:blipFill>
          <a:blip r:embed="rId2"/>
          <a:stretch/>
        </p:blipFill>
        <p:spPr>
          <a:xfrm>
            <a:off x="4819680" y="1843200"/>
            <a:ext cx="3695760" cy="40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стеблевыми чере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нок — это чаще всего кусочек побега (несколько узлов и междоузлий с почками). Если его воткнуть во влажный песок, он укоренится— даст придаточные корни, а из почек разовьет побеги. Так из одной веточки смородины можно получить несколько кус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7"/>
          <p:cNvPicPr/>
          <p:nvPr/>
        </p:nvPicPr>
        <p:blipFill>
          <a:blip r:embed="rId1"/>
          <a:stretch/>
        </p:blipFill>
        <p:spPr>
          <a:xfrm>
            <a:off x="4500720" y="2133720"/>
            <a:ext cx="41749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Размножение стеблевыми 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8" descr="Рисунок3"/>
          <p:cNvPicPr/>
          <p:nvPr/>
        </p:nvPicPr>
        <p:blipFill>
          <a:blip r:embed="rId1"/>
          <a:stretch/>
        </p:blipFill>
        <p:spPr>
          <a:xfrm>
            <a:off x="2131920" y="1614600"/>
            <a:ext cx="488016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ножение листовыми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виды комнатных растений – бегонию, сенполию (узамбарскую фиалку), лимон, размножают листовыми черенками. Листья сажают во влажный песок. После этого на листьях развиваются придаточные почки и придаточные кор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1"/>
          <p:cNvPicPr/>
          <p:nvPr/>
        </p:nvPicPr>
        <p:blipFill>
          <a:blip r:embed="rId1"/>
          <a:stretch/>
        </p:blipFill>
        <p:spPr>
          <a:xfrm>
            <a:off x="4643280" y="220500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чере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рневой черенок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трезок корня длиной 15—25 см. На посаженном в почву корневом черенке из придаточных почек развиваются надземные побеги, от оснований которых отрастают придаточные корни. Развивается новое, самостоятельно существующее растение. Корневыми черенками размножают садовую малину, шиповник, некоторые сорта яблонь и декоративных раст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2"/>
          <p:cNvPicPr/>
          <p:nvPr/>
        </p:nvPicPr>
        <p:blipFill>
          <a:blip r:embed="rId1"/>
          <a:stretch/>
        </p:blipFill>
        <p:spPr>
          <a:xfrm>
            <a:off x="6284880" y="1773360"/>
            <a:ext cx="2521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33"/>
                </a:solidFill>
                <a:latin typeface="Calibri"/>
              </a:rPr>
              <a:t>Размножение  корневыми  черенк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8" descr="Рисунок2"/>
          <p:cNvPicPr/>
          <p:nvPr/>
        </p:nvPicPr>
        <p:blipFill>
          <a:blip r:embed="rId1"/>
          <a:stretch/>
        </p:blipFill>
        <p:spPr>
          <a:xfrm>
            <a:off x="1819440" y="1600200"/>
            <a:ext cx="5505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гетативное размн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бесполое размн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лько родителей участвует в бесполом размножен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органы растения осуществляют вегетативное размно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Organization Chart 2"/>
          <p:cNvGrpSpPr/>
          <p:nvPr/>
        </p:nvGrpSpPr>
        <p:grpSpPr>
          <a:xfrm>
            <a:off x="3962520" y="1752480"/>
            <a:ext cx="5028480" cy="4951800"/>
            <a:chOff x="3962520" y="1752480"/>
            <a:chExt cx="5028480" cy="49518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888960" y="3347640"/>
              <a:ext cx="934920" cy="1760760"/>
            </a:xfrm>
            <a:prstGeom prst="bentConnector3">
              <a:avLst>
                <a:gd name="adj1" fmla="val 12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2"/>
            </p:cNvCxnSpPr>
            <p:nvPr/>
          </p:nvCxnSpPr>
          <p:spPr>
            <a:xfrm flipV="1">
              <a:off x="6476760" y="3760560"/>
              <a:ext cx="2160" cy="9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5129280" y="3347640"/>
              <a:ext cx="934920" cy="1760760"/>
            </a:xfrm>
            <a:prstGeom prst="bentConnector3">
              <a:avLst>
                <a:gd name="adj1" fmla="val 122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1031"/>
            <p:cNvSpPr/>
            <p:nvPr/>
          </p:nvSpPr>
          <p:spPr>
            <a:xfrm>
              <a:off x="5722560" y="1752480"/>
              <a:ext cx="1508400" cy="198072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ип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спол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азмнож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396252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Дел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клет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3"/>
            <p:cNvSpPr/>
            <p:nvPr/>
          </p:nvSpPr>
          <p:spPr>
            <a:xfrm>
              <a:off x="572256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п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7482600" y="4723560"/>
              <a:ext cx="1508400" cy="1980720"/>
            </a:xfrm>
            <a:prstGeom prst="rect">
              <a:avLst/>
            </a:prstGeom>
            <a:solidFill>
              <a:srgbClr val="c0504d">
                <a:alpha val="50000"/>
              </a:srgbClr>
            </a:solidFill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Вегетатив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4" descr="j0298897"/>
          <p:cNvPicPr/>
          <p:nvPr/>
        </p:nvPicPr>
        <p:blipFill>
          <a:blip r:embed="rId1"/>
          <a:stretch/>
        </p:blipFill>
        <p:spPr>
          <a:xfrm rot="460200">
            <a:off x="7391520" y="36000"/>
            <a:ext cx="174924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привив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рививках часть побега, называемую привоем, не укореняют, а приживляют к другому растению обычно того же или близкого вида. Это — отличный способ размножения плодовых деревьев ценных сортов, существующий издавна. В наше время часто размножают не целые растения, а культуру растительных клеток, получая из них целые раст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ививка  почкой  (окулировк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0" descr="Рисунок8"/>
          <p:cNvPicPr/>
          <p:nvPr/>
        </p:nvPicPr>
        <p:blipFill>
          <a:blip r:embed="rId1"/>
          <a:stretch/>
        </p:blipFill>
        <p:spPr>
          <a:xfrm>
            <a:off x="1447920" y="1828800"/>
            <a:ext cx="3124080" cy="226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Рисунок9"/>
          <p:cNvPicPr/>
          <p:nvPr/>
        </p:nvPicPr>
        <p:blipFill>
          <a:blip r:embed="rId2"/>
          <a:stretch/>
        </p:blipFill>
        <p:spPr>
          <a:xfrm>
            <a:off x="5359320" y="1981080"/>
            <a:ext cx="2806920" cy="198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Рисунок10"/>
          <p:cNvPicPr/>
          <p:nvPr/>
        </p:nvPicPr>
        <p:blipFill>
          <a:blip r:embed="rId3"/>
          <a:stretch/>
        </p:blipFill>
        <p:spPr>
          <a:xfrm>
            <a:off x="159372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Рисунок11"/>
          <p:cNvPicPr/>
          <p:nvPr/>
        </p:nvPicPr>
        <p:blipFill>
          <a:blip r:embed="rId4"/>
          <a:stretch/>
        </p:blipFill>
        <p:spPr>
          <a:xfrm>
            <a:off x="5362560" y="4114800"/>
            <a:ext cx="2800440" cy="198108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549000"/>
            <a:ext cx="3610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рививок очень разнообразны. Прививают целые веточки и отдельные почки в расщеп побега, к его срезу или надрезу в ко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8"/>
          <p:cNvPicPr/>
          <p:nvPr/>
        </p:nvPicPr>
        <p:blipFill>
          <a:blip r:embed="rId1"/>
          <a:stretch/>
        </p:blipFill>
        <p:spPr>
          <a:xfrm>
            <a:off x="4788000" y="2205000"/>
            <a:ext cx="361152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луковиц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Луковица — подземный, реже надземный побег с очень коротким  уплощенным стеблем (донцем)  и чешуевидными мясистыми, сочными листьями, запасающими воду и питательные вещества. Из верхушечной и пазушных почек луковиц вырастают надземные побеги, а на донце образуются придаточные корни. Луковицы характерны  для растений из   семейства   лилейных   (лилии, тюльпаны, пролески, лук)   и  амариллисовых (амариллисы,  нарциссы, гиацинты). В зависимости от размещения листьев различают луковицы чешуевидные (лук, гиацинт), черепитчатые (лилия) и сборные или сложные (чеснок). В пазухе некоторых чешуек  луковицы  есть  почки, из которых развиваются дочерние  луковицы — детки. Луковицы помогают растению выжить в неблагоприятных условиях и являются органом вегетативного размнож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1"/>
          <p:cNvPicPr/>
          <p:nvPr/>
        </p:nvPicPr>
        <p:blipFill>
          <a:blip r:embed="rId1"/>
          <a:stretch/>
        </p:blipFill>
        <p:spPr>
          <a:xfrm>
            <a:off x="6516720" y="2492280"/>
            <a:ext cx="2195640" cy="16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множение корневыми отпрыс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1600200"/>
            <a:ext cx="5940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растения размножаются корневыми отпрысками. Например: некоторые  из корней малины растут горизонтально, неглубоко от поверхности почвы. На них образуются придаточные почки, из которых вырастают молодые надземные побеги — отпрыски. Корневые отпрыски вместе с частью корней материнского растения можно отделить и посадить на новом мес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4" descr="2"/>
          <p:cNvPicPr/>
          <p:nvPr/>
        </p:nvPicPr>
        <p:blipFill>
          <a:blip r:embed="rId1"/>
          <a:stretch/>
        </p:blipFill>
        <p:spPr>
          <a:xfrm>
            <a:off x="6084720" y="2708280"/>
            <a:ext cx="280836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множение клубнелуковиц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убнелуковицы — внешне похожи на луковицы, но их листья не служат запасающими органами, они сухие, пленчатые, часто это остатки влагалищ отмерших зеленых листьев. Запасающий орган — стеблевая часть клубнелуковицы, она утолщена. Характерны для гладиолусов, шафранов (крокус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3"/>
          <p:cNvPicPr/>
          <p:nvPr/>
        </p:nvPicPr>
        <p:blipFill>
          <a:blip r:embed="rId1"/>
          <a:stretch/>
        </p:blipFill>
        <p:spPr>
          <a:xfrm>
            <a:off x="5724360" y="126828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6156360" y="4417200"/>
            <a:ext cx="244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ки (2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разуются в конце вегетационного периода у основани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мещающей клубнелуковицы (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являются органами вегетативного размножения гладиолу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егетативное размножение, как и семенное размножение,  способствует увеличению числа особей и расселению их. При вегетативном размножении растения наследуют признаки материнского растения. Это используют в практике сельского хозяйства для быстрого получения высоких урожаев (например, клубней картофеля) и для сохранения ценных сортов культурных растений (например, плодовых деревьев при прививк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oml.ru/d/17600/d/1158384213.jpg"/>
          <p:cNvPicPr/>
          <p:nvPr/>
        </p:nvPicPr>
        <p:blipFill>
          <a:blip r:embed="rId1"/>
          <a:stretch/>
        </p:blipFill>
        <p:spPr>
          <a:xfrm>
            <a:off x="179280" y="1168560"/>
            <a:ext cx="4248360" cy="4248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835920" y="560700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картоф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http://oml.ru/d/17600/d/1158384213.jpg"/>
          <p:cNvPicPr/>
          <p:nvPr/>
        </p:nvPicPr>
        <p:blipFill>
          <a:blip r:embed="rId2"/>
          <a:stretch/>
        </p:blipFill>
        <p:spPr>
          <a:xfrm>
            <a:off x="0" y="1214280"/>
            <a:ext cx="4248000" cy="4248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Назовите способ размн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443640" y="6021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11"/>
          <p:cNvPicPr/>
          <p:nvPr/>
        </p:nvPicPr>
        <p:blipFill>
          <a:blip r:embed="rId1"/>
          <a:stretch/>
        </p:blipFill>
        <p:spPr>
          <a:xfrm>
            <a:off x="971640" y="2390760"/>
            <a:ext cx="3240000" cy="271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11"/>
          <p:cNvPicPr/>
          <p:nvPr/>
        </p:nvPicPr>
        <p:blipFill>
          <a:blip r:embed="rId2"/>
          <a:stretch/>
        </p:blipFill>
        <p:spPr>
          <a:xfrm>
            <a:off x="928800" y="2428920"/>
            <a:ext cx="47685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resBCDB9C34-0A01-022A-002E-5A0174F2FC6A"/>
          <p:cNvPicPr/>
          <p:nvPr/>
        </p:nvPicPr>
        <p:blipFill>
          <a:blip r:embed="rId1"/>
          <a:stretch/>
        </p:blipFill>
        <p:spPr>
          <a:xfrm>
            <a:off x="380880" y="1523880"/>
            <a:ext cx="2352960" cy="504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resBCDB9C19-0A01-022A-007C-62055501F467"/>
          <p:cNvPicPr/>
          <p:nvPr/>
        </p:nvPicPr>
        <p:blipFill>
          <a:blip r:embed="rId2"/>
          <a:stretch/>
        </p:blipFill>
        <p:spPr>
          <a:xfrm>
            <a:off x="6248520" y="1600200"/>
            <a:ext cx="2600280" cy="50482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3"/>
          <p:cNvSpPr/>
          <p:nvPr/>
        </p:nvSpPr>
        <p:spPr>
          <a:xfrm>
            <a:off x="6630840" y="3223440"/>
            <a:ext cx="2266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c5a19"/>
                </a:solidFill>
                <a:latin typeface="Arial"/>
              </a:rPr>
              <a:t>Луковые. Лук репчаты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resBCDB9C0E-0A01-022A-0051-2BB1E4BFD47A"/>
          <p:cNvPicPr/>
          <p:nvPr/>
        </p:nvPicPr>
        <p:blipFill>
          <a:blip r:embed="rId3"/>
          <a:stretch/>
        </p:blipFill>
        <p:spPr>
          <a:xfrm>
            <a:off x="3429000" y="1676520"/>
            <a:ext cx="2533680" cy="5048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152280" y="0"/>
            <a:ext cx="800100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.Что общего у этих растений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01680"/>
            <a:ext cx="83059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ы вегетативного размн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лните табл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2438280"/>
          <a:ext cx="7239240" cy="4160880"/>
        </p:xfrm>
        <a:graphic>
          <a:graphicData uri="http://schemas.openxmlformats.org/drawingml/2006/table">
            <a:tbl>
              <a:tblPr/>
              <a:tblGrid>
                <a:gridCol w="441972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особ вегетативного размноже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стья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убня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ковиц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ищ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одка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ивко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пределите,  какой способ вегетативного размножения у папор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{57259C5D-ABEC-4605-A4D5-A1BF71355635}"/>
          <p:cNvPicPr/>
          <p:nvPr/>
        </p:nvPicPr>
        <p:blipFill>
          <a:blip r:embed="rId1"/>
          <a:stretch/>
        </p:blipFill>
        <p:spPr>
          <a:xfrm>
            <a:off x="762120" y="17524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1599840"/>
            <a:ext cx="83059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Как называется тип размножения, в котором участвует только 1 родит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Как размножают яблон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ак размножают картофел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акой орган участвует в размножении картофе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При каком типе размножения растения полностью воспроизводят свойства материнского организ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гетативное размножение-это увеличение числа особей растений в результате их развития из частей материнского растения (побега, кор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корневищ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невище-подземный побег, выполняющий функции отложения запасных питательных веществ, возобновления и вегетативного размножения например: ландыш, копытень, фиалка, пырей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3"/>
          <p:cNvPicPr/>
          <p:nvPr/>
        </p:nvPicPr>
        <p:blipFill>
          <a:blip r:embed="rId1"/>
          <a:stretch/>
        </p:blipFill>
        <p:spPr>
          <a:xfrm>
            <a:off x="5940360" y="1197000"/>
            <a:ext cx="2102040" cy="295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2"/>
          <p:cNvPicPr/>
          <p:nvPr/>
        </p:nvPicPr>
        <p:blipFill>
          <a:blip r:embed="rId2"/>
          <a:stretch/>
        </p:blipFill>
        <p:spPr>
          <a:xfrm>
            <a:off x="6012000" y="4292640"/>
            <a:ext cx="188748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клубн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убни — утолщенные мясистые части стебля, состоящие из одного или нескольких междоузлий. Бывают надземными и подземными. Надземные — утолщение главного стебля (кольраби), боковых   побегов) Часто имеют листья. Надземные клубни являются вместилищем запасных питательных веществ и служат для вегетативного размножения, на них могут находиться пазушные почки с зачатками листьев, которые опадают и служат также для вегетативного размножения (живородная гречих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33000"/>
            <a:ext cx="418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земные клубни — утолщение    подземных   побегов    (картофель,   топинамбур). На подземных клубнях листья редуцированы до чешуек, которые опадают. В пазухах листьев находятся почки — глазки. Подземные клубни обычно развиваются на столонах — дочерних побегах —из почек,  расположенных у основания основного побега,   выглядят   как очень тонкие белые стебельки, несущие маленькие бесцветные чешуевидные листья, растут горизонтально. Клубни развиваются из верхушечных почек стол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4"/>
          <p:cNvPicPr/>
          <p:nvPr/>
        </p:nvPicPr>
        <p:blipFill>
          <a:blip r:embed="rId1"/>
          <a:stretch/>
        </p:blipFill>
        <p:spPr>
          <a:xfrm>
            <a:off x="6012000" y="260280"/>
            <a:ext cx="2257200" cy="36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5"/>
          <p:cNvPicPr/>
          <p:nvPr/>
        </p:nvPicPr>
        <p:blipFill>
          <a:blip r:embed="rId2"/>
          <a:stretch/>
        </p:blipFill>
        <p:spPr>
          <a:xfrm>
            <a:off x="5076720" y="3933720"/>
            <a:ext cx="376740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ножение у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41360"/>
            <a:ext cx="512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земные столоны (усы) — недолговечные ползучие побеги, служащие для вегетативного размножения. Встречаются у многих растений (костяника, полевица ползучая, лесная и садовая земляника). Обычно они лишены развитых зеленых листьев, стебли их тонкие, хрупкие, с очень длинными междоузлиями. Верхушечная почка столона, загибаясь вверх, дает розетку листьев, которая легко укореняется. После укоренения нового растения столоны разрушаются. Народное название этих надземных столонов — у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1"/>
          <p:cNvPicPr/>
          <p:nvPr/>
        </p:nvPicPr>
        <p:blipFill>
          <a:blip r:embed="rId1"/>
          <a:stretch/>
        </p:blipFill>
        <p:spPr>
          <a:xfrm>
            <a:off x="5364000" y="1773360"/>
            <a:ext cx="353556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33"/>
                </a:solidFill>
                <a:latin typeface="Calibri"/>
              </a:rPr>
              <a:t>Размножение «Уса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8" descr="Рисунок1"/>
          <p:cNvPicPr/>
          <p:nvPr/>
        </p:nvPicPr>
        <p:blipFill>
          <a:blip r:embed="rId1"/>
          <a:stretch/>
        </p:blipFill>
        <p:spPr>
          <a:xfrm>
            <a:off x="1068480" y="1614600"/>
            <a:ext cx="7007040" cy="44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46:41Z</dcterms:created>
  <dc:creator>*</dc:creator>
  <dc:description/>
  <dc:language>en-US</dc:language>
  <cp:lastModifiedBy>Admin</cp:lastModifiedBy>
  <dcterms:modified xsi:type="dcterms:W3CDTF">2012-08-29T19:39:24Z</dcterms:modified>
  <cp:revision>14</cp:revision>
  <dc:subject/>
  <dc:title>РАЗМНОЖЕНИЕ РАСТЕНИЙ</dc:title>
</cp:coreProperties>
</file>