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21ED-96CA-4B0B-BC54-52D66FDD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B8D9-D1A8-42C4-84ED-BFEB6FA7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4FCC-D61F-4FC5-A6D8-CC706156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E53F-6484-4510-8617-922F428C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7BAA-89D7-4B5F-8D7C-A3278136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44C5-5AE1-4483-8BAD-FDA56DCD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EFB4-D9BC-43C4-9C27-892452A5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0F08-0CAC-4F64-834C-98453214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FF23-F7C1-4212-9E81-667411FE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1E21-C077-41DA-BF1C-D2126F37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4E19-61B8-4D55-B6F2-A73FD4A1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B056-010C-4E22-9D36-693203CE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DF70-1FBB-42AF-9AE6-CFEBCC6F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C191-27FE-4158-A71E-B221B85B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1CEF-5C3D-4ED1-8290-67E22AF1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B15F-4AD8-4CEF-A1A1-06E5FF24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8F18-299A-415A-9571-4F1E1F0E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C582-112B-45D7-A017-6DAD61BF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C20D-E340-4272-8ED9-28675DC8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A014-8763-40CD-A85D-89D6C8EE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B47B-A65E-4DBC-AF12-8C1B102F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FBF3-821A-435B-8023-DDEBD9A8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1254-FF17-4532-B546-4D9872DB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5F4-629D-45E1-B629-2481E0CA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A48A-DF80-466E-B437-F3A818BCFA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9905-4B8B-401A-AB2D-9B71CA1610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Моя семья – </a:t>
            </a:r>
            <a:br>
              <a:rPr sz="6000"/>
            </a:b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         мое богатство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56642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Что такое семья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емья́ — основанная на браке или кровном родстве малая группа, члены которой связаны общностью быта, взаимной помощью, моральной и правовой ответственностью. В теории семейного права семья определяется как круг лиц, связанных личными неимущественными и имущественными правами и обязанностями, вытекающими из брака, родства, усыно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емья принадлежит к важнейшим общественным ценност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Для ребёнка семья — это среда, в которой складываются условия его физического, психического, эмоционального и интеллектуально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Для взрослого человека семья является источником удовлетворения ряда его потребностей и малым коллективом, предъявляющим к нему разнообразные и достаточно сложные требования. На стадиях жизненного цикла человека последовательно меняются его функции и статус в сем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763640" y="260280"/>
            <a:ext cx="72010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Как появилось слово «семья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Раньше о нём не слыхала Зем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Но Еве сказал перед свадьбой Ад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- Сейчас я тебе семь вопросов зад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Кто деток родит мне, богиня мо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И Ева тихонько ответил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- 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- Кто платье сошьёт, постирает бельё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Меня приласкает, украсит жильё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Ответь на вопрос, подруга моя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- Я, я, я, - Ева молвила - 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Сказала она знаменитых семь «я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767ff"/>
                </a:solidFill>
                <a:latin typeface="Arial"/>
              </a:rPr>
              <a:t>И так на Земле появилась СЕМЬ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16120" cy="1727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1863720" cy="1366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183024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66"/>
                </a:solidFill>
                <a:latin typeface="Arial"/>
              </a:rPr>
              <a:t>Генеология</a:t>
            </a:r>
            <a:r>
              <a:rPr b="0" lang="ru-RU" sz="3400" spc="-1" strike="noStrike">
                <a:solidFill>
                  <a:srgbClr val="000066"/>
                </a:solidFill>
                <a:latin typeface="Arial"/>
              </a:rPr>
              <a:t> – </a:t>
            </a:r>
            <a:r>
              <a:rPr b="0" i="1" lang="ru-RU" sz="3400" spc="-1" strike="noStrike">
                <a:solidFill>
                  <a:srgbClr val="000066"/>
                </a:solidFill>
                <a:latin typeface="Arial"/>
              </a:rPr>
              <a:t>греч.слово,</a:t>
            </a:r>
            <a:r>
              <a:rPr b="0" lang="ru-RU" sz="3400" spc="-1" strike="noStrike">
                <a:solidFill>
                  <a:srgbClr val="000066"/>
                </a:solidFill>
                <a:latin typeface="Arial"/>
              </a:rPr>
              <a:t> родословна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Объект 7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058160" cy="56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Arial"/>
              </a:rPr>
              <a:t>15 мая – международный день семь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392720" cy="2760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3810240" cy="4572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68360" y="4048200"/>
            <a:ext cx="42480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Особое значение для каждой семьи имеют ее обычаи и традиции. Издавна в  семьях укоренялись замечательные традиции, которые я предлагаю сейчас вспомнить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Собираться всей семьей в родительском доме в праздники, а также отмечать семейные праздн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Всем вместе петь и играть на музыкальных инструмент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Приглашать гостей и собирать застоль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Собирать и хранить семейные фотограф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Хранить вещи, принадлежавшие родственникам, как предметы старины и как память о родных и близ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Издревле на существовала традиция: представители одной семьи занимались одним видом деятельности. Так рождались династии гончаров, военных, строителей, учителей, врачей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А теперь я предлагаю вам  рассказать о традициях своей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Загадк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Задам сейчас задачу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ослушай, вот моя семь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едуля, бабушка и б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У нас порядок в доме, л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 чистота, а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ве мамы есть у нас в до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ва папы, два сыноч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Сестра, невестка, доч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А самый младший –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акая же у нас семь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Arial"/>
              </a:rPr>
              <a:t>Пословицы о семье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 семье любовь да совет, так и нужды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 семью, где лад, счастье дорогу не забыв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ся семья вместе, так и душа на 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Дерево держится корнями, а человек семьё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Семья сильна, когда над ней крыша од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 семье согласно, так идёт дело прекрас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На что клад, коли в семье л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 гостях хорошо, а дома луч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916360" y="4097160"/>
            <a:ext cx="396072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Настоящие ценности в семье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Ува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Взаимопоним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Продолжит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3280" y="1793880"/>
            <a:ext cx="421344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05:52:25Z</dcterms:created>
  <dc:creator>Альфия</dc:creator>
  <dc:description/>
  <dc:language>en-US</dc:language>
  <cp:lastModifiedBy>Альфия</cp:lastModifiedBy>
  <dcterms:modified xsi:type="dcterms:W3CDTF">2012-08-31T07:40:00Z</dcterms:modified>
  <cp:revision>3</cp:revision>
  <dc:subject/>
  <dc:title>Моя семья –           мое богатство.</dc:title>
</cp:coreProperties>
</file>