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914-A0BA-403E-8F55-8CD89625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89B-FC79-4B39-A642-F14A8823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9F8-F89B-492B-A6D6-10275DEB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C21-C7AC-45DC-AEA2-DCF635B6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49B2-A713-4700-937B-97F1FC53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D3AA-A85B-464B-9CAE-6B7933E1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27B8-2FB6-4509-AF99-18AD1D17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9EBF-E118-4B35-995B-076BC8C2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816A-F39C-4163-929C-840DFBA5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905D-439D-477E-939B-CC351202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0D6F-3E0E-4686-A1AD-1845F5EA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682-3C3F-4721-A914-2EDA9802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4A69-5009-485E-9514-3814ADB7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4E7A-A6F1-48F7-9689-3E0B50C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E391-8E64-4093-85CD-D14EDE56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5B4B-18B7-48F2-BE38-427B1B5D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8BAE-8644-4352-B22B-A4D5383F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795-6DDF-4900-B560-86430D66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9C1-BF9E-4181-B7F6-AD5CB12A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89A-1923-4C17-B97A-AD8F0E44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E77-D3DA-448A-AC29-BA038639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3B2-A380-4EB5-8167-FF6EC948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250-4D0D-4056-B19B-BF48B6D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EDE-73E9-4294-9333-BD4DFF0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64F1-2255-4FE6-B8AC-2DD2B6062B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575B-AEF5-4319-A40F-DF5EBF62D1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Моя семья – 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         мое богатств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664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Что такое семья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мья́ — основанная на браке или кровном родстве малая группа, члены которой связаны общностью быта, взаимной помощью, моральной и правовой ответственностью. В теории семейного права семья определяется как круг лиц, связанных личными неимущественными и имущественными правами и обязанностями, вытекающими из брака, родства, усын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мья принадлежит к важнейшим общественным ценност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ля ребёнка семья — это среда, в которой складываются условия его физического, психического, эмоционального и интеллектуаль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ля взрослого человека семья является источником удовлетворения ряда его потребностей и малым коллективом, предъявляющим к нему разнообразные и достаточно сложные требования. На стадиях жизненного цикла человека последовательно меняются его функции и статус в сем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63640" y="260280"/>
            <a:ext cx="7201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Как появилось слово «семья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Раньше о нём не слыхала Зем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Но Еве сказал перед свадьбой А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- Сейчас я тебе семь вопросов зад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Кто деток родит мне, богиня мо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И Ева тихонько ответ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- 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- Кто платье сошьёт, постирает бельё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Меня приласкает, украсит жильё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Ответь на вопрос, подруга мо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- Я, я, я, - Ева молвила - 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Сказала она знаменитых семь «я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И так на Земле появилась СЕМ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6120" cy="172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1863720" cy="1366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1830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Генеология</a:t>
            </a: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0" i="1" lang="ru-RU" sz="3400" spc="-1" strike="noStrike">
                <a:solidFill>
                  <a:srgbClr val="000066"/>
                </a:solidFill>
                <a:latin typeface="Arial"/>
              </a:rPr>
              <a:t>греч.слово,</a:t>
            </a: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 родословна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7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058160" cy="56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15 мая – международный день семь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392720" cy="2760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810240" cy="457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8360" y="4048200"/>
            <a:ext cx="4248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собое значение для каждой семьи имеют ее обычаи и традиции. Издавна в  семьях укоренялись замечательные традиции, которые я предлагаю сейчас вспомнить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Собираться всей семьей в родительском доме в праздники, а также отмечать семейные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сем вместе петь и играть на музыкальных инструмен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иглашать гостей и собирать застол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Собирать и хранить семейные фот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Хранить вещи, принадлежавшие родственникам, как предметы старины и как память о родных и близ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Издревле на существовала традиция: представители одной семьи занимались одним видом деятельности. Так рождались династии гончаров, военных, строителей, учителей, враче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А теперь я предлагаю вам  рассказать о традициях свое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Загадк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адам сейчас задачу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слушай, вот моя семь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едуля, бабушка и б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 нас порядок в доме, л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 чистота, а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ве мамы есть у нас в д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ва папы, два сыноч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естра, невестка, доч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 самый младший –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акая же у нас сем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Пословицы о семь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семье любовь да совет, так и нужды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семью, где лад, счастье дорогу не за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ся семья вместе, так и душа на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ерево держится корнями, а человек семьё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емья сильна, когда над ней крыша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семье согласно, так идёт дело прекра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 что клад, коли в семье 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гостях хорошо, а дома луч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16360" y="4097160"/>
            <a:ext cx="39607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Настоящие ценности в семь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Ув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заимопо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родолжи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3280" y="1793880"/>
            <a:ext cx="42134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5:52:25Z</dcterms:created>
  <dc:creator>Альфия</dc:creator>
  <dc:description/>
  <dc:language>en-US</dc:language>
  <cp:lastModifiedBy>Альфия</cp:lastModifiedBy>
  <dcterms:modified xsi:type="dcterms:W3CDTF">2012-08-31T07:40:00Z</dcterms:modified>
  <cp:revision>3</cp:revision>
  <dc:subject/>
  <dc:title>Моя семья –           мое богатство.</dc:title>
</cp:coreProperties>
</file>