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comments/comment1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559675" cy="10691813"/>
</p:presentation>
</file>

<file path=ppt/commentAuthors.xml><?xml version="1.0" encoding="utf-8"?>
<p:cmAuthorLst xmlns:p="http://schemas.openxmlformats.org/presentationml/2006/main">
  <p:cmAuthor id="0" name="Ритм" initials="Р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<Relationship Id="rId22" Type="http://schemas.openxmlformats.org/officeDocument/2006/relationships/commentAuthors" Target="commentAuthors.xml"/>
</Relationships>
</file>

<file path=ppt/comments/comment17.xml><?xml version="1.0" encoding="utf-8"?>
<p:cmLst xmlns:p="http://schemas.openxmlformats.org/presentationml/2006/main">
  <p:cm authorId="0" dt="2012-02-19T21:01:15.248000000" idx="1">
    <p:pos x="6030" y="16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736DD-B5A6-4228-A7FF-EB6F86BA419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F217D-AC82-4908-A651-AE31927A2D6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2924-2FFE-476C-A337-A325464B4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04D7-2658-4428-92BF-C010163D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173C-99ED-42FF-8A97-369B78A8D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AF8A-0E58-4496-8DB2-DE2A08A74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7278-3F5D-44E4-9634-396E9DA0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2099-2390-42FE-86A5-F30923F9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2C53-C19A-4047-8F0F-20D9C591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FEFA-FFA3-4CDB-8206-6C0DD1E5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BC21-B741-45E4-8633-ACD30B53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69C3-A768-431B-BC2A-8A43211E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F924-656C-4A10-8D12-6A602661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059C-12D5-4002-AA8C-F0AEF516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7936DB1-7EB6-49A9-B824-8D8299374A3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968400" y="2279520"/>
            <a:ext cx="79293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042560"/>
            <a:ext cx="8569440" cy="29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8800" spc="-1" strike="noStrike">
                <a:solidFill>
                  <a:srgbClr val="262699"/>
                </a:solidFill>
                <a:latin typeface="Monotype Corsiva"/>
              </a:rPr>
              <a:t>Омонимы и их вид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0000" y="4572000"/>
            <a:ext cx="5184720" cy="273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Автор Камкина Ольга, ученица 5 кла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Руководитель Сысова В. А., учитель русского языка и литерат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8" descr="806011-03d9357f65a8293e.jpg"/>
          <p:cNvPicPr/>
          <p:nvPr/>
        </p:nvPicPr>
        <p:blipFill>
          <a:blip r:embed="rId1"/>
          <a:stretch/>
        </p:blipFill>
        <p:spPr>
          <a:xfrm>
            <a:off x="639720" y="4059360"/>
            <a:ext cx="3237120" cy="2865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539280"/>
            <a:ext cx="8569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262699"/>
                </a:solidFill>
                <a:latin typeface="Monotype Corsiva"/>
              </a:rPr>
              <a:t>Омофоны- </a:t>
            </a:r>
            <a:r>
              <a:rPr b="0" lang="ru-RU" sz="4400" spc="-1" strike="noStrike">
                <a:solidFill>
                  <a:srgbClr val="262699"/>
                </a:solidFill>
                <a:latin typeface="Monotype Corsiva"/>
              </a:rPr>
              <a:t>слова, которые звучат одинаково, но пишутся по-разному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576360" y="2123640"/>
            <a:ext cx="8928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уг                                       л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т                                   плод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C:\Users\Ритм\Pictures\img6.jpg"/>
          <p:cNvPicPr/>
          <p:nvPr/>
        </p:nvPicPr>
        <p:blipFill>
          <a:blip r:embed="rId1"/>
          <a:stretch/>
        </p:blipFill>
        <p:spPr>
          <a:xfrm>
            <a:off x="5616720" y="2354400"/>
            <a:ext cx="1655640" cy="1468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792000" y="24112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http://t2.gstatic.com/images?q=tbn:ANd9GcQUJcTNFY_EexJKPoOAsYPrMUIcyU4qm51UogooFM2QSmUH3jGoYKNxbA"/>
          <p:cNvPicPr/>
          <p:nvPr/>
        </p:nvPicPr>
        <p:blipFill>
          <a:blip r:embed="rId3"/>
          <a:stretch/>
        </p:blipFill>
        <p:spPr>
          <a:xfrm>
            <a:off x="5761080" y="4643280"/>
            <a:ext cx="1295280" cy="1729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4"/>
          <a:stretch/>
        </p:blipFill>
        <p:spPr>
          <a:xfrm>
            <a:off x="863640" y="4788000"/>
            <a:ext cx="1800360" cy="13507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466560"/>
            <a:ext cx="8569440" cy="20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262699"/>
                </a:solidFill>
                <a:latin typeface="Monotype Corsiva"/>
              </a:rPr>
              <a:t>Омографы-</a:t>
            </a:r>
            <a:r>
              <a:rPr b="0" lang="ru-RU" sz="4000" spc="-1" strike="noStrike">
                <a:solidFill>
                  <a:srgbClr val="262699"/>
                </a:solidFill>
                <a:latin typeface="Monotype Corsiva"/>
              </a:rPr>
              <a:t> слова, которые пишутся одинаково, но произносятся по-разному, они имеют ударение на разных слог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31280" y="2410920"/>
            <a:ext cx="9217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мок                                зам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тлас                                атл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Users\Ритм\Pictures\img9.jpg"/>
          <p:cNvPicPr/>
          <p:nvPr/>
        </p:nvPicPr>
        <p:blipFill>
          <a:blip r:embed="rId1"/>
          <a:stretch/>
        </p:blipFill>
        <p:spPr>
          <a:xfrm>
            <a:off x="431640" y="3274920"/>
            <a:ext cx="1722600" cy="1297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Users\Ритм\Pictures\img10.jpg"/>
          <p:cNvPicPr/>
          <p:nvPr/>
        </p:nvPicPr>
        <p:blipFill>
          <a:blip r:embed="rId2"/>
          <a:stretch/>
        </p:blipFill>
        <p:spPr>
          <a:xfrm>
            <a:off x="5472000" y="3203640"/>
            <a:ext cx="1428840" cy="1218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Users\Ритм\Pictures\img13.jpg"/>
          <p:cNvPicPr/>
          <p:nvPr/>
        </p:nvPicPr>
        <p:blipFill>
          <a:blip r:embed="rId3"/>
          <a:stretch/>
        </p:blipFill>
        <p:spPr>
          <a:xfrm>
            <a:off x="360360" y="5075280"/>
            <a:ext cx="1773360" cy="1251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C:\Users\Ритм\Pictures\img14.jpg"/>
          <p:cNvPicPr/>
          <p:nvPr/>
        </p:nvPicPr>
        <p:blipFill>
          <a:blip r:embed="rId4"/>
          <a:stretch/>
        </p:blipFill>
        <p:spPr>
          <a:xfrm>
            <a:off x="5256360" y="5075280"/>
            <a:ext cx="1679400" cy="12650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7280" y="466200"/>
            <a:ext cx="9069480" cy="17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262699"/>
                </a:solidFill>
                <a:latin typeface="Monotype Corsiva"/>
              </a:rPr>
              <a:t>Причины появления омонимов ( по мнению Д.Э. Розенталя ,</a:t>
            </a:r>
            <a:br>
              <a:rPr sz="4400"/>
            </a:br>
            <a:r>
              <a:rPr b="1" lang="ru-RU" sz="4400" spc="-1" strike="noStrike">
                <a:solidFill>
                  <a:srgbClr val="262699"/>
                </a:solidFill>
                <a:latin typeface="Monotype Corsiva"/>
              </a:rPr>
              <a:t> В.В. Виноградова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02920" y="2411280"/>
            <a:ext cx="906948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73000"/>
          </a:bodyPr>
          <a:p>
            <a:pPr marL="250200" indent="-250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 результате заимствования иноязычных слов происходит совпадение в звучании и написан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Monotype Corsiva"/>
              </a:rPr>
              <a:t>   </a:t>
            </a: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брак</a:t>
            </a:r>
            <a:r>
              <a:rPr b="0" lang="ru-RU" sz="3200" spc="-1" strike="noStrike">
                <a:solidFill>
                  <a:srgbClr val="00b050"/>
                </a:solidFill>
                <a:latin typeface="Monotype Corsiva"/>
              </a:rPr>
              <a:t>-семейные отношения между мужчиной и женщи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Monotype Corsiva"/>
              </a:rPr>
              <a:t>   </a:t>
            </a:r>
            <a:r>
              <a:rPr b="1" lang="en-US" sz="3200" spc="-1" strike="noStrike">
                <a:solidFill>
                  <a:srgbClr val="00b050"/>
                </a:solidFill>
                <a:latin typeface="Monotype Corsiva"/>
              </a:rPr>
              <a:t>brack</a:t>
            </a:r>
            <a:r>
              <a:rPr b="0" lang="en-US" sz="3200" spc="-1" strike="noStrike">
                <a:solidFill>
                  <a:srgbClr val="00b050"/>
                </a:solidFill>
                <a:latin typeface="Monotype Corsiva"/>
              </a:rPr>
              <a:t>( </a:t>
            </a:r>
            <a:r>
              <a:rPr b="0" lang="ru-RU" sz="3200" spc="-1" strike="noStrike">
                <a:solidFill>
                  <a:srgbClr val="00b050"/>
                </a:solidFill>
                <a:latin typeface="Monotype Corsiva"/>
              </a:rPr>
              <a:t>из нем.)-недостат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 результате образования новых слов из имеющихся в языке корней и аффик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городище-</a:t>
            </a:r>
            <a:r>
              <a:rPr b="0" lang="ru-RU" sz="3200" spc="-1" strike="noStrike">
                <a:solidFill>
                  <a:srgbClr val="00b050"/>
                </a:solidFill>
                <a:latin typeface="Monotype Corsiva"/>
              </a:rPr>
              <a:t> « место древнего посел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  </a:t>
            </a: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городище- </a:t>
            </a:r>
            <a:r>
              <a:rPr b="0" lang="ru-RU" sz="3200" spc="-1" strike="noStrike">
                <a:solidFill>
                  <a:srgbClr val="00b050"/>
                </a:solidFill>
                <a:latin typeface="Monotype Corsiva"/>
              </a:rPr>
              <a:t>увеличительное от слова </a:t>
            </a: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г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0360" y="323640"/>
            <a:ext cx="9360000" cy="17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Омонимами становятся исконно русские слова, претерпевшие различные изменения в результате фонетических и морфологических процессов язы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87280" y="2124000"/>
            <a:ext cx="90741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Monotype Corsiva"/>
              </a:rPr>
              <a:t>                   </a:t>
            </a: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Лук-</a:t>
            </a:r>
            <a:r>
              <a:rPr b="0" lang="ru-RU" sz="3200" spc="-1" strike="noStrike">
                <a:solidFill>
                  <a:srgbClr val="00b050"/>
                </a:solidFill>
                <a:latin typeface="Monotype Corsiva"/>
              </a:rPr>
              <a:t> старинное оруж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Monotype Corsiva"/>
              </a:rPr>
              <a:t>                                         </a:t>
            </a: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Лук-</a:t>
            </a:r>
            <a:r>
              <a:rPr b="0" lang="ru-RU" sz="3200" spc="-1" strike="noStrike">
                <a:solidFill>
                  <a:srgbClr val="00b050"/>
                </a:solidFill>
                <a:latin typeface="Monotype Corsiva"/>
              </a:rPr>
              <a:t> огородное раст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Источник появления омонимов- распад многозначного сло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Свет-</a:t>
            </a:r>
            <a:r>
              <a:rPr b="0" lang="ru-RU" sz="3600" spc="-1" strike="noStrike">
                <a:solidFill>
                  <a:srgbClr val="00b05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вселен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Monotype Corsiva"/>
              </a:rPr>
              <a:t>     </a:t>
            </a: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Свет- рассвет, восход солн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C:\Users\Ритм\Pictures\img6.jpg"/>
          <p:cNvPicPr/>
          <p:nvPr/>
        </p:nvPicPr>
        <p:blipFill>
          <a:blip r:embed="rId1"/>
          <a:stretch/>
        </p:blipFill>
        <p:spPr>
          <a:xfrm>
            <a:off x="431640" y="2266920"/>
            <a:ext cx="1428840" cy="1266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Users\Ритм\Pictures\img5.jpg"/>
          <p:cNvPicPr/>
          <p:nvPr/>
        </p:nvPicPr>
        <p:blipFill>
          <a:blip r:embed="rId2"/>
          <a:stretch/>
        </p:blipFill>
        <p:spPr>
          <a:xfrm>
            <a:off x="7848720" y="2266920"/>
            <a:ext cx="1224000" cy="149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72000" y="900000"/>
            <a:ext cx="6121440" cy="59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В 1972 году впервые явление омонимии признано и зафиксировано в Словаре Сергея Ивановича Ожегова 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03280" y="611280"/>
            <a:ext cx="3087720" cy="345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1640" y="394920"/>
            <a:ext cx="9288720" cy="67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Функционирование омонимов в речи, как правило, не вызывает особых затруднений. Прежде всего, контекст уточняет смысловую структуру таких слов, исключая неуместное толкование. К тому же омонимы, принадлежат к разным сферам употребления. Намеренное столкновение омонимов всегда было незаменимым средством остроумной игры слов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466560"/>
            <a:ext cx="856944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600" spc="-1" strike="noStrike">
                <a:solidFill>
                  <a:srgbClr val="7030a0"/>
                </a:solidFill>
                <a:latin typeface="Monotype Corsiva"/>
              </a:rPr>
              <a:t>Результат исследования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31280" y="1258920"/>
            <a:ext cx="9145800" cy="5834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Омонимия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— это универсальная языковая категория; она возникает естественным путем в результате действия различных языковых закономерностей. Обычно говорящие ее не замечают, если не возникают определенные ситуации. Чаще всего омонимы появляются в результате процессов словообразования и семантического распада многозначности. Также омонимия может возникнуть в результате звуковых изменений. Возможно появление омонимов в результате иноязычного заимство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2556000"/>
            <a:ext cx="9069480" cy="30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8000" spc="-1" strike="noStrike">
                <a:solidFill>
                  <a:srgbClr val="ff0000"/>
                </a:solidFill>
                <a:latin typeface="Monotype Corsiva"/>
              </a:rPr>
              <a:t>Спасибо за внимание!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539280"/>
            <a:ext cx="906948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Monotype Corsiva"/>
              </a:rPr>
              <a:t>В словарном составе русского языка наблюдается три типа отношений между словами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2920" y="1979640"/>
            <a:ext cx="906948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262699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262699"/>
                </a:solidFill>
                <a:latin typeface="Monotype Corsiva"/>
              </a:rPr>
              <a:t>-  </a:t>
            </a:r>
            <a:r>
              <a:rPr b="0" lang="ru-RU" sz="4000" spc="-1" strike="noStrike" u="sng">
                <a:solidFill>
                  <a:srgbClr val="262699"/>
                </a:solidFill>
                <a:uFillTx/>
                <a:latin typeface="Monotype Corsiva"/>
              </a:rPr>
              <a:t>омонимич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262699"/>
                </a:solidFill>
                <a:latin typeface="Monotype Corsiva"/>
              </a:rPr>
              <a:t>-   </a:t>
            </a:r>
            <a:r>
              <a:rPr b="0" lang="ru-RU" sz="4000" spc="-1" strike="noStrike" u="sng">
                <a:solidFill>
                  <a:srgbClr val="262699"/>
                </a:solidFill>
                <a:uFillTx/>
                <a:latin typeface="Monotype Corsiva"/>
              </a:rPr>
              <a:t>синонимич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262699"/>
                </a:solidFill>
                <a:latin typeface="Monotype Corsiva"/>
              </a:rPr>
              <a:t>-   </a:t>
            </a:r>
            <a:r>
              <a:rPr b="0" lang="ru-RU" sz="3600" spc="-1" strike="noStrike" u="sng">
                <a:solidFill>
                  <a:srgbClr val="262699"/>
                </a:solidFill>
                <a:uFillTx/>
                <a:latin typeface="Monotype Corsiva"/>
              </a:rPr>
              <a:t>антонимич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Users\Ритм\Pictures\i (14).jpg"/>
          <p:cNvPicPr/>
          <p:nvPr/>
        </p:nvPicPr>
        <p:blipFill>
          <a:blip r:embed="rId1"/>
          <a:stretch/>
        </p:blipFill>
        <p:spPr>
          <a:xfrm>
            <a:off x="6264360" y="3274920"/>
            <a:ext cx="3246480" cy="3635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647640" y="1187280"/>
            <a:ext cx="2592360" cy="35989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87640" y="539280"/>
            <a:ext cx="583272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262699"/>
                </a:solidFill>
                <a:latin typeface="Monotype Corsiva"/>
              </a:rPr>
              <a:t>В основу исследования легли научные труды</a:t>
            </a:r>
            <a:br>
              <a:rPr sz="4800"/>
            </a:br>
            <a:r>
              <a:rPr b="1" lang="ru-RU" sz="4800" spc="-1" strike="noStrike">
                <a:solidFill>
                  <a:srgbClr val="262699"/>
                </a:solidFill>
                <a:latin typeface="Monotype Corsiva"/>
              </a:rPr>
              <a:t>по омонимии академика В.В. Виноградов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949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262699"/>
                </a:solidFill>
                <a:latin typeface="Monotype Corsiva"/>
              </a:rPr>
              <a:t>Цель работы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на основе анализа лингвистической литературы дать представление о том, как в современной науке освещается явление омоним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Users\Ритм\Pictures\к5.jpg"/>
          <p:cNvPicPr/>
          <p:nvPr/>
        </p:nvPicPr>
        <p:blipFill>
          <a:blip r:embed="rId1"/>
          <a:stretch/>
        </p:blipFill>
        <p:spPr>
          <a:xfrm>
            <a:off x="6119640" y="4427640"/>
            <a:ext cx="2808360" cy="2695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262699"/>
                </a:solidFill>
                <a:latin typeface="Monotype Corsiva"/>
              </a:rPr>
              <a:t>Задачи исследования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проанализировать разные подходы в определении омоним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познакомиться с историей освещения данного вопрос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Users\Ритм\Pictures\к1.jpg"/>
          <p:cNvPicPr/>
          <p:nvPr/>
        </p:nvPicPr>
        <p:blipFill>
          <a:blip r:embed="rId1"/>
          <a:stretch/>
        </p:blipFill>
        <p:spPr>
          <a:xfrm>
            <a:off x="503280" y="4643280"/>
            <a:ext cx="1846080" cy="223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6920" y="539280"/>
            <a:ext cx="900108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5400" spc="-1" strike="noStrike">
                <a:solidFill>
                  <a:srgbClr val="262699"/>
                </a:solidFill>
                <a:latin typeface="Monotype Corsiva"/>
              </a:rPr>
              <a:t> </a:t>
            </a:r>
            <a:r>
              <a:rPr b="1" i="1" lang="ru-RU" sz="5400" spc="-1" strike="noStrike">
                <a:solidFill>
                  <a:srgbClr val="262699"/>
                </a:solidFill>
                <a:latin typeface="Monotype Corsiva"/>
              </a:rPr>
              <a:t>Предмет исследования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60000" y="1834920"/>
            <a:ext cx="943308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лексико-лингвистический анализ категории слов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5400" spc="-1" strike="noStrike">
                <a:solidFill>
                  <a:srgbClr val="262699"/>
                </a:solidFill>
                <a:latin typeface="Monotype Corsiva"/>
              </a:rPr>
              <a:t>Объект исследования: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явление омоним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262699"/>
                </a:solidFill>
                <a:latin typeface="Monotype Corsiva"/>
              </a:rPr>
              <a:t>Методы исследования: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нализ научной литературы, обобщение и систематизация полученных сведений; методы сплошной выборки, наблюдения и анализ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262699"/>
                </a:solidFill>
                <a:latin typeface="Monotype Corsiva"/>
              </a:rPr>
              <a:t>Омонимы- слова, которые  звучат одинаково, но имеют совершенно разные значени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02920" y="3564000"/>
            <a:ext cx="9069480" cy="3192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еч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s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инак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yma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Users\Ритм\Pictures\ккк4).jpg"/>
          <p:cNvPicPr/>
          <p:nvPr/>
        </p:nvPicPr>
        <p:blipFill>
          <a:blip r:embed="rId1"/>
          <a:stretch/>
        </p:blipFill>
        <p:spPr>
          <a:xfrm>
            <a:off x="6985080" y="442764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611280"/>
            <a:ext cx="3781440" cy="61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262699"/>
                </a:solidFill>
                <a:latin typeface="Monotype Corsiva"/>
              </a:rPr>
              <a:t>Омоним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319280" y="466200"/>
            <a:ext cx="5545080" cy="640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4800" spc="-1" strike="noStrike">
                <a:solidFill>
                  <a:srgbClr val="262699"/>
                </a:solidFill>
                <a:latin typeface="Monotype Corsiva"/>
              </a:rPr>
              <a:t>омофор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262699"/>
                </a:solidFill>
                <a:latin typeface="Monotype Corsiva"/>
              </a:rPr>
              <a:t>           </a:t>
            </a:r>
            <a:r>
              <a:rPr b="0" lang="ru-RU" sz="4800" spc="-1" strike="noStrike">
                <a:solidFill>
                  <a:srgbClr val="262699"/>
                </a:solidFill>
                <a:latin typeface="Monotype Corsiva"/>
              </a:rPr>
              <a:t>омограф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262699"/>
                </a:solidFill>
                <a:latin typeface="Monotype Corsiva"/>
              </a:rPr>
              <a:t>           </a:t>
            </a:r>
            <a:r>
              <a:rPr b="0" lang="ru-RU" sz="4800" spc="-1" strike="noStrike">
                <a:solidFill>
                  <a:srgbClr val="262699"/>
                </a:solidFill>
                <a:latin typeface="Monotype Corsiva"/>
              </a:rPr>
              <a:t>омофор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Прямая со стрелкой 4"/>
          <p:cNvCxnSpPr/>
          <p:nvPr/>
        </p:nvCxnSpPr>
        <p:spPr>
          <a:xfrm flipV="1">
            <a:off x="4392720" y="1692000"/>
            <a:ext cx="1224720" cy="12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Прямая со стрелкой 9"/>
          <p:cNvCxnSpPr/>
          <p:nvPr/>
        </p:nvCxnSpPr>
        <p:spPr>
          <a:xfrm>
            <a:off x="4535640" y="3850920"/>
            <a:ext cx="12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Прямая со стрелкой 13"/>
          <p:cNvCxnSpPr/>
          <p:nvPr/>
        </p:nvCxnSpPr>
        <p:spPr>
          <a:xfrm>
            <a:off x="4392360" y="4427280"/>
            <a:ext cx="1152720" cy="158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8920" y="610920"/>
            <a:ext cx="856908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262699"/>
                </a:solidFill>
                <a:latin typeface="Monotype Corsiva"/>
              </a:rPr>
              <a:t>Омоформы</a:t>
            </a:r>
            <a:r>
              <a:rPr b="0" lang="ru-RU" sz="4400" spc="-1" strike="noStrike">
                <a:solidFill>
                  <a:srgbClr val="262699"/>
                </a:solidFill>
                <a:latin typeface="Monotype Corsiva"/>
              </a:rPr>
              <a:t>- слова ,совпадающие лишь в одной грамматической форм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216000" y="2050560"/>
            <a:ext cx="943272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- числительное в И.п.( три друг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– глагол 2 л.( три морковь на терке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7488360" y="2411280"/>
            <a:ext cx="1923840" cy="1428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Users\Ритм\Desktop\т.jpg"/>
          <p:cNvPicPr/>
          <p:nvPr/>
        </p:nvPicPr>
        <p:blipFill>
          <a:blip r:embed="rId2"/>
          <a:stretch/>
        </p:blipFill>
        <p:spPr>
          <a:xfrm>
            <a:off x="7561440" y="4643280"/>
            <a:ext cx="1800000" cy="16527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09:16:56Z</dcterms:created>
  <dc:creator/>
  <dc:description/>
  <dc:language>en-US</dc:language>
  <cp:lastModifiedBy>Ритм</cp:lastModifiedBy>
  <dcterms:modified xsi:type="dcterms:W3CDTF">2012-02-20T18:25:29Z</dcterms:modified>
  <cp:revision>57</cp:revision>
  <dc:subject/>
  <dc:title>Слайд 1</dc:title>
</cp:coreProperties>
</file>