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8.png" ContentType="image/png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9-01T00:39:28.32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A73-4FDC-4C5A-9DC9-299220D8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4D4-D73C-4EFC-B7B6-DD2B6E4C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F7C-54BE-4975-B180-A5F70551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83C-DC91-4456-BD19-D1ADFE48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06B30-1655-4FE8-BD04-867591C0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8A651-4687-434F-9E98-9494B800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FB04B-4291-4ADA-9773-12CF6C4B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B8F0C-6AA6-4DDB-8AE5-5F3816C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2FA5-D5FC-45B3-8DD0-CA184ACC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2AAE1-405F-4F49-AD4D-C2C59676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74858-DF5A-425A-80BE-9DC1277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38B-8182-4EED-8842-332AFC83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FAAB7-07F5-4679-BC59-CFCA3B2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898C8-5CA2-44FB-9BA5-7258B6FA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65032-A482-4280-8F16-BC8C205A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62EDF-01B2-4805-B467-6BD119E1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71B15-DC48-4169-B1C3-975144AC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F12D-909F-4A4C-B20F-892D4642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6F8D-B576-4DDE-AAA6-7E105194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D9CF-B223-4FA1-9C77-EA41D272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00C4-76E2-49C6-ADC2-A383D366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93178-5A19-4E1D-B01D-AD923625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693-4595-4209-A299-387734EF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E7C1-A688-40EB-9332-F88E5FD0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F269-AB13-4CF9-A509-5ECEDA9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4D23-F5FF-47BD-9CEA-5145A50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EF0D-D23A-43A9-9DE8-2655A064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6C7EC-E2B1-42AB-B3F0-F4176EF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E05C-CE8E-4E1B-BCE2-9C64E633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EAAE6-79E4-48A5-82DD-04326D39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DEE2FE-5678-41CF-873C-DB99D9EC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8A4EF-0C8C-4F71-8DE6-4243B400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5A7EF-385F-4BBD-B75C-0AC86A83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62C-F133-4605-BA96-BA6F36EC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1CB47-84CB-4CE8-A8AD-9FACBC9D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4DF22-6FF5-4352-B407-423D6AE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CB3A9-8A07-43F6-BD60-637DA452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6EC85-4B9E-4F1D-A248-0640F8F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57886-90C7-44E6-B563-399CFAC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F2CC7-5060-4B6A-856C-EFFD8600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3E731-8B9B-4F9C-9CC5-549D4DFA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59787-B94A-4F2F-99A2-6481BE4D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69EA4-3F29-4820-8EDE-A343AF3C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A7C-D292-421C-93C0-F3D64DF7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FEB-B192-4C62-A072-5AE0803B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B81-57AC-45ED-8A7E-664C29CF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3EE-147F-40EE-BE31-512F9953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8CC-79B1-4CE6-903F-F35DD7E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677F-2AA0-49BE-8F83-3ED4B534E9C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88D7-1F20-4A52-BDFA-0886F91B72A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424-BC73-4DE7-A681-2B1A455CFBD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83F1-04CA-4F77-B7DC-997A40F0F99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nstantia"/>
              </a:rPr>
              <a:t>Классный час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296200" cy="197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анимашки кошки"/>
          <p:cNvPicPr/>
          <p:nvPr/>
        </p:nvPicPr>
        <p:blipFill>
          <a:blip r:embed="rId2"/>
          <a:stretch/>
        </p:blipFill>
        <p:spPr>
          <a:xfrm>
            <a:off x="428760" y="357120"/>
            <a:ext cx="973080" cy="1600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анимашки кошки"/>
          <p:cNvPicPr/>
          <p:nvPr/>
        </p:nvPicPr>
        <p:blipFill>
          <a:blip r:embed="rId3"/>
          <a:stretch/>
        </p:blipFill>
        <p:spPr>
          <a:xfrm>
            <a:off x="7500960" y="357120"/>
            <a:ext cx="973080" cy="1600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анимашки кошки"/>
          <p:cNvPicPr/>
          <p:nvPr/>
        </p:nvPicPr>
        <p:blipFill>
          <a:blip r:embed="rId4"/>
          <a:stretch/>
        </p:blipFill>
        <p:spPr>
          <a:xfrm>
            <a:off x="7643880" y="4786200"/>
            <a:ext cx="973080" cy="1600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анимашки кошки"/>
          <p:cNvPicPr/>
          <p:nvPr/>
        </p:nvPicPr>
        <p:blipFill>
          <a:blip r:embed="rId5"/>
          <a:stretch/>
        </p:blipFill>
        <p:spPr>
          <a:xfrm>
            <a:off x="714240" y="4857840"/>
            <a:ext cx="9734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177" name="Picture 35" descr="5"/>
            <p:cNvPicPr/>
            <p:nvPr/>
          </p:nvPicPr>
          <p:blipFill>
            <a:blip r:embed="rId6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6" descr="5"/>
            <p:cNvPicPr/>
            <p:nvPr/>
          </p:nvPicPr>
          <p:blipFill>
            <a:blip r:embed="rId7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7" descr="5"/>
            <p:cNvPicPr/>
            <p:nvPr/>
          </p:nvPicPr>
          <p:blipFill>
            <a:blip r:embed="rId8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8" descr="5"/>
            <p:cNvPicPr/>
            <p:nvPr/>
          </p:nvPicPr>
          <p:blipFill>
            <a:blip r:embed="rId9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« Счастлив тот, кто счастлив у себя дом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Лев Толст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butterfly61"/>
          <p:cNvPicPr/>
          <p:nvPr/>
        </p:nvPicPr>
        <p:blipFill>
          <a:blip r:embed="rId2"/>
          <a:stretch/>
        </p:blipFill>
        <p:spPr>
          <a:xfrm rot="2752200">
            <a:off x="1231920" y="3664080"/>
            <a:ext cx="1581120" cy="1714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butterfly61"/>
          <p:cNvPicPr/>
          <p:nvPr/>
        </p:nvPicPr>
        <p:blipFill>
          <a:blip r:embed="rId3"/>
          <a:stretch/>
        </p:blipFill>
        <p:spPr>
          <a:xfrm rot="2752200">
            <a:off x="4874760" y="3163680"/>
            <a:ext cx="15811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186" name="Picture 35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6" descr="5"/>
            <p:cNvPicPr/>
            <p:nvPr/>
          </p:nvPicPr>
          <p:blipFill>
            <a:blip r:embed="rId5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7" descr="5"/>
            <p:cNvPicPr/>
            <p:nvPr/>
          </p:nvPicPr>
          <p:blipFill>
            <a:blip r:embed="rId6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38" descr="5"/>
            <p:cNvPicPr/>
            <p:nvPr/>
          </p:nvPicPr>
          <p:blipFill>
            <a:blip r:embed="rId7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454960" cy="6010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77280" cy="6357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улице дождь непрерывный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дома тепло и светл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можно на бурые лив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койно смотреть сквозь стекл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ут можно укрыться от зно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астись от морозного дн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хорошее место родное -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мой так и тянет мен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95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196" name="Picture 35" descr="5"/>
            <p:cNvPicPr/>
            <p:nvPr/>
          </p:nvPicPr>
          <p:blipFill>
            <a:blip r:embed="rId1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6" descr="5"/>
            <p:cNvPicPr/>
            <p:nvPr/>
          </p:nvPicPr>
          <p:blipFill>
            <a:blip r:embed="rId2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7" descr="5"/>
            <p:cNvPicPr/>
            <p:nvPr/>
          </p:nvPicPr>
          <p:blipFill>
            <a:blip r:embed="rId3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8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16" descr="flowers15"/>
          <p:cNvPicPr/>
          <p:nvPr/>
        </p:nvPicPr>
        <p:blipFill>
          <a:blip r:embed="rId5"/>
          <a:stretch/>
        </p:blipFill>
        <p:spPr>
          <a:xfrm>
            <a:off x="6858000" y="1143000"/>
            <a:ext cx="1327320" cy="167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flowers15"/>
          <p:cNvPicPr/>
          <p:nvPr/>
        </p:nvPicPr>
        <p:blipFill>
          <a:blip r:embed="rId6"/>
          <a:stretch/>
        </p:blipFill>
        <p:spPr>
          <a:xfrm>
            <a:off x="7000920" y="3786120"/>
            <a:ext cx="1326960" cy="1676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flowers15"/>
          <p:cNvPicPr/>
          <p:nvPr/>
        </p:nvPicPr>
        <p:blipFill>
          <a:blip r:embed="rId7"/>
          <a:stretch/>
        </p:blipFill>
        <p:spPr>
          <a:xfrm>
            <a:off x="7000920" y="2357280"/>
            <a:ext cx="132696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Кто это делает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Стира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Готовит обе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Моет обув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ылесоси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Выносит мусо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оливает цве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8114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206" name="Picture 35" descr="5"/>
            <p:cNvPicPr/>
            <p:nvPr/>
          </p:nvPicPr>
          <p:blipFill>
            <a:blip r:embed="rId2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6" descr="5"/>
            <p:cNvPicPr/>
            <p:nvPr/>
          </p:nvPicPr>
          <p:blipFill>
            <a:blip r:embed="rId3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7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8" descr="5"/>
            <p:cNvPicPr/>
            <p:nvPr/>
          </p:nvPicPr>
          <p:blipFill>
            <a:blip r:embed="rId5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Picture 12" descr="dis19"/>
          <p:cNvPicPr/>
          <p:nvPr/>
        </p:nvPicPr>
        <p:blipFill>
          <a:blip r:embed="rId6"/>
          <a:stretch/>
        </p:blipFill>
        <p:spPr>
          <a:xfrm>
            <a:off x="857160" y="2000160"/>
            <a:ext cx="33339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77280" cy="6357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С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Е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М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Ь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Я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9240" y="-115920"/>
            <a:ext cx="8474040" cy="1494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216" name="Picture 35" descr="5"/>
            <p:cNvPicPr/>
            <p:nvPr/>
          </p:nvPicPr>
          <p:blipFill>
            <a:blip r:embed="rId2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6" descr="5"/>
            <p:cNvPicPr/>
            <p:nvPr/>
          </p:nvPicPr>
          <p:blipFill>
            <a:blip r:embed="rId3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7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8" descr="5"/>
            <p:cNvPicPr/>
            <p:nvPr/>
          </p:nvPicPr>
          <p:blipFill>
            <a:blip r:embed="rId5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Picture 15" descr="dis2"/>
          <p:cNvPicPr/>
          <p:nvPr/>
        </p:nvPicPr>
        <p:blipFill>
          <a:blip r:embed="rId6"/>
          <a:stretch/>
        </p:blipFill>
        <p:spPr>
          <a:xfrm>
            <a:off x="3691080" y="1757520"/>
            <a:ext cx="32382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Не балуйте меня, вы этим меня порти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Если вы будете давать обещания, которые не можете выполнить, я перестану вам доверя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Не делайте для меня или за меня то, что я могу сделать са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Относитесь ко мне как к друг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Не пытайтесь от меня отделаться, если я задаю много вопро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Я вас люблю, пожалуйста и вы отвечайте мне любовь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224" name="Picture 35" descr="5"/>
            <p:cNvPicPr/>
            <p:nvPr/>
          </p:nvPicPr>
          <p:blipFill>
            <a:blip r:embed="rId2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6" descr="5"/>
            <p:cNvPicPr/>
            <p:nvPr/>
          </p:nvPicPr>
          <p:blipFill>
            <a:blip r:embed="rId3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7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8" descr="5"/>
            <p:cNvPicPr/>
            <p:nvPr/>
          </p:nvPicPr>
          <p:blipFill>
            <a:blip r:embed="rId5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20:46:04Z</dcterms:created>
  <dc:creator>Admin</dc:creator>
  <dc:description/>
  <dc:language>en-US</dc:language>
  <cp:lastModifiedBy>Admin</cp:lastModifiedBy>
  <dcterms:modified xsi:type="dcterms:W3CDTF">2012-09-01T18:52:40Z</dcterms:modified>
  <cp:revision>16</cp:revision>
  <dc:subject/>
  <dc:title>Слайд 1</dc:title>
</cp:coreProperties>
</file>