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90C-B89E-4026-B61C-30F30428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66D-38D0-4871-A4D6-2DA69B83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678-32CA-440C-8A35-48EDB14C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BBA-F0CF-4B92-8588-085E51BF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24E6-FE7E-43BB-BCFD-6D214B6A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5452-BD2C-43E1-AA30-A8AE1FBE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B227-FD28-42A5-A6F8-B86227CF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F094-80F9-413F-A859-429B6EA1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DE02-12D9-4BD8-9748-2DA844FF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2C79-8C05-41A0-8972-F41AD4BB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FC00-0BC7-42FF-B276-D4C43E5D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682-D496-4F50-B62E-3B846AF6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CBB5-932C-4AA0-BD3E-3FA1D212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D5C6-3A93-43EC-9E85-BE9FE6F4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62AC-9D1F-48DE-932F-61335135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B4E7-80D9-478F-89C4-025543D5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01F3-C3CB-4F74-B76F-0012357B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03C-ED52-4222-943C-3628C883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9C3-7383-4D00-8C17-A4FC1A91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7C0-5EE9-476C-839D-68A1BADF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A59-D489-4B16-A391-A5D5C998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06E-C01C-4DC9-B69C-607EE1B6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575-BE90-4706-A144-E47E7502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0E3-EA53-4C5D-AA60-61DA1B48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14CF-20E5-44E8-8418-17F9909D19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E0E8-A829-4B83-955E-E3F7D096C5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нение асимметр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9" descr="Картина2"/>
          <p:cNvPicPr/>
          <p:nvPr/>
        </p:nvPicPr>
        <p:blipFill>
          <a:blip r:embed="rId1"/>
          <a:stretch/>
        </p:blipFill>
        <p:spPr>
          <a:xfrm>
            <a:off x="755640" y="260280"/>
            <a:ext cx="3600360" cy="3525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Картина3"/>
          <p:cNvPicPr/>
          <p:nvPr/>
        </p:nvPicPr>
        <p:blipFill>
          <a:blip r:embed="rId2"/>
          <a:stretch/>
        </p:blipFill>
        <p:spPr>
          <a:xfrm>
            <a:off x="5148360" y="260280"/>
            <a:ext cx="3527280" cy="3525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Картина 1"/>
          <p:cNvPicPr/>
          <p:nvPr/>
        </p:nvPicPr>
        <p:blipFill>
          <a:blip r:embed="rId3"/>
          <a:stretch/>
        </p:blipFill>
        <p:spPr>
          <a:xfrm>
            <a:off x="755640" y="3938760"/>
            <a:ext cx="3600360" cy="2919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японцы"/>
          <p:cNvPicPr/>
          <p:nvPr/>
        </p:nvPicPr>
        <p:blipFill>
          <a:blip r:embed="rId4"/>
          <a:stretch/>
        </p:blipFill>
        <p:spPr>
          <a:xfrm>
            <a:off x="5148360" y="3938760"/>
            <a:ext cx="3600360" cy="29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скульпту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́мятник Ми́нину и Пожа́рском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скульптурная группа из бронзы, созданная Иваном Мартосом; расположена перед Собором Василия Блаженного на Красной площади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6" descr="минин1"/>
          <p:cNvPicPr/>
          <p:nvPr/>
        </p:nvPicPr>
        <p:blipFill>
          <a:blip r:embed="rId1"/>
          <a:stretch/>
        </p:blipFill>
        <p:spPr>
          <a:xfrm>
            <a:off x="971640" y="1628640"/>
            <a:ext cx="3671640" cy="43214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скульпту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мятник «Родина Мать» в Волгогра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а скульптора Е.В.Вучетича и инженера Н.В.Никитина представляет собой многометровую фигуру женщины, стремительно шагнувшей вперед с поднятым меч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7" descr="родина2"/>
          <p:cNvPicPr/>
          <p:nvPr/>
        </p:nvPicPr>
        <p:blipFill>
          <a:blip r:embed="rId1"/>
          <a:stretch/>
        </p:blipFill>
        <p:spPr>
          <a:xfrm>
            <a:off x="179280" y="1628640"/>
            <a:ext cx="4464000" cy="3816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симметрия в проектиров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симметрия лучше всего подходит к гражданскому проектированию широкого масштаб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ощадь Сан Марио в Вене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Сан Марио"/>
          <p:cNvPicPr/>
          <p:nvPr/>
        </p:nvPicPr>
        <p:blipFill>
          <a:blip r:embed="rId2"/>
          <a:stretch/>
        </p:blipFill>
        <p:spPr>
          <a:xfrm>
            <a:off x="611280" y="1700280"/>
            <a:ext cx="388944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98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лицы Флоре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флоренция1"/>
          <p:cNvPicPr/>
          <p:nvPr/>
        </p:nvPicPr>
        <p:blipFill>
          <a:blip r:embed="rId1"/>
          <a:stretch/>
        </p:blipFill>
        <p:spPr>
          <a:xfrm>
            <a:off x="900000" y="1916280"/>
            <a:ext cx="1511280" cy="2160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флоренция2"/>
          <p:cNvPicPr/>
          <p:nvPr/>
        </p:nvPicPr>
        <p:blipFill>
          <a:blip r:embed="rId2"/>
          <a:stretch/>
        </p:blipFill>
        <p:spPr>
          <a:xfrm>
            <a:off x="2700360" y="1916280"/>
            <a:ext cx="1944720" cy="2100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флоренция3"/>
          <p:cNvPicPr/>
          <p:nvPr/>
        </p:nvPicPr>
        <p:blipFill>
          <a:blip r:embed="rId3"/>
          <a:stretch/>
        </p:blipFill>
        <p:spPr>
          <a:xfrm>
            <a:off x="5219640" y="1989000"/>
            <a:ext cx="2087640" cy="1967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лицы Флоре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флоренция4"/>
          <p:cNvPicPr/>
          <p:nvPr/>
        </p:nvPicPr>
        <p:blipFill>
          <a:blip r:embed="rId1"/>
          <a:stretch/>
        </p:blipFill>
        <p:spPr>
          <a:xfrm>
            <a:off x="324000" y="1697040"/>
            <a:ext cx="2232000" cy="2379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флоренция5"/>
          <p:cNvPicPr/>
          <p:nvPr/>
        </p:nvPicPr>
        <p:blipFill>
          <a:blip r:embed="rId2"/>
          <a:stretch/>
        </p:blipFill>
        <p:spPr>
          <a:xfrm>
            <a:off x="3059280" y="1773360"/>
            <a:ext cx="1655640" cy="2303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флоренция6"/>
          <p:cNvPicPr/>
          <p:nvPr/>
        </p:nvPicPr>
        <p:blipFill>
          <a:blip r:embed="rId3"/>
          <a:stretch/>
        </p:blipFill>
        <p:spPr>
          <a:xfrm>
            <a:off x="4932360" y="1844640"/>
            <a:ext cx="190332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архитекту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стовский кост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роен на Украине  в последней четверти 19 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текторы В.Домбовский и Ф.Троупян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симметрия проявляется в архитектурном объеме. Южная башня почти в двое выше север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f-kost3-1ea28"/>
          <p:cNvPicPr/>
          <p:nvPr/>
        </p:nvPicPr>
        <p:blipFill>
          <a:blip r:embed="rId1"/>
          <a:stretch/>
        </p:blipFill>
        <p:spPr>
          <a:xfrm>
            <a:off x="5219640" y="3357720"/>
            <a:ext cx="246708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бор Спасо-Преображения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Ярославл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ор Спасо-Преображения (1506— 1516), был перестроен при восстановлении после пожара н. XVI 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57680" y="1600200"/>
            <a:ext cx="4029120" cy="4525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Спаса-Преображение"/>
          <p:cNvPicPr/>
          <p:nvPr/>
        </p:nvPicPr>
        <p:blipFill>
          <a:blip r:embed="rId2"/>
          <a:stretch/>
        </p:blipFill>
        <p:spPr>
          <a:xfrm>
            <a:off x="4788000" y="1628640"/>
            <a:ext cx="352908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 современно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3" name="Picture 12" descr="дом1"/>
          <p:cNvPicPr/>
          <p:nvPr/>
        </p:nvPicPr>
        <p:blipFill>
          <a:blip r:embed="rId1"/>
          <a:stretch/>
        </p:blipFill>
        <p:spPr>
          <a:xfrm>
            <a:off x="179280" y="1484280"/>
            <a:ext cx="8137800" cy="51134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 современных домов подчинено идеи асиммет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ание Национале в Праге. Архитектор Френк Гери</a:t>
            </a:r>
            <a:r>
              <a:rPr b="0" lang="ru-RU" sz="1600" spc="-1" strike="noStrike">
                <a:solidFill>
                  <a:srgbClr val="99ff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архитекту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Picture 4" descr="дом4"/>
          <p:cNvPicPr/>
          <p:nvPr/>
        </p:nvPicPr>
        <p:blipFill>
          <a:blip r:embed="rId1"/>
          <a:stretch/>
        </p:blipFill>
        <p:spPr>
          <a:xfrm>
            <a:off x="611280" y="1600200"/>
            <a:ext cx="8064360" cy="49975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4573080" y="1700280"/>
            <a:ext cx="3880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ей Херфоррда в Германн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итектор Фрэнк Ге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симметрия - это нарушение симметрии , соразмерности или ее отсутств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архитекту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9" name="Picture 10" descr="дом2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4537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небоскреба в Майа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архитекту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Picture 7" descr="дом3"/>
          <p:cNvPicPr/>
          <p:nvPr/>
        </p:nvPicPr>
        <p:blipFill>
          <a:blip r:embed="rId1"/>
          <a:stretch/>
        </p:blipFill>
        <p:spPr>
          <a:xfrm>
            <a:off x="826920" y="1484280"/>
            <a:ext cx="7848720" cy="40323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- этажный небоскреб в Манчесте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одежд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ежде асимметрию можно обнаружить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симметрично надетом шарфе или косынке на ше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4" descr="одежда1"/>
          <p:cNvPicPr/>
          <p:nvPr/>
        </p:nvPicPr>
        <p:blipFill>
          <a:blip r:embed="rId1"/>
          <a:stretch/>
        </p:blipFill>
        <p:spPr>
          <a:xfrm>
            <a:off x="539640" y="3357720"/>
            <a:ext cx="3745080" cy="2722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одежд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рманах ( рисунке), которые расположены на одной стороне изде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одежда2"/>
          <p:cNvPicPr/>
          <p:nvPr/>
        </p:nvPicPr>
        <p:blipFill>
          <a:blip r:embed="rId1"/>
          <a:stretch/>
        </p:blipFill>
        <p:spPr>
          <a:xfrm>
            <a:off x="324000" y="2349360"/>
            <a:ext cx="6912000" cy="410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одежд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симметричном акценте с помощью цв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одежда4"/>
          <p:cNvPicPr/>
          <p:nvPr/>
        </p:nvPicPr>
        <p:blipFill>
          <a:blip r:embed="rId1"/>
          <a:stretch/>
        </p:blipFill>
        <p:spPr>
          <a:xfrm>
            <a:off x="826920" y="2476440"/>
            <a:ext cx="4032360" cy="311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одежд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симметричном покрое издел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одежда3"/>
          <p:cNvPicPr/>
          <p:nvPr/>
        </p:nvPicPr>
        <p:blipFill>
          <a:blip r:embed="rId1"/>
          <a:stretch/>
        </p:blipFill>
        <p:spPr>
          <a:xfrm>
            <a:off x="468360" y="2060640"/>
            <a:ext cx="5327640" cy="3570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прическ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ризонтальная асиммет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лосы с одной стороны лица значительно длинее чем с друг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прически1"/>
          <p:cNvPicPr/>
          <p:nvPr/>
        </p:nvPicPr>
        <p:blipFill>
          <a:blip r:embed="rId2"/>
          <a:stretch/>
        </p:blipFill>
        <p:spPr>
          <a:xfrm>
            <a:off x="250920" y="1628640"/>
            <a:ext cx="3529080" cy="482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прическ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1" name="Picture 9" descr="прически3"/>
          <p:cNvPicPr/>
          <p:nvPr/>
        </p:nvPicPr>
        <p:blipFill>
          <a:blip r:embed="rId1"/>
          <a:stretch/>
        </p:blipFill>
        <p:spPr>
          <a:xfrm>
            <a:off x="830160" y="1600200"/>
            <a:ext cx="3291120" cy="4525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иагональная асимметр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одну сторону прически имеют большую пышность, а по другую почти лишены объ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ир является бедным и бесплодным, без свободного и богатого разнообразия асимметр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тирэ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имметрия всегда придает пластической форме динамику и выявляет ее потенциальную способность к движению. Поэтому принципы асимметрии лежат в основе изображения предметов движущихся или имеющих какое-то отношение к движению, либо предметов, в которых надо выразить внутреннюю энергию, жизн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биолог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симметрия у камбалы  возникла  в результате эволюции при изменении условий жизни. Эта рыба ведет придонный образ жизни, поэтому глаза ее располагаются на одной стороне те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7" descr="камбала2"/>
          <p:cNvPicPr/>
          <p:nvPr/>
        </p:nvPicPr>
        <p:blipFill>
          <a:blip r:embed="rId2"/>
          <a:stretch/>
        </p:blipFill>
        <p:spPr>
          <a:xfrm>
            <a:off x="468360" y="2133720"/>
            <a:ext cx="4032360" cy="3241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симметрия внутренних органов в организме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13" descr="система"/>
          <p:cNvPicPr/>
          <p:nvPr/>
        </p:nvPicPr>
        <p:blipFill>
          <a:blip r:embed="rId1"/>
          <a:stretch/>
        </p:blipFill>
        <p:spPr>
          <a:xfrm>
            <a:off x="941400" y="1600200"/>
            <a:ext cx="3068640" cy="4525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дце и аорта расположены в левой части, крупные вены – в пра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 мыш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лагодаря асимметрии мышц, тело приобретает большее изяществ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ышцы верхней части руки (бицепс и трицеп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clip_image001"/>
          <p:cNvPicPr/>
          <p:nvPr/>
        </p:nvPicPr>
        <p:blipFill>
          <a:blip r:embed="rId2"/>
          <a:stretch/>
        </p:blipFill>
        <p:spPr>
          <a:xfrm>
            <a:off x="1187280" y="3429000"/>
            <a:ext cx="2376720" cy="1951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Асимметрия головного мозг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лушарие отвечает з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ное мышл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интуитивное, эмоциональное и обращено в прошлое. Функции правого - врожденны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лушарие отвечает за абстрактное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ллектуальное мышл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Функции левого полушария обращены в будущее. Однако мозг функционирует как единое  цел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7" descr="мозг2"/>
          <p:cNvPicPr/>
          <p:nvPr/>
        </p:nvPicPr>
        <p:blipFill>
          <a:blip r:embed="rId1"/>
          <a:stretch/>
        </p:blipFill>
        <p:spPr>
          <a:xfrm>
            <a:off x="1187280" y="1341360"/>
            <a:ext cx="2953080" cy="2374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мозг1"/>
          <p:cNvPicPr/>
          <p:nvPr/>
        </p:nvPicPr>
        <p:blipFill>
          <a:blip r:embed="rId2"/>
          <a:stretch/>
        </p:blipFill>
        <p:spPr>
          <a:xfrm>
            <a:off x="1187280" y="378936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искусств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зэнские са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художественный прием асимметрия придает динамику, разнообразие произведению искус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восточных культурах широко используется идея асиммет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симметричная форма присуща дзэнскому саду камн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сад камней3"/>
          <p:cNvPicPr/>
          <p:nvPr/>
        </p:nvPicPr>
        <p:blipFill>
          <a:blip r:embed="rId1"/>
          <a:stretch/>
        </p:blipFill>
        <p:spPr>
          <a:xfrm>
            <a:off x="1116000" y="1700280"/>
            <a:ext cx="2476440" cy="171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сад Камней Япония"/>
          <p:cNvPicPr/>
          <p:nvPr/>
        </p:nvPicPr>
        <p:blipFill>
          <a:blip r:embed="rId2"/>
          <a:stretch/>
        </p:blipFill>
        <p:spPr>
          <a:xfrm>
            <a:off x="1042920" y="4149720"/>
            <a:ext cx="2298600" cy="1716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живопис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понская живопи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бражение на японских или китайских картинах должно быть сдвинуто к краю и занимать сравнительно небольшую площадь, уравновешиваясь более значительным свободным полем, символизирующим беспредельность ми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4:48:11Z</dcterms:created>
  <dc:creator>HOME</dc:creator>
  <dc:description/>
  <dc:language>en-US</dc:language>
  <cp:lastModifiedBy>User</cp:lastModifiedBy>
  <dcterms:modified xsi:type="dcterms:W3CDTF">2012-09-01T14:27:00Z</dcterms:modified>
  <cp:revision>66</cp:revision>
  <dc:subject/>
  <dc:title>Применение асимметрии</dc:title>
</cp:coreProperties>
</file>