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5E3-9B85-4809-B2AB-829BC70C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FE9-952F-4DD5-A145-60A5259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AEC-769B-4BF1-BE9D-05FEF1A0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193-0A5C-418F-A7AF-FE6CB383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1519-EC8A-4774-920C-69B4F398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F1B4-8539-4EAF-A1F1-8D30E4F0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BE6A-DA7B-4AAF-9F72-360DC42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5CB1-404D-4A7B-A180-E9697976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6F59-36F3-47B6-A7C3-1C4A003D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2EDE-351D-4A46-82EA-C516C7F9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2C3F-9F1B-479B-83DF-C6B0E8D3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241-AF81-48E2-AAF3-16C179EA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0379-3A9B-4BBE-8CB0-0741116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94CF-52A7-4ACA-A0B2-E75154D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064B-8245-4D84-B9D5-0F3ABB49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E1DD-DE2C-4A52-92E1-D6D5BC01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CFA9-A064-4E8C-908E-77E4E562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61A-EC29-400B-9473-EC72A003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1BB-525B-40A7-AB69-2F481204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152-FF9A-4998-9B1C-18CDBACC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57F-4290-4550-925A-4B71C4C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F2F-FFA1-4763-99D1-DF4221AE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8D5-0540-45B4-AC80-352CF03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209-4B4E-4CFF-B3D2-E49EE49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7B59-7069-45DA-910E-BAD3E7F636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D96F-CB9C-491F-A6B5-C818D0F0DE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асимметр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9" descr="Картина2"/>
          <p:cNvPicPr/>
          <p:nvPr/>
        </p:nvPicPr>
        <p:blipFill>
          <a:blip r:embed="rId1"/>
          <a:stretch/>
        </p:blipFill>
        <p:spPr>
          <a:xfrm>
            <a:off x="755640" y="260280"/>
            <a:ext cx="3600360" cy="352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Картина3"/>
          <p:cNvPicPr/>
          <p:nvPr/>
        </p:nvPicPr>
        <p:blipFill>
          <a:blip r:embed="rId2"/>
          <a:stretch/>
        </p:blipFill>
        <p:spPr>
          <a:xfrm>
            <a:off x="5148360" y="260280"/>
            <a:ext cx="3527280" cy="3525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Картина 1"/>
          <p:cNvPicPr/>
          <p:nvPr/>
        </p:nvPicPr>
        <p:blipFill>
          <a:blip r:embed="rId3"/>
          <a:stretch/>
        </p:blipFill>
        <p:spPr>
          <a:xfrm>
            <a:off x="755640" y="3938760"/>
            <a:ext cx="3600360" cy="2919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японцы"/>
          <p:cNvPicPr/>
          <p:nvPr/>
        </p:nvPicPr>
        <p:blipFill>
          <a:blip r:embed="rId4"/>
          <a:stretch/>
        </p:blipFill>
        <p:spPr>
          <a:xfrm>
            <a:off x="5148360" y="3938760"/>
            <a:ext cx="3600360" cy="29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скульп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́мятник Ми́нину и Пожа́рско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скульптурная группа из бронзы, созданная Иваном Мартосом; расположена перед Собором Василия Блаженного на Красной площади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6" descr="минин1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321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скульп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ник «Родина Мать» в Волгогра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 скульптора Е.В.Вучетича и инженера Н.В.Никитина представляет собой многометровую фигуру женщины, стремительно шагнувшей вперед с поднятым меч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родина2"/>
          <p:cNvPicPr/>
          <p:nvPr/>
        </p:nvPicPr>
        <p:blipFill>
          <a:blip r:embed="rId1"/>
          <a:stretch/>
        </p:blipFill>
        <p:spPr>
          <a:xfrm>
            <a:off x="179280" y="1628640"/>
            <a:ext cx="4464000" cy="3816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симметрия в проектиров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имметрия лучше всего подходит к гражданскому проектированию широкого масштаб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щадь Сан Марио в Вене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Сан Марио"/>
          <p:cNvPicPr/>
          <p:nvPr/>
        </p:nvPicPr>
        <p:blipFill>
          <a:blip r:embed="rId2"/>
          <a:stretch/>
        </p:blipFill>
        <p:spPr>
          <a:xfrm>
            <a:off x="611280" y="1700280"/>
            <a:ext cx="388944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лицы Фло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флоренция1"/>
          <p:cNvPicPr/>
          <p:nvPr/>
        </p:nvPicPr>
        <p:blipFill>
          <a:blip r:embed="rId1"/>
          <a:stretch/>
        </p:blipFill>
        <p:spPr>
          <a:xfrm>
            <a:off x="900000" y="1916280"/>
            <a:ext cx="1511280" cy="2160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флоренция2"/>
          <p:cNvPicPr/>
          <p:nvPr/>
        </p:nvPicPr>
        <p:blipFill>
          <a:blip r:embed="rId2"/>
          <a:stretch/>
        </p:blipFill>
        <p:spPr>
          <a:xfrm>
            <a:off x="2700360" y="1916280"/>
            <a:ext cx="1944720" cy="2100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флоренция3"/>
          <p:cNvPicPr/>
          <p:nvPr/>
        </p:nvPicPr>
        <p:blipFill>
          <a:blip r:embed="rId3"/>
          <a:stretch/>
        </p:blipFill>
        <p:spPr>
          <a:xfrm>
            <a:off x="5219640" y="1989000"/>
            <a:ext cx="2087640" cy="1967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лицы Флоре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флоренция4"/>
          <p:cNvPicPr/>
          <p:nvPr/>
        </p:nvPicPr>
        <p:blipFill>
          <a:blip r:embed="rId1"/>
          <a:stretch/>
        </p:blipFill>
        <p:spPr>
          <a:xfrm>
            <a:off x="324000" y="1697040"/>
            <a:ext cx="2232000" cy="2379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флоренция5"/>
          <p:cNvPicPr/>
          <p:nvPr/>
        </p:nvPicPr>
        <p:blipFill>
          <a:blip r:embed="rId2"/>
          <a:stretch/>
        </p:blipFill>
        <p:spPr>
          <a:xfrm>
            <a:off x="3059280" y="1773360"/>
            <a:ext cx="1655640" cy="2303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флоренция6"/>
          <p:cNvPicPr/>
          <p:nvPr/>
        </p:nvPicPr>
        <p:blipFill>
          <a:blip r:embed="rId3"/>
          <a:stretch/>
        </p:blipFill>
        <p:spPr>
          <a:xfrm>
            <a:off x="4932360" y="1844640"/>
            <a:ext cx="190332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архитек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стовский кост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роен на Украине  в последней четверти 19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текторы В.Домбовский и Ф.Троупянс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симметрия проявляется в архитектурном объеме. Южная башня почти в двое выше север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f-kost3-1ea28"/>
          <p:cNvPicPr/>
          <p:nvPr/>
        </p:nvPicPr>
        <p:blipFill>
          <a:blip r:embed="rId1"/>
          <a:stretch/>
        </p:blipFill>
        <p:spPr>
          <a:xfrm>
            <a:off x="5219640" y="3357720"/>
            <a:ext cx="24670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бор Спасо-Преображения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Ярославл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ор Спасо-Преображения (1506— 1516), был перестроен при восстановлении после пожара н. XVI 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57680" y="1600200"/>
            <a:ext cx="402912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Спаса-Преображение"/>
          <p:cNvPicPr/>
          <p:nvPr/>
        </p:nvPicPr>
        <p:blipFill>
          <a:blip r:embed="rId2"/>
          <a:stretch/>
        </p:blipFill>
        <p:spPr>
          <a:xfrm>
            <a:off x="4788000" y="1628640"/>
            <a:ext cx="352908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 современ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12" descr="дом1"/>
          <p:cNvPicPr/>
          <p:nvPr/>
        </p:nvPicPr>
        <p:blipFill>
          <a:blip r:embed="rId1"/>
          <a:stretch/>
        </p:blipFill>
        <p:spPr>
          <a:xfrm>
            <a:off x="179280" y="1484280"/>
            <a:ext cx="8137800" cy="51134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 современных домов подчинено идеи асиммет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ание Национале в Праге. Архитектор Френк Гери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архитек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Picture 4" descr="дом4"/>
          <p:cNvPicPr/>
          <p:nvPr/>
        </p:nvPicPr>
        <p:blipFill>
          <a:blip r:embed="rId1"/>
          <a:stretch/>
        </p:blipFill>
        <p:spPr>
          <a:xfrm>
            <a:off x="611280" y="1600200"/>
            <a:ext cx="8064360" cy="49975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4573080" y="1700280"/>
            <a:ext cx="388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ей Херфоррда в Герман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тектор Фрэнк Ге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имметрия - это нарушение симметрии , соразмерности или ее отсутст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архитек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Picture 10" descr="дом2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537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небоскреба в Майа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архитектур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7" descr="дом3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4032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- этажный небоскреб в Манчест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одежд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ежде асимметрию можно обнаружить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симметрично надетом шарфе или косынке на ше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" descr="одежда1"/>
          <p:cNvPicPr/>
          <p:nvPr/>
        </p:nvPicPr>
        <p:blipFill>
          <a:blip r:embed="rId1"/>
          <a:stretch/>
        </p:blipFill>
        <p:spPr>
          <a:xfrm>
            <a:off x="539640" y="3357720"/>
            <a:ext cx="3745080" cy="2722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одежд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рманах ( рисунке), которые расположены на одной стороне изде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одежда2"/>
          <p:cNvPicPr/>
          <p:nvPr/>
        </p:nvPicPr>
        <p:blipFill>
          <a:blip r:embed="rId1"/>
          <a:stretch/>
        </p:blipFill>
        <p:spPr>
          <a:xfrm>
            <a:off x="324000" y="2349360"/>
            <a:ext cx="6912000" cy="410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одежд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симметричном акценте с помощью цв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одежда4"/>
          <p:cNvPicPr/>
          <p:nvPr/>
        </p:nvPicPr>
        <p:blipFill>
          <a:blip r:embed="rId1"/>
          <a:stretch/>
        </p:blipFill>
        <p:spPr>
          <a:xfrm>
            <a:off x="826920" y="2476440"/>
            <a:ext cx="4032360" cy="311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одежд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симметричном покрое издел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одежда3"/>
          <p:cNvPicPr/>
          <p:nvPr/>
        </p:nvPicPr>
        <p:blipFill>
          <a:blip r:embed="rId1"/>
          <a:stretch/>
        </p:blipFill>
        <p:spPr>
          <a:xfrm>
            <a:off x="468360" y="2060640"/>
            <a:ext cx="5327640" cy="3570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прическ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ризонтальная асиммет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лосы с одной стороны лица значительно длинее чем с дру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прически1"/>
          <p:cNvPicPr/>
          <p:nvPr/>
        </p:nvPicPr>
        <p:blipFill>
          <a:blip r:embed="rId2"/>
          <a:stretch/>
        </p:blipFill>
        <p:spPr>
          <a:xfrm>
            <a:off x="250920" y="1628640"/>
            <a:ext cx="3529080" cy="48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прическ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Picture 9" descr="прически3"/>
          <p:cNvPicPr/>
          <p:nvPr/>
        </p:nvPicPr>
        <p:blipFill>
          <a:blip r:embed="rId1"/>
          <a:stretch/>
        </p:blipFill>
        <p:spPr>
          <a:xfrm>
            <a:off x="830160" y="1600200"/>
            <a:ext cx="3291120" cy="4525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иагональная асимметр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одну сторону прически имеют большую пышность, а по другую почти лишены объ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ир является бедным и бесплодным, без свободного и богатого разнообразия асимметр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тир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имметрия всегда придает пластической форме динамику и выявляет ее потенциальную способность к движению. Поэтому принципы асимметрии лежат в основе изображения предметов движущихся или имеющих какое-то отношение к движению, либо предметов, в которых надо выразить внутреннюю энергию, жизн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биолог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имметрия у камбалы  возникла  в результате эволюции при изменении условий жизни. Эта рыба ведет придонный образ жизни, поэтому глаза ее располагаются на одной стороне те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камбала2"/>
          <p:cNvPicPr/>
          <p:nvPr/>
        </p:nvPicPr>
        <p:blipFill>
          <a:blip r:embed="rId2"/>
          <a:stretch/>
        </p:blipFill>
        <p:spPr>
          <a:xfrm>
            <a:off x="468360" y="2133720"/>
            <a:ext cx="4032360" cy="3241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симметрия внутренних органов в организме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13" descr="система"/>
          <p:cNvPicPr/>
          <p:nvPr/>
        </p:nvPicPr>
        <p:blipFill>
          <a:blip r:embed="rId1"/>
          <a:stretch/>
        </p:blipFill>
        <p:spPr>
          <a:xfrm>
            <a:off x="941400" y="1600200"/>
            <a:ext cx="3068640" cy="4525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дце и аорта расположены в левой части, крупные вены – в пра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 мыш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агодаря асимметрии мышц, тело приобретает большее изяществ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шцы верхней части руки (бицепс и трицеп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clip_image001"/>
          <p:cNvPicPr/>
          <p:nvPr/>
        </p:nvPicPr>
        <p:blipFill>
          <a:blip r:embed="rId2"/>
          <a:stretch/>
        </p:blipFill>
        <p:spPr>
          <a:xfrm>
            <a:off x="1187280" y="3429000"/>
            <a:ext cx="237672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Асимметрия головного мозг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лушарие отвечает з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ное мышл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нтуитивное, эмоциональное и обращено в прошлое. Функции правого - врожденны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о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лушарие отвечает за абстрактное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ллектуальное мышл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Функции левого полушария обращены в будущее. Однако мозг функционирует как единое  цел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7" descr="мозг2"/>
          <p:cNvPicPr/>
          <p:nvPr/>
        </p:nvPicPr>
        <p:blipFill>
          <a:blip r:embed="rId1"/>
          <a:stretch/>
        </p:blipFill>
        <p:spPr>
          <a:xfrm>
            <a:off x="1187280" y="1341360"/>
            <a:ext cx="2953080" cy="237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мозг1"/>
          <p:cNvPicPr/>
          <p:nvPr/>
        </p:nvPicPr>
        <p:blipFill>
          <a:blip r:embed="rId2"/>
          <a:stretch/>
        </p:blipFill>
        <p:spPr>
          <a:xfrm>
            <a:off x="1187280" y="378936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искусств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зэнские са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художественный прием асимметрия придает динамику, разнообразие произведению искус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восточных культурах широко используется идея асиммет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имметричная форма присуща дзэнскому саду камн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сад камней3"/>
          <p:cNvPicPr/>
          <p:nvPr/>
        </p:nvPicPr>
        <p:blipFill>
          <a:blip r:embed="rId1"/>
          <a:stretch/>
        </p:blipFill>
        <p:spPr>
          <a:xfrm>
            <a:off x="1116000" y="1700280"/>
            <a:ext cx="2476440" cy="171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сад Камней Япония"/>
          <p:cNvPicPr/>
          <p:nvPr/>
        </p:nvPicPr>
        <p:blipFill>
          <a:blip r:embed="rId2"/>
          <a:stretch/>
        </p:blipFill>
        <p:spPr>
          <a:xfrm>
            <a:off x="1042920" y="4149720"/>
            <a:ext cx="2298600" cy="171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симметрия в живопис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понская живоп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бражение на японских или китайских картинах должно быть сдвинуто к краю и занимать сравнительно небольшую площадь, уравновешиваясь более значительным свободным полем, символизирующим беспредельность ми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4:48:11Z</dcterms:created>
  <dc:creator>HOME</dc:creator>
  <dc:description/>
  <dc:language>en-US</dc:language>
  <cp:lastModifiedBy>User</cp:lastModifiedBy>
  <dcterms:modified xsi:type="dcterms:W3CDTF">2012-09-01T14:27:00Z</dcterms:modified>
  <cp:revision>66</cp:revision>
  <dc:subject/>
  <dc:title>Применение асимметрии</dc:title>
</cp:coreProperties>
</file>