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487-EB94-4A5A-B706-A9438E58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93D-314E-46DD-9385-2C045378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1A0-0D82-4B8D-8080-14F6F82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03A-BE88-445B-B67D-3899416F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0EE-EEF8-4621-8E9F-3D316A3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D63-88E6-405B-80CE-5282A248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CBB-C888-4B98-A324-5C49992C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0E7-4274-4529-858F-F7667CF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05F-EA39-4CF3-A5D6-CB4000EC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4D9-0B6F-495A-AA45-3B4AAD3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D9E-F0E6-41F3-B45E-ECB0A8B2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33C-9ECC-4827-A02F-142BA3F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F93-EBF1-4E90-ADFB-2751C3087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4360" y="2133720"/>
            <a:ext cx="777528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ИЛАКТИ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ТИЧЕСКОЙ ДИСГРАФИИ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311840" y="2080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Что бывает такого цвет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26920" y="1125360"/>
            <a:ext cx="914400" cy="914400"/>
          </a:xfrm>
          <a:prstGeom prst="rect">
            <a:avLst/>
          </a:prstGeom>
          <a:solidFill>
            <a:srgbClr val="e3350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067280" y="1125360"/>
            <a:ext cx="914400" cy="914400"/>
          </a:xfrm>
          <a:prstGeom prst="rect">
            <a:avLst/>
          </a:prstGeom>
          <a:solidFill>
            <a:srgbClr val="dee72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667640" y="1197000"/>
            <a:ext cx="914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740720" y="5229360"/>
            <a:ext cx="914400" cy="914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924360" y="5084640"/>
            <a:ext cx="914400" cy="914400"/>
          </a:xfrm>
          <a:prstGeom prst="rect">
            <a:avLst/>
          </a:prstGeom>
          <a:solidFill>
            <a:srgbClr val="1cf24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00000" y="522936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10"/>
          <p:cNvGraphicFramePr/>
          <p:nvPr/>
        </p:nvGraphicFramePr>
        <p:xfrm>
          <a:off x="3708360" y="3284640"/>
          <a:ext cx="1554120" cy="4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3284640"/>
                    <a:ext cx="15541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1"/>
          <p:cNvGraphicFramePr/>
          <p:nvPr/>
        </p:nvGraphicFramePr>
        <p:xfrm>
          <a:off x="2195640" y="3068640"/>
          <a:ext cx="887400" cy="73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3068640"/>
                    <a:ext cx="8874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5796000" y="3068640"/>
          <a:ext cx="100656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6000" y="3068640"/>
                    <a:ext cx="10065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0.57483 0.14689 E"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0118E-006 L -0.35434 -0.09461 E">
                                      <p:cBhvr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8.46866E-006 L -0.20469 -0.10503 E">
                                      <p:cBhvr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99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>
            <a:off x="5435640" y="5589720"/>
            <a:ext cx="151272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"/>
          <p:cNvSpPr/>
          <p:nvPr/>
        </p:nvSpPr>
        <p:spPr>
          <a:xfrm>
            <a:off x="4427640" y="4005360"/>
            <a:ext cx="79200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059280" y="2492280"/>
            <a:ext cx="201600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5"/>
          <p:cNvSpPr/>
          <p:nvPr/>
        </p:nvSpPr>
        <p:spPr>
          <a:xfrm>
            <a:off x="7093080" y="3284640"/>
            <a:ext cx="718920" cy="718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7"/>
          <p:cNvSpPr/>
          <p:nvPr/>
        </p:nvSpPr>
        <p:spPr>
          <a:xfrm>
            <a:off x="1476360" y="4437000"/>
            <a:ext cx="93672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971640" y="2276640"/>
            <a:ext cx="1008000" cy="100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2268360" y="549360"/>
            <a:ext cx="371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крась фигур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BD18253_"/>
          <p:cNvPicPr/>
          <p:nvPr/>
        </p:nvPicPr>
        <p:blipFill>
          <a:blip r:embed="rId1"/>
          <a:stretch/>
        </p:blipFill>
        <p:spPr>
          <a:xfrm>
            <a:off x="2627280" y="1628640"/>
            <a:ext cx="723960" cy="6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BD18253_"/>
          <p:cNvPicPr/>
          <p:nvPr/>
        </p:nvPicPr>
        <p:blipFill>
          <a:blip r:embed="rId2"/>
          <a:stretch/>
        </p:blipFill>
        <p:spPr>
          <a:xfrm>
            <a:off x="611280" y="1413000"/>
            <a:ext cx="1990800" cy="199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D18253_"/>
          <p:cNvPicPr/>
          <p:nvPr/>
        </p:nvPicPr>
        <p:blipFill>
          <a:blip r:embed="rId3"/>
          <a:stretch/>
        </p:blipFill>
        <p:spPr>
          <a:xfrm>
            <a:off x="5508720" y="14130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D18253_"/>
          <p:cNvPicPr/>
          <p:nvPr/>
        </p:nvPicPr>
        <p:blipFill>
          <a:blip r:embed="rId4"/>
          <a:stretch/>
        </p:blipFill>
        <p:spPr>
          <a:xfrm>
            <a:off x="3492360" y="981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1476360" y="189000"/>
            <a:ext cx="6238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авни по высоте ёлки,      расставь по порядку.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" name="Picture 7" descr="BD18253_"/>
          <p:cNvPicPr/>
          <p:nvPr/>
        </p:nvPicPr>
        <p:blipFill>
          <a:blip r:embed="rId5"/>
          <a:stretch/>
        </p:blipFill>
        <p:spPr>
          <a:xfrm>
            <a:off x="7308720" y="1989000"/>
            <a:ext cx="12765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8 -0.01922 L -0.04583 0.44282 E">
                                      <p:cBhvr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23 -4.81481E-006 L -0.14184 0.525 E">
                                      <p:cBhvr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408 0.47385 E">
                                      <p:cBhvr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0.04352 L -0.15643 0.38982 E">
                                      <p:cBhvr>
                                        <p:cTn id="10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0.54323 0.48449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Найди буквы </a:t>
            </a:r>
            <a:r>
              <a:rPr b="0" lang="ru-RU" sz="5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, 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528920" y="1422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97440" y="3213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065280" y="2070000"/>
            <a:ext cx="5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98160" y="551664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736920" y="4373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8153640" y="30052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905280" y="5165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65280" y="264636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282000" y="4157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692360" y="333360"/>
            <a:ext cx="457344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рни буквы на мест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826000" y="3222720"/>
            <a:ext cx="213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  л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  л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04000" y="3500280"/>
            <a:ext cx="54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878880" y="450864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43280" y="494172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  р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878880" y="5445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-0.00347 L -0.38402 -0.04557 E">
                                      <p:cBhvr>
                                        <p:cTn id="19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1 0.00671 L -0.39323 -0.06662 E">
                                      <p:cBhvr>
                                        <p:cTn id="20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1388 L -0.39323 -0.07703 E">
                                      <p:cBhvr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cc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ff"/>
                </a:solidFill>
                <a:latin typeface="Times New Roman"/>
              </a:rPr>
              <a:t>Найди буквы с, е</a:t>
            </a:r>
            <a:r>
              <a:rPr b="0" lang="ru-RU" sz="4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64920" y="1494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60560" y="3078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202000" y="1709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274000" y="4734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361280" y="2862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52200" y="5165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576920" y="5238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64,-14,28)"/>
                                      </p:to>
                                    </p:se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imes New Roman"/>
              </a:rPr>
              <a:t>Составь слово из бук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7160" y="1928520"/>
            <a:ext cx="387504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, е, 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, о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, о, 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, с, 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BD18253_"/>
          <p:cNvPicPr/>
          <p:nvPr/>
        </p:nvPicPr>
        <p:blipFill>
          <a:blip r:embed="rId1"/>
          <a:stretch/>
        </p:blipFill>
        <p:spPr>
          <a:xfrm>
            <a:off x="4140360" y="1339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D18253_"/>
          <p:cNvPicPr/>
          <p:nvPr/>
        </p:nvPicPr>
        <p:blipFill>
          <a:blip r:embed="rId2"/>
          <a:stretch/>
        </p:blipFill>
        <p:spPr>
          <a:xfrm>
            <a:off x="3059280" y="12492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BD18253_"/>
          <p:cNvPicPr/>
          <p:nvPr/>
        </p:nvPicPr>
        <p:blipFill>
          <a:blip r:embed="rId3"/>
          <a:stretch/>
        </p:blipFill>
        <p:spPr>
          <a:xfrm>
            <a:off x="5219640" y="12700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HJNX8K"/>
          <p:cNvPicPr/>
          <p:nvPr/>
        </p:nvPicPr>
        <p:blipFill>
          <a:blip r:embed="rId4"/>
          <a:stretch/>
        </p:blipFill>
        <p:spPr>
          <a:xfrm>
            <a:off x="4929120" y="3857760"/>
            <a:ext cx="1584360" cy="111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A4P6RGD"/>
          <p:cNvPicPr/>
          <p:nvPr/>
        </p:nvPicPr>
        <p:blipFill>
          <a:blip r:embed="rId5"/>
          <a:stretch/>
        </p:blipFill>
        <p:spPr>
          <a:xfrm>
            <a:off x="7380360" y="4508640"/>
            <a:ext cx="1230120" cy="2004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AUI2WRD"/>
          <p:cNvPicPr/>
          <p:nvPr/>
        </p:nvPicPr>
        <p:blipFill>
          <a:blip r:embed="rId6"/>
          <a:srcRect l="26853" t="16294" r="26126" b="15119"/>
          <a:stretch/>
        </p:blipFill>
        <p:spPr>
          <a:xfrm>
            <a:off x="3714840" y="2571840"/>
            <a:ext cx="64296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56760" y="1643040"/>
            <a:ext cx="8496360" cy="4896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летом, ёлка, самолёт, крокод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ышко, подсолнух, небо, цыпле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чь, туча, заяц зимой, гряз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333360"/>
            <a:ext cx="127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Прочти названия предме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азови лишний предмет по цвету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j0293828"/>
          <p:cNvPicPr/>
          <p:nvPr/>
        </p:nvPicPr>
        <p:blipFill>
          <a:blip r:embed="rId1"/>
          <a:stretch/>
        </p:blipFill>
        <p:spPr>
          <a:xfrm>
            <a:off x="5076720" y="4221000"/>
            <a:ext cx="952560" cy="100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04933"/>
          <p:cNvPicPr/>
          <p:nvPr/>
        </p:nvPicPr>
        <p:blipFill>
          <a:blip r:embed="rId2"/>
          <a:stretch/>
        </p:blipFill>
        <p:spPr>
          <a:xfrm>
            <a:off x="6588000" y="537372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6"/>
          <p:cNvGraphicFramePr/>
          <p:nvPr/>
        </p:nvGraphicFramePr>
        <p:xfrm>
          <a:off x="3708360" y="2637000"/>
          <a:ext cx="151308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637000"/>
                    <a:ext cx="1513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0-11-29T10:29:25Z</dcterms:modified>
  <cp:revision>5</cp:revision>
  <dc:subject/>
  <dc:title>PowerPoint Presentation</dc:title>
</cp:coreProperties>
</file>