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2FE-8CD2-4BCC-A453-682A0201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CC6-57CA-4F97-A0A8-B4408FA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B45-13CE-4A1B-B3D4-BB10810D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5D3-6335-4191-913B-0E970B24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4F6-2510-4525-A4A7-78EA632C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7F8-8713-4EC1-9C76-A1EB2D4E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996-2759-4D34-B54B-4DA050F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1AA-024F-4A75-91CB-A50F669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FE6-75A3-4896-A27E-CA6CDB7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B9A-0012-444C-9685-0381E28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F64-5422-47D0-95A0-FA740D7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AE1-8340-487C-A485-B870E78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377F-19D3-4B52-9163-7F4A84732E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2133720"/>
            <a:ext cx="777528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ИЛАКТИ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ТИЧЕСКОЙ ДИСГРАФИИ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311840" y="2080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Что бывает такого цвет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26920" y="1125360"/>
            <a:ext cx="914400" cy="914400"/>
          </a:xfrm>
          <a:prstGeom prst="rect">
            <a:avLst/>
          </a:prstGeom>
          <a:solidFill>
            <a:srgbClr val="e3350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067280" y="1125360"/>
            <a:ext cx="914400" cy="914400"/>
          </a:xfrm>
          <a:prstGeom prst="rect">
            <a:avLst/>
          </a:prstGeom>
          <a:solidFill>
            <a:srgbClr val="dee7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667640" y="1197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740720" y="5229360"/>
            <a:ext cx="914400" cy="914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924360" y="5084640"/>
            <a:ext cx="914400" cy="914400"/>
          </a:xfrm>
          <a:prstGeom prst="rect">
            <a:avLst/>
          </a:prstGeom>
          <a:solidFill>
            <a:srgbClr val="1cf24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00000" y="522936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10"/>
          <p:cNvGraphicFramePr/>
          <p:nvPr/>
        </p:nvGraphicFramePr>
        <p:xfrm>
          <a:off x="3708360" y="3284640"/>
          <a:ext cx="1554120" cy="4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3284640"/>
                    <a:ext cx="15541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1"/>
          <p:cNvGraphicFramePr/>
          <p:nvPr/>
        </p:nvGraphicFramePr>
        <p:xfrm>
          <a:off x="2195640" y="3068640"/>
          <a:ext cx="887400" cy="73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3068640"/>
                    <a:ext cx="8874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5796000" y="3068640"/>
          <a:ext cx="100656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3068640"/>
                    <a:ext cx="10065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0.57483 0.14689 E"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0118E-006 L -0.35434 -0.09461 E">
                                      <p:cBhvr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8.46866E-006 L -0.20469 -0.10503 E">
                                      <p:cBhvr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99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>
            <a:off x="5435640" y="5589720"/>
            <a:ext cx="151272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427640" y="4005360"/>
            <a:ext cx="79200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059280" y="2492280"/>
            <a:ext cx="201600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5"/>
          <p:cNvSpPr/>
          <p:nvPr/>
        </p:nvSpPr>
        <p:spPr>
          <a:xfrm>
            <a:off x="7093080" y="3284640"/>
            <a:ext cx="718920" cy="718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7"/>
          <p:cNvSpPr/>
          <p:nvPr/>
        </p:nvSpPr>
        <p:spPr>
          <a:xfrm>
            <a:off x="1476360" y="4437000"/>
            <a:ext cx="93672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971640" y="2276640"/>
            <a:ext cx="100800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2268360" y="549360"/>
            <a:ext cx="371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крась фигур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D18253_"/>
          <p:cNvPicPr/>
          <p:nvPr/>
        </p:nvPicPr>
        <p:blipFill>
          <a:blip r:embed="rId1"/>
          <a:stretch/>
        </p:blipFill>
        <p:spPr>
          <a:xfrm>
            <a:off x="2627280" y="1628640"/>
            <a:ext cx="723960" cy="6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BD18253_"/>
          <p:cNvPicPr/>
          <p:nvPr/>
        </p:nvPicPr>
        <p:blipFill>
          <a:blip r:embed="rId2"/>
          <a:stretch/>
        </p:blipFill>
        <p:spPr>
          <a:xfrm>
            <a:off x="611280" y="141300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D18253_"/>
          <p:cNvPicPr/>
          <p:nvPr/>
        </p:nvPicPr>
        <p:blipFill>
          <a:blip r:embed="rId3"/>
          <a:stretch/>
        </p:blipFill>
        <p:spPr>
          <a:xfrm>
            <a:off x="5508720" y="14130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D18253_"/>
          <p:cNvPicPr/>
          <p:nvPr/>
        </p:nvPicPr>
        <p:blipFill>
          <a:blip r:embed="rId4"/>
          <a:stretch/>
        </p:blipFill>
        <p:spPr>
          <a:xfrm>
            <a:off x="3492360" y="981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1476360" y="189000"/>
            <a:ext cx="6238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авни по высоте ёлки,      расставь по порядку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7" descr="BD18253_"/>
          <p:cNvPicPr/>
          <p:nvPr/>
        </p:nvPicPr>
        <p:blipFill>
          <a:blip r:embed="rId5"/>
          <a:stretch/>
        </p:blipFill>
        <p:spPr>
          <a:xfrm>
            <a:off x="7308720" y="198900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8 -0.01922 L -0.04583 0.44282 E">
                                      <p:cBhvr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23 -4.81481E-006 L -0.14184 0.525 E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408 0.47385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0.04352 L -0.15643 0.38982 E">
                                      <p:cBhvr>
                                        <p:cTn id="10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0.54323 0.48449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йди буквы </a:t>
            </a:r>
            <a:r>
              <a:rPr b="0" lang="ru-RU" sz="5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, 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8920" y="1422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97440" y="3213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65280" y="2070000"/>
            <a:ext cx="5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98160" y="551664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36920" y="4373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8153640" y="30052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905280" y="5165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65280" y="264636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282000" y="4157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692360" y="333360"/>
            <a:ext cx="457344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рни буквы на мес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826000" y="32227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  л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  л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04000" y="3500280"/>
            <a:ext cx="54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78880" y="450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43280" y="4941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  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78880" y="5445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-0.00347 L -0.38402 -0.04557 E">
                                      <p:cBhvr>
                                        <p:cTn id="19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0.00671 L -0.39323 -0.06662 E">
                                      <p:cBhvr>
                                        <p:cTn id="20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388 L -0.39323 -0.07703 E">
                                      <p:cBhvr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Times New Roman"/>
              </a:rPr>
              <a:t>Найди буквы с, е</a:t>
            </a:r>
            <a:r>
              <a:rPr b="0" lang="ru-RU" sz="4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64920" y="1494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60560" y="3078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202000" y="1709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274000" y="473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361280" y="2862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52200" y="5165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576920" y="5238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imes New Roman"/>
              </a:rPr>
              <a:t>Составь слово из бук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387504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, е, 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, о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, о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, с, 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BD18253_"/>
          <p:cNvPicPr/>
          <p:nvPr/>
        </p:nvPicPr>
        <p:blipFill>
          <a:blip r:embed="rId1"/>
          <a:stretch/>
        </p:blipFill>
        <p:spPr>
          <a:xfrm>
            <a:off x="4140360" y="1339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D18253_"/>
          <p:cNvPicPr/>
          <p:nvPr/>
        </p:nvPicPr>
        <p:blipFill>
          <a:blip r:embed="rId2"/>
          <a:stretch/>
        </p:blipFill>
        <p:spPr>
          <a:xfrm>
            <a:off x="3059280" y="12492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D18253_"/>
          <p:cNvPicPr/>
          <p:nvPr/>
        </p:nvPicPr>
        <p:blipFill>
          <a:blip r:embed="rId3"/>
          <a:stretch/>
        </p:blipFill>
        <p:spPr>
          <a:xfrm>
            <a:off x="5219640" y="12700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HJNX8K"/>
          <p:cNvPicPr/>
          <p:nvPr/>
        </p:nvPicPr>
        <p:blipFill>
          <a:blip r:embed="rId4"/>
          <a:stretch/>
        </p:blipFill>
        <p:spPr>
          <a:xfrm>
            <a:off x="4929120" y="3857760"/>
            <a:ext cx="1584360" cy="111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A4P6RGD"/>
          <p:cNvPicPr/>
          <p:nvPr/>
        </p:nvPicPr>
        <p:blipFill>
          <a:blip r:embed="rId5"/>
          <a:stretch/>
        </p:blipFill>
        <p:spPr>
          <a:xfrm>
            <a:off x="7380360" y="4508640"/>
            <a:ext cx="1230120" cy="2004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AUI2WRD"/>
          <p:cNvPicPr/>
          <p:nvPr/>
        </p:nvPicPr>
        <p:blipFill>
          <a:blip r:embed="rId6"/>
          <a:srcRect l="26853" t="16294" r="26126" b="15119"/>
          <a:stretch/>
        </p:blipFill>
        <p:spPr>
          <a:xfrm>
            <a:off x="3714840" y="2571840"/>
            <a:ext cx="6429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56760" y="1643040"/>
            <a:ext cx="8496360" cy="4896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летом, ёлка, самолёт, крокод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ышко, подсолнух, небо, цыпле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чь, туча, заяц зимой, гряз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333360"/>
            <a:ext cx="127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Прочти названия предме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азови лишний предмет по цвету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j0293828"/>
          <p:cNvPicPr/>
          <p:nvPr/>
        </p:nvPicPr>
        <p:blipFill>
          <a:blip r:embed="rId1"/>
          <a:stretch/>
        </p:blipFill>
        <p:spPr>
          <a:xfrm>
            <a:off x="5076720" y="422100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04933"/>
          <p:cNvPicPr/>
          <p:nvPr/>
        </p:nvPicPr>
        <p:blipFill>
          <a:blip r:embed="rId2"/>
          <a:stretch/>
        </p:blipFill>
        <p:spPr>
          <a:xfrm>
            <a:off x="6588000" y="537372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6"/>
          <p:cNvGraphicFramePr/>
          <p:nvPr/>
        </p:nvGraphicFramePr>
        <p:xfrm>
          <a:off x="3708360" y="2637000"/>
          <a:ext cx="151308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637000"/>
                    <a:ext cx="1513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0-11-29T10:29:25Z</dcterms:modified>
  <cp:revision>5</cp:revision>
  <dc:subject/>
  <dc:title>PowerPoint Presentation</dc:title>
</cp:coreProperties>
</file>