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A050-7792-4A26-B835-1A5EE9EF43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7A13-9C4C-4238-A7BD-0AEF99A977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F0DF-7677-4602-A5EF-E278DAB636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9AE-47D4-49A8-8AD9-FEDADB40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A41-74E9-4189-A7C9-9BCE9040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D54-1146-4833-BACB-286C36D3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14D-9777-4ECC-ABDC-3CBE160E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009B-852A-47A8-94D3-30BA9DAF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8DA0-88C6-460E-959D-6EEF6D8A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4086-853C-410A-A28A-53038628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24BF-9BB4-4001-99E6-F12658B0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9FB2-CE2F-416E-BCEC-5282AF88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FE23-B4CA-4552-A17A-528B749A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DCAF-6E96-485F-B424-0C72289B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1C5-FA07-4798-8841-5B350C9C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E059-4A22-4CF0-8B3A-CD2DF55E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0CDC-293D-4D79-8298-337E83AE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E989-A1CE-45F2-9746-3EA3A25C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EA8B-64C0-4010-B473-29B2FA5D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9B75-31B5-4FF9-BE58-163FC090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96A-F838-41C2-AEC7-075CC627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3E2-5FEA-430F-B206-5BBD3AA3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D4F-08FF-4FC0-A3D3-AD148C53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624-ABEC-4402-918F-CB86365B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EF9-2349-41D2-9875-13E9756D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FC2-7E13-4B0D-A798-2FE2EA01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339-7906-4DE2-A92D-00031137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A7B9-F477-48DC-9DB0-209D9015DFC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0733-D215-42FD-8F1E-57FEEFE63C4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Arial"/>
              </a:rPr>
              <a:t>Урок русского языка </a:t>
            </a:r>
            <a:br>
              <a:rPr sz="6000"/>
            </a:br>
            <a:r>
              <a:rPr b="1" lang="ru-RU" sz="6000" spc="-1" strike="noStrike">
                <a:solidFill>
                  <a:srgbClr val="00ff00"/>
                </a:solidFill>
                <a:latin typeface="Arial"/>
              </a:rPr>
              <a:t>5 класс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23640" y="3733920"/>
            <a:ext cx="8569080" cy="25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ендее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9996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иляра Рим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5" descr="8"/>
          <p:cNvPicPr/>
          <p:nvPr/>
        </p:nvPicPr>
        <p:blipFill>
          <a:blip r:embed="rId1"/>
          <a:stretch/>
        </p:blipFill>
        <p:spPr>
          <a:xfrm>
            <a:off x="900000" y="3500280"/>
            <a:ext cx="21956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7745400" cy="2643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Arial"/>
              </a:rPr>
              <a:t>Простые и сложные предложения.</a:t>
            </a:r>
            <a:r>
              <a:rPr b="0" lang="ru-RU" sz="6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6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Работа с учебни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11" descr="2"/>
          <p:cNvPicPr/>
          <p:nvPr/>
        </p:nvPicPr>
        <p:blipFill>
          <a:blip r:embed="rId1"/>
          <a:stretch/>
        </p:blipFill>
        <p:spPr>
          <a:xfrm>
            <a:off x="1187280" y="2852640"/>
            <a:ext cx="3492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Учебник, стр.90, упр.2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14240" y="1557000"/>
            <a:ext cx="75009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[   ]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,и 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[   ]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[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   и   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  ]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- Что общего и в чём различие между этими схемами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68360" y="1628640"/>
            <a:ext cx="3754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5148360" y="1700280"/>
            <a:ext cx="295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Овал 6"/>
          <p:cNvSpPr/>
          <p:nvPr/>
        </p:nvSpPr>
        <p:spPr>
          <a:xfrm>
            <a:off x="2857680" y="2500200"/>
            <a:ext cx="928440" cy="714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Овал 7"/>
          <p:cNvSpPr/>
          <p:nvPr/>
        </p:nvSpPr>
        <p:spPr>
          <a:xfrm>
            <a:off x="1071720" y="2571840"/>
            <a:ext cx="928440" cy="64296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400" y="277560"/>
            <a:ext cx="825804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части сложного предложения соединяет союз </a:t>
            </a:r>
            <a:r>
              <a:rPr b="0" lang="ru-RU" sz="3200" spc="-1" strike="noStrike">
                <a:solidFill>
                  <a:srgbClr val="33cc33"/>
                </a:solidFill>
                <a:latin typeface="Verdan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запятая ставится перед союз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оюз </a:t>
            </a:r>
            <a:r>
              <a:rPr b="0" lang="ru-RU" sz="3200" spc="-1" strike="noStrike">
                <a:solidFill>
                  <a:srgbClr val="33cc33"/>
                </a:solidFill>
                <a:latin typeface="Verdan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соединяет два однородных члена, то запятая не стави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Чтение правила на с. 9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е предложения в составе сложного на письме обычно разделяются запятой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устел сад, осыпались листь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[   ]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,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[   ]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устел сад, и осыпались листь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[   ]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,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[   ]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Картины И.Грабаря, А.Саврасова, И.Шишкина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28400" y="1356840"/>
            <a:ext cx="83581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G:\рисунок\grabar9.jpg"/>
          <p:cNvPicPr/>
          <p:nvPr/>
        </p:nvPicPr>
        <p:blipFill>
          <a:blip r:embed="rId1"/>
          <a:stretch/>
        </p:blipFill>
        <p:spPr>
          <a:xfrm>
            <a:off x="214200" y="1643040"/>
            <a:ext cx="1638360" cy="2524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G:\рисунок\grabar26.jpg"/>
          <p:cNvPicPr/>
          <p:nvPr/>
        </p:nvPicPr>
        <p:blipFill>
          <a:blip r:embed="rId2"/>
          <a:stretch/>
        </p:blipFill>
        <p:spPr>
          <a:xfrm>
            <a:off x="1928880" y="3214800"/>
            <a:ext cx="1638360" cy="2714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G:\рисунок\winter-night.jpg"/>
          <p:cNvPicPr/>
          <p:nvPr/>
        </p:nvPicPr>
        <p:blipFill>
          <a:blip r:embed="rId3"/>
          <a:stretch/>
        </p:blipFill>
        <p:spPr>
          <a:xfrm>
            <a:off x="3714840" y="1928880"/>
            <a:ext cx="1619280" cy="2643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G:\рисунок\grabar10.jpg"/>
          <p:cNvPicPr/>
          <p:nvPr/>
        </p:nvPicPr>
        <p:blipFill>
          <a:blip r:embed="rId4"/>
          <a:stretch/>
        </p:blipFill>
        <p:spPr>
          <a:xfrm>
            <a:off x="5429160" y="3214800"/>
            <a:ext cx="1638360" cy="2786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G:\рисунок\winter.jpg"/>
          <p:cNvPicPr/>
          <p:nvPr/>
        </p:nvPicPr>
        <p:blipFill>
          <a:blip r:embed="rId5"/>
          <a:stretch/>
        </p:blipFill>
        <p:spPr>
          <a:xfrm>
            <a:off x="7215120" y="1714680"/>
            <a:ext cx="16192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1"/>
          <p:cNvSpPr/>
          <p:nvPr/>
        </p:nvSpPr>
        <p:spPr>
          <a:xfrm>
            <a:off x="642960" y="357120"/>
            <a:ext cx="807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Verdana"/>
              </a:rPr>
              <a:t>Творческая работа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214200" y="0"/>
            <a:ext cx="878688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Verdana"/>
              </a:rPr>
              <a:t>Итог уро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cc33"/>
                </a:solidFill>
                <a:latin typeface="Verdana"/>
              </a:rPr>
              <a:t>По цели высказывания                         По интона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ПРОСИТЕЛЬНОЕ                                 ВОСКЛИЦАТЕ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ЕСТВОВАТЕЛЬНОЕ                            НЕВОСКЛИЦАТЕ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БУДИТЕ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</a:t>
            </a:r>
            <a:r>
              <a:rPr b="1" lang="ru-RU" sz="2400" spc="-1" strike="noStrike">
                <a:solidFill>
                  <a:srgbClr val="33cc33"/>
                </a:solidFill>
                <a:latin typeface="Verdana"/>
              </a:rPr>
              <a:t>ПРЕДЛОЖЕНИЕ</a:t>
            </a:r>
            <a:r>
              <a:rPr b="0" lang="ru-RU" sz="1800" spc="-1" strike="noStrike">
                <a:solidFill>
                  <a:srgbClr val="33cc33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cc33"/>
                </a:solidFill>
                <a:latin typeface="Verdana"/>
              </a:rPr>
              <a:t>                  </a:t>
            </a:r>
            <a:r>
              <a:rPr b="1" i="1" lang="ru-RU" sz="1800" spc="-1" strike="noStrike">
                <a:solidFill>
                  <a:srgbClr val="33cc33"/>
                </a:solidFill>
                <a:latin typeface="Verdana"/>
              </a:rPr>
              <a:t>По наличию грамматических осн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СТОЕ                                          СЛОЖ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i="1" lang="ru-RU" sz="18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33cc33"/>
                </a:solidFill>
                <a:latin typeface="Verdana"/>
              </a:rPr>
              <a:t>По наличию главных член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</a:t>
            </a:r>
            <a:r>
              <a:rPr b="1" i="1" lang="ru-RU" sz="1800" spc="-1" strike="noStrike">
                <a:solidFill>
                  <a:srgbClr val="33cc33"/>
                </a:solidFill>
                <a:latin typeface="Verdana"/>
              </a:rPr>
              <a:t>По способу связ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дносоставное                             СОЮЗНОЕ              БЕССОЮЗНО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вусоставное                          </a:t>
            </a:r>
            <a:r>
              <a:rPr b="1" i="1" lang="ru-RU" sz="1800" spc="-1" strike="noStrike">
                <a:solidFill>
                  <a:srgbClr val="33cc33"/>
                </a:solidFill>
                <a:latin typeface="Verdana"/>
              </a:rPr>
              <a:t>Виды предложен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) СЛОЖНОСОЧИНЕННОЕ (И, А, НО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) СЛОЖНОПОДЧИНЕННОЕ (ЧТО, ЧТОБЫ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ТОМУ ЧТО, ГДЕ, КОГДА, ЕСЛИ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Тест - контро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 Укажите сложное предложение (знаки препинания не расставлены)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) Отшумела листва на деревьях и стала постепенно опада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) Сад отцветал и темне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) А дорога расстилается и шумит густая рож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) Лучи солнца греют лицо и ру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Укажите сложное предложение, части которого связаны интонационно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) Рванул ветер, и в воздухе закружилась пыл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) Дремлет лодочник у перевоза, обступила кругом тишин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) Все живое тянется к воде, и всем вода дарит жизн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) Солнце сияло и грело, но не пекл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Учите русский – годы кряду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С душой, с усердием, с умом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Вас ждёт великая награда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И та награда в нём самом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Verdana"/>
              </a:rPr>
              <a:t>Спасибо за урок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6" descr="an00790_"/>
          <p:cNvPicPr/>
          <p:nvPr/>
        </p:nvPicPr>
        <p:blipFill>
          <a:blip r:embed="rId1"/>
          <a:stretch/>
        </p:blipFill>
        <p:spPr>
          <a:xfrm>
            <a:off x="7020000" y="4941720"/>
            <a:ext cx="1800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Русский язык  для многих стал родным языком, потому что люди разных национальностей могут общаться на нём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.С.Пушкин считал, что «язык славяно – русский имеет неоспоримое превосходство перед всеми европейскими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Verdana"/>
              </a:rPr>
              <a:t>Мы должны знать русский язык, потому что он является языком межнационального общ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Verdana"/>
              </a:rPr>
              <a:t>Итак, начинаем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olstyak"/>
              </a:rPr>
              <a:t>Пальчиковая гимнастик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6059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Мы наши пальчики сплел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И вытянули ручки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Ну, а теперь мы от земл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Отталкиваем тучки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rcRect l="65659" t="0" r="0" b="44007"/>
          <a:stretch/>
        </p:blipFill>
        <p:spPr>
          <a:xfrm>
            <a:off x="6516720" y="1628640"/>
            <a:ext cx="2627280" cy="1468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rcRect l="34352" t="10665" r="1522" b="41337"/>
          <a:stretch/>
        </p:blipFill>
        <p:spPr>
          <a:xfrm>
            <a:off x="6516720" y="2997360"/>
            <a:ext cx="2627280" cy="1439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6516720" y="4941720"/>
            <a:ext cx="26272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Минутка чистопис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978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800" spc="-1" strike="noStrike" u="sng">
                <a:solidFill>
                  <a:srgbClr val="00ff00"/>
                </a:solidFill>
                <a:uFillTx/>
                <a:latin typeface="Verdana"/>
              </a:rPr>
              <a:t>Помните о правилах письм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традь я правильно кладу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учку правильно держ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посадкою слежу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«отлично» напишу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8" descr="141"/>
          <p:cNvPicPr/>
          <p:nvPr/>
        </p:nvPicPr>
        <p:blipFill>
          <a:blip r:embed="rId1"/>
          <a:stretch/>
        </p:blipFill>
        <p:spPr>
          <a:xfrm>
            <a:off x="6443640" y="3429000"/>
            <a:ext cx="2155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785880" y="500040"/>
            <a:ext cx="7858080" cy="13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По белому полю                          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В туман и снег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Бредут потихоньк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Бараньи рог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Verdana"/>
              </a:rPr>
              <a:t>З З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500040" y="478620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З  з  зи  за  зн  зл  вз  зо  оз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857160" y="428760"/>
            <a:ext cx="7715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Verdana"/>
              </a:rPr>
              <a:t>Словарная работ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ро…, сала…ки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ро…ки, сколь…ко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213840"/>
            <a:ext cx="807552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33cc33"/>
                </a:solidFill>
                <a:latin typeface="Verdana"/>
              </a:rPr>
              <a:t>Лексическая рабо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Род инея – рыхлый снежны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окров, образующийся из осе-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дающих частиц влаги при моро-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зе, туман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cc33"/>
                </a:solidFill>
                <a:latin typeface="Verdana"/>
              </a:rPr>
              <a:t>Измороз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Прочитайте предложения</a:t>
            </a: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Шуршат листья под ног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Журавли полетели в тёплые края, ког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ступили осенние дн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енний вечер близился к конц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еют холодные ветры, и качаютс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етви берёз, а на землю падают жёлтые  листь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ванул ветер, в воздухе закружилась пыл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Проблемный вопр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Какие это предложения по составу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ажи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предложения мы называем простыми, сложными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овите способы связи простых предложений в составе сложног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разделяются простые предложения в БСП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акие группы делится сложно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ное предложени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40:31Z</dcterms:created>
  <dc:creator>Toma</dc:creator>
  <dc:description/>
  <dc:language>en-US</dc:language>
  <cp:lastModifiedBy>Ринат</cp:lastModifiedBy>
  <dcterms:modified xsi:type="dcterms:W3CDTF">2009-11-19T15:44:17Z</dcterms:modified>
  <cp:revision>99</cp:revision>
  <dc:subject/>
  <dc:title>Урок русского языка  4 класс</dc:title>
</cp:coreProperties>
</file>