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414-3908-4A42-B031-374116A9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35E-EAAF-4B18-A8B7-1A7D4C7E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EBF-1DD7-4DC3-8663-C57EB9D0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A26-48D7-45E9-8774-2506AB1E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A723-2E47-4983-931C-604E719E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0911-CE42-4648-BBF3-D9E4DF0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0C8A-3356-40F3-9265-888EB805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3B5-F3FC-48CF-A914-A308D74C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FA6-64B5-43EB-93DA-2C065DF1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F7F9-A82C-4B58-A807-EE2EA629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B102-6B5C-4590-8AC4-E3F12ED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493-388F-4CAC-81C2-B6A1D452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8C2D-047C-4F31-9994-C6BF367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376-D009-4910-9CDE-C9560FE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17B7-8A1B-404C-8472-6C5A7393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6719-8B19-4EA0-A749-BD54195B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F4CC-9950-4595-95E7-9BB631BC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1E4-022D-45C6-A57D-3651D2FB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7A6-BA24-4D1B-A7A1-B1864085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405-DE4B-4CE9-8157-481AB351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2B4-5B83-4B7B-A933-A4A7960A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D04-C1BE-47D2-ADC6-6A15D9EA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B24-7297-4A02-AC5C-CE3F1F3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063-D708-4908-A8CE-0A3369A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5A48-30EE-424A-BD54-6E43F14ED02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08D-606A-4F2C-AB6C-73F26F24F72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Разновидности оркестр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Ученица 7А класс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асягина Александр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кестр народных инстру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921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страд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Эстрадный оркестр — коллектив музыкантов, исполняющих эстрадную и джазовую музыку. Эстрадный оркестр состоит из струнных, духовых (в том числе саксофонов, обычно не представленных в духовых группах симфонических оркестров), клавишных, ударных и электромузыкальных инструмент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страд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7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жазов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Джазовый оркестр — один из самых интересных и своеобразных явлений современной музыки. Возникший позже всех других оркестров, он стал воздействовать на другие формы музыки — камерную, симфоническую, музыку духовых оркестров. Джаз использует многие из инструментов симфонического оркестра, но имеет качество радикально его отличающее от всех других форм оркестровой музы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жазов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50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е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оенный оркестр, духовой оркестр, являющийся штатным подразделением воинской част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е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стоящий из учеников школы коллектив музыкантов, возглавляемый, как правило, педагогом начального музыкального образования. Для музыкантов нередко является отправной точкой их дальнейшей музыкальной карье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84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рке́стр (от греч. ορχήστρα) — большой коллектив музыкантов-инструменталистов. В отличие от камерных ансамблей, в оркестре некоторые из его музыкантов образуют группы, играющие в унисо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имфони́ческий орке́стр — большой коллектив музыкантов, для исполнения академической музыки преимущественно западноевропейской традиции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Cимфонический оркестр состоит из инструментов, история которых неразрывно связана с историей музыки западной Европы. Музыка, которая пишется в расчёте на симфонический оркестр (также называемая «симфонической»), как правило, принимает во внимание стиль, сложившийся в рамках европейской музыкальной культуры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Основу симфонического оркестра составляют четыре группы инструментов: струнные смычковые, деревянные и медные духовые, ударные. В ряде случаев в состав оркестра включаются и другие инструменты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802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ухово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ухово́й орке́стр — оркестр, состоящий из духовых и ударных инструментов. Основу духового оркестра составляют широкомензурные и обычные медные духовые инструменты — корнеты, флюгельгорны, эуфониумы, альты, теноры, баритоны, басы, трубы, валторны, тромбоны. Также в духовых оркестрах используются деревянные духовые инструменты: флейты, кларнеты, саксофоны, в больших составах — гобои и фаготы. В начале XIX века под влиянием «янычарской музыки» в духовых оркестрах появились некоторые ударные музыкальные инструменты, прежде всего большой барабан и тарелки, дающие оркестру ритмическую основ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уховой орке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4752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трунный оркестр по сути представляет собой группу смычковых струнных инструментов оркестра симфонического. В струнный оркестр входят две группы скрипок (первые скрипки и вторые скрипки), а также альты, виолончели и контрабасы гитары. Такой тип оркестра известен с XVI—XVII века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кестр народных инстру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 различных странах получили распространение оркестры, составленные из народных инструментов, исполняющие как переложения произведений, написанных для других составов, так и оригинальные сочинения. В качестве примера можно назвать оркестр русских народных инструментов, включающий в свой состав инструменты семейства домр и балалаек, а также гусли, баяны, жалейки трещотки свистульки и другие инструменты. Идея создать такой оркестр была предложена в конце XIX века балалаечником Василием Андреевым. В ряде случаев в такой оркестр дополнительно вводят инструменты, фактически не относящиеся к народным: флейты, гобои, различные колокола и многие ударные инструмент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1:02:39Z</dcterms:created>
  <dc:creator>Саша</dc:creator>
  <dc:description/>
  <dc:language>en-US</dc:language>
  <cp:lastModifiedBy>Саша</cp:lastModifiedBy>
  <dcterms:modified xsi:type="dcterms:W3CDTF">2012-04-17T11:37:36Z</dcterms:modified>
  <cp:revision>2</cp:revision>
  <dc:subject/>
  <dc:title>«Разновидности оркестра».</dc:title>
</cp:coreProperties>
</file>