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A431-7CD8-4001-9F1C-8DD1E1AD3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762F-1089-48CE-8055-43F2D3B3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B3A9-A788-4744-AB3A-7C3CC005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0F9E-61DA-47AE-AFEE-198015413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79DD-4DA5-404D-BEF5-0A749BB8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EB0F-CA62-4F8A-B937-89A6C632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F47B-67F5-456D-A2A1-CC617F67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9028-10F4-4378-9FE7-90E4EF52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A524-1115-4C98-806D-58B30E20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7416-A2C1-4CA9-88BA-08DD0EB0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D529-3F05-467B-A29D-0986CAFF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99DC-36DC-43B6-B81E-A4A506DC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371D-11B7-4F04-8064-6F766CAA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D050-F505-424C-8251-5D799295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8FBC-9800-45F0-9EF9-9B0BD4C8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BA84-2B60-4D2D-925E-6D303BA6C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0EAD-96F3-41C6-AB6C-2DDAA43E6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05BF-199A-453B-AD28-97DE3AAE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635E-3851-4C94-9703-CBCE1A3C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5058-36BB-487B-88BF-15B77DEA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DCEE-EC77-4EEB-BCF5-52ADE36A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2D8D-ACFA-43F2-BCC1-913BA869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B53A-AEA2-43F4-8048-A7C62BC0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81E4-AF52-47C3-AA08-14C2B60D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BCD6-0C56-4006-AC5F-56B125531137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7FF5-AF99-42E5-9AE7-A59B50B30744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Разновидности оркестра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Выполнила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Ученица 7А класса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Васягина Александра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ркестр народных инструмент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792180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страдный оркест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Эстрадный оркестр — коллектив музыкантов, исполняющих эстрадную и джазовую музыку. Эстрадный оркестр состоит из струнных, духовых (в том числе саксофонов, обычно не представленных в духовых группах симфонических оркестров), клавишных, ударных и электромузыкальных инструментов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страдный оркест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633744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жазовый оркест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Джазовый оркестр — один из самых интересных и своеобразных явлений современной музыки. Возникший позже всех других оркестров, он стал воздействовать на другие формы музыки — камерную, симфоническую, музыку духовых оркестров. Джаз использует многие из инструментов симфонического оркестра, но имеет качество радикально его отличающее от всех других форм оркестровой музыки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жазовый оркест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1500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енный оркест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Военный оркестр, духовой оркестр, являющийся штатным подразделением воинской части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енный оркест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583236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Школьный оркест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Состоящий из учеников школы коллектив музыкантов, возглавляемый, как правило, педагогом начального музыкального образования. Для музыкантов нередко является отправной точкой их дальнейшей музыкальной карьеры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Школьный оркест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784872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ркест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Орке́стр (от греч. ορχήστρα) — большой коллектив музыкантов-инструменталистов. В отличие от камерных ансамблей, в оркестре некоторые из его музыкантов образуют группы, играющие в унисон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имфонический оркест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6116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Симфони́ческий орке́стр — большой коллектив музыкантов, для исполнения академической музыки преимущественно западноевропейской традиции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Cимфонический оркестр состоит из инструментов, история которых неразрывно связана с историей музыки западной Европы. Музыка, которая пишется в расчёте на симфонический оркестр (также называемая «симфонической»), как правило, принимает во внимание стиль, сложившийся в рамках европейской музыкальной культуры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Основу симфонического оркестра составляют четыре группы инструментов: струнные смычковые, деревянные и медные духовые, ударные. В ряде случаев в состав оркестра включаются и другие инструменты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мфонический оркест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8028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уховой оркест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Духово́й орке́стр — оркестр, состоящий из духовых и ударных инструментов. Основу духового оркестра составляют широкомензурные и обычные медные духовые инструменты — корнеты, флюгельгорны, эуфониумы, альты, теноры, баритоны, басы, трубы, валторны, тромбоны. Также в духовых оркестрах используются деревянные духовые инструменты: флейты, кларнеты, саксофоны, в больших составах — гобои и фаготы. В начале XIX века под влиянием «янычарской музыки» в духовых оркестрах появились некоторые ударные музыкальные инструменты, прежде всего большой барабан и тарелки, дающие оркестру ритмическую основу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уховой оркест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5475240" cy="41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рунный оркест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Струнный оркестр по сути представляет собой группу смычковых струнных инструментов оркестра симфонического. В струнный оркестр входят две группы скрипок (первые скрипки и вторые скрипки), а также альты, виолончели и контрабасы гитары. Такой тип оркестра известен с XVI—XVII века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рунный оркест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20108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ркестр народных инструмент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В различных странах получили распространение оркестры, составленные из народных инструментов, исполняющие как переложения произведений, написанных для других составов, так и оригинальные сочинения. В качестве примера можно назвать оркестр русских народных инструментов, включающий в свой состав инструменты семейства домр и балалаек, а также гусли, баяны, жалейки трещотки свистульки и другие инструменты. Идея создать такой оркестр была предложена в конце XIX века балалаечником Василием Андреевым. В ряде случаев в такой оркестр дополнительно вводят инструменты, фактически не относящиеся к народным: флейты, гобои, различные колокола и многие ударные инструменты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1:02:39Z</dcterms:created>
  <dc:creator>Саша</dc:creator>
  <dc:description/>
  <dc:language>en-US</dc:language>
  <cp:lastModifiedBy>Саша</cp:lastModifiedBy>
  <dcterms:modified xsi:type="dcterms:W3CDTF">2012-04-17T11:37:36Z</dcterms:modified>
  <cp:revision>2</cp:revision>
  <dc:subject/>
  <dc:title>«Разновидности оркестра».</dc:title>
</cp:coreProperties>
</file>