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13.jpeg" ContentType="image/jpeg"/>
  <Override PartName="/ppt/media/image31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26.jpeg" ContentType="image/jpeg"/>
  <Override PartName="/ppt/media/image3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BDA-0C29-48EF-BA0B-F0D876A4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F45-AFB5-4B8B-BDB3-8E52108C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731-ECC1-4CC2-9A5D-F43C1C8A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C53-BE99-4909-A295-45E7712B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5DBB-6D1C-404D-B7BC-8803BE3F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FAC70-D284-4E74-9C56-508F21D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0E3BA-7201-4E83-975E-CD168C23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92E25-A921-4A41-A489-4B3D0AA8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48956-E9C1-4642-9B21-F9058A4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3CFA7-56CD-4144-8F3A-539C926C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14F38-6F97-4C96-9171-08CD97E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5D8-D71E-488C-813B-0E6F6BD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1A810-B5D6-4303-B25C-AABB640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6834-333C-49A3-BCE4-4E644E8B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E09B4-9EB8-49A7-9C00-5D88F0BB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EAD61-49B7-4775-8908-C83D0619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9A0FA-2F85-44C0-BA3D-83DB3482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C1BD-43B1-4A69-B3AF-F1D67186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A347-9CAF-4003-A133-05A5DE76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F1C7-89FE-4108-BCE5-8E9AC095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9906-C52C-47CE-BB03-9589596A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7E80-4A83-4680-A6DE-854636C1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99A-0A1D-4683-9A49-6174B2DD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68ED-A63E-42CE-A76F-B3F1B8A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A0CD-A5C8-423A-AEA8-BEF226F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75E6-485C-480F-97CA-9871F6BB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4924-BEBB-484D-B535-0FCA046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D8D7-2F9D-4426-9FFA-CE2B9DB0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3EEB-80C0-4685-898B-866C3660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F518-E225-4AA3-97A1-CE4EE3D0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FB65-8DCC-44E1-A5C6-6CA71E24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ACA5-A700-4E04-AEE1-0F975F2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A9CC-C98A-48C5-8BA0-C706FF9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B7E-D04E-4FE1-917A-BF6D599D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1319F-33B2-4F79-9FB5-21CCC8C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6409-645C-44FC-8CCF-C9951655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19A4A-9603-47B1-9E3C-A05C7D8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EAD95-A57E-42E3-9AD7-FB09ACF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EFA7-8CB7-4703-9DF2-51CBDD4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3E89-2555-494F-B83A-B99EBBFF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724D-06EF-44B5-806D-9924A26F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A2E0-A385-48C0-9899-BDCF55B9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FB9F-30D3-4E73-93F8-BD55EF6C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505A-1BD1-4A3E-8C34-E23F07DF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6A5-90A6-43A2-8D1F-52B06B8E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8647F-8C01-446C-967A-2A6D995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90E0F-4213-4E7D-8CEA-62B0A51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62E56-0985-4B8D-A869-1156622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461A9-D667-4CEA-BF18-E300FD92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CAA62-F5A4-4D84-A223-DA537D9A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D06E0-797C-4980-8948-21ACBCA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6261C-E7C9-49B0-8D85-E3F80E6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A5B8-2314-4ABE-AE5D-060075A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A81D3-9F3E-439A-95A9-FB1E2C6A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56E7-1626-4153-B5E2-F21E73F8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AC3-121F-4DF1-BA25-2C3020F7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7530-46A5-4852-B6C5-AC3F8BC8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DE041-5703-4A95-B3D8-FB6B635D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7111-8AAF-435F-9451-BD75DCF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456FB-57C4-49E5-BAC8-2F92BFFC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DEB1-44EE-4BD8-9869-A3C82716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EA6FD-EC85-44E8-A0ED-FE35CF14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A870-93BB-4B70-953B-351D527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40DA5-C1DE-4A06-B1E9-57DB3B1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A18DC-E979-4C7A-B463-EE6DC83B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E93B-3CC0-4617-92E8-1FB9495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3C3-0AF7-4479-9029-187335AB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FDD3C-6075-4C2E-8B06-28274F5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74D51-12AF-4387-9758-F91B5E46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A535-D858-4F55-9E60-5454BAB7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2F2B9-9F18-4F7E-A185-6A1D4842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874C3-3576-49FC-BD99-21601728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48337-D1C1-4C93-9861-6F92A03C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BDDD4-2E61-411D-AFC3-A13AE366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F0AA3-5270-45D1-80A8-E7C84F51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0E5CD-430B-459F-B033-7E7BD0DF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C271-35E6-4C5D-811F-3DD8E01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4FD-3AFF-4422-9144-5914271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24F8B-8299-4B32-A509-B401AD4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E46D-E7FD-4D0B-A651-700C7376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DDC49-18B9-42C4-BB6F-3A0B05F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060E-5064-4F97-90AE-0C4CA452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538B2-FB60-4118-8F99-8D4112D8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F18-AC60-4DCD-A740-F2A8410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D521-6816-4CF8-9FAA-30706397F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DE38-CE8C-4C10-93E4-23A42563D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67E-ACEA-4734-833B-F5FE11E4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6EE9-CEDE-43AC-B22C-41C469C0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6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d93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3C43-708E-4844-86FF-125A14A056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d93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A447-CFC5-4EE8-A731-AF00141490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3EB3-4278-4487-8601-48F0E9DD8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7956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kazkaForSerge"/>
              </a:rPr>
              <a:t>Статуя Зевса Олимпийск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440" y="1125360"/>
            <a:ext cx="700200" cy="2406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8317080" cy="587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9528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Мамаев курган и статуя Родины-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24000" y="189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Столбы выветри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56000" y="11592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Гора Эльбр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908000" y="11592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олина Гейзер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0" r="18248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341440" y="6336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зеро Байк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11592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ahoma"/>
              </a:rPr>
              <a:t>Собор Василия Блажен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54" name=""/>
            <p:cNvGrpSpPr/>
            <p:nvPr/>
          </p:nvGrpSpPr>
          <p:grpSpPr>
            <a:xfrm>
              <a:off x="0" y="0"/>
              <a:ext cx="9144000" cy="2916360"/>
              <a:chOff x="0" y="0"/>
              <a:chExt cx="9144000" cy="2916360"/>
            </a:xfrm>
          </p:grpSpPr>
          <p:pic>
            <p:nvPicPr>
              <p:cNvPr id="3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2987640" cy="29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0"/>
                <a:ext cx="3059280" cy="29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87640" y="0"/>
                <a:ext cx="3097080" cy="2881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6156360" y="4302000"/>
              <a:ext cx="2987640" cy="25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5"/>
            <a:stretch/>
          </p:blipFill>
          <p:spPr>
            <a:xfrm>
              <a:off x="3059280" y="4265640"/>
              <a:ext cx="309708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6"/>
            <a:stretch/>
          </p:blipFill>
          <p:spPr>
            <a:xfrm>
              <a:off x="0" y="4230720"/>
              <a:ext cx="3059280" cy="26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611280" y="306864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Петерго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348000" y="1159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Колиз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22560" y="115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Пизанская баш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Чудеса свет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411200" y="511128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Виртуальная экскур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692360" y="1159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Великая Китайская ст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987640" y="115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адж Мах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987640" y="1159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тоунхен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482920" y="1159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йфелева баш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816120"/>
            <a:ext cx="9144000" cy="608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490920" y="1159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Биг-Б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091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700360" y="115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татуя Своб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9144000" cy="6126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татуя Иисуса Христа в Рио-де-Жаней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1958" t="0" r="0" b="0"/>
          <a:stretch/>
        </p:blipFill>
        <p:spPr>
          <a:xfrm>
            <a:off x="0" y="7603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26920" y="1159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Здание оперного театра в Сид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1895" b="0"/>
          <a:stretch/>
        </p:blipFill>
        <p:spPr>
          <a:xfrm>
            <a:off x="0" y="62532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49200" y="1539720"/>
            <a:ext cx="6562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17920" y="43920"/>
            <a:ext cx="4186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SkazkaForSerge"/>
              </a:rPr>
              <a:t>Пирами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69560" y="115560"/>
            <a:ext cx="490716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kazkaForSerge"/>
              </a:rPr>
              <a:t>Пирамида Джос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4920" y="1166760"/>
            <a:ext cx="9144000" cy="5691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33200" y="188640"/>
            <a:ext cx="67071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kazkaForSerge"/>
              </a:rPr>
              <a:t>Висячие сады Семирами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8367840" y="0"/>
            <a:ext cx="776160" cy="981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106992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067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kazkaForSerge"/>
              </a:rPr>
              <a:t>Храм Артемиды Эфесск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205840" y="0"/>
            <a:ext cx="938160" cy="1197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94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04480" y="189000"/>
            <a:ext cx="7139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yrillicCooper"/>
              </a:rPr>
              <a:t>Галикарнасский мавзол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5560" y="139680"/>
            <a:ext cx="5122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yrillicCooper"/>
              </a:rPr>
              <a:t>Колосс Родос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87948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64840" y="115560"/>
            <a:ext cx="6202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yrillicCooper"/>
              </a:rPr>
              <a:t>Александрийский мая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26:22Z</dcterms:created>
  <dc:creator>1</dc:creator>
  <dc:description/>
  <dc:language>en-US</dc:language>
  <cp:lastModifiedBy>1</cp:lastModifiedBy>
  <dcterms:modified xsi:type="dcterms:W3CDTF">2012-09-03T20:51:01Z</dcterms:modified>
  <cp:revision>10</cp:revision>
  <dc:subject/>
  <dc:title>Семь чудес света</dc:title>
</cp:coreProperties>
</file>