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13.jpeg" ContentType="image/jpeg"/>
  <Override PartName="/ppt/media/image31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26.jpeg" ContentType="image/jpeg"/>
  <Override PartName="/ppt/media/image3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8CC-EA5A-485C-8A10-0ADE136C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B91-5E7F-4E1C-BBD6-814E794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5EB-1B99-43FE-83DC-D72F1F28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FF4-A07E-4FBC-B254-A6BB1066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CDC36-137D-4011-8014-CA9878A2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56DD2-38DE-432D-A1AC-E105F90F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88422-BFF2-4229-A16E-061511ED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71E38-BCCF-47DE-9E20-EEFBA85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D8C02-FF34-42C2-85B3-6504776E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EDA6A-6716-4033-A1D9-CBAC9D3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25C1-D70A-47CA-A0A7-97D6ADE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C4E-0963-4DE4-9CC6-74327E86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D53D8-804D-4CA1-B267-2998EF5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9B4FB-3B8E-463F-942B-9DE75793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49A8-0BFB-4E16-89CF-81C49EB6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D099-AAD2-470D-9600-BE33B0C7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E70E6-F316-4593-B894-BD050FD9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F70C-FCD7-4B25-B913-A0E498ED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2C7C-DE3C-46A0-8D0E-E6DE505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F106-77C8-44DA-AE76-39218FF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5628-B88E-4051-9E3A-F9F06869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8F28-D4C9-4CDE-90EC-6CFA4AB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DF1-610C-48D1-A298-4D3A545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FFB2-1C73-46EB-848F-8B3A1608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5CD0-4B84-4487-AE30-8B345F5A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CE93-3D56-40DD-9DDC-C42D882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BDF0-FBAF-4E85-925C-68C73A6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7D52-FAEA-4401-AC59-C1481B85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C32B-469B-48FD-9357-3FE79712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E35C-EE1A-42B7-AB6A-76DE2A5D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D9925-0F03-4F52-A4FA-C9B9D564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6E7B7-0E62-493B-A127-36E3EF68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D7FF-F203-49EC-A8AC-C2088CE9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CDF-38E5-455E-96A9-03EE37E8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3820-5409-4A50-AF4F-FFA9430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1A39-3FE9-4FC3-90C8-317B14BA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AA1A-40E0-4B82-B71C-8844962E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4CDE-A818-40CD-A90A-4DE0EF5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93B4-DC5C-414D-8D7A-55F8806B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6C82-45A2-4E4E-9020-5EA84DC5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59BD-7FF5-4B24-A515-5DD7E85D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BE61-AF1D-45E0-AA25-4DCD7918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A358-0173-4FF1-AB7D-C8487CAD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ADBE-BB32-458D-B42D-9C0946CB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5E6-CF41-4D6E-A4E7-66E5D1D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2EAE-8824-4A6C-8BE6-B0D35428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5EF71-6684-4C84-B666-5DAA952B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2B9B-1141-4A94-B250-FC3B533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47F4D-F746-422E-AE12-88C668D7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80E9-7DAC-44D7-91CB-4D1144B3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9EBD-0EC2-4A43-A81A-698BF656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427C-F824-4883-B87A-00302A71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3B73-D1E8-4932-8D68-AD91D19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BF22-D9CB-4076-9AB6-69B5DC3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7477D-DE9A-4270-ABE1-4BF42EE5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43C-0063-4436-9FF5-808ABF33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C7CAC-F0F1-47CE-82DB-0AEB01E0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BC6A6-3999-4496-B0F3-F9AE4074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3F570-AB55-4447-809B-0BCC43A0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EADC-D04A-499A-BBE1-4621E44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0654-BDBF-4D2F-BE9B-F0E11905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6D82-F5F9-48B8-A9BB-AD8C6538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C5DB-9B2F-4E2C-977A-78F4DEEC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F436F-6F31-4218-A410-9BC0EB9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0C39-2C84-4B35-BD89-A9F9A6C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7797-5492-42ED-ADE0-11A6D2A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A5E-CBED-48D6-9F24-B61AB4B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CC6C-1862-48E7-BC81-F64BC14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D7AF6-2779-49DC-96F5-64F82AA7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FEB2E-C8C2-43F8-B731-29B6371A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6323D-31FC-4135-B240-896C06D8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3AA8-1E09-4A25-A5BD-01716046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6E955-5942-4914-9804-6DCB0B99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E81F-343E-4475-8577-AE9D760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7AED-FF14-4B77-888D-713D481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C08C-177A-4089-B8DC-1084EA00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03AF7-F9F2-4973-B69C-DF739F4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142-321B-4851-8A82-4CAE1FA6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FADC-A71C-41EC-94CE-21E3EF1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4000D-CBAC-4DED-B889-D3FED77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142F-C175-4760-B49C-579D39A8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9E43-C4F7-46F0-A716-42275CDB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7363D-F8A4-4404-BDB7-71DCE0BF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C50-5661-4CEF-8986-91A9917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3061-8725-4B09-AAFA-F6C47DC36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4A41-20DF-4CC9-921E-F054B84C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336-4000-44E3-BCE7-E4CFE5F0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BEF-4AB7-412B-BE45-5AC484895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6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d93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D26-7CF0-4E81-9E77-E56E57D307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5d93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C05-8F5E-413D-AF7B-6CBD20BCF0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E9A-14FF-4B78-967D-D201A13167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7956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kazkaForSerge"/>
              </a:rPr>
              <a:t>Статуя Зевса Олимпийск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440" y="1125360"/>
            <a:ext cx="700200" cy="2406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8317080" cy="587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9528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Мамаев курган и статуя Родины-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24000" y="189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Столбы выветри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56000" y="11592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Гора Эльбр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908000" y="11592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олина Гейзер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0" r="18248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341440" y="6336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зеро Байк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39640" y="11592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ahoma"/>
              </a:rPr>
              <a:t>Собор Василия Блажен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4" name=""/>
            <p:cNvGrpSpPr/>
            <p:nvPr/>
          </p:nvGrpSpPr>
          <p:grpSpPr>
            <a:xfrm>
              <a:off x="0" y="0"/>
              <a:ext cx="9144000" cy="2916360"/>
              <a:chOff x="0" y="0"/>
              <a:chExt cx="9144000" cy="2916360"/>
            </a:xfrm>
          </p:grpSpPr>
          <p:pic>
            <p:nvPicPr>
              <p:cNvPr id="3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2987640" cy="29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0"/>
                <a:ext cx="3059280" cy="29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0"/>
                <a:ext cx="3097080" cy="2881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6156360" y="4302000"/>
              <a:ext cx="2987640" cy="25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5"/>
            <a:stretch/>
          </p:blipFill>
          <p:spPr>
            <a:xfrm>
              <a:off x="3059280" y="4265640"/>
              <a:ext cx="309708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6"/>
            <a:stretch/>
          </p:blipFill>
          <p:spPr>
            <a:xfrm>
              <a:off x="0" y="4230720"/>
              <a:ext cx="3059280" cy="26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/>
          <p:cNvSpPr/>
          <p:nvPr/>
        </p:nvSpPr>
        <p:spPr>
          <a:xfrm>
            <a:off x="611280" y="306864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Петерго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348000" y="1159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Колиз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22560" y="115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Пизанская баш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Чудеса свет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411200" y="511128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Виртуальная экскур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692360" y="1159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Великая Китайская ст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987640" y="115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Тадж Мах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987640" y="1159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тоунхен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482920" y="115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Эйфелева баш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81612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490920" y="1159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Биг-Б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091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700360" y="115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татуя Своб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9144000" cy="6126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татуя Иисуса Христа в Рио-де-Жаней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1958" t="0" r="0" b="0"/>
          <a:stretch/>
        </p:blipFill>
        <p:spPr>
          <a:xfrm>
            <a:off x="0" y="7603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26920" y="11592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Здание оперного театра в Сид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1895" b="0"/>
          <a:stretch/>
        </p:blipFill>
        <p:spPr>
          <a:xfrm>
            <a:off x="0" y="625320"/>
            <a:ext cx="9144000" cy="6213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49200" y="1539720"/>
            <a:ext cx="65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17920" y="43920"/>
            <a:ext cx="4186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SkazkaForSerge"/>
              </a:rPr>
              <a:t>Пирами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69560" y="115560"/>
            <a:ext cx="490716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kazkaForSerge"/>
              </a:rPr>
              <a:t>Пирамида Джос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4920" y="1166760"/>
            <a:ext cx="9144000" cy="56912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33200" y="188640"/>
            <a:ext cx="67071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kazkaForSerge"/>
              </a:rPr>
              <a:t>Висячие сады Семирами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8367840" y="0"/>
            <a:ext cx="776160" cy="9810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106992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7067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kazkaForSerge"/>
              </a:rPr>
              <a:t>Храм Артемиды Эфесск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205840" y="0"/>
            <a:ext cx="938160" cy="1197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79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04480" y="189000"/>
            <a:ext cx="7139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yrillicCooper"/>
              </a:rPr>
              <a:t>Галикарнасский мавзол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5560" y="139680"/>
            <a:ext cx="5122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yrillicCooper"/>
              </a:rPr>
              <a:t>Колосс Родос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879480"/>
            <a:ext cx="9144000" cy="5978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64840" y="115560"/>
            <a:ext cx="6202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yrillicCooper"/>
              </a:rPr>
              <a:t>Александрийский мая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26:22Z</dcterms:created>
  <dc:creator>1</dc:creator>
  <dc:description/>
  <dc:language>en-US</dc:language>
  <cp:lastModifiedBy>1</cp:lastModifiedBy>
  <dcterms:modified xsi:type="dcterms:W3CDTF">2012-09-03T20:51:01Z</dcterms:modified>
  <cp:revision>10</cp:revision>
  <dc:subject/>
  <dc:title>Семь чудес света</dc:title>
</cp:coreProperties>
</file>