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10.wmf" ContentType="image/x-wmf"/>
  <Override PartName="/ppt/media/image11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B68-AA84-4B0F-BC92-84483EF1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659-15DE-487A-BF3F-1BA1F3EA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C7C-B3C6-481E-9C0E-A38E074D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C50-E742-446D-A3B5-42B69400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6A8A-8855-4FF4-A424-31162C95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1758-EE31-4687-B1D6-ED5E65B4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7A6C-6A61-4BC9-A0B8-9316FB4F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4CFF-AA1C-48D9-B259-AA160F6D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A969-AC85-4E57-BA0B-A9A20F19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C454-9BB8-430C-9204-0CBE5E94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A93E-6E53-42E9-A66B-9D9842B4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37D-BD96-4077-9B1E-96CC3E4A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92F7-70E7-4C7B-B826-46593E24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FB4C-3CDD-45F5-8AFB-D3570991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02BA-6FA0-425E-8FC9-D13BD30F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C6E1-4563-4D27-9EFF-598A9487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C757-6219-4036-9671-29DF3E6B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12D-DCB4-43C0-A189-AD7A5AC9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144-06B5-45DA-AD6D-ADCEDEDF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BA9-4BE0-47B6-889E-E7950934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713-D04E-4007-98AC-F18A45AA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FB0-DF47-4CE9-B12D-F60B944E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F2E-42B7-480C-8CC6-2BA9A6C1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0CB-BE4F-4BEE-A2E3-63241E35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6436-E7C4-4571-8530-0C60D890A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1BDA-2F25-43B2-95F7-90558E45C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Турнир по информатике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7400" y="3566880"/>
            <a:ext cx="51055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5 - 6 клас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2019240" cy="134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20196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Логик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Comic Sans MS"/>
              </a:rPr>
              <a:t>Задание 3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а скамейке сидели Петя, Боря и Коля. Петя справа от Бори, Боря справа от Коли. Кто сидел посереди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4267440" cy="2919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95280" y="46483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3480" y="4603680"/>
            <a:ext cx="7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Comic Sans MS"/>
              </a:rPr>
              <a:t>Б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Логик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Comic Sans MS"/>
              </a:rPr>
              <a:t>Задание 4.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Марины было целое яблоко, две половинки и четыре четвертинки. Сколько было у нее ябло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19320" y="39625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Comic Sans MS"/>
              </a:rPr>
              <a:t>У Марины было 3 ябл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вание самой длинной клави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 одновременно свернуть все открытые окн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вание вкладок в диалоговом окне Справочная систе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Что означает пиктограмма    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аких окнах есть текстовое поле и для чего оно предназначен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вание и предназначение клавиши в левом верхнем углу клави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 одновременно выделить в программе Проводник несколько файлов, не идущих подря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ие виды файловых систем вы зн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чем разница между полным именем файла и путем к файл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 algn="just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чем разница между кнопками опций и флажками опци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онкурс знаток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19720" y="2819520"/>
          <a:ext cx="53316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819520"/>
                    <a:ext cx="5331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Слов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6" name="img1-168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620120" cy="3581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104240" y="5770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Вер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2971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Кур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2971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Масс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343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29200" y="4349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0760" y="43610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5749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Па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83200" y="5737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Кно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Бейс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одведение итог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00200" y="2906640"/>
            <a:ext cx="6324480" cy="17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здравляем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бедителя!!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иветствие команд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риветствие должно содержа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звание коман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в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1685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онкурс ребус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828800"/>
          <a:ext cx="76960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696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img3-207" descr=""/>
          <p:cNvPicPr/>
          <p:nvPr/>
        </p:nvPicPr>
        <p:blipFill>
          <a:blip r:embed="rId3"/>
          <a:srcRect l="0" t="0" r="0" b="7918"/>
          <a:stretch/>
        </p:blipFill>
        <p:spPr>
          <a:xfrm>
            <a:off x="762120" y="3962520"/>
            <a:ext cx="7696080" cy="1904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781680" y="35812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Comic Sans MS"/>
              </a:rPr>
              <a:t>Клави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57913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Comic Sans MS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Вопрос - ответ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Под какой элемент персонального компьютера подкладывают ков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мони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мыш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системный б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Драйвер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программа для обслуживания периферийного устройств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место хранения информации в процессо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программа просмотра гипертекстовых страниц WW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Укажите лишний ответ. Меню –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перечень величин, используемых в програм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перечень блюд в рестор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изображаемый на экране список вариантов, из которых пользователь выбирает необходимый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24080"/>
            <a:ext cx="9144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4038480"/>
            <a:ext cx="72388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5257800"/>
            <a:ext cx="60195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Вопрос - ответ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Единица измерения информ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б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ме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б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Укажите лишний ответ. Вирус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ошибка в програм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возбудитель инфекционного заболе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программа, обладающая способностью к самовоспроизвед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КУРСОР –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мусор в клетке домашней пт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направление заблудившегося тури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мигающий указатель на экране мони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514600"/>
            <a:ext cx="6098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733920"/>
            <a:ext cx="2590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5791320"/>
            <a:ext cx="51055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Анаграмм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Из слова “</a:t>
            </a:r>
            <a:r>
              <a:rPr b="0" lang="en-US" sz="3100" spc="-1" strike="noStrike">
                <a:solidFill>
                  <a:srgbClr val="336666"/>
                </a:solidFill>
                <a:latin typeface="Comic Sans MS"/>
              </a:rPr>
              <a:t>кораблестроитель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” по правилам анаграммы вы должны сформировать слова, связанные с информатикой, связью, электроникой, компьютерам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онкурс капитан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Необходимо записать на доске по очереди десять-пятнадцать известных терминов или понятий информатики по алфавиту. На букву алфавита – одно слово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Логик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Comic Sans MS"/>
              </a:rPr>
              <a:t>Задание 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соревнованиях по бегу Юра, Гриша и Толя заняли три призовых места. Какое место занял каждый ребенок, если Гриша занял не второе и третье место, а Толя – не треть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438280" y="4495320"/>
            <a:ext cx="4343400" cy="1676880"/>
            <a:chOff x="2438280" y="4495320"/>
            <a:chExt cx="4343400" cy="1676880"/>
          </a:xfrm>
        </p:grpSpPr>
        <p:sp>
          <p:nvSpPr>
            <p:cNvPr id="121" name=""/>
            <p:cNvSpPr/>
            <p:nvPr/>
          </p:nvSpPr>
          <p:spPr>
            <a:xfrm>
              <a:off x="243828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38280" y="5334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0988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3760" y="4495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3760" y="5105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51055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617220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343400" y="4495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5334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055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403848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Comic Sans MS"/>
              </a:rPr>
              <a:t>Гри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648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Comic Sans MS"/>
              </a:rPr>
              <a:t>Т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4876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Comic Sans MS"/>
              </a:rPr>
              <a:t>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«Логика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Comic Sans MS"/>
              </a:rPr>
              <a:t>Задание 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оля и Саша носят фамилии Шилов и Гвоздев. Какую фамилию носит каждый из них, если Саша с Шиловым живут в разных дом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867280" y="4419720"/>
            <a:ext cx="1570320" cy="1730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210040" cy="1441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43000" y="3809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Comic Sans MS"/>
              </a:rPr>
              <a:t>Саша Гвозд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Comic Sans MS"/>
              </a:rPr>
              <a:t>Коля Ш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BIS</cp:lastModifiedBy>
  <dcterms:modified xsi:type="dcterms:W3CDTF">2008-06-08T08:00:2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