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10.wmf" ContentType="image/x-wmf"/>
  <Override PartName="/ppt/media/image11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FA4-4667-47FB-84C7-4F0AF9EF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73E-A62A-46EF-90E2-BB448F7B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C88-0582-4291-84E3-9A7963D0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C8C-426B-4E7D-A5A8-8E0AAD71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E59B-CAFC-40B2-B998-8003D785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586F-58EA-4B58-B1EA-B2AD2959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B745-82D6-479C-AD5F-8A6728F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A61-0739-461F-880D-5357F457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00C7-5430-48C0-9EF6-1022271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5E6-05B0-4301-9C43-D3F931A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5EE2-2DDA-4954-A57B-F2D6FBA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C19-1E12-4EA6-A094-AD0729B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795D-20F7-45AF-B82C-D9F08AE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1DF2-0FE6-4A93-9E60-812461B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418-ED89-448B-B260-82C991E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71C3-7276-4920-BF5E-54CD7949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004B-E892-4ACE-A238-071DDA2B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DBB-5030-4ED9-9AE4-5B63C23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3B0-7F23-4BB0-8753-E7D5EE21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996-F2CB-40A9-AD45-7DBA68A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5B3-5B76-42B1-949A-3237C3FE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F1B-802F-44F3-BCC0-E50936D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A9A-02AB-4FA6-8CB6-91A27AA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3E3-F576-494A-A74C-94A5601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92F-7525-4552-92ED-66A4F394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97C-4C53-4E7E-91AC-22305394F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Турнир по информатике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3566880"/>
            <a:ext cx="51055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5 - 6 клас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01924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2019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а скамейке сидели Петя, Боря и Коля. Петя справа от Бори, Боря справа от Коли. Кто сидел посеред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4267440" cy="2919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46483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3480" y="460368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Б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4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Марины было целое яблоко, две половинки и четыре четвертинки. Сколько было у нее ябл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19320" y="39625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У Марины было 3 я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самой длинной клав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одновременно свернуть все открытые ок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вкладок в диалоговом окне Справоч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 означает пиктограмма  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аких окнах есть текстовое поле и для чего оно предназначе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и предназначение клавиши в левом верхнем углу клави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одновременно выделить в программе Проводник несколько файлов, не идущих подря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ие виды файловых систем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чем разница между полным именем файла и путем к фай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чем разница между кнопками опций и флажками опц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онкурс знаток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19720" y="2819520"/>
          <a:ext cx="53316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819520"/>
                    <a:ext cx="533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Слов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6" name="img1-168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3581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104240" y="5770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В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Кур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343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9200" y="4349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0760" y="43610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5749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Па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83200" y="5737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Бей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ведение итог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00200" y="2906640"/>
            <a:ext cx="632448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здравляем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бедителя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иветствие команд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риветствие должно содерж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звание коман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в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685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онкурс ребус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828800"/>
          <a:ext cx="7696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96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g3-207" descr=""/>
          <p:cNvPicPr/>
          <p:nvPr/>
        </p:nvPicPr>
        <p:blipFill>
          <a:blip r:embed="rId3"/>
          <a:srcRect l="0" t="0" r="0" b="7918"/>
          <a:stretch/>
        </p:blipFill>
        <p:spPr>
          <a:xfrm>
            <a:off x="762120" y="3962520"/>
            <a:ext cx="7696080" cy="1904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81680" y="35812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Клав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57913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Вопрос - ответ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Под какой элемент персонального компьютера подкладывают ков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мони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мыш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системный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Драйвер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программа для обслуживания периферийного устрой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место хранения информации в процесс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программа просмотра гипертекстовых страниц WW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Укажите лишний ответ. Меню –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перечень величин, используемых в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перечень блюд в рестор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изображаемый на экране список вариантов, из которых пользователь выбирает необходимый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240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038480"/>
            <a:ext cx="7238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257800"/>
            <a:ext cx="60195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Вопрос - ответ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Единица измерения информ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б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б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Укажите лишний ответ. Вирус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ошибка в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возбудитель инфекционного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программа, обладающая способностью к самовоспроизве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КУРСОР 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мусор в клетке домашней пт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направление заблудившегося тури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мигающий указатель на экране 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514600"/>
            <a:ext cx="6098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733920"/>
            <a:ext cx="2590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791320"/>
            <a:ext cx="5105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Анаграмм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Из слова “</a:t>
            </a:r>
            <a:r>
              <a:rPr b="0" lang="en-US" sz="3100" spc="-1" strike="noStrike">
                <a:solidFill>
                  <a:srgbClr val="336666"/>
                </a:solidFill>
                <a:latin typeface="Comic Sans MS"/>
              </a:rPr>
              <a:t>кораблестроитель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” по правилам анаграммы вы должны сформировать слова, связанные с информатикой, связью, электроникой, компьютерам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онкурс капитан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Необходимо записать на доске по очереди десять-пятнадцать известных терминов или понятий информатики по алфавиту. На букву алфавита – одно слово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соревнованиях по бегу Юра, Гриша и Толя заняли три призовых места. Какое место занял каждый ребенок, если Гриша занял не второе и третье место, а Толя – не треть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38280" y="4495320"/>
            <a:ext cx="4343400" cy="1676880"/>
            <a:chOff x="2438280" y="4495320"/>
            <a:chExt cx="4343400" cy="1676880"/>
          </a:xfrm>
        </p:grpSpPr>
        <p:sp>
          <p:nvSpPr>
            <p:cNvPr id="121" name=""/>
            <p:cNvSpPr/>
            <p:nvPr/>
          </p:nvSpPr>
          <p:spPr>
            <a:xfrm>
              <a:off x="24382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8280" y="5334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0988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3760" y="4495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3760" y="5105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5105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617220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343400" y="4495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5334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05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0384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Гр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648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Т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оля и Саша носят фамилии Шилов и Гвоздев. Какую фамилию носит каждый из них, если Саша с Шиловым живут в разных дом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570320" cy="1730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210040" cy="1441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3809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Саша Гвозд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Коля Ш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BIS</cp:lastModifiedBy>
  <dcterms:modified xsi:type="dcterms:W3CDTF">2008-06-08T08:00:2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