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2661-D527-4CAB-9989-BAC32CA4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1B9C-3C54-4024-B6C4-41DC6046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893-E41B-4C9B-9E5C-C2A33F0E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BD2-2F71-4D0B-990F-17399183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A68E-35B3-4486-BFB2-5E113545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2EEF-0434-46EC-A008-38ACAF52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666F-E4FD-454B-8100-51C1F51D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51D1-63C3-48D4-9E2D-C2FCB618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B860-8EEC-49CB-94CF-27598DAF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59C9-A105-4854-9A2B-C2713679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8954-35CA-4DC3-9090-8FD47846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D81-D548-4B0A-8E8E-C07671A8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5BF9-C15C-45B1-A5CE-94DC207C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A598-9E89-4893-9B01-67E0A649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B9F9-FE70-42B4-AAED-1CA0E827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5F85-3CB8-40D5-8095-48B7DFC6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1FCD-2163-4660-9C92-E4758DBF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EFA6-F04E-438F-8E33-586F9A17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E643-E888-47FB-B3E4-84E27211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72B-DB8C-4233-BB68-EF0482A0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C306-F5B1-4B37-8E83-496443A4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E0AF-889A-4851-8FAF-893F7F81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FC62-334B-49B4-B0EA-AC02EC98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5BA3-A1DC-496B-A5F4-F188656B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02F4-37A1-4684-91C7-FF10310B132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273B-F2BE-4BE1-9146-1B37358DB71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fcior.edu.ru/search.page?phrase=&#1085;&#1072;&#1083;&#1086;&#1075;&#1080;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62080" y="1365120"/>
            <a:ext cx="874872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УЧЕБНЫЙ ПРОЕК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</a:rPr>
              <a:t>РУКОВОДИТЕЛЬ ПРОЕКТА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</a:rPr>
              <a:t>: учитель ГоряеваТ.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</a:rPr>
              <a:t>УЧАСТНИКИ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</a:rPr>
              <a:t>: ученики 9-10 класс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9152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fcior.edu.ru/search.page?phrase=%D0%BD%D0%B0%D0%BB%D0%BE%D0%B3%D0%B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чем нужны налоги: В.А. Рубе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здательство ВИ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01760" y="268200"/>
            <a:ext cx="844380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ние у учащихся навыков и умений работать с большим объёмом информ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ния умения работать в групп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меть отстаивать свою точку зр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ть умение видеть проблем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пределять пути её реш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тие критического мышл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владеть практическими навыками и умениями находить в большом объёме информации необходимых сведений для решения пробле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владеть навыками проектной деятельности с использованием ИК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казать обучающимся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чт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х постоянно окружают проблемы экономического характера – инфляция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безработиц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оходы семь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цены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алог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т.п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учить историю появления налог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7892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ОСНОВОПОЛАГАЮЩИЙ ВОПРОС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ЯВЛЯЮТСЯ ЛИ НАЛОГИ ЦЕНОЙ</a:t>
            </a:r>
            <a:r>
              <a:rPr b="1" lang="en-US" sz="2800" spc="-1" strike="noStrike">
                <a:solidFill>
                  <a:srgbClr val="ffc000"/>
                </a:solidFill>
                <a:latin typeface="Book Antiqua"/>
              </a:rPr>
              <a:t>,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КОТОРОЙ ПОКУПАЮТ ОБЩЕСТВЕННЫЙ МИР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01760" y="36360"/>
            <a:ext cx="8407440" cy="1584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ТЕМЫ САМОСТОЯТЕЛЬНЫХ ИССЛЕДОВАНИЙ УЧАЩИХ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стория возникновения налогов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зент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логи это хорошо или это плохо -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эсс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словицы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поговорки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крылатые фразы о налогах -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букл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чем людям нужно государство? 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фер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 в счёте деньги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а в цене 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зент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логи 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кламный видеороли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378000" y="-42840"/>
            <a:ext cx="8570880" cy="1749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ЭТАПЫ И СРОКИ ПРОВЕДЕНИЯ ПРОЕКТ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. Организационно – подготовительный этап (1 неделя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Мозговой штурм» (постановка проблемы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выдвижение гипотез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рмирование графика составления плана действ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суждение возможных источников информ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21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. Экспериментально-аналитический этап (1 неделя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амостоятельная работа учащихся по обсуждению задания каждого в групп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амостоятельная работа групп по выполнению зад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рректировка планов (нахождение новых путей выполнения проект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суждение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обобщение результатов работы (общие выводы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. ЗАКЛЮЧИТЕЛЬНЫЙ ЭТАП (2 НЕДЕЛИ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бор творческого названия проек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формление результатов исследований в виде презентаций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буклета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ферата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видеорол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8224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САЙТЕ В ИНТЕРНЕТ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4T16:28:49Z</dcterms:created>
  <dc:creator>Admin</dc:creator>
  <dc:description/>
  <dc:language>en-US</dc:language>
  <cp:lastModifiedBy>Admin</cp:lastModifiedBy>
  <dcterms:modified xsi:type="dcterms:W3CDTF">2012-06-15T03:29:44Z</dcterms:modified>
  <cp:revision>15</cp:revision>
  <dc:subject/>
  <dc:title>ЗАЧЕМ НУЖНЫ НАЛОГИ?</dc:title>
</cp:coreProperties>
</file>