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8D4-99BD-4CC6-BBB6-8B0FCA68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B37-6E67-4ACF-B41C-5C635260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E33-FB7D-46DB-B371-736EFD8E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868-2FFB-4C56-977B-D661CDFA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A14E-798E-4B03-814F-6426223C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8E30-A08F-41E4-A70C-C7AD2500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7DD7-03DA-4395-810B-72DACCCC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3790-EA72-401E-88DF-B39033CC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3F5C-C152-4F75-9419-3D7EB52F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7B01-8924-4AD7-A9A4-A29C8960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AB02-854B-4669-8E1E-5D24C528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29E-AA17-4325-B758-00D065D3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9CE9-CB38-4B4F-B82A-67E88198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E10F-6E71-4D43-9BF4-559A6553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DBB0-88FE-4A3C-9C02-7D526424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C740-D476-489E-90C0-30F5B349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AE48-2687-4A3E-9065-D354F302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9F5-9441-4729-91E8-E8F4DE41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0CF-883B-42BD-B0FA-8A5ED236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F4E-B79D-445E-B474-BA49A27F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3D3-C7E2-414E-8A8D-DED4F32A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48D-E488-4A5F-8530-8DE1C508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C79-6785-4BAA-A6AE-AB242BBC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E5D-7ED8-40CA-8FEC-CBA5F182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35F4-3AC4-4A96-A6B3-29FF524C6A0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D956-2FE2-4D09-87A9-3301D2BE415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fcior.edu.ru/search.page?phrase=&#1085;&#1072;&#1083;&#1086;&#1075;&#1080;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62080" y="1365120"/>
            <a:ext cx="874872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УЧЕБНЫЙ ПРОЕ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РУКОВОДИТЕЛЬ ПРОЕКТА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</a:rPr>
              <a:t>: учитель ГоряеваТ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УЧАСТНИКИ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</a:rPr>
              <a:t>: ученики 9-10 клас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fcior.edu.ru/search.page?phrase=%D0%BD%D0%B0%D0%BB%D0%BE%D0%B3%D0%B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чем нужны налоги: В.А. Рубе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здательство ВИ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01760" y="268200"/>
            <a:ext cx="84438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у учащихся навыков и умений работать с большим объёмом 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я умения работать в групп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меть отстаивать свою точку зр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ть умение видеть проблем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пределять пути её реш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критического мыш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владеть практическими навыками и умениями находить в большом объёме информации необходимых сведений для решения пробле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владеть навыками проектной деятельности с использованием ИК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казать обучающимс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чт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х постоянно окружают проблемы экономического характера – инфляция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езработиц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оходы семь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цены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лог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т.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ить историю появления налог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ОСНОВОПОЛАГАЮЩИЙ ВОПРОС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ЯВЛЯЮТСЯ ЛИ НАЛОГИ ЦЕНОЙ</a:t>
            </a:r>
            <a:r>
              <a:rPr b="1" lang="en-US" sz="2800" spc="-1" strike="noStrike">
                <a:solidFill>
                  <a:srgbClr val="ffc000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КОТОРОЙ ПОКУПАЮТ ОБЩЕСТВЕННЫЙ МИ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01760" y="36360"/>
            <a:ext cx="8407440" cy="1584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ТЕМЫ САМОСТОЯТЕЛЬНЫХ ИССЛЕДОВАНИЙ УЧАЩИХ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рия возникновения налогов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и это хорошо или это плохо -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э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ловицы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оговорки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крылатые фразы о налогах -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букл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чем людям нужно государство?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фе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 в счёте деньги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а в цене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и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кламный видеорол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378000" y="-42840"/>
            <a:ext cx="8570880" cy="1749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ЭТАПЫ И СРОКИ ПРОВЕДЕНИЯ ПРОЕКТ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 Организационно – подготовительный этап (1 недел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Мозговой штурм» (постановка проблемы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ыдвижение гипотез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ирование графика составления плана действ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суждение возможных источников информ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21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. Экспериментально-аналитический этап (1 недел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остоятельная работа учащихся по обсуждению задания каждого в групп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остоятельная работа групп по выполнению зад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рректировка планов (нахождение новых путей выполнения проект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суждение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обобщение результатов работы (общие выво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. ЗАКЛЮЧИТЕЛЬНЫЙ ЭТАП (2 НЕДЕЛ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бор творческого названия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формление результатов исследований в виде презентаций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буклета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ферата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идеорол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8224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САЙТЕ В ИНТЕРНЕ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16:28:49Z</dcterms:created>
  <dc:creator>Admin</dc:creator>
  <dc:description/>
  <dc:language>en-US</dc:language>
  <cp:lastModifiedBy>Admin</cp:lastModifiedBy>
  <dcterms:modified xsi:type="dcterms:W3CDTF">2012-06-15T03:29:44Z</dcterms:modified>
  <cp:revision>15</cp:revision>
  <dc:subject/>
  <dc:title>ЗАЧЕМ НУЖНЫ НАЛОГИ?</dc:title>
</cp:coreProperties>
</file>