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6FD-13B4-4575-BA43-F6FEE1E2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539-AF94-4619-8356-55ED27C1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437-D7B8-4E17-BF0A-43D8E21B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E4E-468D-49A2-835D-C1886C69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1D8-1CF4-4A56-8D21-65646251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BBE-D03E-42CA-9071-D2039615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501-3ABA-4887-835F-675002C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A04-3F86-43B3-9219-8EEEACAB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4F7-085E-412F-B153-BC97C6B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C6C-FE93-4C8B-B78E-D1861982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83B-24DD-4D98-A265-49FA6B4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74B-2290-46B5-992E-E9DC72D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D2D5-7E23-4B26-BBAD-D126BE7E7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Домашнее зад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Задача 2. Джеку, Питеру и Майку предъявлено обвинение в соучастии в ограблении банка. Похитители скрылись на поджидавшем их автомобиле. На следствии Джек показал, что преступники скрылись на синем Мерседесе, Питер сказал, что это был черный Джип, а Майк утверждал, что это был Форд и ни в коем случае не синий. Стало известно, что желая запутать следствие, каждый из них указал правильно либо марку машины, либо только ее цвет. Какого цвета и какой марки была машин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а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к поисковому серверу. Расположите обозначения запросов в порядке возрастания количества страниц, которые найдет поисковый сервер по  каждому запрос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)  волейбол | баскетбол | по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 волейбол | баскетбол | подача | бл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)  волейбол | баскетб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)  волейбол &amp; баскетбол &amp; по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ВА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3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260280"/>
            <a:ext cx="81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а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к поисковому серверу. Расположите обозначения запросов в порядке возрастания количества страниц, которые найдет поисковый сервер по  каждому запрос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)  чемпионы | (бег &amp; плава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)  чемпионы  &amp; пла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)  чемпионы | бег | пла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)  чемпионы &amp; Европа &amp; бег &amp; пла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260280"/>
            <a:ext cx="81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ча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который сегмент сети Интернет состоит из 1000 сайтов. Поисковый сервер в автоматическом режиме составил таблицу ключевых слов для сайтов этого сегмента. Вот ее фрагме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лючевое слов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личество сайтов, для которых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нное слово является ключе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мик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ченосц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упп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колько сайтов будет найдено по запрос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мики | меченосцы | гуппи, если по запросу  сомики &amp; гуппи было найдено 0 сайтов, по запросу сомики &amp; меченосцы – 20, а по запросу меченосцы &amp; гуппи –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4000" y="549000"/>
            <a:ext cx="734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Составление запросов для поисковых систем с использованием логических выраже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дач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к поисковому серверу. Расположите номера запросов в порядке возрастания количества страниц, которые найдет поисковый сервер по каждому запросу. Для обозначения логической операции «ИЛИ» в запросе используется символ |, а для логической операции «И» – &amp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)  принтеры &amp; сканеры &amp; прод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)  принтеры &amp; прод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)  принтеры | прод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)  принтеры | сканеры | продаж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ньше всего результатов выдаст запрос с наибольшими ограничениями – первый (нужны одновременно принтеры, сканеры и продаж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 втором месте – второй запрос (одновременно принтеры и скане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алее – третий запрос (принтеры или скане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ый запрос дает наибольшее количество результатов (принтеры или сканеры или продаж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аким образом, верный ответ – 1234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ча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который сегмент сети Интернет состоит из 1000 сайтов. Поисковый сервер в автоматическом режиме составил таблицу ключевых слов для сайтов этого сегмента. Вот ее фрагме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колько сайтов будет найдено по запросу (принтер | сканер) &amp; монитор, если по запросу принтер | сканер было найдено 450 сайтов, по запросу принтер &amp; монитор – 40, а по запросу сканер &amp; монитор – 50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9640" y="2276640"/>
          <a:ext cx="8064720" cy="2187360"/>
        </p:xfrm>
        <a:graphic>
          <a:graphicData uri="http://schemas.openxmlformats.org/drawingml/2006/table">
            <a:tbl>
              <a:tblPr/>
              <a:tblGrid>
                <a:gridCol w="2625840"/>
                <a:gridCol w="5438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ючев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оличество сайтов, для которых данное слово является ключев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кан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н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они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0" y="403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ратим внимание на такой факт (справа указано количество сайтов по каждому за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канер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нтер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нтер | сканер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  поскольку последнее число равно сумме двух предыдущих, можно сразу же придти к выводу, что в этом сегменте сети нет сайтов, на которых ключевыми словами являются одновременно принтер и сканер: принтер &amp; сканер 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.  с этого момента все просто: для того, чтобы определить, сколько сайтов удовлетворяют заданному условию достаточно просто сложить числа, соответствующие запросам принтер &amp; монитор 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канер &amp; мон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.  таким образом, правильный ответ: 40 + 50 = 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и количество страниц, которые нашел поисковый сервер по этим запросам в некотором сегменте Интерн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про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     Количество страниц (ты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ирожное &amp; выпечк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3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ирожное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8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печк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7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олько страниц  (в тысячах) будет найдено по запросу  пирожное | выпе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)составляем уравнения, которые определяют запросы, заданные в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ирожное &amp; выпеч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3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ирожное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+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8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ыпеч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В+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7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одставляя значение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из первого уравнения в остальные, получ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8700 - N2  = 8700 – 3200 = 5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7500 - N2  = 7500 – 3200 = 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личество сайтов по запросу пирожное | выпечка рав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+В+итог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5500 + 3200 + 4300 = 1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аким образом, ответ – 13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642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а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таблице приведены запросы к поисковому серверу. Расположите обозначения запросов в порядке возрастания количества страниц, которые найдет поисковый сервер по каждому запрос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 физкуль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 физкультура &amp; подтягивания &amp; отж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)  физкультура &amp; подтяг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)  физкультура | фитнес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В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4:00:25Z</dcterms:created>
  <dc:creator>Servise Install</dc:creator>
  <dc:description/>
  <dc:language>en-US</dc:language>
  <cp:lastModifiedBy>User</cp:lastModifiedBy>
  <dcterms:modified xsi:type="dcterms:W3CDTF">2012-02-20T08:19:26Z</dcterms:modified>
  <cp:revision>64</cp:revision>
  <dc:subject/>
  <dc:title>ОСНОВЫ ЛОГ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