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DD5A-FA39-4227-A433-C2327CCE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140D-4D54-40EB-A9B5-59047320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0FD4-C2DA-4BB9-82E7-3835E587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8F0E-90D0-48AF-B3AF-DD4E2A6F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E70C-CF82-4715-8863-B6500907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D62A-228F-427C-A340-A882C145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E3F1-9F0C-49D0-8F1D-901E3C80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09E-D69A-4FB0-A6AB-95A51B57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CB4C-8C52-4E9B-8E40-BF5845E1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9CF-DBC6-499A-9859-DA9B0ABC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960A-6A6A-4356-A977-8DA59DA1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6CD-FD75-4F0E-9EB0-EC605779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F24E-5EF1-483B-993E-6F4392473F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4358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Домашнее зад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Задача 2. Джеку, Питеру и Майку предъявлено обвинение в соучастии в ограблении банка. Похитители скрылись на поджидавшем их автомобиле. На следствии Джек показал, что преступники скрылись на синем Мерседесе, Питер сказал, что это был черный Джип, а Майк утверждал, что это был Форд и ни в коем случае не синий. Стало известно, что желая запутать следствие, каждый из них указал правильно либо марку машины, либо только ее цвет. Какого цвета и какой марки была машин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62064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а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таблице приведены запросы к поисковому серверу. Расположите обозначения запросов в порядке возрастания количества страниц, которые найдет поисковый сервер по  каждому запросу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)  волейбол | баскетбол | по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)  волейбол | баскетбол | подача | бл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)  волейбол | баскетбо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)  волейбол &amp; баскетбол &amp; по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ВА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3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68360" y="260280"/>
            <a:ext cx="813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омашнее задание: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а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таблице приведены запросы к поисковому серверу. Расположите обозначения запросов в порядке возрастания количества страниц, которые найдет поисковый сервер по  каждому запросу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)  чемпионы | (бег &amp; плава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)  чемпионы  &amp; пла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)  чемпионы | бег | пла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)  чемпионы &amp; Европа &amp; бег &amp; пла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260280"/>
            <a:ext cx="813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омашнее задание: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78544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дача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который сегмент сети Интернет состоит из 1000 сайтов. Поисковый сервер в автоматическом режиме составил таблицу ключевых слов для сайтов этого сегмента. Вот ее фрагмен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лючевое слово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оличество сайтов, для которых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анное слово является ключе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омики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     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ченосц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    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уппи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                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колько сайтов будет найдено по запрос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омики | меченосцы | гуппи, если по запросу  сомики &amp; гуппи было найдено 0 сайтов, по запросу сомики &amp; меченосцы – 20, а по запросу меченосцы &amp; гуппи –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84000" y="549000"/>
            <a:ext cx="734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Составление запросов для поисковых систем с использованием логических выражен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Задача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таблице приведены запросы к поисковому серверу. Расположите номера запросов в порядке возрастания количества страниц, которые найдет поисковый сервер по каждому запросу. Для обозначения логической операции «ИЛИ» в запросе используется символ |, а для логической операции «И» – &amp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)  принтеры &amp; сканеры &amp; прода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)  принтеры &amp; прода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)  принтеры | прода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)  принтеры | сканеры | продажа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еньше всего результатов выдаст запрос с наибольшими ограничениями – первый (нужны одновременно принтеры, сканеры и продаж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)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а втором месте – второй запрос (одновременно принтеры и скане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3)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алее – третий запрос (принтеры или скане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4)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четвертый запрос дает наибольшее количество результатов (принтеры или сканеры или продаж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5)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аким образом, верный ответ – 1234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3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21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дача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который сегмент сети Интернет состоит из 1000 сайтов. Поисковый сервер в автоматическом режиме составил таблицу ключевых слов для сайтов этого сегмента. Вот ее фрагмен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колько сайтов будет найдено по запросу (принтер | сканер) &amp; монитор, если по запросу принтер | сканер было найдено 450 сайтов, по запросу принтер &amp; монитор – 40, а по запросу сканер &amp; монитор – 50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39640" y="2276640"/>
          <a:ext cx="8064720" cy="2187360"/>
        </p:xfrm>
        <a:graphic>
          <a:graphicData uri="http://schemas.openxmlformats.org/drawingml/2006/table">
            <a:tbl>
              <a:tblPr/>
              <a:tblGrid>
                <a:gridCol w="2625840"/>
                <a:gridCol w="54388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Ключевое сл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Количество сайтов, для которых данное слово является ключевы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скан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ин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они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0" y="403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8642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братим внимание на такой факт (справа указано количество сайтов по каждому запрос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канер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интер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интер | сканер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.  поскольку последнее число равно сумме двух предыдущих, можно сразу же придти к выводу, что в этом сегменте сети нет сайтов, на которых ключевыми словами являются одновременно принтер и сканер: принтер &amp; сканер =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.  с этого момента все просто: для того, чтобы определить, сколько сайтов удовлетворяют заданному условию достаточно просто сложить числа, соответствующие запросам принтер &amp; монитор 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канер &amp; мони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.  таким образом, правильный ответ: 40 + 50 = 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642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а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таблице приведены запросы и количество страниц, которые нашел поисковый сервер по этим запросам в некотором сегменте Интерн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про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              Количество страниц (тыс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ирожное &amp; выпечка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3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ирожное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8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ыпечка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                   7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колько страниц  (в тысячах) будет найдено по запросу  пирожное | выпеч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3640" y="62064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1)составляем уравнения, которые определяют запросы, заданные в услов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пирожное &amp; выпечк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итого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= 3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пирожное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П+итого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= 8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ыпечк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В+итого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= 7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2)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подставляя значение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итого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из первого уравнения в остальные, получ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= 8700 - N2  = 8700 – 3200 = 5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= 7500 - N2  = 7500 – 3200 = 4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3)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оличество сайтов по запросу пирожное | выпечка рав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П+В+итого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= 5500 + 3200 + 4300 = 1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4)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таким образом, ответ – 13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642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а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таблице приведены запросы к поисковому серверу. Расположите обозначения запросов в порядке возрастания количества страниц, которые найдет поисковый сервер по каждому запрос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)  физкуль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)  физкультура &amp; подтягивания &amp; отжи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)  физкультура &amp; подтяг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)  физкультура | фитнес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В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14:00:25Z</dcterms:created>
  <dc:creator>Servise Install</dc:creator>
  <dc:description/>
  <dc:language>en-US</dc:language>
  <cp:lastModifiedBy>User</cp:lastModifiedBy>
  <dcterms:modified xsi:type="dcterms:W3CDTF">2012-02-20T08:19:26Z</dcterms:modified>
  <cp:revision>64</cp:revision>
  <dc:subject/>
  <dc:title>ОСНОВЫ ЛОГ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