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121-0ADB-437C-80A4-D4BA1BD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D08-BF95-40B6-A843-5690829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3CD-FE8F-4877-92AF-078B28F6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EB5-8F65-4716-9935-592EFB26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BF59-FF86-4096-AAB3-3E8FE598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0225-4C8F-4B5C-9837-75218CB8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ADDE-5155-444B-840B-69CEF942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3C8B-28EB-4A04-A637-D4187A4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B081-E749-46B4-A90F-33A2600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3A7-2861-44E8-BBBA-8986EF0F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06FF-9784-4220-842A-2BBDADC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27D-FC56-43CA-860F-F409CF01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55D8-41F5-4D3D-BCC9-7564D12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A969-ACE1-400D-A2C7-07730AA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7970-A809-4084-A40B-E9F87B1E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CC82-BA78-4293-926A-F678952B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703-E34B-4EAD-BB1A-F30C6006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D3C-F329-4052-89DA-B2A37FB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3E2-78D6-4EDC-BC89-6F9096B9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53E-4FBD-42CD-B215-67F89694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E1A-E57A-41A1-A50E-7A274C5F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A59-E3FF-4BC4-956A-3701574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5B2-1DB1-4136-B29F-36537BD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8DE-EC2C-4319-8F2A-F2E8DC8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085-522A-44BD-A8CC-F51D463CBC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1D6-0155-4096-AE2E-3F541A6D2E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ГАДКИ О КОСМОС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вещает ночью пут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ам не дает заснуть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все спят, ей не до сн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бе светит нам 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У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179064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ециальный космический есть аппара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гналы на Землю он шлет всем подряд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одинокий таинственный путник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ит по орбите искусственный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УТНИК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52480" y="1820880"/>
            <a:ext cx="57913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колок от плане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едь звезд несется где-то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много лет летит-летит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смический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МЕТЕОРИ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05476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84920" y="1676520"/>
            <a:ext cx="325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еркая огромным хвостом в темнот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ется среди ярких звезд в пустоте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а не звезда, не планет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адка Вселенной — …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ОМ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78128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кт есть во Вселенн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варный, не просто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звезды пожирае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бутерброд с икро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асно незаметна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глазом не видн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ая темно-темная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ЧЕРНАЯ ДЫ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71600" y="1557360"/>
            <a:ext cx="6858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глаз вооружить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о звездами дружит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ечный путь увидеть чтоб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ужен мощны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рных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дыра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но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-то черным заня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м окончил свой поле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жпланетный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ВЕЗДОЛ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1698480"/>
            <a:ext cx="556272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вездоле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тальная птиц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быстрее света мчится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ет на практик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ные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АЛАК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577880"/>
            <a:ext cx="66294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алактик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тят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ассыпную как хотят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здоровенна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а вся вселенна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СЕЛЕННА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Телескоп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191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корабле воздушном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смическом, послушном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, обгоняя ветер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емся на …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АКЕ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713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еан бездонны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еан бескрайни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воздушный, темный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еобычайный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ем живут Вселенны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ы и кометы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ь и обитаемы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план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ОСМО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18669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ета голубая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мая, родна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твоя, она мо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зывается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ЕМ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62320" y="17146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5:01:40Z</dcterms:created>
  <dc:creator>ANDREY</dc:creator>
  <dc:description/>
  <dc:language>en-US</dc:language>
  <cp:lastModifiedBy>ANDREY</cp:lastModifiedBy>
  <dcterms:modified xsi:type="dcterms:W3CDTF">2012-08-31T15:24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