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9C5D-77A0-4439-9F2B-7A59E1FA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C66A-0849-44ED-8CE4-D34B22B9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4845-FE90-4876-B288-A768C37E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89C-D239-48D4-8AC0-393D005F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1CB1-645A-413C-8236-A9A727E3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A1D2-C4BF-4E87-9656-F8B71E3E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1E63-6BF4-4FDB-9F64-289FCF70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F682-64A5-41C7-AB36-3AF9DBD0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7A62-6E87-4834-9A48-25A26B0A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DD45-08C5-4625-A325-34195AB1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658E-4BF4-4AA7-8AF0-3D255CF5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BD7-DB97-4F12-8B7E-CB823D4D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EB0B-5A32-4534-91E6-F3A34537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761C-448B-4FE6-AB20-2FF72445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6D49-972E-4533-B634-EF6977A5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B58C-5D71-4BBE-BCFE-3A15E38A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0663-1DC9-4424-BFBF-9EE320BD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9B0-7881-4B32-AEE3-B34099B0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049-352B-47FC-91F1-41C92055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1815-740F-4280-8A50-85185E59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0C1-1439-4BAA-8DED-1A584E98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773-4924-492E-A09B-1504EC25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DA3-7D4A-4425-BFC7-E0D879BD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653-2BAE-4699-A67A-17013E1C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FE23-AF9F-478A-91D4-CBCC6BDB176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5A0D-1C2D-4733-B3A6-1064B10D910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АГАДКИ О КОСМОС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вещает ночью путь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вездам не дает заснуть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сть все спят, ей не до сна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ебе светит нам …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ЛУН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0" y="179064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ециальный космический есть аппарат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гналы на Землю он шлет всем подряд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одинокий таинственный путник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етит по орбите искусственный 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ПУТНИК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52480" y="1820880"/>
            <a:ext cx="579132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колок от планеты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редь звезд несется где-то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 много лет летит-летит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смический 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ЕТЕОРИ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5054760" cy="4114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884920" y="1676520"/>
            <a:ext cx="3259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веркая огромным хвостом в темноте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сется среди ярких звезд в пустоте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а не звезда, не планета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гадка Вселенной — 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КОМЕ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76520" y="178128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кт есть во Вселенной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варный, не простой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 звезды пожирает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бутерброд с икрой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асно незаметная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глазом не видна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кая темно-темная 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ЧЕРНАЯ ДЫ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71600" y="1557360"/>
            <a:ext cx="685800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бы глаз вооружить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со звездами дружить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лечный путь увидеть чтоб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ужен мощный 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ерных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ыра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мнота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м-то черным занята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м окончил свой полет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жпланетный 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ВЕЗДОЛ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828800" y="1698480"/>
            <a:ext cx="556272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вездолет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тальная птица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 быстрее света мчится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ет на практик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вездные 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АЛАКТИ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1577880"/>
            <a:ext cx="662940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алактик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етят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рассыпную как хотят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чень здоровенная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а вся вселенная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СЕЛЕННА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6294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Телескоп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4191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корабле воздушном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смическом, послушном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, обгоняя ветер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семся на …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РАКЕ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763720" y="1295280"/>
            <a:ext cx="3713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еан бездонный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еан бескрайний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звоздушный, темный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необычайный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ем живут Вселенные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везды и кометы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ть и обитаемые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жет быть, плане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КОСМО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47920" y="186696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нета голубая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бимая, родная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а твоя, она моя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называется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ЕМЛ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362320" y="17146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15:01:40Z</dcterms:created>
  <dc:creator>ANDREY</dc:creator>
  <dc:description/>
  <dc:language>en-US</dc:language>
  <cp:lastModifiedBy>ANDREY</cp:lastModifiedBy>
  <dcterms:modified xsi:type="dcterms:W3CDTF">2012-08-31T15:24:2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