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209-0AE4-4504-B7A9-DE3C0D51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72C-6F16-4F4F-893F-907BCA60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76D-FE11-4759-919D-03E3C893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364-D1F3-4C37-9ABB-231B609D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0ED-BD8A-48C0-BBFA-38B3D1BE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625-7E73-44B8-B5A8-B1507C40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4BD-9297-4E51-9B8A-E0B7DD3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EE4-CAD9-416A-8F37-ADF6AB3E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432-4036-4118-8AE4-0CC6B4E0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F2A-546A-4D1F-97E9-B865769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ACC-F634-4115-909F-A040BB7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38A-CEDB-4CF0-9BFF-E54F10F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386-2E37-4E10-8E11-9A78F2D483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404280"/>
            <a:ext cx="720108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L:\Мама\Мои рисунки\My Pictures\картинки\космос\asts.gif"/>
          <p:cNvPicPr/>
          <p:nvPr/>
        </p:nvPicPr>
        <p:blipFill>
          <a:blip r:embed="rId2"/>
          <a:stretch/>
        </p:blipFill>
        <p:spPr>
          <a:xfrm>
            <a:off x="3714840" y="3000240"/>
            <a:ext cx="4286160" cy="2928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42960"/>
            <a:ext cx="614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нтеллектуальная иг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5 – х классах по природоведени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aristarh"/>
          <p:cNvPicPr/>
          <p:nvPr/>
        </p:nvPicPr>
        <p:blipFill>
          <a:blip r:embed="rId1"/>
          <a:stretch/>
        </p:blipFill>
        <p:spPr>
          <a:xfrm>
            <a:off x="2987640" y="549360"/>
            <a:ext cx="4084560" cy="575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итальянский учёный считал, что Вселенная не имеет центра, она бесконеч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то это? Что с ним произош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жордано Бру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2" descr="C:\Users\Александр\Desktop\Gur184.jpg"/>
          <p:cNvPicPr/>
          <p:nvPr/>
        </p:nvPicPr>
        <p:blipFill>
          <a:blip r:embed="rId1"/>
          <a:stretch/>
        </p:blipFill>
        <p:spPr>
          <a:xfrm>
            <a:off x="3056040" y="1981080"/>
            <a:ext cx="303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ВСЕЗНАЙК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III </a:t>
            </a:r>
            <a:r>
              <a:rPr b="0" lang="ru-RU" sz="7200" spc="-1" strike="noStrike">
                <a:solidFill>
                  <a:srgbClr val="e5ffff"/>
                </a:solidFill>
                <a:latin typeface="Tahoma"/>
              </a:rPr>
              <a:t>этап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ычеркните в каждой строке лишн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 Галилей, Аристотель, Дж. Бруно, А. Само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фа Центавра, Земля, Марс, Плутон, Юпи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це, Полярная звезда, Лу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положите планеты в порядке удаления от Солн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Юпитер, Земля, Вен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ркурий, Уран, Непт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арс, Плутон, Сатур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915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пределит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ланету и ответь на вопрос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 н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сатурн"/>
          <p:cNvPicPr/>
          <p:nvPr/>
        </p:nvPicPr>
        <p:blipFill>
          <a:blip r:embed="rId1"/>
          <a:stretch/>
        </p:blipFill>
        <p:spPr>
          <a:xfrm>
            <a:off x="1116000" y="571680"/>
            <a:ext cx="7343640" cy="550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й ответ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АТУР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6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Сатурн, как вам извес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е ужасно интерес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сть кого мне имя д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анным именем назва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честь кого названа планет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венера"/>
          <p:cNvPicPr/>
          <p:nvPr/>
        </p:nvPicPr>
        <p:blipFill>
          <a:blip r:embed="rId1"/>
          <a:stretch/>
        </p:blipFill>
        <p:spPr>
          <a:xfrm>
            <a:off x="1835280" y="333360"/>
            <a:ext cx="5449680" cy="6165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I </a:t>
            </a: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этап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РАЗМИНК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й ответ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НЕ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Венера, не Юпите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 ребята знать хотит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какой группе отношу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кем в соседстве нахожу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какой группе планет относиться Вене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юпитер"/>
          <p:cNvPicPr/>
          <p:nvPr/>
        </p:nvPicPr>
        <p:blipFill>
          <a:blip r:embed="rId1"/>
          <a:stretch/>
        </p:blipFill>
        <p:spPr>
          <a:xfrm>
            <a:off x="1042920" y="361800"/>
            <a:ext cx="7201080" cy="588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й ответ: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ЮПИТЕ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питер, нет меня крупне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робуй-ка найди скор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го же, как я, тит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назови всех без обм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какой группе относиться Юпите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зовите всех представителей этой групп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Александр\Desktop\i.jpg"/>
          <p:cNvPicPr/>
          <p:nvPr/>
        </p:nvPicPr>
        <p:blipFill>
          <a:blip r:embed="rId1"/>
          <a:stretch/>
        </p:blipFill>
        <p:spPr>
          <a:xfrm>
            <a:off x="1357200" y="500040"/>
            <a:ext cx="65725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28840" y="171432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р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ервая после Земл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ане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лнечной системы, к которой человек проявил особый интерес с надеждой, что там есть развитая внеземная жизн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акая это планета по удалённости от Солнца?  В честь кого назван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2286000" y="500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ильный отв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АРС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V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157140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БЛИЦ-ОПРОС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Рисунок 3" descr="346544843.gif"/>
          <p:cNvPicPr/>
          <p:nvPr/>
        </p:nvPicPr>
        <p:blipFill>
          <a:blip r:embed="rId1"/>
          <a:stretch/>
        </p:blipFill>
        <p:spPr>
          <a:xfrm>
            <a:off x="2571840" y="3143160"/>
            <a:ext cx="4124160" cy="3286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тероиды – эт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ьчайшие твердые част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упные тела неправильной формы, обращающиеся вокруг Сол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льчайшие твердые частички правильной формы, обращающиеся вокруг Сол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Астероид Гаспра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7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2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2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2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2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павшие на Землю космические тела назы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лыми планет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ет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ит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железо-каменный метеорит"/>
          <p:cNvPicPr/>
          <p:nvPr/>
        </p:nvPicPr>
        <p:blipFill>
          <a:blip r:embed="rId1"/>
          <a:stretch/>
        </p:blipFill>
        <p:spPr>
          <a:xfrm>
            <a:off x="4500720" y="1812960"/>
            <a:ext cx="4392360" cy="43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29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429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429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429"/>
                            </p:stCondLst>
                            <p:childTnLst>
                              <p:par>
                                <p:cTn id="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429"/>
                            </p:stCondLst>
                            <p:childTnLst>
                              <p:par>
                                <p:cTn id="4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Парящими в воздухе» принято назыв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еори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е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стерои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метеор по небу"/>
          <p:cNvPicPr/>
          <p:nvPr/>
        </p:nvPicPr>
        <p:blipFill>
          <a:blip r:embed="rId1"/>
          <a:stretch/>
        </p:blipFill>
        <p:spPr>
          <a:xfrm>
            <a:off x="4572000" y="1916280"/>
            <a:ext cx="4143240" cy="41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вост кометы состои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льда и мелкой пы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рупных твердых частиц и ль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рупных твердых частиц, льда и га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комета Галея"/>
          <p:cNvPicPr/>
          <p:nvPr/>
        </p:nvPicPr>
        <p:blipFill>
          <a:blip r:embed="rId1"/>
          <a:stretch/>
        </p:blipFill>
        <p:spPr>
          <a:xfrm>
            <a:off x="4648320" y="1844640"/>
            <a:ext cx="41004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98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498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998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498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5472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начала, ни конц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затылка,  ни 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ют все, и млад, и стар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она большущий ш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крашал ночную си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истый апельс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прошла неделька только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него осталась дол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лые цветочки вечером расцветаю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утром увяда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3" descr="L:\Мама\Мои рисунки\My Pictures\картинки\космос\ag_00003.jpg"/>
          <p:cNvPicPr/>
          <p:nvPr/>
        </p:nvPicPr>
        <p:blipFill>
          <a:blip r:embed="rId1"/>
          <a:stretch/>
        </p:blipFill>
        <p:spPr>
          <a:xfrm>
            <a:off x="5715000" y="50004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Александр\Desktop\4368.jpg"/>
          <p:cNvPicPr/>
          <p:nvPr/>
        </p:nvPicPr>
        <p:blipFill>
          <a:blip r:embed="rId2"/>
          <a:stretch/>
        </p:blipFill>
        <p:spPr>
          <a:xfrm>
            <a:off x="5929200" y="2928960"/>
            <a:ext cx="234324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Александр\Desktop\54027028_52042453_1238610552_nebo25.jpg"/>
          <p:cNvPicPr/>
          <p:nvPr/>
        </p:nvPicPr>
        <p:blipFill>
          <a:blip r:embed="rId3"/>
          <a:stretch/>
        </p:blipFill>
        <p:spPr>
          <a:xfrm>
            <a:off x="6072120" y="4857840"/>
            <a:ext cx="235764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сть древнеримского бога моря была названа плане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т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тур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пи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нептун в близи"/>
          <p:cNvPicPr/>
          <p:nvPr/>
        </p:nvPicPr>
        <p:blipFill>
          <a:blip r:embed="rId1"/>
          <a:stretch/>
        </p:blipFill>
        <p:spPr>
          <a:xfrm>
            <a:off x="4648320" y="2021040"/>
            <a:ext cx="4038480" cy="4033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нце – это звезда, которая относиться к групп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л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и-карл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га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солнце - спутник SOHO"/>
          <p:cNvPicPr/>
          <p:nvPr/>
        </p:nvPicPr>
        <p:blipFill>
          <a:blip r:embed="rId1"/>
          <a:stretch/>
        </p:blipFill>
        <p:spPr>
          <a:xfrm>
            <a:off x="4702320" y="1981080"/>
            <a:ext cx="392904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286000" y="6429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глаз вооруж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о звездами дружи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ечный путь увидеть чтоб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ен мощный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286000" y="22748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лескоп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тни л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т жизнь план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расскажет обо все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ный дяд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286000" y="40719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трон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н звездоч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ет все наперечет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лучше звезд вид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бе полная 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286000" y="612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2286000" y="642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у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 может птиц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ететь и прилунитьс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зато умеет эт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лать быстра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286000" y="2459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ке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ть водител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есомости любител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-английски: "астронавт"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по-русски 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2286000" y="4143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смонав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идит в ракет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клиная все на свете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орбите как назл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явилось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286000" y="2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286000" y="571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Л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тит к сосед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созвездья Андромед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м от скуки волком во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лой зеленый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2286000" y="24591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уманои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курса сбилс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рех планетах заблудилс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звездной карты нету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оможет скорость…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286000" y="4214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стрее всех лета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лометры не считае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рит Солнце жизнь планетам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 - тепло, хвосты -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AG00388_"/>
          <p:cNvPicPr/>
          <p:nvPr/>
        </p:nvPicPr>
        <p:blipFill>
          <a:blip r:embed="rId2"/>
          <a:stretch/>
        </p:blipFill>
        <p:spPr>
          <a:xfrm>
            <a:off x="-593640" y="-603360"/>
            <a:ext cx="270036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2286000" y="642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ё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ме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летел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ё на небе осмотрел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дит, в космосе нора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черна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2286000" y="24591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рны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ыра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емн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-то черным занят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 окончил свой пол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планетный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0" y="42861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вездол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тальная птиц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 быстрее света мчитс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ет на практи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вездны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071880" y="221472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алакти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летя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ссыпную как хотя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ень здоровенна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 вся вселенная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AG00388_"/>
          <p:cNvPicPr/>
          <p:nvPr/>
        </p:nvPicPr>
        <p:blipFill>
          <a:blip r:embed="rId2"/>
          <a:stretch/>
        </p:blipFill>
        <p:spPr>
          <a:xfrm>
            <a:off x="6215040" y="2643120"/>
            <a:ext cx="270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подведение итогов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4" name="Рисунок 3" descr="190857538.gif"/>
          <p:cNvPicPr/>
          <p:nvPr/>
        </p:nvPicPr>
        <p:blipFill>
          <a:blip r:embed="rId1"/>
          <a:stretch/>
        </p:blipFill>
        <p:spPr>
          <a:xfrm>
            <a:off x="2643120" y="3214800"/>
            <a:ext cx="3865680" cy="302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5176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й подсолнух в неб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он много л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зимой и лет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емечек все 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клубком челнок лет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клубок витки мот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 какого ковша не пьют, не едя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только на него глядя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3" descr="L:\Мама\Мои рисунки\My Pictures\картинки\космос\m6.gif"/>
          <p:cNvPicPr/>
          <p:nvPr/>
        </p:nvPicPr>
        <p:blipFill>
          <a:blip r:embed="rId1"/>
          <a:stretch/>
        </p:blipFill>
        <p:spPr>
          <a:xfrm>
            <a:off x="6519960" y="500040"/>
            <a:ext cx="233820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Александр\Desktop\15286ab8b09d996f9fee5c3b75d.jpg"/>
          <p:cNvPicPr/>
          <p:nvPr/>
        </p:nvPicPr>
        <p:blipFill>
          <a:blip r:embed="rId2"/>
          <a:stretch/>
        </p:blipFill>
        <p:spPr>
          <a:xfrm>
            <a:off x="6286680" y="3071880"/>
            <a:ext cx="176184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Александр\Desktop\47498029_dippers_lodriguss_clean.jpg"/>
          <p:cNvPicPr/>
          <p:nvPr/>
        </p:nvPicPr>
        <p:blipFill>
          <a:blip r:embed="rId3"/>
          <a:stretch/>
        </p:blipFill>
        <p:spPr>
          <a:xfrm>
            <a:off x="5786280" y="5072040"/>
            <a:ext cx="279576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этап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ИСТОРИЧЕСКИ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0040" y="928800"/>
            <a:ext cx="4114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просторам вод глубо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епаха все плыв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своей спине широ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х слонов вперед вез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хребте у них Земл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ила их зм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какой стране в древности так представляли земл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8" descr="16"/>
          <p:cNvPicPr/>
          <p:nvPr/>
        </p:nvPicPr>
        <p:blipFill>
          <a:blip r:embed="rId1"/>
          <a:stretch/>
        </p:blipFill>
        <p:spPr>
          <a:xfrm>
            <a:off x="5000760" y="7142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57880" y="48578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евняя Ин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думал, Земля – это центр Вселен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ит себе смирно и смотрит о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 сказочном танце плывут постепен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кругу планеты, Солнце, Лу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то из античных философов предположил, что Солнце и планеты вращаются вокруг Земл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06_02_17_Aristotel"/>
          <p:cNvPicPr/>
          <p:nvPr/>
        </p:nvPicPr>
        <p:blipFill>
          <a:blip r:embed="rId1"/>
          <a:stretch/>
        </p:blipFill>
        <p:spPr>
          <a:xfrm>
            <a:off x="2771640" y="333360"/>
            <a:ext cx="4321440" cy="597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м он придумал эт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вод ведут план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круг Солнца, не Зем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ему не вери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 ком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31:20Z</dcterms:created>
  <dc:creator>Дом</dc:creator>
  <dc:description/>
  <dc:language>en-US</dc:language>
  <cp:lastModifiedBy>Александр</cp:lastModifiedBy>
  <dcterms:modified xsi:type="dcterms:W3CDTF">2010-12-13T17:12:00Z</dcterms:modified>
  <cp:revision>25</cp:revision>
  <dc:subject/>
  <dc:title>     </dc:title>
</cp:coreProperties>
</file>