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1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86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F5A-B403-4699-8D01-2C446D5E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5CE-DF83-4C96-A1C4-053C475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E9B-B1B0-4E93-A6A3-4BCB3A3E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087-25CE-4C93-93D4-9C7C444C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5B2B-2134-40D8-B07B-999FFB14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299A-0031-4E89-A7E6-DBACAB2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E67-EB1E-4C20-8D28-42C407D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37F5-D6F3-4E79-925C-A738E0B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A33-D2AF-4E49-9F20-02F1314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FA47-2C65-4557-A038-3739415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3D3A-39CF-46DC-BAD4-FEC9B2F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5DE-C643-416A-A3E2-60B4A29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DF8-5301-4C5B-AE4C-F05814BD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A029-578E-45FB-89FD-C0FAAB4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B751-C50B-43C6-8EE3-793E4A3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BD6F-D0D3-4F8F-96C1-E940F858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4E29-5FD4-4580-A12C-1CF5869E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6D1D-F223-4A40-BD0F-D7B51956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4437-4B07-40A0-B347-36785094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A79E-ED2C-47A1-BF81-B604A40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51D3-05B5-4DBE-97B5-5FD0836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3A68-94B8-4389-9B93-8119CCA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CC1-7EEF-48C4-B5FF-84FE0279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B76F-EB9C-4BF5-9C51-27627F8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A332-C8E9-4E65-878E-A845C58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CBA3-9FCE-4D70-9814-B0310DF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18F6-9896-4D6E-B793-4EEAF3F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CB00-88CB-4513-991F-F60801D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3E0D-A819-4AF1-B912-712EBFC1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9314-682D-4865-85E9-828F9576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408-02FC-4DD0-97CA-8E5488E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FA1-CE6E-457F-AC78-7F216F5D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C5C-D1BC-45FC-88E9-BE5AC04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4A2-E35B-4629-BF37-FD008A0B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8E5-C030-4443-A351-828EF66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6CB-F93F-44EA-A03F-9BD6EF9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0CC-3E9B-4368-950F-906DD3E76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A6C4-11B4-475C-BBED-A0E90EDA84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DF1-8694-46E1-A4AD-3B3EB34AA97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hyperlink" Target="http://ru.wikipedia.org/wiki/&#1047;&#1076;&#1086;&#1088;&#1086;&#1074;&#1100;&#1077;" TargetMode="External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занятие воспитателя ГПД Твердовой Э.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720" y="2209680"/>
            <a:ext cx="80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«Путешествие по стране Здоров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4920" y="3403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Цель за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бщение знаний учащихся о поведении способствующем укреплению здоровья и закаливанию.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000160" cy="227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909800" cy="1942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29000" y="48769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Средства личной гиги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34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21337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14400" y="2057400"/>
            <a:ext cx="1905120" cy="215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124080" y="457200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5600" y="411480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Да здравствует мыло душист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6120" y="411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полотенце пушист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62485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зубной поро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8920" y="62485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густой гребе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Правила личной гиги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5238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Умывайтесь утром и вечером, используйте средства личной гиги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523880"/>
            <a:ext cx="2819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Чистите зубы не менее 3 минут. Ваша зубная щетка не должна быть слишком мяг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4479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Всегда мойте руки перед едой, после прогулки и туа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666880"/>
            <a:ext cx="2590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4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Имейте всегда чистый носовой платок или одноразовые салфе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25146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5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Для еды пользуйтесь только своей посудой, не берите грязных тарелок, ложек, ч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2514600"/>
            <a:ext cx="30481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6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Для питья воды используйте одноразовые стаканчики. Не оставляйте использованные стаканчики, выбрасывайте их в мусорное вед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962520"/>
            <a:ext cx="2210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7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Следите за чистотой своей одежды, обув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733920"/>
            <a:ext cx="32004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8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Не ходите в одной и той же обуви на улице, в школе и дома. Дома носите мягкую домашнюю обувь, для спортивных занятий используйте спортивную обу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80988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9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Помогайте учителю и дежурным в поддержании порядка в классе, помогайте родным в домашней уб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29000" y="53848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2133720" cy="170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543800" y="4952880"/>
            <a:ext cx="116676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7913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ак сохранить хорошее з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05520" y="4313160"/>
            <a:ext cx="3581280" cy="2051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124440" cy="2338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0720" y="1521720"/>
            <a:ext cx="7467480" cy="2197080"/>
          </a:xfrm>
          <a:prstGeom prst="rect">
            <a:avLst/>
          </a:prstGeom>
          <a:solidFill>
            <a:srgbClr val="f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Устойчивое выражение “беречь как зеницу ока” относится к самым драгоценным, самым необходимым в жизни вещам. А достаточно ли мы бережем это свое главное сокровище – свои глаза?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Строение гл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029200" cy="3513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860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аду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4920" y="1371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Верхнее ве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Нижнее ве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71080" y="472428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к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6240" y="59691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лезное мяс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219320" y="1981080"/>
            <a:ext cx="25905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334120" y="1828440"/>
            <a:ext cx="1523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90360" y="46483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03848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51814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8520" y="35053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Зра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066320" y="396252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Arial"/>
              </a:rPr>
              <a:t>Что вредит нашим глаза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1933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Удары, пыль, летящие твердые частицы, металлические частицы, песок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19824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Брызги и выбросы жидкостей: растворителей, аэрозолей, кислот, щелочей, цемента, извести и т.д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951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Инфракрасные лучи, ультрафиолетовые лучи, лазер, яркий свет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257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6858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Брови, ресницы и веки у нас не только для красоты. Они оберегают глаза от пыли, ветра, пота. Слезы тоже защищают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342900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Но чтобы сохранить глаза и зрение, этой защиты не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равила бережного отношения к з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908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1. Умываться по ут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51460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2. Смотреть телевизор не более 1-1,5 часов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6640" y="3352680"/>
            <a:ext cx="7444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3. Сидеть не ближе 3 метров от телевиз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1080" y="3897360"/>
            <a:ext cx="317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4. Не читать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360" y="442260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5. Делать гимнастику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5029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6. Оберегать от попадания в них инородн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имнастика для глаз после работы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14400" y="19051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Не поворачивая головы посмотреть медленно вправо, затем прямо, медленно повернуть глаза влево и снова прямо. Аналогично вверх и вниз. Повторить 2 раза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тоя у окна, выставить руку вперед с поднятым указательным пальцем. Внимательно посмотреть на кончик пальца, после этого перевести зрение вдаль. Через 5 секунд снова вернуть зрение на кончик пальца и так 5 раз подря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3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лать круговые движения глазами по часовой стрелке и против нее, не поворачивая головы. По 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4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ыписывание» глазами горизонтально лежащих.восьмерок по часовой стрелке и против нее. По 5 раз в кажд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тоя у окна, закрыть глаза, не напрягая мышц, затем широко открыть глаза и посмотреть вдаль, снова закрыть и так далее 5 раз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кт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2952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Упражнение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«Буратино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акройте глаза, сосредоточьте свое внимание на кончике носа и представьте себе , что нос стал медленно расти. А затем медленно его уменьш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5053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Упражнение «Погримасничаем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ображаем мордочки различных животных или сказочных гер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5029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После каждого  упражнения часто-часто поморгайте и переведите взгляд с ближнего предмета на даль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Береги зубы с мол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523880" cy="1096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200400" y="14479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лон хлевец белых о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Зубы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205740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бы пища лучше переваривалась, она смачивается во рту слюной и измельчается зуб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29718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вые зубы, молочные, появляются у человека на первом году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 rot="10800000">
            <a:off x="151920" y="5181120"/>
            <a:ext cx="3429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6-7 годам их становится 20. Некоторые из них уже выпали, на их месте прорезались новые, постоя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50292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10-11 годам обычно выпадают все молочные зубы, заменяясь постоя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2438640" cy="1444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29000" y="58672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человек потеряет зуб – новый на его месте уже не вырас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40080" y="58248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Задачи за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. Пробудить у школьников интерес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. Следить за соблюдением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360" y="380988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. Закрепить навыки закал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89640" y="457200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4. Напомнить правила правильного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Что мы знаем о зуб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330200" cy="1676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676520" y="15238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живой орган. Зубы покрыты эмалью. Она твердая, защищает зубы от повреждения. Но Если за зубами неправильно ухаживать или неправильно питаться, то эмаль начинает разрушаться, образуется дырочка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3657600" y="4618080"/>
            <a:ext cx="1981080" cy="18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ак ухаживать за зу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15238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тобы зубы не болели, за ними надо ухажи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2971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ие предметы личной гигиены помогают сохранить зубы здоров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4572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Щетка должна быть с мягкой и ровной щетиной.  Ее надо регулярно мыть и менять раз в 3-4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810160" cy="1628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254304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57200" y="5181480"/>
            <a:ext cx="25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убная паста должна быть натуральная и без ф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Запомни эти прави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поел почисти з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й так два раза в с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почти конфетам фру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важны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зуб не беспоко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ни правило так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4191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стоматологу и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год два раза на пр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486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огда улыбки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шь на много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1676520" cy="1397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162920" y="37339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3200400" y="5257800"/>
            <a:ext cx="192420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Практикум чистки зу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16002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. Зубная щетка располагается вдоль линии десен. Движения зубной щетки – сверху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23623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. Очистить внутреннюю поверхность каждого зуба. Движение зубной щетки - снизу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2004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З. Почистить жевательную поверхность каждого зуба. Движение щетки – вперед-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9625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. Кончиком щетки почистить внутреннюю сторону передних зубов круговыми движениям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3920" y="47242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5. Не забудьте почистить язык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523880" cy="1465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371600" y="541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омните эти рекомендации и используйте их  при чистке зубов утром и вече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Что и зачем мы еди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14479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Без еды человек прожить не может. Потому что пища, «сгорая» в нашем теле, дает силу и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2743200"/>
            <a:ext cx="32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и продукты питают организм энергией, чтобы можно было двигаться, заниматься активной мыслительной деятельностью и при этом долго не устава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3200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угие помогают строить организм и делают человека более сильны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541008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от третьих зависит развитие человека, его защитные си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20968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авила приема пи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133720" cy="1538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2133720" cy="179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927840" y="1295280"/>
            <a:ext cx="1568520" cy="2057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962520" y="4419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7200" y="4724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66320" y="358128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Правильно ли поступают эти дети? Почему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Правильность питания завис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60020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мер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ревним людям принадлежат слова: «Мы едим для того, чтобы жить, а не живем для того, чтобы есть. Если ты часто переедаешь, то будешь толстеть, станешь слабым, можешь даже за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229120" cy="1496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800" y="35053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азнообраз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ища должна быть полезной и разнообразной. Необходимо включать в свой рацион мясные, молочные, рыбные продукты, а так же овощи и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1933560" cy="1539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62120" y="502920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жим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ринимать пищу необходимо в определенные часы. Самый лучший режим – это прием пищи 5 раз в сутки. Дробное питание позволяет избежать резких приступов голода и перее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523880" cy="13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38080" y="41911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1-й завтрак – с 7 до 8 часов (до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447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2-й завтрак – с  10 до 11 часов (в школ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бед – с 13 до 14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олдник – с 16 до 17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20960" y="51814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жин в 19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ример дроб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467480" y="4419720"/>
            <a:ext cx="123048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1905120" cy="14270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391520" y="28195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1752840" cy="1258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1981440" cy="1336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2362320" y="480060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304920" y="2438280"/>
            <a:ext cx="1676160" cy="1197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990720" y="45720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6858000" y="53352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86000" y="25146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Выбираем продукты здорового и полезного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866960" cy="1392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152440" cy="1538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867280" y="4952880"/>
            <a:ext cx="2571840" cy="1352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981440" cy="1484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62120" y="4724280"/>
            <a:ext cx="2133360" cy="1592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286000" cy="133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886200" y="380880"/>
            <a:ext cx="1676520" cy="1295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209680" cy="1681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976120" y="1828800"/>
            <a:ext cx="33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Осторож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41360" y="2743200"/>
            <a:ext cx="13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5880" y="3581280"/>
            <a:ext cx="33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 р е д н 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Схема станций страны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838080" cy="795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33920" y="22860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62120" y="20574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38680" y="3429000"/>
            <a:ext cx="838440" cy="79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2895480" y="28951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954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086600" y="4876920"/>
            <a:ext cx="838080" cy="795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4480" y="40384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600" y="1676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11480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гостях у Мойдоды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676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ои глаза – мое 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819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Береги зубы с мол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26708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Здоров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0574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029200" y="5638680"/>
            <a:ext cx="838080" cy="79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2666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4640" y="54100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Если хочешь быть здоров - закаля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Arial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600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Допишите предложения, чтобы получились правила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26400" y="274320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1. Во время еды н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7480" y="350532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2. Тщательно пережевыва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3. Никогда … на ход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4880" y="5105520"/>
            <a:ext cx="65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4. Не ешь очень … и очень …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Arial"/>
              </a:rPr>
              <a:t>Если хочешь быть здоров - закаля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67616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кали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испытанное средство укрепления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доровь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В   основе закаливающих процедур лежит многократное воздействие тепла, охлаждения и солнечных лучей. При этом у человека постепенно вырабатывается адаптация к внешней сре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3048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честве закаливающих процедур широко используется пребывание и занятие спортом на свежем воздухе, а также водные процедуры (обтирание, обливание, купание, контрастный ду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42670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им из самых распространённых видов закаливания является хождение бос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895480" y="53341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934320" y="5105520"/>
            <a:ext cx="190476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04920" y="18288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истории известно, каким закаленным был величайший русский полководец А.В.Суворов. А ведь от рождения он был слабым и хи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905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важно закалять свой организм в детстве, чтобы вырасти крепким и здор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4952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Но у закаливания есть свои законы, которые нужно выпол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2360" y="4175640"/>
            <a:ext cx="60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уворов постоянно закалял себя физически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Правила закал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0520" y="14508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первый. Закаляйся постеп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2057400"/>
            <a:ext cx="69343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Закаливанию характерен постепенный набор своей интенсивности. То есть все начинается с малого, а заканчивается все большим и большим количество процед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200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второй. Делай это обязательно каждый день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4191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Нужно закаливать свой организм, используя все процедуры в комплексе. Один и тот же прием следует повторять не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5029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третий. Начать закаливание нельзя, если ты не здоров, у тебя болит горло или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Arial"/>
              </a:rPr>
              <a:t>Вопро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0200" y="160020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Что нового вы узнали о закали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2514600"/>
            <a:ext cx="72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к вы будете беречь свое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358128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кие еще правила вы могли бы добавить в этот перечень? Обсудите это дом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Подводим ит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Наше путешествие по стране Здоровья подошло к кон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22860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Путешествуя от станции к станции мы познакомились с правилами поведения, способствующими укреплению здоровья. И научились отличать поступки вредные для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343400"/>
            <a:ext cx="7543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Крепкое здоровье является залогом хорошего самочувствия и настроения, влияет на успешную учебу и работу. Вот поэтому забота о здоровье каждого человека, является важной задачей наше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1885680" cy="241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Что такое режим дня и для чего он нуж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7052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– слово французское и в переводе означает «управление». В первую очередь это управление своим временем. Но в конечном итоге – и своим здоровьем, и своей жиз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05120"/>
            <a:ext cx="655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Режим дня школь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это чередование труда и отдыха в определе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07648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5257800"/>
            <a:ext cx="2971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Это помогает организму легко и быстро переключаться из одного состояние в другое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04920"/>
            <a:ext cx="388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режиме школьника должно быть все точно распределено: продолжительность учебных занятий в школе и дома, прогулки, сон, чередование труда и отдыха регулярность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438280"/>
            <a:ext cx="2819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т того, насколько правильно организован режим дня школьника, зависит состояние здоровья, физическое и психическое развитие, работоспособность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514600"/>
            <a:ext cx="312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гда человек соблюдает правильный режим, у него вырабатываются условные рефлексы и каждая предыдущая деятельность становится сигналом последу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Режим дня школьника"/>
          <p:cNvPicPr/>
          <p:nvPr/>
        </p:nvPicPr>
        <p:blipFill>
          <a:blip r:embed="rId1"/>
          <a:stretch/>
        </p:blipFill>
        <p:spPr>
          <a:xfrm>
            <a:off x="3143160" y="2138400"/>
            <a:ext cx="28576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2209680"/>
            <a:ext cx="25909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ут часы секундам счет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ут минутам счет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ы того не подведут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время бере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2760" y="2819520"/>
            <a:ext cx="238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жить умеет по часам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ценит каждый час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го не надо по утрам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дить по десять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98640" y="2895480"/>
            <a:ext cx="237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н не станет говори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 лень ему встав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рядку дел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уки мыть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застилать кров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3600" y="5257800"/>
            <a:ext cx="262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пеет он одеться в ср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мыться и поес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пеет встать он за стан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 парту в школе сес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1680" y="5715000"/>
            <a:ext cx="24897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часами дружба хороша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ай, отдыхай, 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делай не спеш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книг не забыва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38200" y="5702400"/>
            <a:ext cx="314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 вечером, ложась в кров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гда наступит ср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ы мог уверенно сказать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Хороший был денек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cc00"/>
                </a:solidFill>
                <a:latin typeface="Arial"/>
              </a:rPr>
              <a:t>Мой режим дн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1752480" cy="1168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934320" y="106668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3352680" y="1219320"/>
            <a:ext cx="2133720" cy="14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00"/>
                </a:solidFill>
                <a:latin typeface="Arial"/>
              </a:rPr>
              <a:t>Гигиена 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83440" y="129528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И г р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5520" y="1701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Х о р о ш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5920" y="162576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 л о х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ыть ноги, руки, принимать ду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1880" y="312408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Чистить зу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2960" y="38098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ветривать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1880" y="4419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Гулять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пать на жесткой постели на сп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61040" y="236232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ного пить и есть перед с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62120" y="3048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грать в шум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63560" y="37339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мотреть страшные филь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62120" y="434340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лушать громкую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61400" y="50292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ниматьс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В гостях у Мойдоды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87400" y="152388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Вы узнали нашего геро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3623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Давайте вспомним его слов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335268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Надо, надо умы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утрам и вечер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 нечистым трубочиста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ыд и срам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876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 этим призывом, соблюдать правила личной гигиены, Мойдодыр обращается ко всем ребя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Гигиена – ч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371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Гигиена – это система действий, направленных на поддержание чистоты и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Arial"/>
              </a:rPr>
              <a:t>Личная гигиена – это уход за своим т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800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Какие нужно использовать средства, чтобы содержать свое тело в чисто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35:57Z</dcterms:created>
  <dc:creator>Эмма</dc:creator>
  <dc:description/>
  <dc:language>en-US</dc:language>
  <cp:lastModifiedBy>Эмма</cp:lastModifiedBy>
  <dcterms:modified xsi:type="dcterms:W3CDTF">2012-09-08T13:50:2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