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0.jpeg" ContentType="image/jpeg"/>
  <Override PartName="/ppt/media/image21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80.png" ContentType="image/png"/>
  <Override PartName="/ppt/media/image65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86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FEE-A778-4EE1-B284-906AEBBA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F90-5639-46B8-BD35-66F7CDA0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F18-F15E-4D18-9447-91C7E402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EA7-2486-400A-A653-FD790A5B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24EE-0F1D-4498-AAF9-C8175D98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B8AE-5515-424B-8367-93E4F7A6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F12B-D961-413D-A2B3-64525245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CDF2-5902-4168-8877-4FED214A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A24D-B6C4-46B7-96DB-2ED374B4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6B38-E830-4BF9-9A4B-BBBF8BC1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BC67-A20B-4770-AE9A-E75EF028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D95-C1A6-45AD-9E22-C20DEFED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9B58-E347-4900-917C-F94A74E0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F3C7-0A20-4FBB-8DF5-7EAC959D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7A70-9024-4B8A-ADFE-8F75989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B1F8-9E37-4D44-8509-51C2A8A4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ED78-3546-4E18-B761-C556AE9D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621E-C749-41D9-8485-9D10D679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0C0B-E694-4F5C-9A28-50209E9F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37AF-D402-4E45-8EE5-F1FF37E3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A1C1-C594-4271-AEDC-A2B38D0A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655F-84EF-451D-B358-8AF75D00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7A0-F36A-4663-A027-25BD462B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BA11-4CD4-4521-89FB-6F5F8DFA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CCCA-40FF-417B-94D2-FE1925B1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18A0-DE94-404B-8A36-3EDDCA2D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82AE-45F4-408A-91E7-6DCD7BC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5D94-9000-4202-9F9F-DF22242F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A1DE-3872-4DAC-A355-007725CC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93D4-F146-44BD-A6CA-5431C2E5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434-0F65-40A2-8710-24027DBB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50F-34D1-44A3-B3CC-7A217612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9EF-DE85-489E-BA0D-5C5471A3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998-7002-4445-BCEF-A0552DB3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25E-1956-4293-BEE9-B198D00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F4C-90A4-4638-BA87-8453638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FC51-70FE-44B0-AC7B-4B2918A4A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ADB0-6964-4EAB-8608-71859E969E4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A6D1-B33D-4562-A39A-06E51B20430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hyperlink" Target="http://ru.wikipedia.org/wiki/&#1047;&#1076;&#1086;&#1088;&#1086;&#1074;&#1100;&#1077;" TargetMode="External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image" Target="../media/image84.jpeg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занятие воспитателя ГПД Твердовой Э.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0720" y="2209680"/>
            <a:ext cx="80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Тема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«Путешествие по стране Здоров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4920" y="3403440"/>
            <a:ext cx="19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Цель зан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4290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бщение знаний учащихся о поведении способствующем укреплению здоровья и закаливанию.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000160" cy="227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1909800" cy="1942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429000" y="48769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Средства личной гиги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971800" cy="2343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248520" y="21337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14400" y="2057400"/>
            <a:ext cx="1905120" cy="2152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3124080" y="4572000"/>
            <a:ext cx="2629080" cy="1752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5600" y="4114800"/>
            <a:ext cx="39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Да здравствует мыло душист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6120" y="41148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И полотенце пушист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624852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И зубной поро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98920" y="624852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И густой гребе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Правила личной гигие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523880"/>
            <a:ext cx="297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1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Умывайтесь утром и вечером, используйте средства личной гиги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1523880"/>
            <a:ext cx="2819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2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Чистите зубы не менее 3 минут. Ваша зубная щетка не должна быть слишком мяг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44792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Всегда мойте руки перед едой, после прогулки и туал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666880"/>
            <a:ext cx="2590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4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Имейте всегда чистый носовой платок или одноразовые салфе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251460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5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Для еды пользуйтесь только своей посудой, не берите грязных тарелок, ложек, ча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2514600"/>
            <a:ext cx="30481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6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Для питья воды используйте одноразовые стаканчики. Не оставляйте использованные стаканчики, выбрасывайте их в мусорное ведр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3962520"/>
            <a:ext cx="22100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7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Следите за чистотой своей одежды, обув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3733920"/>
            <a:ext cx="320040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8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Не ходите в одной и той же обуви на улице, в школе и дома. Дома носите мягкую домашнюю обувь, для спортивных занятий используйте спортивную обув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809880"/>
            <a:ext cx="266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9.</a:t>
            </a:r>
            <a:r>
              <a:rPr b="0" i="1" lang="en-US" sz="1400" spc="-1" strike="noStrike">
                <a:solidFill>
                  <a:srgbClr val="990033"/>
                </a:solidFill>
                <a:latin typeface="Arial"/>
              </a:rPr>
              <a:t>   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Помогайте учителю и дежурным в поддержании порядка в классе, помогайте родным в домашней убор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429000" y="53848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2133720" cy="1708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7543800" y="4952880"/>
            <a:ext cx="1166760" cy="1752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79132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Как сохранить хорошее з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05520" y="4313160"/>
            <a:ext cx="3581280" cy="2051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124440" cy="2338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90720" y="1521720"/>
            <a:ext cx="7467480" cy="2197080"/>
          </a:xfrm>
          <a:prstGeom prst="rect">
            <a:avLst/>
          </a:prstGeom>
          <a:solidFill>
            <a:srgbClr val="ff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Устойчивое выражение “беречь как зеницу ока” относится к самым драгоценным, самым необходимым в жизни вещам. А достаточно ли мы бережем это свое главное сокровище – свои глаза?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Arial"/>
              </a:rPr>
              <a:t>Строение гла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029200" cy="35132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28600" y="15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Раду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4920" y="13716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Верхнее ве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6095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Нижнее ве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71080" y="4724280"/>
            <a:ext cx="14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Ск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6240" y="59691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Слезное мяс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1219320" y="1981080"/>
            <a:ext cx="25905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334120" y="1828440"/>
            <a:ext cx="15238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90360" y="4648320"/>
            <a:ext cx="14475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4038480"/>
            <a:ext cx="20574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51814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8520" y="350532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Зра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1066320" y="396252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Arial"/>
              </a:rPr>
              <a:t>Что вредит нашим глаза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1933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Удары, пыль, летящие твердые частицы, металлические частицы, песок.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3198240"/>
            <a:ext cx="579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Брызги и выбросы жидкостей: растворителей, аэрозолей, кислот, щелочей, цемента, извести и т.д.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951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Инфракрасные лучи, ультрафиолетовые лучи, лазер, яркий свет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257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3520" y="68580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Брови, ресницы и веки у нас не только для красоты. Они оберегают глаза от пыли, ветра, пота. Слезы тоже защищают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3429000"/>
            <a:ext cx="426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Arial"/>
              </a:rPr>
              <a:t>Но чтобы сохранить глаза и зрение, этой защиты не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Правила бережного отношения к з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908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1. Умываться по ут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514600"/>
            <a:ext cx="7924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2. Смотреть телевизор не более 1-1,5 часов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6640" y="3352680"/>
            <a:ext cx="7444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3. Сидеть не ближе 3 метров от телевиз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1080" y="3897360"/>
            <a:ext cx="317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4. Не читать л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90360" y="4422600"/>
            <a:ext cx="51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5. Делать гимнастику дл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5029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6. Оберегать от попадания в них инородны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имнастика для глаз после работы с компьют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914400" y="19051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Не поворачивая головы посмотреть медленно вправо, затем прямо, медленно повернуть глаза влево и снова прямо. Аналогично вверх и вниз. Повторить 2 раза под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2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Стоя у окна, выставить руку вперед с поднятым указательным пальцем. Внимательно посмотреть на кончик пальца, после этого перевести зрение вдаль. Через 5 секунд снова вернуть зрение на кончик пальца и так 5 раз подря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3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Делать круговые движения глазами по часовой стрелке и против нее, не поворачивая головы. По 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4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Выписывание» глазами горизонтально лежащих.восьмерок по часовой стрелке и против нее. По 5 раз в каждую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Упражнение 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Стоя у окна, закрыть глаза, не напрягая мышц, затем широко открыть глаза и посмотреть вдаль, снова закрыть и так далее 5 раз под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актически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129528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Упражнение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«Буратино»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Закройте глаза, сосредоточьте свое внимание на кончике носа и представьте себе , что нос стал медленно расти. А затем медленно его уменьш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5053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99"/>
                </a:solidFill>
                <a:latin typeface="Arial"/>
              </a:rPr>
              <a:t>Упражнение «Погримасничаем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зображаем мордочки различных животных или сказочных геро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50292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Arial"/>
              </a:rPr>
              <a:t>После каждого  упражнения часто-часто поморгайте и переведите взгляд с ближнего предмета на даль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Береги зубы с моло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705720" y="3276720"/>
            <a:ext cx="1523880" cy="1096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066680" y="14479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200400" y="144792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олон хлевец белых ов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Зубы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205740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тобы пища лучше переваривалась, она смачивается во рту слюной и измельчается зуб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29718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вые зубы, молочные, появляются у человека на первом году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 rot="10800000">
            <a:off x="151920" y="5181120"/>
            <a:ext cx="3429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 6-7 годам их становится 20. Некоторые из них уже выпали, на их месте прорезались новые, постоя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502920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 10-11 годам обычно выпадают все молочные зубы, заменяясь постоян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2438640" cy="1444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429000" y="586728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человек потеряет зуб – новый на его месте уже не вырас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40080" y="582480"/>
            <a:ext cx="40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Arial"/>
              </a:rPr>
              <a:t>Задачи за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752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1. Пробудить у школьников интерес к своему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743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2. Следить за соблюдением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360" y="380988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3. Закрепить навыки закал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89640" y="4572000"/>
            <a:ext cx="70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4. Напомнить правила правильного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Что мы знаем о зуб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330200" cy="1676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676520" y="152388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это живой орган. Зубы покрыты эмалью. Она твердая, защищает зубы от повреждения. Но Если за зубами неправильно ухаживать или неправильно питаться, то эмаль начинает разрушаться, образуется дырочка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рие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3657600" y="4618080"/>
            <a:ext cx="1981080" cy="188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Как ухаживать за зуб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15238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тобы зубы не болели, за ними надо ухажив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2971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кие предметы личной гигиены помогают сохранить зубы здоровы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4572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Щетка должна быть с мягкой и ровной щетиной.  Ее надо регулярно мыть и менять раз в 3-4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810160" cy="1628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3505320" y="4038480"/>
            <a:ext cx="2286000" cy="1554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2543040" cy="1847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57200" y="5181480"/>
            <a:ext cx="25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Зубная паста должна быть натуральная и без ф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Запомни эти правил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371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поел почисти з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ай так два раза в су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251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почти конфетам фрук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чень важны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71800" y="3200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бы зуб не беспоко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ни правило так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41911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стоматологу и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год два раза на пр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54864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тогда улыбки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хранишь на много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1676520" cy="1397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1227240" cy="12952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1828800" cy="1204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162920" y="3733920"/>
            <a:ext cx="12189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3200400" y="5257800"/>
            <a:ext cx="1924200" cy="127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99"/>
                </a:solidFill>
                <a:latin typeface="Arial"/>
              </a:rPr>
              <a:t>Практикум чистки зу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16002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. Зубная щетка располагается вдоль линии десен. Движения зубной щетки – сверху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23623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. Очистить внутреннюю поверхность каждого зуба. Движение зубной щетки - снизу вве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32004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З. Почистить жевательную поверхность каждого зуба. Движение щетки – вперед-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396252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4. Кончиком щетки почистить внутреннюю сторону передних зубов круговыми движениям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3920" y="4724280"/>
            <a:ext cx="41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5. Не забудьте почистить язык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1523880" cy="1465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371600" y="5410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Помните эти рекомендации и используйте их  при чистке зубов утром и вечер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Что и зачем мы еди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00200" y="14479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Без еды человек прожить не может. Потому что пища, «сгорая» в нашем теле, дает силу и теп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2743200"/>
            <a:ext cx="327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ни продукты питают организм энергией, чтобы можно было двигаться, заниматься активной мыслительной деятельностью и при этом долго не устава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3200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ругие помогают строить организм и делают человека более сильны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541008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от третьих зависит развитие человека, его защитные си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276720" y="3657600"/>
            <a:ext cx="2209680" cy="13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авила приема пи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133720" cy="15382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58000" y="419112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2133720" cy="179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927840" y="1295280"/>
            <a:ext cx="1568520" cy="2057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>
            <a:off x="3962520" y="4419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6"/>
          <a:stretch/>
        </p:blipFill>
        <p:spPr>
          <a:xfrm>
            <a:off x="457200" y="47242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066320" y="3581280"/>
            <a:ext cx="74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Правильно ли поступают эти дети? Почему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Правильность питания зависи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160020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мере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древним людям принадлежат слова: «Мы едим для того, чтобы жить, а не живем для того, чтобы есть. Если ты часто переедаешь, то будешь толстеть, станешь слабым, можешь даже заб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229120" cy="14968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85800" y="350532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азнообраз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ища должна быть полезной и разнообразной. Необходимо включать в свой рацион мясные, молочные, рыбные продукты, а так же овощи и фр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705720" y="3429000"/>
            <a:ext cx="1933560" cy="1539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762120" y="502920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ежим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ринимать пищу необходимо в определенные часы. Самый лучший режим – это прием пищи 5 раз в сутки. Дробное питание позволяет избежать резких приступов голода и перее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1523880" cy="13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962520" cy="3809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38080" y="41911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1-й завтрак – с 7 до 8 часов (до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4479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2-й завтрак – с  10 до 11 часов (в школ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1447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Обед – с 13 до 14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43600" y="4343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олдник – с 16 до 17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20960" y="518148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Ужин в 19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ример дробного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467480" y="4419720"/>
            <a:ext cx="1230480" cy="1447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886200" y="762120"/>
            <a:ext cx="1905120" cy="14270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7391520" y="28195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1752840" cy="12589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4952880" y="4800600"/>
            <a:ext cx="1981440" cy="13366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2362320" y="480060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304920" y="2438280"/>
            <a:ext cx="1676160" cy="1197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990720" y="45720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6858000" y="533520"/>
            <a:ext cx="1676520" cy="1257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286000" y="25146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Выбираем продукты здорового и полезного 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866960" cy="13921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152440" cy="1538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867280" y="4952880"/>
            <a:ext cx="2571840" cy="1352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1981440" cy="14842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762120" y="4724280"/>
            <a:ext cx="2133360" cy="1592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914400" y="533520"/>
            <a:ext cx="2286000" cy="133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886200" y="380880"/>
            <a:ext cx="1676520" cy="1295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3276720" y="4952880"/>
            <a:ext cx="2209680" cy="1681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976120" y="1828800"/>
            <a:ext cx="339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Осторож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041360" y="2743200"/>
            <a:ext cx="13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5880" y="3581280"/>
            <a:ext cx="33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в р е д н 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Схема станций страны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838080" cy="795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33920" y="228600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62120" y="205740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38680" y="3429000"/>
            <a:ext cx="838440" cy="795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2895480" y="28951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9548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7086600" y="4876920"/>
            <a:ext cx="838080" cy="795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24480" y="403848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600" y="1676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ежим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4114800"/>
            <a:ext cx="24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 гостях у Мойдоды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676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Мои глаза – мое бога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819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Береги зубы с мол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267080"/>
            <a:ext cx="19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Здоровое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05740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5029200" y="5638680"/>
            <a:ext cx="838080" cy="79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447920" y="2666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4640" y="541008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Если хочешь быть здоров - закаля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99"/>
                </a:solidFill>
                <a:latin typeface="Arial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6002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Допишите предложения, чтобы получились правила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26400" y="2743200"/>
            <a:ext cx="40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1. Во время еды н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7480" y="350532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2. Тщательно пережевывай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3880" y="4267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3. Никогда … на ход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4880" y="5105520"/>
            <a:ext cx="653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4. Не ешь очень … и очень … пищ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Arial"/>
              </a:rPr>
              <a:t>Если хочешь быть здоров - закаляй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67616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кали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— испытанное средство укрепления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доровь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В   основе закаливающих процедур лежит многократное воздействие тепла, охлаждения и солнечных лучей. При этом у человека постепенно вырабатывается адаптация к внешней сре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30481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честве закаливающих процедур широко используется пребывание и занятие спортом на свежем воздухе, а также водные процедуры (обтирание, обливание, купание, контрастный ду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426708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им из самых распространённых видов закаливания является хождение бос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4724280" y="5410080"/>
            <a:ext cx="1905120" cy="1133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2895480" y="533412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6934320" y="5105520"/>
            <a:ext cx="190476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Немного истор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1971720" cy="23241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04920" y="18288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истории известно, каким закаленным был величайший русский полководец А.В.Суворов. А ведь от рождения он был слабым и хи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9051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важно закалять свой организм в детстве, чтобы вырасти крепким и здор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49528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Но у закаливания есть свои законы, которые нужно выпол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2360" y="4175640"/>
            <a:ext cx="60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Суворов постоянно закалял себя физически.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Правила закал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70520" y="14508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Закон первый. Закаляйся постепен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95280" y="2057400"/>
            <a:ext cx="69343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Закаливанию характерен постепенный набор своей интенсивности. То есть все начинается с малого, а заканчивается все большим и большим количество процед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32004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Закон второй. Делай это обязательно каждый день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95280" y="4191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Нужно закаливать свой организм, используя все процедуры в комплексе. Один и тот же прием следует повторять не один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5029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Закон третий. Начать закаливание нельзя, если ты не здоров, у тебя болит горло или з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Arial"/>
              </a:rPr>
              <a:t>Вопро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0200" y="160020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Что нового вы узнали о закалив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2514600"/>
            <a:ext cx="72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ак вы будете беречь свое 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358128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акие еще правила вы могли бы добавить в этот перечень? Обсудите это дома с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Подводим ит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1371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Arial"/>
              </a:rPr>
              <a:t>Наше путешествие по стране Здоровья подошло к кон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22860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Arial"/>
              </a:rPr>
              <a:t>Путешествуя от станции к станции мы познакомились с правилами поведения, способствующими укреплению здоровья. И научились отличать поступки вредные для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4343400"/>
            <a:ext cx="7543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Arial"/>
              </a:rPr>
              <a:t>Крепкое здоровье является залогом хорошего самочувствия и настроения, влияет на успешную учебу и работу. Вот поэтому забота о здоровье каждого человека, является важной задачей наше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1885680" cy="24192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Что такое режим дня и для чего он нуж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7052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ж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– слово французское и в переводе означает «управление». В первую очередь это управление своим временем. Но в конечном итоге – и своим здоровьем, и своей жиз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05120"/>
            <a:ext cx="655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Режим дня школь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это чередование труда и отдыха в определен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657600" y="2743200"/>
            <a:ext cx="1905120" cy="1943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07648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5257800"/>
            <a:ext cx="2971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Это помогает организму легко и быстро переключаться из одного состояние в другое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04920"/>
            <a:ext cx="388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 режиме школьника должно быть все точно распределено: продолжительность учебных занятий в школе и дома, прогулки, сон, чередование труда и отдыха регулярность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438280"/>
            <a:ext cx="2819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т того, насколько правильно организован режим дня школьника, зависит состояние здоровья, физическое и психическое развитие, работоспособность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514600"/>
            <a:ext cx="3124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гда человек соблюдает правильный режим, у него вырабатываются условные рефлексы и каждая предыдущая деятельность становится сигналом последую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Режим дня школьника"/>
          <p:cNvPicPr/>
          <p:nvPr/>
        </p:nvPicPr>
        <p:blipFill>
          <a:blip r:embed="rId1"/>
          <a:stretch/>
        </p:blipFill>
        <p:spPr>
          <a:xfrm>
            <a:off x="3143160" y="2138400"/>
            <a:ext cx="285768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2209680"/>
            <a:ext cx="25909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дут часы секундам счет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дут минутам счет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асы того не подведут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то время бере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2760" y="2819520"/>
            <a:ext cx="2384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то жить умеет по часам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ценит каждый час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ого не надо по утрам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дить по десять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98640" y="2895480"/>
            <a:ext cx="237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он не станет говори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 лень ему встава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рядку дела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уки мыть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застилать кров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3600" y="5257800"/>
            <a:ext cx="262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пеет он одеться в срок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мыться и поес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пеет встать он за станок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 парту в школе сес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71680" y="5715000"/>
            <a:ext cx="24897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часами дружба хороша!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ай, отдыхай, 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роки делай не спеша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книг не забыва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38200" y="5702400"/>
            <a:ext cx="314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б вечером, ложась в кровать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гда наступит срок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ы мог уверенно сказать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Хороший был денек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cc00"/>
                </a:solidFill>
                <a:latin typeface="Arial"/>
              </a:rPr>
              <a:t>Мой режим дня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40384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62120" y="3581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33520" y="990720"/>
            <a:ext cx="1752480" cy="1168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934320" y="1066680"/>
            <a:ext cx="125892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3352680" y="1219320"/>
            <a:ext cx="2133720" cy="14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cc00"/>
                </a:solidFill>
                <a:latin typeface="Arial"/>
              </a:rPr>
              <a:t>Гигиена с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83440" y="129528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И г р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27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5520" y="1701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Х о р о ш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5920" y="162576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 л о х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362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ыть ноги, руки, принимать ду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1880" y="3124080"/>
            <a:ext cx="18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Чистить зу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2960" y="38098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оветривать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1880" y="441972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Гулять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пать на жесткой постели на сп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61040" y="236232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ного пить и есть перед с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62120" y="3048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Играть в шум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63560" y="373392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мотреть страшные филь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62120" y="4343400"/>
            <a:ext cx="32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лушать громкую 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61400" y="50292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ниматься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В гостях у Мойдоды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87400" y="152388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Вы узнали нашего геро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3623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Давайте вспомним его слов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3352680"/>
            <a:ext cx="533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«Надо, надо умы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 утрам и вечер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 нечистым трубочистам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тыд и срам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4876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 этим призывом, соблюдать правила личной гигиены, Мойдодыр обращается ко всем ребя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Гигиена – что э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371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Гигиена – это система действий, направленных на поддержание чистоты и здор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4290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Arial"/>
              </a:rPr>
              <a:t>Личная гигиена – это уход за своим те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800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Какие нужно использовать средства, чтобы содержать свое тело в чисто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5:35:57Z</dcterms:created>
  <dc:creator>Эмма</dc:creator>
  <dc:description/>
  <dc:language>en-US</dc:language>
  <cp:lastModifiedBy>Эмма</cp:lastModifiedBy>
  <dcterms:modified xsi:type="dcterms:W3CDTF">2012-09-08T13:50:2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