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91B-626E-481E-9AD2-F9544DE2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681-25CD-486C-B47E-A320B7A5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D7A6-7199-4919-886C-FAD3E503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884-1DE4-4B2B-A794-B6EE7717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7FA-158C-4107-B491-A86A9D69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6EA-FC6A-4C77-961F-AF73A558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58D-DCE2-4EC3-B077-B17B216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FDB-08B2-473C-B16D-3529A795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585-4742-46C3-823D-C818FD7A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8B2-9046-417B-BFC2-E4CD01AE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BC4-587A-4295-96BE-7DF68DC8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0DC-88DF-478A-86E5-7AD96C4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8C4F-4C45-441C-B05C-33062DAC2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allforchildren.ru/pictures/showimg/school22/school2208jpg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836640"/>
            <a:ext cx="6778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08000" y="2781360"/>
            <a:ext cx="6778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284720" y="507960"/>
            <a:ext cx="4319640" cy="293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1994040" y="3498840"/>
            <a:ext cx="423540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27280" y="-516600"/>
            <a:ext cx="122400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8000" y="371160"/>
            <a:ext cx="67788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блако 3"/>
          <p:cNvSpPr/>
          <p:nvPr/>
        </p:nvSpPr>
        <p:spPr>
          <a:xfrm>
            <a:off x="2189160" y="549360"/>
            <a:ext cx="1158840" cy="1079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6600cc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блако 9"/>
          <p:cNvSpPr/>
          <p:nvPr/>
        </p:nvSpPr>
        <p:spPr>
          <a:xfrm>
            <a:off x="6032520" y="870120"/>
            <a:ext cx="1008000" cy="1152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блако 10"/>
          <p:cNvSpPr/>
          <p:nvPr/>
        </p:nvSpPr>
        <p:spPr>
          <a:xfrm>
            <a:off x="4903920" y="2254320"/>
            <a:ext cx="1085760" cy="1174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fbfb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лако 11"/>
          <p:cNvSpPr/>
          <p:nvPr/>
        </p:nvSpPr>
        <p:spPr>
          <a:xfrm>
            <a:off x="3168720" y="1720800"/>
            <a:ext cx="1050840" cy="1120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блако 12"/>
          <p:cNvSpPr/>
          <p:nvPr/>
        </p:nvSpPr>
        <p:spPr>
          <a:xfrm>
            <a:off x="2033640" y="3429000"/>
            <a:ext cx="1146240" cy="1174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лако 13"/>
          <p:cNvSpPr/>
          <p:nvPr/>
        </p:nvSpPr>
        <p:spPr>
          <a:xfrm>
            <a:off x="2603520" y="5307120"/>
            <a:ext cx="1152360" cy="1096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лако 14"/>
          <p:cNvSpPr/>
          <p:nvPr/>
        </p:nvSpPr>
        <p:spPr>
          <a:xfrm>
            <a:off x="3808440" y="3714840"/>
            <a:ext cx="1062000" cy="12301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7030a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блако 15"/>
          <p:cNvSpPr/>
          <p:nvPr/>
        </p:nvSpPr>
        <p:spPr>
          <a:xfrm>
            <a:off x="7367760" y="2538360"/>
            <a:ext cx="1120680" cy="1179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88ed8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блако 16"/>
          <p:cNvSpPr/>
          <p:nvPr/>
        </p:nvSpPr>
        <p:spPr>
          <a:xfrm>
            <a:off x="7451640" y="765000"/>
            <a:ext cx="1036800" cy="1151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блако 17"/>
          <p:cNvSpPr/>
          <p:nvPr/>
        </p:nvSpPr>
        <p:spPr>
          <a:xfrm>
            <a:off x="4430880" y="549360"/>
            <a:ext cx="1093680" cy="1150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блако 18"/>
          <p:cNvSpPr/>
          <p:nvPr/>
        </p:nvSpPr>
        <p:spPr>
          <a:xfrm>
            <a:off x="5753160" y="3686040"/>
            <a:ext cx="1074600" cy="1125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8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блако 19"/>
          <p:cNvSpPr/>
          <p:nvPr/>
        </p:nvSpPr>
        <p:spPr>
          <a:xfrm>
            <a:off x="7064280" y="5359320"/>
            <a:ext cx="1008000" cy="1044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298c7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блако 23"/>
          <p:cNvSpPr/>
          <p:nvPr/>
        </p:nvSpPr>
        <p:spPr>
          <a:xfrm>
            <a:off x="4738680" y="5307120"/>
            <a:ext cx="1150920" cy="1096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27280" y="189000"/>
            <a:ext cx="68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4652640"/>
            <a:ext cx="6778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ждый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тник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лает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ть, </a:t>
            </a: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ит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ф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з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112840" y="189000"/>
            <a:ext cx="6346800" cy="42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7359480" y="5589720"/>
            <a:ext cx="15163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27280" y="189000"/>
            <a:ext cx="68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76908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27280" y="189000"/>
            <a:ext cx="68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5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5832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27280" y="189000"/>
            <a:ext cx="680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979640" y="1125360"/>
            <a:ext cx="66736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908000" y="765000"/>
            <a:ext cx="67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 шаблона: 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edsovet.s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картинок: 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llforchildren.ru/pictures/showimg/school22/school2208jp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mirnova-elena2011.ya.ru/replies.xml?item_no=24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1.mystatic.ru/8iKRT7egQ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ur.ru/book.php?bid=6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Валерий</cp:lastModifiedBy>
  <dcterms:modified xsi:type="dcterms:W3CDTF">2012-09-08T16:39:17Z</dcterms:modified>
  <cp:revision>25</cp:revision>
  <dc:subject/>
  <dc:title>Слайд 1</dc:title>
</cp:coreProperties>
</file>