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C74-489A-4100-80F2-24E1167A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1AB-AABD-4783-8EAD-3F3FD721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D14-09BB-4532-A42F-FDEC9D2F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4A0-B857-4B96-8BD9-60B4CFFC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555-F844-4806-9C87-1978F5D4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011-FE58-40BB-8EBC-73BA49F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366-4078-4FA8-9D47-B6A4AEC2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E8C-243A-480A-BC0A-341EAC83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2F1-61DB-42BA-A331-BF0DBE7D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FB3-A800-4232-85B5-21B2D020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A60-1401-497C-9605-AB140590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34C-5D55-44B8-A7E1-702E16E7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91E1-4164-4583-B5B0-9B1F613D5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edsovet.su/" TargetMode="External"/><Relationship Id="rId3" Type="http://schemas.openxmlformats.org/officeDocument/2006/relationships/hyperlink" Target="http://allforchildren.ru/pictures/showimg/school22/school2208jpg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836640"/>
            <a:ext cx="67788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8000" y="2781360"/>
            <a:ext cx="6778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284720" y="507960"/>
            <a:ext cx="4319640" cy="293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1994040" y="3498840"/>
            <a:ext cx="423540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27280" y="-516600"/>
            <a:ext cx="1224000" cy="20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8000" y="371160"/>
            <a:ext cx="67788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блако 3"/>
          <p:cNvSpPr/>
          <p:nvPr/>
        </p:nvSpPr>
        <p:spPr>
          <a:xfrm>
            <a:off x="2189160" y="549360"/>
            <a:ext cx="1158840" cy="1079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6600cc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блако 9"/>
          <p:cNvSpPr/>
          <p:nvPr/>
        </p:nvSpPr>
        <p:spPr>
          <a:xfrm>
            <a:off x="6032520" y="870120"/>
            <a:ext cx="1008000" cy="1152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блако 10"/>
          <p:cNvSpPr/>
          <p:nvPr/>
        </p:nvSpPr>
        <p:spPr>
          <a:xfrm>
            <a:off x="4903920" y="2254320"/>
            <a:ext cx="1085760" cy="11746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fbfb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блако 11"/>
          <p:cNvSpPr/>
          <p:nvPr/>
        </p:nvSpPr>
        <p:spPr>
          <a:xfrm>
            <a:off x="3168720" y="1720800"/>
            <a:ext cx="1050840" cy="11206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блако 12"/>
          <p:cNvSpPr/>
          <p:nvPr/>
        </p:nvSpPr>
        <p:spPr>
          <a:xfrm>
            <a:off x="2033640" y="3429000"/>
            <a:ext cx="1146240" cy="11746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блако 13"/>
          <p:cNvSpPr/>
          <p:nvPr/>
        </p:nvSpPr>
        <p:spPr>
          <a:xfrm>
            <a:off x="2603520" y="5307120"/>
            <a:ext cx="1152360" cy="10969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блако 14"/>
          <p:cNvSpPr/>
          <p:nvPr/>
        </p:nvSpPr>
        <p:spPr>
          <a:xfrm>
            <a:off x="3808440" y="3714840"/>
            <a:ext cx="1062000" cy="12301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7030a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блако 15"/>
          <p:cNvSpPr/>
          <p:nvPr/>
        </p:nvSpPr>
        <p:spPr>
          <a:xfrm>
            <a:off x="7367760" y="2538360"/>
            <a:ext cx="1120680" cy="1179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88ed8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блако 16"/>
          <p:cNvSpPr/>
          <p:nvPr/>
        </p:nvSpPr>
        <p:spPr>
          <a:xfrm>
            <a:off x="7451640" y="765000"/>
            <a:ext cx="1036800" cy="1151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блако 17"/>
          <p:cNvSpPr/>
          <p:nvPr/>
        </p:nvSpPr>
        <p:spPr>
          <a:xfrm>
            <a:off x="4430880" y="549360"/>
            <a:ext cx="1093680" cy="11509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блако 18"/>
          <p:cNvSpPr/>
          <p:nvPr/>
        </p:nvSpPr>
        <p:spPr>
          <a:xfrm>
            <a:off x="5753160" y="3686040"/>
            <a:ext cx="1074600" cy="1125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8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блако 19"/>
          <p:cNvSpPr/>
          <p:nvPr/>
        </p:nvSpPr>
        <p:spPr>
          <a:xfrm>
            <a:off x="7064280" y="5359320"/>
            <a:ext cx="1008000" cy="1044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298c7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блако 23"/>
          <p:cNvSpPr/>
          <p:nvPr/>
        </p:nvSpPr>
        <p:spPr>
          <a:xfrm>
            <a:off x="4738680" y="5307120"/>
            <a:ext cx="1150920" cy="10969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27280" y="189000"/>
            <a:ext cx="680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4652640"/>
            <a:ext cx="6778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ждый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тник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лает 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ть, </a:t>
            </a: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ит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ф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з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112840" y="189000"/>
            <a:ext cx="6346800" cy="424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7359480" y="5589720"/>
            <a:ext cx="15163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27280" y="189000"/>
            <a:ext cx="680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769080" cy="38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27280" y="189000"/>
            <a:ext cx="680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Объект 5" descr=""/>
          <p:cNvPicPr/>
          <p:nvPr/>
        </p:nvPicPr>
        <p:blipFill>
          <a:blip r:embed="rId2"/>
          <a:stretch/>
        </p:blipFill>
        <p:spPr>
          <a:xfrm>
            <a:off x="2268360" y="1052640"/>
            <a:ext cx="58327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27280" y="189000"/>
            <a:ext cx="680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979640" y="1125360"/>
            <a:ext cx="667368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908000" y="765000"/>
            <a:ext cx="67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 шаблона: 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edsovet.s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и картинок: 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llforchildren.ru/pictures/showimg/school22/school2208jpg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mirnova-elena2011.ya.ru/replies.xml?item_no=24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1.mystatic.ru/8iKRT7egQ9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tur.ru/book.php?bid=6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5:22:55Z</dcterms:created>
  <dc:creator>User</dc:creator>
  <dc:description/>
  <dc:language>en-US</dc:language>
  <cp:lastModifiedBy>Валерий</cp:lastModifiedBy>
  <dcterms:modified xsi:type="dcterms:W3CDTF">2012-09-08T16:39:17Z</dcterms:modified>
  <cp:revision>25</cp:revision>
  <dc:subject/>
  <dc:title>Слайд 1</dc:title>
</cp:coreProperties>
</file>