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AA09-8061-4F09-99B4-5D9BD5E3A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FC1E-5A4A-48E8-AAD4-3BD9A5B8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C3D3-8B01-4A3D-8DEE-E7D7C0808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2BD6-DF70-4FC8-A285-DF7E7C508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764E4-FD0C-406E-82FD-192BCF17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676F8-29A3-4EDF-9115-FC9828AA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B5866-0CA0-47EE-92D0-646CA107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E8F12-861D-4C9A-A4A2-D53DB26D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DEE03-F826-4141-B99C-3A45A5AE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D2D2D-A07B-4D15-98AF-7288FF9A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34011-0B6E-4753-806B-3F5D0161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8F8E-7497-49A8-9B13-56490F25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C7494-0A4F-4324-B7E9-C260DBCD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58CF6-1A18-43C4-AC6E-361DD00D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0DC9C-30C1-4107-9FCB-468E973F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88008-7F3F-4AD1-B7C5-E8516D9A0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BC0EA-E675-4C94-A303-0F3C0C53A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43D9-FE2D-4405-8059-30E7AE17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A849-6FA2-4032-ACBA-3F13C051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38D7-4C5D-4DFE-B652-FE446996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18C4-B073-43B5-AE7B-E0E805A5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E051-BF0E-462D-9C43-7AB551CC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1DF5-EA4B-44EA-84A0-498041ED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AC81-C4A4-4004-92BD-89FBBA21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F280-25F7-4361-9351-EA60E00B0A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EC76-07EF-4C28-A52C-E41978BC840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rtchive.com/artchive/m/matisse/dance_hermitag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operacritiques.free.fr/css/images/schoenberg_vision_rouge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010199"/>
                </a:solidFill>
                <a:latin typeface="Tahoma"/>
              </a:rPr>
              <a:t>Модернизм в живописи</a:t>
            </a:r>
            <a:br>
              <a:rPr sz="4400"/>
            </a:br>
            <a:r>
              <a:rPr b="0" lang="ru-RU" sz="4400" spc="-1" strike="noStrike">
                <a:solidFill>
                  <a:srgbClr val="010199"/>
                </a:solidFill>
                <a:latin typeface="Tahoma"/>
              </a:rPr>
              <a:t>               (Авангард)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3240000"/>
            <a:ext cx="8229600" cy="27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Фов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Экспрессионизм</a:t>
            </a:r>
            <a:br>
              <a:rPr sz="3200"/>
            </a:b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Кубизм</a:t>
            </a:r>
            <a:br>
              <a:rPr sz="3200"/>
            </a:b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Абстракцион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Сюрреал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5_1_18"/>
          <p:cNvPicPr/>
          <p:nvPr/>
        </p:nvPicPr>
        <p:blipFill>
          <a:blip r:embed="rId1"/>
          <a:stretch/>
        </p:blipFill>
        <p:spPr>
          <a:xfrm>
            <a:off x="395280" y="692280"/>
            <a:ext cx="828504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140000" y="0"/>
            <a:ext cx="5003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Сальвадор Дали</a:t>
            </a:r>
            <a:br>
              <a:rPr sz="2800"/>
            </a:b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(1904-1989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Сюрреализм</a:t>
            </a: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- </a:t>
            </a:r>
            <a:r>
              <a:rPr b="0" lang="ru-RU" sz="2000" spc="-1" strike="noStrike">
                <a:solidFill>
                  <a:srgbClr val="0066ff"/>
                </a:solidFill>
                <a:latin typeface="Tahoma"/>
              </a:rPr>
              <a:t>(над реализмом)</a:t>
            </a:r>
            <a:br>
              <a:rPr sz="2000"/>
            </a:br>
            <a:r>
              <a:rPr b="0" lang="ru-RU" sz="2000" spc="-1" strike="noStrike">
                <a:solidFill>
                  <a:srgbClr val="0066ff"/>
                </a:solidFill>
                <a:latin typeface="Tahoma"/>
              </a:rPr>
              <a:t>Источник искусства – сфера бессознательного (инстинкты, сновидения, галлюцинации). Соединение на холсте образов, оторванных от реальности, лишённых логических взаимосвяз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Tahoma"/>
              </a:rPr>
              <a:t>«Исчезающий образ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Картинка 314 из 11046"/>
          <p:cNvPicPr/>
          <p:nvPr/>
        </p:nvPicPr>
        <p:blipFill>
          <a:blip r:embed="rId1"/>
          <a:srcRect l="6201" t="2613" r="5315" b="18618"/>
          <a:stretch/>
        </p:blipFill>
        <p:spPr>
          <a:xfrm>
            <a:off x="468360" y="1052640"/>
            <a:ext cx="35067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6093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Постоянство памя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5_1_20"/>
          <p:cNvPicPr/>
          <p:nvPr/>
        </p:nvPicPr>
        <p:blipFill>
          <a:blip r:embed="rId1"/>
          <a:stretch/>
        </p:blipFill>
        <p:spPr>
          <a:xfrm>
            <a:off x="539640" y="260280"/>
            <a:ext cx="786780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5877000"/>
            <a:ext cx="8229600" cy="5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Тристан и Изоль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5" descr="Картинка 3 из 45"/>
          <p:cNvPicPr/>
          <p:nvPr/>
        </p:nvPicPr>
        <p:blipFill>
          <a:blip r:embed="rId1"/>
          <a:stretch/>
        </p:blipFill>
        <p:spPr>
          <a:xfrm>
            <a:off x="179280" y="260280"/>
            <a:ext cx="8853480" cy="4930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Картинка 2 из 49"/>
          <p:cNvPicPr/>
          <p:nvPr/>
        </p:nvPicPr>
        <p:blipFill>
          <a:blip r:embed="rId2"/>
          <a:stretch/>
        </p:blipFill>
        <p:spPr>
          <a:xfrm>
            <a:off x="6227640" y="4365720"/>
            <a:ext cx="2706840" cy="22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796000" y="5229000"/>
            <a:ext cx="3348000" cy="206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Исчезающий обра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4" descr="5_1_23"/>
          <p:cNvPicPr/>
          <p:nvPr/>
        </p:nvPicPr>
        <p:blipFill>
          <a:blip r:embed="rId1"/>
          <a:stretch/>
        </p:blipFill>
        <p:spPr>
          <a:xfrm>
            <a:off x="250920" y="333360"/>
            <a:ext cx="53895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4" descr="5_1_25"/>
          <p:cNvPicPr/>
          <p:nvPr/>
        </p:nvPicPr>
        <p:blipFill>
          <a:blip r:embed="rId1"/>
          <a:stretch/>
        </p:blipFill>
        <p:spPr>
          <a:xfrm>
            <a:off x="324000" y="260280"/>
            <a:ext cx="8510400" cy="53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00720" y="333000"/>
            <a:ext cx="46432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Анри Матис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(1869-195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Фовизм 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– </a:t>
            </a:r>
            <a:r>
              <a:rPr b="0" lang="ru-RU" sz="2000" spc="-1" strike="noStrike">
                <a:solidFill>
                  <a:srgbClr val="010199"/>
                </a:solidFill>
                <a:latin typeface="Tahoma"/>
              </a:rPr>
              <a:t>(дикие) </a:t>
            </a:r>
            <a:br>
              <a:rPr sz="2000"/>
            </a:br>
            <a:r>
              <a:rPr b="0" lang="ru-RU" sz="2400" spc="-1" strike="noStrike">
                <a:solidFill>
                  <a:srgbClr val="010199"/>
                </a:solidFill>
                <a:latin typeface="Tahoma"/>
              </a:rPr>
              <a:t>Живопись «без правил», исключает светотень, перспективу и передачу воздушной среды. Стремление к декоративному эффекту, упрощению форм за счёт усиления светового пятна (сочетание красного с синим, сиреневого с оранжевым, бирюзового с розовым).</a:t>
            </a:r>
            <a:br>
              <a:rPr sz="2400"/>
            </a:br>
            <a:r>
              <a:rPr b="0" lang="ru-RU" sz="2400" spc="-1" strike="noStrike">
                <a:solidFill>
                  <a:srgbClr val="010199"/>
                </a:solidFill>
                <a:latin typeface="Tahoma"/>
              </a:rPr>
              <a:t> Агрессия цв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4" descr="5_1_1"/>
          <p:cNvPicPr/>
          <p:nvPr/>
        </p:nvPicPr>
        <p:blipFill>
          <a:blip r:embed="rId1"/>
          <a:stretch/>
        </p:blipFill>
        <p:spPr>
          <a:xfrm>
            <a:off x="250920" y="260280"/>
            <a:ext cx="435276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03280" y="5008320"/>
            <a:ext cx="3683160" cy="10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Красные рыб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5_1_4"/>
          <p:cNvPicPr/>
          <p:nvPr/>
        </p:nvPicPr>
        <p:blipFill>
          <a:blip r:embed="rId1"/>
          <a:stretch/>
        </p:blipFill>
        <p:spPr>
          <a:xfrm>
            <a:off x="684360" y="260280"/>
            <a:ext cx="413388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61657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Тане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7" descr="Картинка 1 из 207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84913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6720" y="333360"/>
            <a:ext cx="40672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Арнольд Шёнберг (1874-195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Экспрессионизм – </a:t>
            </a:r>
            <a:r>
              <a:rPr b="0" lang="ru-RU" sz="2400" spc="-1" strike="noStrike">
                <a:solidFill>
                  <a:srgbClr val="0066ff"/>
                </a:solidFill>
                <a:latin typeface="Tahoma"/>
              </a:rPr>
              <a:t>(выражени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ahoma"/>
              </a:rPr>
              <a:t>Отчаяние, страх, бессилие перед жестокой действительность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ahoma"/>
              </a:rPr>
              <a:t>«Красный взгляд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0066ff"/>
                </a:solidFill>
                <a:latin typeface="Tahoma"/>
              </a:rPr>
              <a:t>(1910 год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Картинка 1 из 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260280"/>
            <a:ext cx="4567320" cy="60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08720" y="333000"/>
            <a:ext cx="36352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Эдвард Мун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«Крик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66ff"/>
                </a:solidFill>
                <a:latin typeface="Tahoma"/>
              </a:rPr>
              <a:t>Вибрация живописной поверх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5_1_6"/>
          <p:cNvPicPr/>
          <p:nvPr/>
        </p:nvPicPr>
        <p:blipFill>
          <a:blip r:embed="rId1"/>
          <a:stretch/>
        </p:blipFill>
        <p:spPr>
          <a:xfrm>
            <a:off x="468360" y="260280"/>
            <a:ext cx="495288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03280" y="259920"/>
            <a:ext cx="3961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Пабло Пикассо </a:t>
            </a: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(1881-197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Кубизм </a:t>
            </a: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– </a:t>
            </a:r>
            <a:r>
              <a:rPr b="0" lang="ru-RU" sz="2000" spc="-1" strike="noStrike">
                <a:solidFill>
                  <a:srgbClr val="0066ff"/>
                </a:solidFill>
                <a:latin typeface="Tahoma"/>
              </a:rPr>
              <a:t>(куб) </a:t>
            </a:r>
            <a:br>
              <a:rPr sz="2000"/>
            </a:br>
            <a:r>
              <a:rPr b="0" lang="ru-RU" sz="2000" spc="-1" strike="noStrike">
                <a:solidFill>
                  <a:srgbClr val="0066ff"/>
                </a:solidFill>
                <a:latin typeface="Tahoma"/>
              </a:rPr>
              <a:t>Разъятие предметного мира на простейшие геометрические фигуры, стало универсальным способом для передачи объёма, пространства и фактуры. Художник как бы просвечивает предметы, смешивая куски реальности с фрагментами, рождёнными фантази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Tahoma"/>
              </a:rPr>
              <a:t>Деформация фор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5_1_11"/>
          <p:cNvPicPr/>
          <p:nvPr/>
        </p:nvPicPr>
        <p:blipFill>
          <a:blip r:embed="rId1"/>
          <a:stretch/>
        </p:blipFill>
        <p:spPr>
          <a:xfrm>
            <a:off x="395280" y="260280"/>
            <a:ext cx="456264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76720" y="5157720"/>
            <a:ext cx="40672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Портрет </a:t>
            </a:r>
            <a:br>
              <a:rPr sz="2800"/>
            </a:b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Амброаза Волла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5_1_12"/>
          <p:cNvPicPr/>
          <p:nvPr/>
        </p:nvPicPr>
        <p:blipFill>
          <a:blip r:embed="rId1"/>
          <a:stretch/>
        </p:blipFill>
        <p:spPr>
          <a:xfrm>
            <a:off x="468360" y="333360"/>
            <a:ext cx="45432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259920"/>
            <a:ext cx="822960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Василий Васильевич Кандинский </a:t>
            </a:r>
            <a:br>
              <a:rPr sz="2800"/>
            </a:b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                 (1866-1944)</a:t>
            </a:r>
            <a:br>
              <a:rPr sz="2800"/>
            </a:b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Абстракционизм </a:t>
            </a: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– </a:t>
            </a:r>
            <a:r>
              <a:rPr b="0" lang="ru-RU" sz="2000" spc="-1" strike="noStrike">
                <a:solidFill>
                  <a:srgbClr val="0066ff"/>
                </a:solidFill>
                <a:latin typeface="Tahoma"/>
              </a:rPr>
              <a:t>(отвлечение)</a:t>
            </a:r>
            <a:br>
              <a:rPr sz="2000"/>
            </a:br>
            <a:r>
              <a:rPr b="0" lang="ru-RU" sz="2000" spc="-1" strike="noStrike">
                <a:solidFill>
                  <a:srgbClr val="0066ff"/>
                </a:solidFill>
                <a:latin typeface="Tahoma"/>
              </a:rPr>
              <a:t>Композиции из геометрических фигур, линий и цветовых пятен, рассчитаны на интеллектуальные ассоци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Tahoma"/>
              </a:rPr>
              <a:t>                                                                         </a:t>
            </a:r>
            <a:r>
              <a:rPr b="0" lang="ru-RU" sz="2000" spc="-1" strike="noStrike">
                <a:solidFill>
                  <a:srgbClr val="0066ff"/>
                </a:solidFill>
                <a:latin typeface="Tahoma"/>
              </a:rPr>
              <a:t>Композиция №8</a:t>
            </a:r>
            <a:br>
              <a:rPr sz="2000"/>
            </a:br>
            <a:r>
              <a:rPr b="0" lang="ru-RU" sz="2000" spc="-1" strike="noStrike">
                <a:solidFill>
                  <a:srgbClr val="0066ff"/>
                </a:solidFill>
                <a:latin typeface="Tahoma"/>
              </a:rPr>
              <a:t>                                                                           (192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Tahoma"/>
              </a:rPr>
              <a:t>                                                                         </a:t>
            </a:r>
            <a:r>
              <a:rPr b="0" lang="ru-RU" sz="2000" spc="-1" strike="noStrike">
                <a:solidFill>
                  <a:srgbClr val="0066ff"/>
                </a:solidFill>
                <a:latin typeface="Tahoma"/>
              </a:rPr>
              <a:t>Ассоциируется с </a:t>
            </a:r>
            <a:br>
              <a:rPr sz="2000"/>
            </a:br>
            <a:r>
              <a:rPr b="0" lang="ru-RU" sz="2000" spc="-1" strike="noStrike">
                <a:solidFill>
                  <a:srgbClr val="0066ff"/>
                </a:solidFill>
                <a:latin typeface="Tahoma"/>
              </a:rPr>
              <a:t>                                                                  1 частью  сонатно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Tahoma"/>
              </a:rPr>
              <a:t>                                                                        </a:t>
            </a: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allegro</a:t>
            </a:r>
            <a:br>
              <a:rPr sz="2000"/>
            </a:b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                </a:t>
            </a:r>
            <a:br>
              <a:rPr sz="2000"/>
            </a:b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                                                                 </a:t>
            </a:r>
            <a:r>
              <a:rPr b="0" lang="ru-RU" sz="2000" spc="-1" strike="noStrike">
                <a:solidFill>
                  <a:srgbClr val="0066ff"/>
                </a:solidFill>
                <a:latin typeface="Tahoma"/>
              </a:rPr>
              <a:t>   Отказ от </a:t>
            </a:r>
            <a:br>
              <a:rPr sz="2000"/>
            </a:br>
            <a:r>
              <a:rPr b="0" lang="ru-RU" sz="2000" spc="-1" strike="noStrike">
                <a:solidFill>
                  <a:srgbClr val="0066ff"/>
                </a:solidFill>
                <a:latin typeface="Tahoma"/>
              </a:rPr>
              <a:t>                                                                   изобразитель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8" descr="Картинка 2 из 603"/>
          <p:cNvPicPr/>
          <p:nvPr/>
        </p:nvPicPr>
        <p:blipFill>
          <a:blip r:embed="rId1"/>
          <a:stretch/>
        </p:blipFill>
        <p:spPr>
          <a:xfrm>
            <a:off x="179280" y="2565360"/>
            <a:ext cx="585180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8:33:43Z</dcterms:created>
  <dc:creator>Ilya</dc:creator>
  <dc:description/>
  <dc:language>en-US</dc:language>
  <cp:lastModifiedBy>Пользователь Windows</cp:lastModifiedBy>
  <dcterms:modified xsi:type="dcterms:W3CDTF">2012-09-08T19:25:24Z</dcterms:modified>
  <cp:revision>18</cp:revision>
  <dc:subject/>
  <dc:title>Слайд 1</dc:title>
</cp:coreProperties>
</file>