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92C1-DA77-41A6-88A1-C9C6E9ED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2BB-D462-4526-BAFB-B478B390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F4D-5592-42D7-A905-2D03F6D9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2B3-247B-40D9-98DE-209EA0C3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26777-6104-428B-A79E-9A12A4DB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41AB4-91AA-4312-9786-8D3A3B4E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A167B-57AA-40CD-B111-0A1F745C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853CA-E2BB-41BD-8E5F-CDF61457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9E53F-7646-44D8-9692-5F288A52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252AC-842D-438C-BDF8-5DFA27D1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90E3D-8486-471A-88BD-0258FE19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A80-642C-46F3-8FB0-2834E98D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67A22-1A4D-4DDF-AF6E-7BBA06EF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9B376-5CFC-403A-88A9-10F3AF88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6ADD9-E110-4E6B-90A9-D15BC605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4C50D-57D3-4CFE-AAD8-6D6ED0EC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A690F-CB36-4704-A61E-BEE338D0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E2B-A246-455E-A8DF-827B8E53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2BC-59E0-499A-8526-6005CCA5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E3F7-C9CE-41E8-B258-91F04D6E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E83-2A02-4AAD-8E3C-A684CA3A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723-1E36-4EEB-A92D-F47C3F2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2B77-D48E-4FAB-87ED-FCBDDAB6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351E-B442-42AA-B6B8-49788C3D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A938-E549-46F3-B064-A23FBB611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F111-FC2B-4761-9197-582DF7C5E2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rtchive.com/artchive/m/matisse/dance_hermitag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peracritiques.free.fr/css/images/schoenberg_vision_rouge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Модернизм в живописи</a:t>
            </a:r>
            <a:br>
              <a:rPr sz="4400"/>
            </a:br>
            <a:r>
              <a:rPr b="0" lang="ru-RU" sz="4400" spc="-1" strike="noStrike">
                <a:solidFill>
                  <a:srgbClr val="010199"/>
                </a:solidFill>
                <a:latin typeface="Tahoma"/>
              </a:rPr>
              <a:t>               (Авангард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240000"/>
            <a:ext cx="822960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Фов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Экспрессионизм</a:t>
            </a:r>
            <a:br>
              <a:rPr sz="3200"/>
            </a:b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Кубизм</a:t>
            </a:r>
            <a:br>
              <a:rPr sz="3200"/>
            </a:b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Абстракцио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Сюрреал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5_1_18"/>
          <p:cNvPicPr/>
          <p:nvPr/>
        </p:nvPicPr>
        <p:blipFill>
          <a:blip r:embed="rId1"/>
          <a:stretch/>
        </p:blipFill>
        <p:spPr>
          <a:xfrm>
            <a:off x="395280" y="692280"/>
            <a:ext cx="82850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40000" y="0"/>
            <a:ext cx="5003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Сальвадор Дали</a:t>
            </a:r>
            <a:br>
              <a:rPr sz="2800"/>
            </a:b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(1904-198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Сюрреализм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(над реализмом)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Источник искусства – сфера бессознательного (инстинкты, сновидения, галлюцинации). Соединение на холсте образов, оторванных от реальности, лишённых логических взаимосвяз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«Исчезающий образ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Картинка 314 из 11046"/>
          <p:cNvPicPr/>
          <p:nvPr/>
        </p:nvPicPr>
        <p:blipFill>
          <a:blip r:embed="rId1"/>
          <a:srcRect l="6201" t="2613" r="5315" b="18618"/>
          <a:stretch/>
        </p:blipFill>
        <p:spPr>
          <a:xfrm>
            <a:off x="468360" y="1052640"/>
            <a:ext cx="35067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609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Постоянство памя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5_1_20"/>
          <p:cNvPicPr/>
          <p:nvPr/>
        </p:nvPicPr>
        <p:blipFill>
          <a:blip r:embed="rId1"/>
          <a:stretch/>
        </p:blipFill>
        <p:spPr>
          <a:xfrm>
            <a:off x="539640" y="260280"/>
            <a:ext cx="78678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587700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Тристан и Изоль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Картинка 3 из 45"/>
          <p:cNvPicPr/>
          <p:nvPr/>
        </p:nvPicPr>
        <p:blipFill>
          <a:blip r:embed="rId1"/>
          <a:stretch/>
        </p:blipFill>
        <p:spPr>
          <a:xfrm>
            <a:off x="179280" y="260280"/>
            <a:ext cx="8853480" cy="4930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Картинка 2 из 49"/>
          <p:cNvPicPr/>
          <p:nvPr/>
        </p:nvPicPr>
        <p:blipFill>
          <a:blip r:embed="rId2"/>
          <a:stretch/>
        </p:blipFill>
        <p:spPr>
          <a:xfrm>
            <a:off x="6227640" y="4365720"/>
            <a:ext cx="270684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96000" y="5229000"/>
            <a:ext cx="3348000" cy="20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Исчезающий обр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5_1_23"/>
          <p:cNvPicPr/>
          <p:nvPr/>
        </p:nvPicPr>
        <p:blipFill>
          <a:blip r:embed="rId1"/>
          <a:stretch/>
        </p:blipFill>
        <p:spPr>
          <a:xfrm>
            <a:off x="250920" y="333360"/>
            <a:ext cx="53895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5_1_25"/>
          <p:cNvPicPr/>
          <p:nvPr/>
        </p:nvPicPr>
        <p:blipFill>
          <a:blip r:embed="rId1"/>
          <a:stretch/>
        </p:blipFill>
        <p:spPr>
          <a:xfrm>
            <a:off x="324000" y="260280"/>
            <a:ext cx="851040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0720" y="333000"/>
            <a:ext cx="46432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Анри Матис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(1869-195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10199"/>
                </a:solidFill>
                <a:latin typeface="Tahoma"/>
              </a:rPr>
              <a:t>Фовизм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(дикие) </a:t>
            </a:r>
            <a:br>
              <a:rPr sz="2000"/>
            </a:b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Живопись «без правил», исключает светотень, перспективу и передачу воздушной среды. Стремление к декоративному эффекту, упрощению форм за счёт усиления светового пятна (сочетание красного с синим, сиреневого с оранжевым, бирюзового с розовым).</a:t>
            </a:r>
            <a:br>
              <a:rPr sz="2400"/>
            </a:b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 Агрессия ц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5_1_1"/>
          <p:cNvPicPr/>
          <p:nvPr/>
        </p:nvPicPr>
        <p:blipFill>
          <a:blip r:embed="rId1"/>
          <a:stretch/>
        </p:blipFill>
        <p:spPr>
          <a:xfrm>
            <a:off x="250920" y="260280"/>
            <a:ext cx="43527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03280" y="5008320"/>
            <a:ext cx="368316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Красные рыб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5_1_4"/>
          <p:cNvPicPr/>
          <p:nvPr/>
        </p:nvPicPr>
        <p:blipFill>
          <a:blip r:embed="rId1"/>
          <a:stretch/>
        </p:blipFill>
        <p:spPr>
          <a:xfrm>
            <a:off x="684360" y="260280"/>
            <a:ext cx="41338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61657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Тане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Картинка 1 из 20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84913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6720" y="333360"/>
            <a:ext cx="406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Арнольд Шёнберг (1874-195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Экспрессионизм – </a:t>
            </a: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(выражен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Отчаяние, страх, бессилие перед жестокой действительност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«Красный взгляд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(1910 го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Картинка 1 из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456732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08720" y="333000"/>
            <a:ext cx="36352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Эдвард Мун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«Крик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66ff"/>
                </a:solidFill>
                <a:latin typeface="Tahoma"/>
              </a:rPr>
              <a:t>Вибрация живописной поверх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5_1_6"/>
          <p:cNvPicPr/>
          <p:nvPr/>
        </p:nvPicPr>
        <p:blipFill>
          <a:blip r:embed="rId1"/>
          <a:stretch/>
        </p:blipFill>
        <p:spPr>
          <a:xfrm>
            <a:off x="468360" y="260280"/>
            <a:ext cx="49528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3280" y="259920"/>
            <a:ext cx="396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Пабло Пикассо 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(1881-197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Кубизм 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(куб) 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Разъятие предметного мира на простейшие геометрические фигуры, стало универсальным способом для передачи объёма, пространства и фактуры. Художник как бы просвечивает предметы, смешивая куски реальности с фрагментами, рождёнными фантази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Деформация фор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5_1_11"/>
          <p:cNvPicPr/>
          <p:nvPr/>
        </p:nvPicPr>
        <p:blipFill>
          <a:blip r:embed="rId1"/>
          <a:stretch/>
        </p:blipFill>
        <p:spPr>
          <a:xfrm>
            <a:off x="395280" y="260280"/>
            <a:ext cx="45626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6720" y="5157720"/>
            <a:ext cx="40672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Портрет </a:t>
            </a:r>
            <a:br>
              <a:rPr sz="2800"/>
            </a:b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Амброаза Волла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5_1_12"/>
          <p:cNvPicPr/>
          <p:nvPr/>
        </p:nvPicPr>
        <p:blipFill>
          <a:blip r:embed="rId1"/>
          <a:stretch/>
        </p:blipFill>
        <p:spPr>
          <a:xfrm>
            <a:off x="468360" y="333360"/>
            <a:ext cx="45432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Василий Васильевич Кандинский </a:t>
            </a:r>
            <a:br>
              <a:rPr sz="2800"/>
            </a:b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                 (1866-1944)</a:t>
            </a:r>
            <a:br>
              <a:rPr sz="2800"/>
            </a:b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Абстракционизм 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(отвлечение)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Композиции из геометрических фигур, линий и цветовых пятен, рассчитаны на интеллектуальные ассоци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                                                                     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Композиция №8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                                                                        (19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                                                                     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Ассоциируется с 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                                                               1 частью  сонат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                                                                     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allegro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                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Отказ от </a:t>
            </a: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                                                                изобразитель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8" descr="Картинка 2 из 603"/>
          <p:cNvPicPr/>
          <p:nvPr/>
        </p:nvPicPr>
        <p:blipFill>
          <a:blip r:embed="rId1"/>
          <a:stretch/>
        </p:blipFill>
        <p:spPr>
          <a:xfrm>
            <a:off x="179280" y="2565360"/>
            <a:ext cx="58518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33:43Z</dcterms:created>
  <dc:creator>Ilya</dc:creator>
  <dc:description/>
  <dc:language>en-US</dc:language>
  <cp:lastModifiedBy>Пользователь Windows</cp:lastModifiedBy>
  <dcterms:modified xsi:type="dcterms:W3CDTF">2012-09-08T19:25:24Z</dcterms:modified>
  <cp:revision>18</cp:revision>
  <dc:subject/>
  <dc:title>Слайд 1</dc:title>
</cp:coreProperties>
</file>