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32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7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63D-EE4B-47AA-836F-0854671E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DB4E-A50A-49F8-BE1C-AA8A5AD3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8DF-1006-4161-AEC5-06F6F311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1F5-2946-45B9-8E10-E4BCF058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769-3DCD-486C-A138-BAEFA369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9FC-32B5-400B-AEC9-8476C277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4EC-CF0A-4202-A019-746C78C4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3CD-C15A-452C-A6A9-F905D04B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478-96C3-4EE8-85F5-F69876EB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DA6E-AC4A-4041-8EE7-A497398E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856-3536-4B93-8AB4-D648F14B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18D-51E7-4DB7-8691-7C9B358D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4007-C43F-4173-A1B3-5A1646E731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920" y="260280"/>
            <a:ext cx="5113440" cy="10080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Звездный ча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920" y="4508280"/>
            <a:ext cx="7561440" cy="6490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glish – speaking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981000"/>
            <a:ext cx="503280" cy="43200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89000"/>
            <a:ext cx="503280" cy="43164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333360"/>
            <a:ext cx="505080" cy="43164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80360" y="189000"/>
            <a:ext cx="504720" cy="43164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44000" y="333360"/>
            <a:ext cx="504720" cy="50328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85080" y="981000"/>
            <a:ext cx="503280" cy="43200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576000" cy="50472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6237360"/>
            <a:ext cx="576360" cy="50472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381720"/>
            <a:ext cx="539640" cy="47628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459640" y="6237360"/>
            <a:ext cx="576360" cy="50472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6360" y="6165720"/>
            <a:ext cx="576000" cy="50328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72360" y="5661000"/>
            <a:ext cx="576360" cy="504720"/>
          </a:xfrm>
          <a:prstGeom prst="star5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9500"/>
                            </p:stCondLst>
                            <p:childTnLst>
                              <p:par>
                                <p:cTn id="34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5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6121440" cy="7779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X. Names of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4221000"/>
            <a:ext cx="1368360" cy="360360"/>
          </a:xfrm>
          <a:prstGeom prst="rect">
            <a:avLst/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0920" y="42148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Tex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2205000"/>
            <a:ext cx="1224000" cy="360360"/>
          </a:xfrm>
          <a:prstGeom prst="rect">
            <a:avLst/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00920" y="219852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Illin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0" y="3789360"/>
            <a:ext cx="1512720" cy="360360"/>
          </a:xfrm>
          <a:prstGeom prst="rect">
            <a:avLst/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75480" y="378288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lab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5516640"/>
            <a:ext cx="1225800" cy="360360"/>
          </a:xfrm>
          <a:prstGeom prst="rect">
            <a:avLst/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31840" y="55119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Ala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2852640"/>
            <a:ext cx="1368360" cy="360360"/>
          </a:xfrm>
          <a:prstGeom prst="rect">
            <a:avLst/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43480" y="28479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Ka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3141720"/>
            <a:ext cx="1440000" cy="358560"/>
          </a:xfrm>
          <a:prstGeom prst="rect">
            <a:avLst/>
          </a:prstGeom>
          <a:solidFill>
            <a:srgbClr val="ddf0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40200" y="313524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Mont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000"/>
                            </p:stCondLst>
                            <p:childTnLst>
                              <p:par>
                                <p:cTn id="8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0"/>
                            </p:stCondLst>
                            <p:childTnLst>
                              <p:par>
                                <p:cTn id="8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7000"/>
                            </p:stCondLst>
                            <p:childTnLst>
                              <p:par>
                                <p:cTn id="8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IV </a:t>
            </a:r>
            <a:r>
              <a:rPr b="1" lang="ru-RU" sz="3200" spc="-1" strike="noStrike" u="sng">
                <a:solidFill>
                  <a:srgbClr val="800080"/>
                </a:solidFill>
                <a:uFillTx/>
                <a:latin typeface="Arial"/>
              </a:rPr>
              <a:t>тур.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2016000" cy="2447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04000" y="1052640"/>
            <a:ext cx="2006640" cy="2520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95280" y="3860640"/>
            <a:ext cx="1944720" cy="2692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804000" y="4005360"/>
            <a:ext cx="204300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11280" y="10000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. Names of famous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349360"/>
            <a:ext cx="3405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ill Clin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.  John F. Kenn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.  John Br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4.  George Wash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5.  Thomas Alva Ed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000"/>
                            </p:stCondLst>
                            <p:childTnLst>
                              <p:par>
                                <p:cTn id="9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8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000"/>
                            </p:stCondLst>
                            <p:childTnLst>
                              <p:par>
                                <p:cTn id="9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0"/>
                            </p:stCondLst>
                            <p:childTnLst>
                              <p:par>
                                <p:cTn id="9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6000"/>
                            </p:stCondLst>
                            <p:childTnLst>
                              <p:par>
                                <p:cTn id="9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7000"/>
                            </p:stCondLst>
                            <p:childTnLst>
                              <p:par>
                                <p:cTn id="9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XI. Names of month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71840" y="1504800"/>
            <a:ext cx="246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bru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pt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0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инал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Arial"/>
              </a:rPr>
              <a:t>XI. Names of wr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76720" y="1197000"/>
            <a:ext cx="2160360" cy="244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95280" y="4365720"/>
            <a:ext cx="1944720" cy="2376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24000" y="1197000"/>
            <a:ext cx="2016000" cy="244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348000" y="4365720"/>
            <a:ext cx="2087640" cy="237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372360" y="1197000"/>
            <a:ext cx="1944720" cy="244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6443640" y="4365720"/>
            <a:ext cx="1873440" cy="2376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60560" y="78408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натан Свиф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765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Даниель Деф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784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Марк Т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39528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Редьярд Кипл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48000" y="39528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Льюис Кэрро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00720" y="3933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Уильям Шексп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Супер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359244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66"/>
                </a:solidFill>
                <a:latin typeface="Arial"/>
              </a:rPr>
              <a:t>Englishspeak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816360" cy="5832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I </a:t>
            </a: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тур.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“Countr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95840" y="1197000"/>
            <a:ext cx="35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. Names of count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67120" y="1936800"/>
            <a:ext cx="318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t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a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7000"/>
                            </p:stCondLst>
                            <p:childTnLst>
                              <p:par>
                                <p:cTn id="4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000"/>
                            </p:stCondLst>
                            <p:childTnLst>
                              <p:par>
                                <p:cTn id="4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9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I. Names of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484280"/>
            <a:ext cx="857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nada           2. Mexico               3. New Zea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4. The USA         5. Great Britain      6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250"/>
                            </p:stCondLst>
                            <p:childTnLst>
                              <p:par>
                                <p:cTn id="4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588000" y="3860640"/>
            <a:ext cx="1656000" cy="505080"/>
          </a:xfrm>
          <a:prstGeom prst="rect">
            <a:avLst/>
          </a:prstGeom>
          <a:solidFill>
            <a:srgbClr val="e891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860640"/>
            <a:ext cx="1656000" cy="505080"/>
          </a:xfrm>
          <a:prstGeom prst="rect">
            <a:avLst/>
          </a:prstGeom>
          <a:solidFill>
            <a:srgbClr val="f3f8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860640"/>
            <a:ext cx="158436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8000" y="3141720"/>
            <a:ext cx="1656000" cy="503280"/>
          </a:xfrm>
          <a:prstGeom prst="rect">
            <a:avLst/>
          </a:prstGeom>
          <a:solidFill>
            <a:srgbClr val="e60a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3141720"/>
            <a:ext cx="1656000" cy="503280"/>
          </a:xfrm>
          <a:prstGeom prst="rect">
            <a:avLst/>
          </a:prstGeom>
          <a:solidFill>
            <a:srgbClr val="51e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141720"/>
            <a:ext cx="1584360" cy="503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III. Coloured pa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32720" y="5229360"/>
            <a:ext cx="2232000" cy="1439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59640" y="765000"/>
            <a:ext cx="2158920" cy="2159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50920" y="5157720"/>
            <a:ext cx="2305080" cy="1511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50920" y="836640"/>
            <a:ext cx="2449440" cy="201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3564000" y="4724280"/>
            <a:ext cx="2419200" cy="2005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3141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                     2. Green                       3.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White                  5.  Yellow                    6.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II. </a:t>
            </a: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</a:rPr>
              <a:t>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51320" cy="2185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185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0" y="4670280"/>
            <a:ext cx="3419640" cy="2187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940360" y="4670280"/>
            <a:ext cx="3203640" cy="2187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98760" y="176688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66"/>
                </a:solidFill>
                <a:uFillTx/>
                <a:latin typeface="Arial"/>
              </a:rPr>
              <a:t>IV. Names of c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51136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ondon                2. Washington                 3. Otta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Wellington            5. Edinburgh                    6. Canb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V. Names of 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00360" cy="4149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443640" y="0"/>
            <a:ext cx="2700360" cy="4149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700360" y="4149720"/>
            <a:ext cx="3743280" cy="2708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19640" y="1403280"/>
            <a:ext cx="23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Sy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4500720"/>
            <a:ext cx="216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ard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4581360"/>
            <a:ext cx="277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Bel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Edinbur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8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8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8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8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8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VI.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3132000" cy="252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843280" cy="2736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132000" y="620640"/>
            <a:ext cx="3168720" cy="2521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0" y="3645000"/>
            <a:ext cx="3059280" cy="2736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300720" y="620640"/>
            <a:ext cx="2843280" cy="2521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3059280" y="3645000"/>
            <a:ext cx="3241440" cy="273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31608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Niagara f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28920" y="316080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Loch Ness Mon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9640" y="31608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Skyscr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64008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Big 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6381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The Capit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4920" y="63817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Red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71920" y="4437000"/>
            <a:ext cx="128736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.  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4437000"/>
            <a:ext cx="122400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  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3573360"/>
            <a:ext cx="122400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3573360"/>
            <a:ext cx="122400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24360" y="4437000"/>
            <a:ext cx="122400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.   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24360" y="3573360"/>
            <a:ext cx="122400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 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II.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917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VII.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3573360"/>
            <a:ext cx="122400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3573360"/>
            <a:ext cx="122400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VIII. Numb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03480" y="2297160"/>
            <a:ext cx="491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1.  10 mln sq.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2.  7,687,000 sq.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3.  17 mln sq.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4.  9 mln sq.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5.  244,000 sq.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000"/>
                            </p:stCondLst>
                            <p:childTnLst>
                              <p:par>
                                <p:cTn id="7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4000"/>
                            </p:stCondLst>
                            <p:childTnLst>
                              <p:par>
                                <p:cTn id="7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7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7000"/>
                            </p:stCondLst>
                            <p:childTnLst>
                              <p:par>
                                <p:cTn id="7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6:11:04Z</dcterms:created>
  <dc:creator>Лихоманова Оксана Павловна</dc:creator>
  <dc:description/>
  <dc:language>en-US</dc:language>
  <cp:lastModifiedBy>Лихоманова Оксана Павловна</cp:lastModifiedBy>
  <dcterms:modified xsi:type="dcterms:W3CDTF">2009-01-16T20:19:19Z</dcterms:modified>
  <cp:revision>45</cp:revision>
  <dc:subject/>
  <dc:title>Звездный час</dc:title>
</cp:coreProperties>
</file>