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32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7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15B-AE0D-4BA1-91A4-3C44C062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2EA-2BD2-40AC-98A9-9B05777A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CCF-82A8-43AB-92C3-DDB80F2E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9BC-84D2-477F-85B4-DDA951C5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914-2F64-4E05-AF4D-DD8B82A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FB1-B23E-4A50-9D2E-A6F58B91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EB6-769B-466D-B574-FB1E9051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922-56B0-4625-A356-0D68E57B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FB6-46A6-4BE7-9E2C-1DEBAEB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0A6-8B9E-4C8F-B94F-E266E50A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F1E-1057-4AD5-A2ED-5FB9917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A5C-6BF7-4D94-9626-953DCCC3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3EE8-CFFE-4C96-A676-ABFA8CD82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5113440" cy="1008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Звездный ч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4508280"/>
            <a:ext cx="7561440" cy="649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lish – speaking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981000"/>
            <a:ext cx="503280" cy="43200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9000"/>
            <a:ext cx="503280" cy="43164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33360"/>
            <a:ext cx="505080" cy="43164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80360" y="189000"/>
            <a:ext cx="504720" cy="43164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44000" y="333360"/>
            <a:ext cx="504720" cy="50328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85080" y="981000"/>
            <a:ext cx="503280" cy="43200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576000" cy="50472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6237360"/>
            <a:ext cx="576360" cy="50472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81720"/>
            <a:ext cx="539640" cy="47628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237360"/>
            <a:ext cx="576360" cy="50472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6360" y="6165720"/>
            <a:ext cx="576000" cy="50328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72360" y="5661000"/>
            <a:ext cx="576360" cy="50472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7779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X. Names of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4221000"/>
            <a:ext cx="136836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0920" y="42148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2205000"/>
            <a:ext cx="122400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00920" y="219852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Illin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3789360"/>
            <a:ext cx="151272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75480" y="37828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lab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5516640"/>
            <a:ext cx="122580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31840" y="55119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Ala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2852640"/>
            <a:ext cx="136836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43480" y="28479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Ka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3141720"/>
            <a:ext cx="1440000" cy="3585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40200" y="31352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Mon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0"/>
                            </p:stCondLst>
                            <p:childTnLst>
                              <p:par>
                                <p:cTn id="8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7000"/>
                            </p:stCondLst>
                            <p:childTnLst>
                              <p:par>
                                <p:cTn id="8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IV </a:t>
            </a:r>
            <a:r>
              <a:rPr b="1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тур.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2016000" cy="24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04000" y="1052640"/>
            <a:ext cx="2006640" cy="252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1944720" cy="2692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804000" y="4005360"/>
            <a:ext cx="20430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0000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. Names of famous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349360"/>
            <a:ext cx="3405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ill Cli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.  John F. Kenn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.  John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.  George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5.  Thomas Alva Ed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9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0"/>
                            </p:stCondLst>
                            <p:childTnLst>
                              <p:par>
                                <p:cTn id="9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9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7000"/>
                            </p:stCondLst>
                            <p:childTnLst>
                              <p:par>
                                <p:cTn id="9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XI. Names of mont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1840" y="1504800"/>
            <a:ext cx="246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br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pt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инал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Arial"/>
              </a:rPr>
              <a:t>XI. Names of wr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2160360" cy="244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194472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24000" y="1197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348000" y="4365720"/>
            <a:ext cx="208764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372360" y="119700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6443640" y="4365720"/>
            <a:ext cx="1873440" cy="2376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0560" y="7840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атан Свиф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76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Даниель Деф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784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Марк Т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3952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Редьярд Кипл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39528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Льюис Кэрро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393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Уильям 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Супер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35924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Englishspeak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816360" cy="5832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I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тур.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“Countr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95840" y="119700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. Names of coun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67120" y="1936800"/>
            <a:ext cx="318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000"/>
                            </p:stCondLst>
                            <p:childTnLst>
                              <p:par>
                                <p:cTn id="4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I. Names of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484280"/>
            <a:ext cx="85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nada           2. Mexico               3.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4. The USA         5. Great Britain      6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250"/>
                            </p:stCondLst>
                            <p:childTnLst>
                              <p:par>
                                <p:cTn id="4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588000" y="3860640"/>
            <a:ext cx="1656000" cy="505080"/>
          </a:xfrm>
          <a:prstGeom prst="rect">
            <a:avLst/>
          </a:prstGeom>
          <a:solidFill>
            <a:srgbClr val="e891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860640"/>
            <a:ext cx="1656000" cy="505080"/>
          </a:xfrm>
          <a:prstGeom prst="rect">
            <a:avLst/>
          </a:prstGeom>
          <a:solidFill>
            <a:srgbClr val="f3f8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860640"/>
            <a:ext cx="15843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3141720"/>
            <a:ext cx="1656000" cy="503280"/>
          </a:xfrm>
          <a:prstGeom prst="rect">
            <a:avLst/>
          </a:prstGeom>
          <a:solidFill>
            <a:srgbClr val="e60a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3141720"/>
            <a:ext cx="1656000" cy="503280"/>
          </a:xfrm>
          <a:prstGeom prst="rect">
            <a:avLst/>
          </a:prstGeom>
          <a:solidFill>
            <a:srgbClr val="51e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141720"/>
            <a:ext cx="158436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II. Coloured 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32720" y="5229360"/>
            <a:ext cx="2232000" cy="143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59640" y="765000"/>
            <a:ext cx="2158920" cy="215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230508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244944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64000" y="4724280"/>
            <a:ext cx="2419200" cy="200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31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                     2. Green                       3.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White                  5.  Yellow                    6.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II.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5132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4670280"/>
            <a:ext cx="3419640" cy="218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940360" y="4670280"/>
            <a:ext cx="3203640" cy="2187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98760" y="17668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66"/>
                </a:solidFill>
                <a:uFillTx/>
                <a:latin typeface="Arial"/>
              </a:rPr>
              <a:t>IV. Names of c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511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ndon                2. Washington                 3. Ott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Wellington            5. Edinburgh                    6. 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V. Names of 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0360" cy="414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4149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700360" y="4149720"/>
            <a:ext cx="3743280" cy="2708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9640" y="140328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y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50072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ar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4581360"/>
            <a:ext cx="27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Bel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Edinbur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8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VI.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132000" cy="252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843280" cy="273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3168720" cy="252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0" y="3645000"/>
            <a:ext cx="3059280" cy="273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300720" y="620640"/>
            <a:ext cx="2843280" cy="252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3059280" y="3645000"/>
            <a:ext cx="3241440" cy="273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31608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Niagara f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28920" y="31608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Loch Ness Mon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31608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kyscr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64008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Big 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638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The Capi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4920" y="63817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Red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71920" y="4437000"/>
            <a:ext cx="128736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  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443700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443700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.  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II.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VII.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VIII. Numb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03480" y="2297160"/>
            <a:ext cx="491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.  10 mln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.  7,687,000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3.  17 mln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4.  9 mln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5.  244,000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7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7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7000"/>
                            </p:stCondLst>
                            <p:childTnLst>
                              <p:par>
                                <p:cTn id="7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6:11:04Z</dcterms:created>
  <dc:creator>Лихоманова Оксана Павловна</dc:creator>
  <dc:description/>
  <dc:language>en-US</dc:language>
  <cp:lastModifiedBy>Лихоманова Оксана Павловна</cp:lastModifiedBy>
  <dcterms:modified xsi:type="dcterms:W3CDTF">2009-01-16T20:19:19Z</dcterms:modified>
  <cp:revision>45</cp:revision>
  <dc:subject/>
  <dc:title>Звездный час</dc:title>
</cp:coreProperties>
</file>