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4C3-3430-4276-8B65-A7BB1FC0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A19-7AC1-449E-9EDE-BE51FC4B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07C-72DB-480F-936A-76BE8D61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D55-0BCE-431D-B7D9-D5725E89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140E-C652-41B8-935E-2E55CD92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AABF-6A03-483B-B126-1F5505EC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EEC4-391F-4B83-BA49-901F9CF2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6AE9-B088-4D8A-87D8-039B7D77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F6BF-F1BF-4C5B-A90B-1A45817A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D6A9-17DA-49D1-B4E1-6956D47A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96CC-707C-499B-8B52-7ABC62B3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06A-F8E6-453E-B975-6374C06D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6190-0F69-492A-8C31-5F516CAA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E3AA-5A77-4791-BAF9-ABB90EC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91D3-0C58-4A83-8E5F-880439BF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F6A1-F80B-4034-9E1A-7F6421BA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ECF8-9BE7-4D86-8A5B-6F30DF71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A3C-B5C9-480D-8BD4-34AA2C48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F71-8E35-4E5A-8F35-36ECC63D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5B3-1C1E-44A4-BFF2-4AFFDDAD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6D9-967F-4184-851C-C15661F8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550-16D7-4D9F-8656-0F13A203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151-A7F9-4114-AFF0-6BA7645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58A-D751-4729-A074-E9646D1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1B68-A2D5-4167-9D18-CC339BAD92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047E-D78D-4983-8D96-CF2425A8E718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85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cc"/>
                </a:solidFill>
                <a:latin typeface="Blackadder ITC"/>
              </a:rPr>
              <a:t>Особо охраняемые природные территори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56760" y="2142720"/>
            <a:ext cx="82155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ffff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adffff"/>
                </a:solidFill>
                <a:latin typeface="Verdana"/>
              </a:rPr>
              <a:t>это природные комплексы и объекты, исключенные полностью или частично из хозяйственного пользования в целях их сохранения, а так же из-за особой научной, учебно-просветительской, эстетической, исторической и реакционной ценности</a:t>
            </a:r>
            <a:r>
              <a:rPr b="0" lang="ru-RU" sz="3200" spc="-1" strike="noStrike">
                <a:solidFill>
                  <a:srgbClr val="ad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амятники прир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5840" y="1599840"/>
            <a:ext cx="8572320" cy="4530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Это уникальные или типичные, ценные в научном, культурном  и оздоровительным отношения природные объекты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озера, водопады, поймы рек, пещеры, рощи редких деревьев, участки целинных степей, уникальные деревья, минеральные источники, метеоритные кратеры, редкие геологические отложения, эталонные участки месторождений полезных ископаемых и д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аратовская обла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нашей области имеются: 1 национальный парк (Хвалынский), 26 заказников, 118 памятников природы регионального знач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drawingml/2006/table">
            <a:tbl>
              <a:tblPr/>
              <a:tblGrid>
                <a:gridCol w="2786040"/>
                <a:gridCol w="2421000"/>
                <a:gridCol w="393696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8c8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8c8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район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8c8c8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. Дубрав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алини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. Дьяковский лес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раснокут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. Перелюб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Перелюб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. Ози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Ози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5. Алексее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алак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6. Алексеевские дачи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азарно-Карабулак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7. Алмаз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алаш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8. Аркадак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Аркадак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. Банновское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расноармей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0. Сад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расноармей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1. Барбали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Хвалы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2. Духовниц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Духовниц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3. Елша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Воскресе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4. Михайл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Воскресе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5. Кошеле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Воскресе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6. Змейк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Ивантее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7. Журавлих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Ивантее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8. Затон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Аткар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. Колт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Маркс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0. Чёрные вод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Маркс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1. Макар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Ртище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2. Черкасский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Воль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3. Сосновобор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алтай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4. Ягоднополян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78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Татищевский, Петро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5. Моховое болото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8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Новобурас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bebeb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6. Тюльпанная степь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6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Пугачёв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Закат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езентацию выполни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619280" y="3284640"/>
            <a:ext cx="6264360" cy="1800360"/>
          </a:xfrm>
          <a:prstGeom prst="rect">
            <a:avLst/>
          </a:prstGeom>
          <a:solidFill>
            <a:srgbClr val="0000ff"/>
          </a:solidFill>
          <a:ln cap="rnd" w="2635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УЧЕНИ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”A”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 КЛАСС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МОУ СОШ №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Зиновьев Алекс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Прир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ff"/>
                </a:solidFill>
                <a:uFillTx/>
                <a:latin typeface="Arial"/>
              </a:rPr>
              <a:t>Природные особо охраняемые территории</a:t>
            </a: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ЗАПОВЕДНИ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ЗАКАЗНИ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НАЦИОНАЛЬНЫЕ ПАР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ПРИРОДНЫЕ ПАР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ПАМЯТНИКИ ПРИРОД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ЛЕСОПАРКОВЫЙ ЗАЩИТНЫЙ ПОЯ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ПРИГОРОДНАЯ ЗЕЛЕНАЯ ЗО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716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716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716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716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716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16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716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Абстракция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071360"/>
            <a:ext cx="8229600" cy="54291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dffff"/>
                </a:solidFill>
                <a:latin typeface="Verdana"/>
              </a:rPr>
              <a:t>Природная территория, полностью исключенная из хозяйственного пользования для охраны и изучения природного комплекса  в целом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59"/>
                </a:solidFill>
                <a:latin typeface="Verdana"/>
              </a:rPr>
              <a:t>В заповедниках запрещены любые виды хозяйственной деятельности. Нельзя даже собирать грибы, ягоды и раст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dffff"/>
                </a:solidFill>
                <a:latin typeface="Verdana"/>
              </a:rPr>
              <a:t>Комплексные заповедники создаются для охраны природного комплекса как эталона природы. Специальные созданы для охраны отдельных компонентов природы: водных объектов, форм рельефа, горных пород и минералов, редких и исчезающих растений и животны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59"/>
                </a:solidFill>
                <a:latin typeface="Verdana"/>
              </a:rPr>
              <a:t>Биосферные заповедники отличаются тем, что на их территории производится постоянное слежение-мониторинг и контроль за антропогенными изменениями природной сред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14200" y="214200"/>
          <a:ext cx="8786880" cy="6429600"/>
        </p:xfrm>
        <a:graphic>
          <a:graphicData uri="http://schemas.openxmlformats.org/drawingml/2006/table">
            <a:tbl>
              <a:tblPr/>
              <a:tblGrid>
                <a:gridCol w="3643560"/>
                <a:gridCol w="2000160"/>
                <a:gridCol w="314316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Природные зоны равнин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6ff"/>
                          </a:solidFill>
                          <a:latin typeface="Verdana"/>
                        </a:rPr>
                        <a:t>Примеры заповедник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Арктически пустыни, тундры и лесотундр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ольшой Арктический, Таймырск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Лесная зон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2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Центральносибирский, Мордовский, Кижи и др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Лесостепи и степ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Воронежский, Хоперский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Пустыни и полупустын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Астраханский, часть Каспия (морской)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Северный Кавка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авказский, Тебердинск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Урал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Ильменский, Басеги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Средняя и Северо-Восточная Сибирь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Путоранский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Горы Южной Сибир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Байкальский, Сохондинский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Дальний восто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1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Итого 9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Кроноцкий, Корякский и др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 spd="slow"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42920" y="1071720"/>
            <a:ext cx="878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оля заповедников должна быть не менее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% от общей площади страны: только при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ом условии возможно сохранени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ироды, обеспечение её устойчивого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вити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Японии – 5%, Великобритании – 4%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хии и Словакии – 3,5%, США – 2,5%,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Швеции – 1,5%, России – 1,5% (</a:t>
            </a:r>
            <a:r>
              <a:rPr b="0" i="1" lang="ru-RU" sz="2400" spc="-1" strike="noStrike">
                <a:solidFill>
                  <a:srgbClr val="eaeaea"/>
                </a:solidFill>
                <a:latin typeface="Sylfaen"/>
              </a:rPr>
              <a:t>это превышает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Sylfaen"/>
              </a:rPr>
              <a:t>     </a:t>
            </a:r>
            <a:r>
              <a:rPr b="0" i="1" lang="ru-RU" sz="2400" spc="-1" strike="noStrike">
                <a:solidFill>
                  <a:srgbClr val="eaeaea"/>
                </a:solidFill>
                <a:latin typeface="Sylfaen"/>
              </a:rPr>
              <a:t>территории Белоруссии, Латвии и Эстонии, вместе взят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аказник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14240" y="1785600"/>
            <a:ext cx="77155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храняемые объекты с менее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трогим режимом. В них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ешаются те виды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хозяйственной деятельности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торые не наносят вред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храняемым объекта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500720" y="2214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cc"/>
                </a:solidFill>
                <a:latin typeface="Arial"/>
              </a:rPr>
              <a:t>Национальный пар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solidFill>
            <a:srgbClr val="ffffff"/>
          </a:solidFill>
          <a:ln w="149400">
            <a:solidFill>
              <a:srgbClr val="ff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855b"/>
                </a:solidFill>
                <a:latin typeface="Verdana"/>
              </a:rPr>
              <a:t>Это территория или акватория с малонарушенными природными комплексами и уникальными природными объекта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855b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5e855b"/>
                </a:solidFill>
                <a:latin typeface="Verdana"/>
              </a:rPr>
              <a:t>Национальные парки сочетают в себе задачи охраны природы и строго контролируемого реакционного пользования, </a:t>
            </a:r>
            <a:r>
              <a:rPr b="0" lang="ru-RU" sz="2400" spc="-1" strike="noStrike" u="sng">
                <a:solidFill>
                  <a:srgbClr val="5e855b"/>
                </a:solidFill>
                <a:uFillTx/>
                <a:latin typeface="Verdana"/>
              </a:rPr>
              <a:t>т. е. они открыты для познавательного туризма и кратковременного отдыха граждан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e855b"/>
                </a:solidFill>
                <a:latin typeface="Verdana"/>
              </a:rPr>
              <a:t>В России – 34 национальных пар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19:09Z</dcterms:created>
  <dc:creator>Zver</dc:creator>
  <dc:description/>
  <dc:language>en-US</dc:language>
  <cp:lastModifiedBy>Александр</cp:lastModifiedBy>
  <dcterms:modified xsi:type="dcterms:W3CDTF">2009-05-21T16:35:31Z</dcterms:modified>
  <cp:revision>22</cp:revision>
  <dc:subject/>
  <dc:title>Особо охраняемые природные территории</dc:title>
</cp:coreProperties>
</file>