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0FB9-57AF-4131-AA9C-82D2963CE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D2F3-BC5C-4DB5-98E9-7B493F033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F516-BD61-4B2D-96B2-725AF1726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EFB6-6B96-4458-8E04-E3211CA39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B4A5C-D56C-4103-86FE-BD9F94379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45EA0-4E9A-4D84-99DC-9CDD91CA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FCD8A-6ADF-4C55-B2EF-D5CE5F997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EBD96-70B2-4054-B4E6-1E84B5FCD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7FED4-F17B-4156-B90A-978C1049B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7AD65-74D5-4D72-A29D-FC7894289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52CCD-5101-447B-A758-33BFB0F9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3728-3224-4465-A456-5EEE6F87C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CC17D-EE64-4566-91FF-4039DCB7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F215D-AB70-4750-A525-6A16CE59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8FE26-2452-40CC-B108-AC25AF5B8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4ED44-58D0-42D6-9B1C-17D8DFB66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3BD2A-BAF5-4178-81DB-B9F60759A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A99D-8227-4F10-8786-A46C8A2CB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29B5-7043-41F0-BA23-2E34EF641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6E62-4D5B-4C02-A839-169793630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2C43-B507-4C86-86A0-8E80F836D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F277-01A8-40CD-AF42-D3C8201B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7174-1A6B-4F15-BE8F-7DEC87FE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2D3B-4A0B-464A-9FCB-94B7B985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AF380-9E25-45A5-A186-A528C96C815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0430B-97A0-4964-A720-E5F354E423CF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1280" y="2858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ffffcc"/>
                </a:solidFill>
                <a:latin typeface="Blackadder ITC"/>
              </a:rPr>
              <a:t>Особо охраняемые природные территории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56760" y="2142720"/>
            <a:ext cx="821556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dffff"/>
                </a:solidFill>
                <a:latin typeface="Verdana"/>
              </a:rPr>
              <a:t>– </a:t>
            </a:r>
            <a:r>
              <a:rPr b="1" lang="ru-RU" sz="3200" spc="-1" strike="noStrike">
                <a:solidFill>
                  <a:srgbClr val="adffff"/>
                </a:solidFill>
                <a:latin typeface="Verdana"/>
              </a:rPr>
              <a:t>это природные комплексы и объекты, исключенные полностью или частично из хозяйственного пользования в целях их сохранения, а так же из-за особой научной, учебно-просветительской, эстетической, исторической и реакционной ценности</a:t>
            </a:r>
            <a:r>
              <a:rPr b="0" lang="ru-RU" sz="3200" spc="-1" strike="noStrike">
                <a:solidFill>
                  <a:srgbClr val="ad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амятники природ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85840" y="1599840"/>
            <a:ext cx="8572320" cy="4530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Это уникальные или типичные, ценные в научном, культурном  и оздоровительным отношения природные объекты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: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 озера, водопады, поймы рек, пещеры, рощи редких деревьев, участки целинных степей, уникальные деревья, минеральные источники, метеоритные кратеры, редкие геологические отложения, эталонные участки месторождений полезных ископаемых и др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wedge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44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аратовская область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213920"/>
            <a:ext cx="822960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 нашей области имеются: 1 национальный парк (Хвалынский), 26 заказников, 118 памятников природы регионального значения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0" y="0"/>
          <a:ext cx="9144000" cy="6934320"/>
        </p:xfrm>
        <a:graphic>
          <a:graphicData uri="http://schemas.openxmlformats.org/drawingml/2006/table">
            <a:tbl>
              <a:tblPr/>
              <a:tblGrid>
                <a:gridCol w="2786040"/>
                <a:gridCol w="2421000"/>
                <a:gridCol w="3936960"/>
              </a:tblGrid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название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8c8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год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8c8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район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8c8c8"/>
                    </a:solidFill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. Дубрава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987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Калининск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bebeb"/>
                    </a:solidFill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2. Дьяковский лес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964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Краснокутск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5f5f5"/>
                    </a:solidFill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3. Перелюбск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986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Перелюбск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bebeb"/>
                    </a:solidFill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4. Озинск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986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Озинск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5f5f5"/>
                    </a:solidFill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5. Алексеевск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986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Балаковск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bebeb"/>
                    </a:solidFill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6. Алексеевские дачи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971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Базарно-Карабулакск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5f5f5"/>
                    </a:solidFill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7. Алмазовск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987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Балашовск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bebeb"/>
                    </a:solidFill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8. Аркадакск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969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Аркадакск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5f5f5"/>
                    </a:solidFill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9. Банновское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987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Красноармейск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bebeb"/>
                    </a:solidFill>
                  </a:tcPr>
                </a:tc>
              </a:tr>
              <a:tr h="25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0. Садовск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971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Красноармейск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5f5f5"/>
                    </a:solidFill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1. Барбалинск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973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Хвалынск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bebeb"/>
                    </a:solidFill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2. Духовницк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986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Духовницк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5f5f5"/>
                    </a:solidFill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3. Елшанск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972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Воскресенск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bebeb"/>
                    </a:solidFill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4. Михайловск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975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Воскресенск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5f5f5"/>
                    </a:solidFill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5. Кошелевск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977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Воскресенск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bebeb"/>
                    </a:solidFill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6. Змейка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977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Ивантеевск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5f5f5"/>
                    </a:solidFill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7. Журавлиха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977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Ивантеевск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bebeb"/>
                    </a:solidFill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8. Затон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964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Аткарск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5f5f5"/>
                    </a:solidFill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9. Колтовск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977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Марксовск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bebeb"/>
                    </a:solidFill>
                  </a:tcPr>
                </a:tc>
              </a:tr>
              <a:tr h="25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20. Чёрные воды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964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Марксовск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5f5f5"/>
                    </a:solidFill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21. Макаровск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969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Ртищевск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bebeb"/>
                    </a:solidFill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22. Черкасский 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967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Вольск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5f5f5"/>
                    </a:solidFill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23. Сосновоборск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980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Балтайск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bebeb"/>
                    </a:solidFill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24. Ягоднополянск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978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Татищевский, Петровск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5f5f5"/>
                    </a:solidFill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25. Моховое болото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986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Новобурасск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bebeb"/>
                    </a:solidFill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26. Тюльпанная степь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967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Пугачёвск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5f5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9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Закат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резентацию выполнил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619280" y="3284640"/>
            <a:ext cx="6264360" cy="1800360"/>
          </a:xfrm>
          <a:prstGeom prst="rect">
            <a:avLst/>
          </a:prstGeom>
          <a:solidFill>
            <a:srgbClr val="0000ff"/>
          </a:solidFill>
          <a:ln cap="rnd" w="26352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Verdana"/>
              </a:rPr>
              <a:t>УЧЕНИК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Verdana"/>
              </a:rPr>
              <a:t>8</a:t>
            </a:r>
            <a:r>
              <a:rPr b="0" lang="en-US" sz="2800" spc="-1" strike="noStrike">
                <a:solidFill>
                  <a:srgbClr val="cc0000"/>
                </a:solidFill>
                <a:latin typeface="Verdana"/>
              </a:rPr>
              <a:t>”A”</a:t>
            </a:r>
            <a:r>
              <a:rPr b="0" lang="ru-RU" sz="2800" spc="-1" strike="noStrike">
                <a:solidFill>
                  <a:srgbClr val="cc0000"/>
                </a:solidFill>
                <a:latin typeface="Verdana"/>
              </a:rPr>
              <a:t> КЛАСС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Verdana"/>
              </a:rPr>
              <a:t>МОУ СОШ №7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Verdana"/>
              </a:rPr>
              <a:t>Зиновьев Алексей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Природа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66ff"/>
                </a:solidFill>
                <a:uFillTx/>
                <a:latin typeface="Arial"/>
              </a:rPr>
              <a:t>Природные особо охраняемые территории</a:t>
            </a:r>
            <a:r>
              <a:rPr b="1" lang="en-US" sz="4000" spc="-1" strike="noStrike" u="sng">
                <a:solidFill>
                  <a:srgbClr val="0066ff"/>
                </a:solidFill>
                <a:uFillTx/>
                <a:latin typeface="Arial"/>
              </a:rPr>
              <a:t>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a8456"/>
                </a:solidFill>
                <a:latin typeface="Verdana"/>
              </a:rPr>
              <a:t>ЗАПОВЕДНИК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a8456"/>
                </a:solidFill>
                <a:latin typeface="Verdana"/>
              </a:rPr>
              <a:t>ЗАКАЗНИК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a8456"/>
                </a:solidFill>
                <a:latin typeface="Verdana"/>
              </a:rPr>
              <a:t>НАЦИОНАЛЬНЫЕ ПАРК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a8456"/>
                </a:solidFill>
                <a:latin typeface="Verdana"/>
              </a:rPr>
              <a:t>ПРИРОДНЫЕ ПАРК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a8456"/>
                </a:solidFill>
                <a:latin typeface="Verdana"/>
              </a:rPr>
              <a:t>ПАМЯТНИКИ ПРИРОДЫ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a8456"/>
                </a:solidFill>
                <a:latin typeface="Verdana"/>
              </a:rPr>
              <a:t>ЛЕСОПАРКОВЫЙ ЗАЩИТНЫЙ ПОЯС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a8456"/>
                </a:solidFill>
                <a:latin typeface="Verdana"/>
              </a:rPr>
              <a:t>ПРИГОРОДНАЯ ЗЕЛЕНАЯ ЗОН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newsflash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716"/>
                            </p:stCondLst>
                            <p:childTnLst>
                              <p:par>
                                <p:cTn id="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98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716"/>
                            </p:stCondLst>
                            <p:childTnLst>
                              <p:par>
                                <p:cTn id="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98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7716"/>
                            </p:stCondLst>
                            <p:childTnLst>
                              <p:par>
                                <p:cTn id="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8716"/>
                            </p:stCondLst>
                            <p:childTnLst>
                              <p:par>
                                <p:cTn id="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98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9716"/>
                            </p:stCondLst>
                            <p:childTnLst>
                              <p:par>
                                <p:cTn id="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98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716"/>
                            </p:stCondLst>
                            <p:childTnLst>
                              <p:par>
                                <p:cTn id="5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98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1716"/>
                            </p:stCondLst>
                            <p:childTnLst>
                              <p:par>
                                <p:cTn id="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98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Абстракция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ОВЕДНИК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8360" y="1071360"/>
            <a:ext cx="8229600" cy="542916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dffff"/>
                </a:solidFill>
                <a:latin typeface="Verdana"/>
              </a:rPr>
              <a:t>Природная территория, полностью исключенная из хозяйственного пользования для охраны и изучения природного комплекса  в целом 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59"/>
                </a:solidFill>
                <a:latin typeface="Verdana"/>
              </a:rPr>
              <a:t>В заповедниках запрещены любые виды хозяйственной деятельности. Нельзя даже собирать грибы, ягоды и растения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dffff"/>
                </a:solidFill>
                <a:latin typeface="Verdana"/>
              </a:rPr>
              <a:t>Комплексные заповедники создаются для охраны природного комплекса как эталона природы. Специальные созданы для охраны отдельных компонентов природы: водных объектов, форм рельефа, горных пород и минералов, редких и исчезающих растений и животных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59"/>
                </a:solidFill>
                <a:latin typeface="Verdana"/>
              </a:rPr>
              <a:t>Биосферные заповедники отличаются тем, что на их территории производится постоянное слежение-мониторинг и контроль за антропогенными изменениями природной среды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pull dir="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9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000"/>
                            </p:stCondLst>
                            <p:childTnLst>
                              <p:par>
                                <p:cTn id="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214200" y="214200"/>
          <a:ext cx="8786880" cy="6429600"/>
        </p:xfrm>
        <a:graphic>
          <a:graphicData uri="http://schemas.openxmlformats.org/drawingml/2006/table">
            <a:tbl>
              <a:tblPr/>
              <a:tblGrid>
                <a:gridCol w="3643560"/>
                <a:gridCol w="2000160"/>
                <a:gridCol w="3143160"/>
              </a:tblGrid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ff"/>
                          </a:solidFill>
                          <a:latin typeface="Verdana"/>
                        </a:rPr>
                        <a:t>Природные зоны равнин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ff"/>
                          </a:solidFill>
                          <a:latin typeface="Verdana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66ff"/>
                          </a:solidFill>
                          <a:latin typeface="Verdana"/>
                        </a:rPr>
                        <a:t>Количество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ff"/>
                          </a:solidFill>
                          <a:latin typeface="Verdana"/>
                        </a:rPr>
                        <a:t>Примеры заповедников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90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Арктически пустыни, тундры и лесотундры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Большой Арктический, Таймырский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90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Лесная зона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24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Центральносибирский, Мордовский, Кижи и др.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63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Лесостепи и степ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Воронежский, Хоперский и др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Пустыни и полупустын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Астраханский, часть Каспия (морской) и др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Северный Кавказ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4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Кавказский, Тебердинский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и др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Урал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9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Ильменский, Басеги и др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63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Средняя и Северо-Восточная Сибирь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Путоранский и др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Горы Южной Сибир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Байкальский, Сохондинский и др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Дальний восток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9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Итого 9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Кроноцкий, Корякский и др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 spd="slow">
    <p:randomBar dir="ver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9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1"/>
          <p:cNvSpPr/>
          <p:nvPr/>
        </p:nvSpPr>
        <p:spPr>
          <a:xfrm>
            <a:off x="142920" y="1071720"/>
            <a:ext cx="8786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Доля заповедников должна быть не менее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3% от общей площади страны: только при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таком условии возможно сохранение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рироды, обеспечение её устойчивого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развития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 Японии – 5%, Великобритании – 4%,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Чехии и Словакии – 3,5%, США – 2,5%,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Швеции – 1,5%, России – 1,5% (</a:t>
            </a:r>
            <a:r>
              <a:rPr b="0" i="1" lang="ru-RU" sz="2400" spc="-1" strike="noStrike">
                <a:solidFill>
                  <a:srgbClr val="eaeaea"/>
                </a:solidFill>
                <a:latin typeface="Sylfaen"/>
              </a:rPr>
              <a:t>это превышает 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aeaea"/>
                </a:solidFill>
                <a:latin typeface="Sylfaen"/>
              </a:rPr>
              <a:t>     </a:t>
            </a:r>
            <a:r>
              <a:rPr b="0" i="1" lang="ru-RU" sz="2400" spc="-1" strike="noStrike">
                <a:solidFill>
                  <a:srgbClr val="eaeaea"/>
                </a:solidFill>
                <a:latin typeface="Sylfaen"/>
              </a:rPr>
              <a:t>территории Белоруссии, Латвии и Эстонии, вместе взятых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заказники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714240" y="1785600"/>
            <a:ext cx="771552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охраняемые объекты с менее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строгим режимом. В них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азрешаются те виды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хозяйственной деятельности,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которые не наносят вреда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охраняемым объектам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4500720" y="221472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cc"/>
                </a:solidFill>
                <a:latin typeface="Arial"/>
              </a:rPr>
              <a:t>Национальный парк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043520"/>
          </a:xfrm>
          <a:prstGeom prst="rect">
            <a:avLst/>
          </a:prstGeom>
          <a:solidFill>
            <a:srgbClr val="ffffff"/>
          </a:solidFill>
          <a:ln w="149400">
            <a:solidFill>
              <a:srgbClr val="ff00ff"/>
            </a:solidFill>
            <a:prstDash val="sysDot"/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e855b"/>
                </a:solidFill>
                <a:latin typeface="Verdana"/>
              </a:rPr>
              <a:t>Это территория или акватория с малонарушенными природными комплексами и уникальными природными объектами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e855b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5e855b"/>
                </a:solidFill>
                <a:latin typeface="Verdana"/>
              </a:rPr>
              <a:t>Национальные парки сочетают в себе задачи охраны природы и строго контролируемого реакционного пользования, </a:t>
            </a:r>
            <a:r>
              <a:rPr b="0" lang="ru-RU" sz="2400" spc="-1" strike="noStrike" u="sng">
                <a:solidFill>
                  <a:srgbClr val="5e855b"/>
                </a:solidFill>
                <a:uFillTx/>
                <a:latin typeface="Verdana"/>
              </a:rPr>
              <a:t>т. е. они открыты для познавательного туризма и кратковременного отдыха граждан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e855b"/>
                </a:solidFill>
                <a:latin typeface="Verdana"/>
              </a:rPr>
              <a:t>В России – 34 национальных парк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wheel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21:19:09Z</dcterms:created>
  <dc:creator>Zver</dc:creator>
  <dc:description/>
  <dc:language>en-US</dc:language>
  <cp:lastModifiedBy>Александр</cp:lastModifiedBy>
  <dcterms:modified xsi:type="dcterms:W3CDTF">2009-05-21T16:35:31Z</dcterms:modified>
  <cp:revision>22</cp:revision>
  <dc:subject/>
  <dc:title>Особо охраняемые природные территории</dc:title>
</cp:coreProperties>
</file>