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27.jpeg" ContentType="image/jpeg"/>
  <Override PartName="/ppt/media/image13.wmf" ContentType="image/x-wmf"/>
  <Override PartName="/ppt/media/image8.wmf" ContentType="image/x-wmf"/>
  <Override PartName="/ppt/media/image9.wmf" ContentType="image/x-wmf"/>
  <Override PartName="/ppt/media/image29.jpeg" ContentType="image/jpeg"/>
  <Override PartName="/ppt/media/image3.wmf" ContentType="image/x-wmf"/>
  <Override PartName="/ppt/media/image26.wmf" ContentType="image/x-wmf"/>
  <Override PartName="/ppt/media/image4.png" ContentType="image/png"/>
  <Override PartName="/ppt/media/image12.wmf" ContentType="image/x-wmf"/>
  <Override PartName="/ppt/media/image30.jpeg" ContentType="image/jpeg"/>
  <Override PartName="/ppt/media/image25.wmf" ContentType="image/x-wmf"/>
  <Override PartName="/ppt/media/image7.jpeg" ContentType="image/jpeg"/>
  <Override PartName="/ppt/media/image1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8.jpeg" ContentType="image/jpeg"/>
  <Override PartName="/ppt/media/image2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42D0-9AF8-4DAF-A4FB-D52AC5DA6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C0CA-758F-4959-9839-03E00981A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C7CD-48D3-47E3-95D8-9E360470C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4C35-00C7-4383-8C36-A9CBC430E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52A1F-70B5-452C-A571-44AD96181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948F5-F522-43AE-842E-9A53A34EF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3F2FD-15F3-4CE1-AF64-4E1C4E141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BC389-D274-4143-B968-5D28C8B9F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9C308-B71D-4888-9E3F-9CD273E47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E9696-D301-48FB-AC95-8F29C94E1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4AD03-0EEE-4E69-AC2F-5EB3A27A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90A3-F297-46C1-B591-5DBE363FA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F97C9-6A02-4C02-9840-30AA2DFB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C3268-CCB5-4368-8E72-E717AB78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CC3AA-FB91-4B52-B5A9-02DB52DA5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E13B2-3526-46DF-9B3F-B2DB5CF18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2D5BB-1B8A-4CE3-8710-78133311C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4D5A-97DB-48FA-8AA4-4771F232E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DEE6-936B-41D4-8143-131EEF056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7825-9E48-4B16-99CB-6589EF492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070D-4EEC-4947-8E3C-2B914F5EE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E1BD-C878-4C75-AB52-5D4DA0E6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F86C-EA3E-4F00-B521-E282C986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C19A-DB8D-4516-93EE-E2CAE3F1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d572d"/>
                </a:gs>
                <a:gs pos="100000">
                  <a:srgbClr val="00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2d572d"/>
                </a:gs>
                <a:gs pos="100000">
                  <a:srgbClr val="00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9143B-85CF-4401-AB32-D439ED4237F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d572d"/>
                </a:gs>
                <a:gs pos="100000">
                  <a:srgbClr val="00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2d572d"/>
                </a:gs>
                <a:gs pos="100000">
                  <a:srgbClr val="00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99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26969-B99A-4940-A8EF-E72F4F0A6BC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27c3a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99"/>
                </a:solidFill>
                <a:latin typeface="Arial"/>
              </a:rPr>
              <a:t>Определение хронотипов у учащихся старших классов Степуринской СОШ</a:t>
            </a:r>
            <a:endParaRPr b="0" lang="en-US" sz="48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полнила: Комлева Кс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 клас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уководитель: Золотова М.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329600" y="5329080"/>
            <a:ext cx="1814400" cy="15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).Ход работ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чащиеся на уроках отвечали на вопросы опросника-тест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).Оценка результат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хема оценки хронобиологического типа человека по опроснику-тест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«Жаворонок» - 59 баллов и боле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«Голубь» - 42-58 балл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«Сова» - 41 балл и мене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916360" y="333360"/>
            <a:ext cx="2400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2 метод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95280" y="907920"/>
            <a:ext cx="79725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(тест "Голубь,сова или жаворонок?")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>
            <a:off x="6804000" y="4437000"/>
            <a:ext cx="1474920" cy="18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900000" y="189000"/>
            <a:ext cx="7344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езультаты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739800" y="1566720"/>
          <a:ext cx="7831080" cy="505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800" y="1566720"/>
                    <a:ext cx="7831080" cy="505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569880" y="249120"/>
          <a:ext cx="8039160" cy="635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9880" y="249120"/>
                    <a:ext cx="8039160" cy="635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561960" y="241200"/>
          <a:ext cx="8115480" cy="628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1960" y="241200"/>
                    <a:ext cx="8115480" cy="628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477720" y="243000"/>
          <a:ext cx="8296560" cy="634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720" y="243000"/>
                    <a:ext cx="8296560" cy="63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).Ход работ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чащиеся на уроках отвечали на вопросы опросника-тест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).Оценка результат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хема определения хронотипа человека по опроснику-тест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«Жаворонок» - 20 баллов и мене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«Голубь» - 21-27 балл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«Сова» - 28 баллов и боле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6904080" y="4734000"/>
            <a:ext cx="1811160" cy="12459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179280" y="549360"/>
            <a:ext cx="8734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3 методика(тест "Сова или жаворонок?"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755640" y="0"/>
            <a:ext cx="806436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езультаты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558720" y="1247760"/>
          <a:ext cx="8121600" cy="54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247760"/>
                    <a:ext cx="8121600" cy="54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430200" y="225360"/>
          <a:ext cx="8391600" cy="624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200" y="225360"/>
                    <a:ext cx="839160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"/>
          <p:cNvGraphicFramePr/>
          <p:nvPr/>
        </p:nvGraphicFramePr>
        <p:xfrm>
          <a:off x="352440" y="231840"/>
          <a:ext cx="8534520" cy="634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2440" y="231840"/>
                    <a:ext cx="8534520" cy="63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272880" y="331920"/>
          <a:ext cx="8479080" cy="619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2880" y="331920"/>
                    <a:ext cx="847908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0" y="169992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рудно найти человека, который не слышал о «совах» и «жаворонках», то есть о людях, представляющих два разных хронотипа, или точнее, два разных типа суточного ритма: один с ранним, а другой с поздним пиком работоспособности. Попробуем рассмотреть разные типы и индивидуальные черты суточных ритмов челове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635280" y="620640"/>
            <a:ext cx="1847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ведение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6948360" y="4581360"/>
            <a:ext cx="1952640" cy="207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реди старшеклассников (8-11 класс) 7 «жаворонков»,4 «совы»,26 «голубей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чащимся было предложено описать свое состояние после подъема. Оказалось, что «жаворонки» просыпаются рано, чувствуют себя бодрыми и работоспособными в первой половине дня. Это наблюдается в школе. На первых уроках они отвечают и работают намного активнее, чем «совы»,которые на первых уроках сонные, ведут себя неактивно. Вечером у «жаворонков» появляется сонливость и они рано ложатся спать.«Совы» засыпают поздно ночью, встают поздно утром и работоспособны во второй половине дня. «Голуби» занимают промежуточное положение между ними, но все же ближе к «жаворонкам».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484360" y="333360"/>
            <a:ext cx="33242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бщие выводы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7451640" y="189000"/>
            <a:ext cx="1384560" cy="141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ыяснив свой хронотип, необходимо так планировать дневной график, чтобы с высшей интенсивностью трудиться в часы «пик». И, наоборот, не напрягать свой организм мощными физическими или интеллектуальными нагрузками в тот период, когда главные показатели(пульс, температура) понижаются до минимума. Как правило, у «сов» эта пора наименьшей работоспособности падает на 7-10 часов утра, у «жаворонков» она приходится на 7 часов вечера. В такое время организм функционирует в режиме отдыха, совершенно не готов к затрате сил. Ничего, кроме переутомления, работа в эти часы не дает. Соблюдение биоритмов – одно из способов сохранить свое здоровь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59280" y="476280"/>
            <a:ext cx="3028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комендаци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7667640" y="5805360"/>
            <a:ext cx="912960" cy="77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иоритмы организма – суточные, месячные, годовые практически остались неизменными с первобытных времен и не могут угнаться за ритмами современной жизни. У каждого человека в течение суток четко прослеживаются пики и спады важнейших жизненных систем. Важнейшие биоритмы могут быть зафиксированы в хронограммах. Основными показателями в них служат температура тела, пульс, частота дыхания в покое и др. Знание хронобиологического типа позволяет выявить опасности заболевания, организовать свою деятельность в соответствии с возможностями организма, избежать срывов в его работ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419640" y="476280"/>
            <a:ext cx="234288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аключени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7812000" y="5516640"/>
            <a:ext cx="919080" cy="88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476360" y="557280"/>
            <a:ext cx="6191280" cy="574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238400" y="976320"/>
            <a:ext cx="6667200" cy="49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851280" y="4437000"/>
            <a:ext cx="44575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4892760" cy="360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250920" y="155700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зучить состояние эффективности работы старшеклассников в зависимости от их индивидуального хронотип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Определить индивидуальные признаки суточного хронотипа учащихс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Дать оценку полученным результатам и сформировать рекомендации по составлению школьного режим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987640" y="476280"/>
            <a:ext cx="29336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Цель работы: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195640" y="3141720"/>
            <a:ext cx="482904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чи исследования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7812000" y="505296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2268360" y="404640"/>
            <a:ext cx="50292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етодика исследовани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атериал работы собран на основе результатов трёх тестов и справочной литератур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сследование состояло из двух этапов. На первом этапе проходило изучение справочной литературы. На втором этапе исследования определялся суточный хронотип учащихся с использованием трёх методик: теста Хольдебранта, теста «Голубь, сова или жаворонок?» и теста «Сова или жаворонок?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443640" y="5132520"/>
            <a:ext cx="1825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).Ход работ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 учащихся при температурном и физическом комфорте, в положении сидя  была определена за одну минуту ЧСС(частота сердечных сокращений) и ЧД(частота дыхания).ПоказательЧСС разделили на показатель ЧД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).Оценка результатов: если полученный параметр соответствует 4,0-5,0, то испытуемого относят к аритмикам, если превышает 5,0 – к «жаворонкам», если меньше 4,0 – к «совам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476360" y="476280"/>
            <a:ext cx="6723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1 методика(тест Хольдебранта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7308720" y="4869000"/>
            <a:ext cx="113832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6840" y="1557360"/>
            <a:ext cx="82184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403280" y="189000"/>
            <a:ext cx="626580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езультаты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84360" y="1268280"/>
          <a:ext cx="7848360" cy="52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268280"/>
                    <a:ext cx="7848360" cy="52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652320" y="415800"/>
          <a:ext cx="802656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2320" y="415800"/>
                    <a:ext cx="802656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0" y="260280"/>
          <a:ext cx="8893080" cy="659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0280"/>
                    <a:ext cx="8893080" cy="659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819000" y="474840"/>
          <a:ext cx="7658280" cy="589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9000" y="474840"/>
                    <a:ext cx="7658280" cy="58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8T15:42:43Z</dcterms:created>
  <dc:creator>пользователь</dc:creator>
  <dc:description/>
  <dc:language>en-US</dc:language>
  <cp:lastModifiedBy>333</cp:lastModifiedBy>
  <dcterms:modified xsi:type="dcterms:W3CDTF">2008-04-23T20:02:48Z</dcterms:modified>
  <cp:revision>24</cp:revision>
  <dc:subject/>
  <dc:title>Определение хронотипов у учащихся старших классов Степуринской СОШ</dc:title>
</cp:coreProperties>
</file>