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4.png" ContentType="image/png"/>
  <Override PartName="/ppt/media/image12.wmf" ContentType="image/x-wmf"/>
  <Override PartName="/ppt/media/image30.jpeg" ContentType="image/jpeg"/>
  <Override PartName="/ppt/media/image25.wmf" ContentType="image/x-wmf"/>
  <Override PartName="/ppt/media/image7.jpeg" ContentType="image/jpeg"/>
  <Override PartName="/ppt/media/image1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8.jpeg" ContentType="image/jpeg"/>
  <Override PartName="/ppt/media/image2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A44-60B5-40A0-9EC6-53DF87F3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967-8E06-414D-97BC-9B97791F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720-83B8-46E2-80BD-3F094CC3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191-7701-4A24-960E-41180033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C220-A958-4438-AAA4-91761BB2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AFC2-5DF4-4BB5-BEDD-4C9C9FF9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6E79-8CB6-4FF8-A992-5C04C673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2B1B-CE86-4F7B-A2A4-3699143F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CF36-D0D2-4860-9040-B3FE36E8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1129-4A36-45BA-83F2-6B5A7200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4407-B1F5-45E8-87C3-0B2487A1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4DE-B20C-4C38-8560-E9A4E477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4797-CCA7-4527-9070-B6EC4366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0716-89BD-4374-B913-7F3CD5FE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29B0-0D27-4160-8B11-620314FF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E3A3-C275-4C1E-BDED-993C278D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81EF-34D4-4F7E-AD77-210652FB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A69-F5B2-4341-ADBC-930F1E45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D4F-B13E-488A-A540-13822263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F90-A421-4228-B723-228E769D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53E-B27D-4FB5-96EC-E312B93D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CFC-1429-472C-ADE1-D61AD46F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3C4-0055-4756-A504-9C3ADCAF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6F2-F61E-4420-A48A-5A35EBB2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61E4-804B-4DC7-A6DD-9F62498BF2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4B2D-AC32-4B13-8604-79ED51DE11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99"/>
                </a:solidFill>
                <a:latin typeface="Arial"/>
              </a:rPr>
              <a:t>Определение хронотипов у учащихся старших классов Степуринской СОШ</a:t>
            </a:r>
            <a:endParaRPr b="0" lang="en-US" sz="48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полнила: Комлева Кс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ководитель: Золотова М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29600" y="5329080"/>
            <a:ext cx="181440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.Ход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ащиеся на уроках отвечали на вопросы опросника-те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.Оценка результа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хема оценки хронобиологического типа человека по опроснику-тес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Жаворонок» - 59 баллов и бол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Голубь» - 42-58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Сова» - 41 балл и ме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916360" y="33336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2 метод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907920"/>
            <a:ext cx="7972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(тест "Голубь,сова или жаворонок?")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6804000" y="443700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00000" y="189000"/>
            <a:ext cx="734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зульта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39800" y="1566720"/>
          <a:ext cx="783108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1566720"/>
                    <a:ext cx="783108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569880" y="249120"/>
          <a:ext cx="803916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249120"/>
                    <a:ext cx="803916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561960" y="241200"/>
          <a:ext cx="8115480" cy="628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241200"/>
                    <a:ext cx="811548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77720" y="243000"/>
          <a:ext cx="8296560" cy="63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43000"/>
                    <a:ext cx="829656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.Ход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ащиеся на уроках отвечали на вопросы опросника-те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.Оценка результа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хема определения хронотипа человека по опроснику-тес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Жаворонок» - 20 баллов и ме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Голубь» - 21-27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Сова» - 28 баллов и бол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904080" y="4734000"/>
            <a:ext cx="1811160" cy="1245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79280" y="549360"/>
            <a:ext cx="8734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3 методика(тест "Сова или жаворонок?"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5640" y="0"/>
            <a:ext cx="806436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зульта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58720" y="1247760"/>
          <a:ext cx="8121600" cy="54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247760"/>
                    <a:ext cx="8121600" cy="54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30200" y="225360"/>
          <a:ext cx="839160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225360"/>
                    <a:ext cx="83916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52440" y="231840"/>
          <a:ext cx="8534520" cy="63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231840"/>
                    <a:ext cx="853452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272880" y="331920"/>
          <a:ext cx="8479080" cy="61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331920"/>
                    <a:ext cx="847908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удно найти человека, который не слышал о «совах» и «жаворонках», то есть о людях, представляющих два разных хронотипа, или точнее, два разных типа суточного ритма: один с ранним, а другой с поздним пиком работоспособности. Попробуем рассмотреть разные типы и индивидуальные черты суточных ритмов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35280" y="62064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веден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реди старшеклассников (8-11 класс) 7 «жаворонков»,4 «совы»,26 «голубе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ащимся было предложено описать свое состояние после подъема. Оказалось, что «жаворонки» просыпаются рано, чувствуют себя бодрыми и работоспособными в первой половине дня. Это наблюдается в школе. На первых уроках они отвечают и работают намного активнее, чем «совы»,которые на первых уроках сонные, ведут себя неактивно. Вечером у «жаворонков» появляется сонливость и они рано ложатся спать.«Совы» засыпают поздно ночью, встают поздно утром и работоспособны во второй половине дня. «Голуби» занимают промежуточное положение между ними, но все же ближе к «жаворонкам»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484360" y="333360"/>
            <a:ext cx="3324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щие вывод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451640" y="189000"/>
            <a:ext cx="1384560" cy="14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яснив свой хронотип, необходимо так планировать дневной график, чтобы с высшей интенсивностью трудиться в часы «пик». И, наоборот, не напрягать свой организм мощными физическими или интеллектуальными нагрузками в тот период, когда главные показатели(пульс, температура) понижаются до минимума. Как правило, у «сов» эта пора наименьшей работоспособности падает на 7-10 часов утра, у «жаворонков» она приходится на 7 часов вечера. В такое время организм функционирует в режиме отдыха, совершенно не готов к затрате сил. Ничего, кроме переутомления, работа в эти часы не дает. Соблюдение биоритмов – одно из способов сохранить свое здоровь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59280" y="476280"/>
            <a:ext cx="3028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мендаци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667640" y="5805360"/>
            <a:ext cx="912960" cy="7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иоритмы организма – суточные, месячные, годовые практически остались неизменными с первобытных времен и не могут угнаться за ритмами современной жизни. У каждого человека в течение суток четко прослеживаются пики и спады важнейших жизненных систем. Важнейшие биоритмы могут быть зафиксированы в хронограммах. Основными показателями в них служат температура тела, пульс, частота дыхания в покое и др. Знание хронобиологического типа позволяет выявить опасности заболевания, организовать свою деятельность в соответствии с возможностями организма, избежать срывов в его рабо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419640" y="476280"/>
            <a:ext cx="2342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ключ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812000" y="5516640"/>
            <a:ext cx="919080" cy="88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76360" y="557280"/>
            <a:ext cx="6191280" cy="57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38400" y="976320"/>
            <a:ext cx="6667200" cy="49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51280" y="4437000"/>
            <a:ext cx="4457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89276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ить состояние эффективности работы старшеклассников в зависимости от их индивидуального хронотип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Определить индивидуальные признаки суточного хронотипа уча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Дать оценку полученным результатам и сформировать рекомендации по составлению школьного режи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87640" y="476280"/>
            <a:ext cx="29336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 работы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95640" y="3141720"/>
            <a:ext cx="482904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чи исследова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812000" y="50529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268360" y="404640"/>
            <a:ext cx="5029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етодика исследов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териал работы собран на основе результатов трёх тестов и справочной лит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следование состояло из двух этапов. На первом этапе проходило изучение справочной литературы. На втором этапе исследования определялся суточный хронотип учащихся с использованием трёх методик: теста Хольдебранта, теста «Голубь, сова или жаворонок?» и теста «Сова или жаворонок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443640" y="5132520"/>
            <a:ext cx="1825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.Ход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учащихся при температурном и физическом комфорте, в положении сидя  была определена за одну минуту ЧСС(частота сердечных сокращений) и ЧД(частота дыхания).ПоказательЧСС разделили на показатель Ч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.Оценка результатов: если полученный параметр соответствует 4,0-5,0, то испытуемого относят к аритмикам, если превышает 5,0 – к «жаворонкам», если меньше 4,0 – к «совам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76360" y="476280"/>
            <a:ext cx="672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1 методика(тест Хольдебранта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308720" y="486900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1557360"/>
            <a:ext cx="82184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403280" y="189000"/>
            <a:ext cx="62658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зульта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1268280"/>
          <a:ext cx="7848360" cy="52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848360" cy="52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52320" y="415800"/>
          <a:ext cx="802656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415800"/>
                    <a:ext cx="802656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260280"/>
          <a:ext cx="889308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889308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819000" y="474840"/>
          <a:ext cx="7658280" cy="58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474840"/>
                    <a:ext cx="765828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5:42:43Z</dcterms:created>
  <dc:creator>пользователь</dc:creator>
  <dc:description/>
  <dc:language>en-US</dc:language>
  <cp:lastModifiedBy>333</cp:lastModifiedBy>
  <dcterms:modified xsi:type="dcterms:W3CDTF">2008-04-23T20:02:48Z</dcterms:modified>
  <cp:revision>24</cp:revision>
  <dc:subject/>
  <dc:title>Определение хронотипов у учащихся старших классов Степуринской СОШ</dc:title>
</cp:coreProperties>
</file>