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gif" ContentType="image/gif"/>
  <Override PartName="/ppt/media/image9.gif" ContentType="image/gif"/>
  <Override PartName="/ppt/media/image7.gif" ContentType="image/gif"/>
  <Override PartName="/ppt/media/image5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4EC8-92CE-41B9-B03B-C7A65D91E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A958-FE32-4552-9E95-E8A484994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5354-E8D4-461F-ABAF-92A7DB6DE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B5B0-8BA3-42EB-A859-5802C2D7C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DA58-10A3-4ED5-B950-6862A0BA5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771A-1D4C-4BB1-9D56-159EE3104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62C4-8594-4DB9-BF9B-2EFE367BB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E454-BB43-4C78-97C1-4B3EA332F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1587-8968-41F0-8F43-46ADDE84A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AACE-7095-460E-902F-D82E3121A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E48C-5475-48D1-A846-5F854C88D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FB70-F0C3-4EA3-8088-6FEC461FC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59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006b6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007a7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007a7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00767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00767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007270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007270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006e6c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006e6c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006b6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007a7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007a7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007270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00767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006b6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006b6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006b6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Monotype Corsiva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Monotype Corsiva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Monotype Corsiva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Monotype Corsiva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Monotype Corsiva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Monotype Corsiva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Monotype Corsiva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Monotype Corsiva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Monotype Corsiva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Monotype Corsiva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Monotype Corsiva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Monotype Corsiva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Monotype Corsiva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Monotype Corsiva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Monotype Corsiva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00646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Monotype Corsiva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00646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Monotype Corsiva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Monotype Corsiva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Monotype Corsiva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Monotype Corsiva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Monotype Corsiva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Monotype Corsiva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Monotype Corsiva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Monotype Corsiva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Monotype Corsiva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Monotype Corsiva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005b59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005b59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4DD4F-D474-443D-B4A6-8EAE3ACC321B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gif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4000" spc="-1" strike="noStrike">
              <a:solidFill>
                <a:srgbClr val="ffffcc"/>
              </a:solidFill>
              <a:latin typeface="Times New Roman"/>
              <a:ea typeface="Times New Roman"/>
            </a:endParaRPr>
          </a:p>
        </p:txBody>
      </p:sp>
      <p:pic>
        <p:nvPicPr>
          <p:cNvPr id="107" name="Содержимое 3" descr="j0182632.jpg"/>
          <p:cNvPicPr/>
          <p:nvPr/>
        </p:nvPicPr>
        <p:blipFill>
          <a:blip r:embed="rId1"/>
          <a:stretch/>
        </p:blipFill>
        <p:spPr>
          <a:xfrm>
            <a:off x="214200" y="2000160"/>
            <a:ext cx="3229200" cy="216864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4" descr="j0182639.jpg"/>
          <p:cNvPicPr/>
          <p:nvPr/>
        </p:nvPicPr>
        <p:blipFill>
          <a:blip r:embed="rId2"/>
          <a:stretch/>
        </p:blipFill>
        <p:spPr>
          <a:xfrm>
            <a:off x="5429160" y="1928880"/>
            <a:ext cx="3257640" cy="219852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5" descr="j0182635.jpg"/>
          <p:cNvPicPr/>
          <p:nvPr/>
        </p:nvPicPr>
        <p:blipFill>
          <a:blip r:embed="rId3"/>
          <a:stretch/>
        </p:blipFill>
        <p:spPr>
          <a:xfrm>
            <a:off x="3643200" y="4286160"/>
            <a:ext cx="1500480" cy="228456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6" descr="j0178486.jpg"/>
          <p:cNvPicPr/>
          <p:nvPr/>
        </p:nvPicPr>
        <p:blipFill>
          <a:blip r:embed="rId4"/>
          <a:stretch/>
        </p:blipFill>
        <p:spPr>
          <a:xfrm>
            <a:off x="3643200" y="1928880"/>
            <a:ext cx="1468440" cy="221436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7" descr="j0289880.jpg"/>
          <p:cNvPicPr/>
          <p:nvPr/>
        </p:nvPicPr>
        <p:blipFill>
          <a:blip r:embed="rId5"/>
          <a:stretch/>
        </p:blipFill>
        <p:spPr>
          <a:xfrm>
            <a:off x="142920" y="4286160"/>
            <a:ext cx="3313080" cy="221472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8" descr="ПТИЧКИ1.BMP"/>
          <p:cNvPicPr/>
          <p:nvPr/>
        </p:nvPicPr>
        <p:blipFill>
          <a:blip r:embed="rId6"/>
          <a:stretch/>
        </p:blipFill>
        <p:spPr>
          <a:xfrm>
            <a:off x="5429160" y="4286160"/>
            <a:ext cx="3286080" cy="225108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9" descr="J0076135.GIF"/>
          <p:cNvPicPr/>
          <p:nvPr/>
        </p:nvPicPr>
        <p:blipFill>
          <a:blip r:embed="rId7"/>
          <a:stretch/>
        </p:blipFill>
        <p:spPr>
          <a:xfrm>
            <a:off x="3564000" y="5560920"/>
            <a:ext cx="1785960" cy="1297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324000" y="333360"/>
            <a:ext cx="8543880" cy="109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ХИМИЯ В МОЕЙ БУДУЩЕЙ ПРОФЕССИИ</a:t>
            </a:r>
            <a:endParaRPr b="1" lang="en-US" sz="4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3889440" cy="41752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1476360" y="5445000"/>
            <a:ext cx="1628640" cy="72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ЫШЬЯК</a:t>
            </a:r>
            <a:endParaRPr b="0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" name=""/>
          <p:cNvSpPr/>
          <p:nvPr/>
        </p:nvSpPr>
        <p:spPr>
          <a:xfrm>
            <a:off x="5435640" y="692280"/>
            <a:ext cx="2952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Применяют в составе сплавов и для получения полупроводниковых материалов.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p:transition spd="med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032000" cy="41752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5508720" y="404640"/>
            <a:ext cx="345600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Придает, стали твердость, механическую прочность, устойчивость против ударов и трений. Из такой стали изготавливают детали дробильных установок, железнодорожные рельсы, зубья ковшей  экскаваторов.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p:transition spd="med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032000" cy="4175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1476360" y="5445000"/>
            <a:ext cx="1628640" cy="72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АРГАНЕЦ</a:t>
            </a:r>
            <a:endParaRPr b="0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" name=""/>
          <p:cNvSpPr/>
          <p:nvPr/>
        </p:nvSpPr>
        <p:spPr>
          <a:xfrm>
            <a:off x="5508720" y="404640"/>
            <a:ext cx="345600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Придает, стали твердость, механическую прочность, устойчивость против ударов и трений. Из такой стали изготавливают детали дробильных установок, железнодорожные рельсы, зубья ковшей  экскаваторов.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p:transition spd="med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248000" cy="4248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796000" y="1341360"/>
            <a:ext cx="2592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Применяется в качестве инертной среды в химических и металлургических процессах; при сварке металлов.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p:transition spd="med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248000" cy="424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1476360" y="5445000"/>
            <a:ext cx="1628640" cy="72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АЗОТ</a:t>
            </a:r>
            <a:endParaRPr b="0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2" name=""/>
          <p:cNvSpPr/>
          <p:nvPr/>
        </p:nvSpPr>
        <p:spPr>
          <a:xfrm>
            <a:off x="5796000" y="1341360"/>
            <a:ext cx="2592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Применяется в качестве инертной среды в химических и металлургических процессах; при сварке металлов.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p:transition spd="med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4464000" cy="43210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5580000" y="260280"/>
            <a:ext cx="3311640" cy="81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Используют как инертную среду для дуговой электросварки. Большие количества его применяют в дыхательных смесях для работ под давлением (например, при создании подводных тоннелей и сооружений). А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также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используют для наполнения летательных устройств.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p:transition spd="med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4464000" cy="43210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>
            <a:off x="1476360" y="5445000"/>
            <a:ext cx="1628640" cy="72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ГЕЛИЙ</a:t>
            </a:r>
            <a:endParaRPr b="0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7" name=""/>
          <p:cNvSpPr/>
          <p:nvPr/>
        </p:nvSpPr>
        <p:spPr>
          <a:xfrm>
            <a:off x="5580000" y="260280"/>
            <a:ext cx="3311640" cy="81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Используют как инертную среду для дуговой электросварки. Большие количества его применяют в дыхательных смесях для работ под давлением (например, при создании подводных тоннелей и сооружений). А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также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используют для наполнения летательных устройств.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p:transition spd="med"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68360" y="1365840"/>
            <a:ext cx="828036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Monotype Corsiva"/>
              </a:rPr>
              <a:t>Широко простирает химия руки свои в дела человеческие .</a:t>
            </a: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1" i="1" lang="ru-RU" sz="44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1" i="1" lang="ru-RU" sz="44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1" i="1" lang="ru-RU" sz="44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1" i="1" lang="ru-RU" sz="44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1" i="1" lang="ru-RU" sz="44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1" i="1" lang="ru-RU" sz="3200" spc="-1" strike="noStrike">
                <a:solidFill>
                  <a:srgbClr val="ffffff"/>
                </a:solidFill>
                <a:latin typeface="Monotype Corsiva"/>
              </a:rPr>
              <a:t>М.В. Ломоносов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p:transition spd="med"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2268360" y="1916280"/>
            <a:ext cx="4857840" cy="103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ОНКУРС КАПИТАНОВ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843280" y="4437000"/>
            <a:ext cx="403848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Down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ОНКУРС РЕБУСЫ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wheel spokes="8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752720" cy="45356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5651640" y="-28080"/>
            <a:ext cx="309708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Самый тугоплавкий металл. Придает стали твердость, жаропрочность, износоустойчивость. Применяют для изготовления быстрорежущих инструментов, пил, фрез, нитей электрических ламп.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Ромб 3"/>
          <p:cNvSpPr/>
          <p:nvPr/>
        </p:nvSpPr>
        <p:spPr>
          <a:xfrm>
            <a:off x="1571760" y="357120"/>
            <a:ext cx="5715000" cy="2428920"/>
          </a:xfrm>
          <a:prstGeom prst="diamond">
            <a:avLst/>
          </a:prstGeom>
          <a:solidFill>
            <a:srgbClr val="99ccff"/>
          </a:solidFill>
          <a:ln w="25560">
            <a:solidFill>
              <a:srgbClr val="4e5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ОМАНДЫ</a:t>
            </a:r>
            <a:endParaRPr b="0" lang="en-US" sz="40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16" name="Стрелка вниз 4"/>
          <p:cNvSpPr/>
          <p:nvPr/>
        </p:nvSpPr>
        <p:spPr>
          <a:xfrm rot="19954200">
            <a:off x="6600960" y="1814040"/>
            <a:ext cx="484200" cy="15670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9ccff"/>
          </a:solidFill>
          <a:ln w="25560">
            <a:solidFill>
              <a:srgbClr val="4e5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17" name="Стрелка вниз 6"/>
          <p:cNvSpPr/>
          <p:nvPr/>
        </p:nvSpPr>
        <p:spPr>
          <a:xfrm rot="1674000">
            <a:off x="1838160" y="1879200"/>
            <a:ext cx="486000" cy="1568520"/>
          </a:xfrm>
          <a:prstGeom prst="downArrow">
            <a:avLst>
              <a:gd name="adj1" fmla="val 50000"/>
              <a:gd name="adj2" fmla="val 49980"/>
            </a:avLst>
          </a:prstGeom>
          <a:solidFill>
            <a:srgbClr val="99ccff"/>
          </a:solidFill>
          <a:ln w="25560">
            <a:solidFill>
              <a:srgbClr val="4e5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18" name="Стрелка вниз 7"/>
          <p:cNvSpPr/>
          <p:nvPr/>
        </p:nvSpPr>
        <p:spPr>
          <a:xfrm>
            <a:off x="4214880" y="2786040"/>
            <a:ext cx="484200" cy="1568520"/>
          </a:xfrm>
          <a:prstGeom prst="downArrow">
            <a:avLst>
              <a:gd name="adj1" fmla="val 50000"/>
              <a:gd name="adj2" fmla="val 50001"/>
            </a:avLst>
          </a:prstGeom>
          <a:solidFill>
            <a:srgbClr val="99ccff"/>
          </a:solidFill>
          <a:ln w="25560">
            <a:solidFill>
              <a:srgbClr val="4e5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19" name="Табличка 8"/>
          <p:cNvSpPr/>
          <p:nvPr/>
        </p:nvSpPr>
        <p:spPr>
          <a:xfrm>
            <a:off x="571680" y="3357720"/>
            <a:ext cx="2357280" cy="914400"/>
          </a:xfrm>
          <a:custGeom>
            <a:avLst/>
            <a:gdLst>
              <a:gd name="textAreaLeft" fmla="*/ 107640 w 2357280"/>
              <a:gd name="textAreaRight" fmla="*/ 2249640 w 235728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5567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2070" y="21600"/>
                </a:lnTo>
                <a:arcTo wR="3600" hR="3600" stAng="10800000" swAng="5400000"/>
                <a:lnTo>
                  <a:pt x="55670" y="3600"/>
                </a:lnTo>
                <a:arcTo wR="3600" hR="3600" stAng="5400000" swAng="5400000"/>
                <a:close/>
              </a:path>
            </a:pathLst>
          </a:custGeom>
          <a:solidFill>
            <a:srgbClr val="8082ce"/>
          </a:solidFill>
          <a:ln w="25560">
            <a:solidFill>
              <a:srgbClr val="4e5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РОИТЕЛИ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20" name="Табличка 9"/>
          <p:cNvSpPr/>
          <p:nvPr/>
        </p:nvSpPr>
        <p:spPr>
          <a:xfrm>
            <a:off x="3286080" y="4357800"/>
            <a:ext cx="2428920" cy="914400"/>
          </a:xfrm>
          <a:custGeom>
            <a:avLst/>
            <a:gdLst>
              <a:gd name="textAreaLeft" fmla="*/ 107640 w 2428920"/>
              <a:gd name="textAreaRight" fmla="*/ 2321280 w 242892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5736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3762" y="21600"/>
                </a:lnTo>
                <a:arcTo wR="3600" hR="3600" stAng="10800000" swAng="5400000"/>
                <a:lnTo>
                  <a:pt x="57362" y="3600"/>
                </a:lnTo>
                <a:arcTo wR="3600" hR="3600" stAng="5400000" swAng="5400000"/>
                <a:close/>
              </a:path>
            </a:pathLst>
          </a:custGeom>
          <a:solidFill>
            <a:srgbClr val="8082ce"/>
          </a:solidFill>
          <a:ln w="25560">
            <a:solidFill>
              <a:srgbClr val="4e5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ХАНИКИ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21" name="Табличка 10"/>
          <p:cNvSpPr/>
          <p:nvPr/>
        </p:nvSpPr>
        <p:spPr>
          <a:xfrm>
            <a:off x="5940360" y="3286080"/>
            <a:ext cx="2735280" cy="914400"/>
          </a:xfrm>
          <a:custGeom>
            <a:avLst/>
            <a:gdLst>
              <a:gd name="textAreaLeft" fmla="*/ 107640 w 2735280"/>
              <a:gd name="textAreaRight" fmla="*/ 2627640 w 273528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6459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60996" y="21600"/>
                </a:lnTo>
                <a:arcTo wR="3600" hR="3600" stAng="10800000" swAng="5400000"/>
                <a:lnTo>
                  <a:pt x="64596" y="3600"/>
                </a:lnTo>
                <a:arcTo wR="3600" hR="3600" stAng="5400000" swAng="5400000"/>
                <a:close/>
              </a:path>
            </a:pathLst>
          </a:custGeom>
          <a:solidFill>
            <a:srgbClr val="8082ce"/>
          </a:solidFill>
          <a:ln w="25560">
            <a:solidFill>
              <a:srgbClr val="4e5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СТОСТРОИТЕЛИ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22" name="Рисунок 12" descr="AG00221_.GIF"/>
          <p:cNvPicPr/>
          <p:nvPr/>
        </p:nvPicPr>
        <p:blipFill>
          <a:blip r:embed="rId1"/>
          <a:stretch/>
        </p:blipFill>
        <p:spPr>
          <a:xfrm>
            <a:off x="3857760" y="5572080"/>
            <a:ext cx="1199880" cy="93348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15" descr="j0336318.gif"/>
          <p:cNvPicPr/>
          <p:nvPr/>
        </p:nvPicPr>
        <p:blipFill>
          <a:blip r:embed="rId2"/>
          <a:stretch/>
        </p:blipFill>
        <p:spPr>
          <a:xfrm>
            <a:off x="571680" y="4643280"/>
            <a:ext cx="1709640" cy="12859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6372360" y="4508640"/>
            <a:ext cx="2089080" cy="14414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752720" cy="45356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>
            <a:off x="1476360" y="5445000"/>
            <a:ext cx="1628640" cy="72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ОЛЬФРАМ</a:t>
            </a:r>
            <a:endParaRPr b="0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5" name=""/>
          <p:cNvSpPr/>
          <p:nvPr/>
        </p:nvSpPr>
        <p:spPr>
          <a:xfrm>
            <a:off x="5651640" y="-28080"/>
            <a:ext cx="309708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Самый тугоплавкий металл. Придает стали твердость, жаропрочность, износоустойчивость. Применяют для изготовления быстрорежущих инструментов, пил, фрез, нитей электрических ламп.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p:transition spd="med">
    <p:wheel spokes="8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4174920" cy="4248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5435640" y="333360"/>
            <a:ext cx="3457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Придает, стали высокую прочность, упругость и устойчивость к ударам. Используется для изготовления деталей автомобилей, тракторов и других машин, подвергающихся при работе ударам.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p:transition spd="med">
    <p:wheel spokes="8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4174920" cy="4248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 txBox="1"/>
          <p:nvPr/>
        </p:nvSpPr>
        <p:spPr>
          <a:xfrm>
            <a:off x="1476360" y="5445000"/>
            <a:ext cx="1628640" cy="72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АНАДИЙ</a:t>
            </a:r>
            <a:endParaRPr b="0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0" name=""/>
          <p:cNvSpPr/>
          <p:nvPr/>
        </p:nvSpPr>
        <p:spPr>
          <a:xfrm>
            <a:off x="5435640" y="333360"/>
            <a:ext cx="3457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Придает, стали высокую прочность, упругость и устойчивость к ударам. Используется для изготовления деталей автомобилей, тракторов и других машин, подвергающихся при работе ударам.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p:transition spd="med">
    <p:wheel spokes="8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4032360" cy="41036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5076720" y="189000"/>
            <a:ext cx="3816360" cy="81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Используется в качестве защитного покрытия для металлов.  На основе пыли этого металла изготавливают краску, которая отлично предохраняет от коррозии металлические мосты, пролеты заводских цехов и другие крупногабаритные изделия из металла, придавая им серый цвет.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p:transition spd="med">
    <p:wheel spokes="8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4032360" cy="41036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 txBox="1"/>
          <p:nvPr/>
        </p:nvSpPr>
        <p:spPr>
          <a:xfrm>
            <a:off x="1476360" y="5445000"/>
            <a:ext cx="1628640" cy="72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ЦИНК</a:t>
            </a:r>
            <a:endParaRPr b="0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5" name=""/>
          <p:cNvSpPr/>
          <p:nvPr/>
        </p:nvSpPr>
        <p:spPr>
          <a:xfrm>
            <a:off x="5076720" y="189000"/>
            <a:ext cx="3816360" cy="81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Используется в качестве защитного покрытия для металлов.  На основе пыли этого металла изготавливают краску, которая отлично предохраняет от коррозии металлические мосты, пролеты заводских цехов и другие крупногабаритные изделия из металла, придавая им серый цвет.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p:transition spd="med">
    <p:wheel spokes="8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780840" y="1494360"/>
            <a:ext cx="758736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Monotype Corsiva"/>
              </a:rPr>
              <a:t>Карточка №1.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Monotype Corsiva"/>
              </a:rPr>
              <a:t>Корабли меня обходят, </a:t>
            </a: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Monotype Corsiva"/>
              </a:rPr>
              <a:t>Знает лоцман наизусть, </a:t>
            </a: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Monotype Corsiva"/>
              </a:rPr>
              <a:t>Если «Л» на «Д» заменят, </a:t>
            </a: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Monotype Corsiva"/>
              </a:rPr>
              <a:t>То металлом окажусь.</a:t>
            </a: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p:transition spd="med">
    <p:wheel spokes="8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72720" y="1494360"/>
            <a:ext cx="900180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Monotype Corsiva"/>
              </a:rPr>
              <a:t>Карточка №2.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Monotype Corsiva"/>
              </a:rPr>
              <a:t>Из меня состоит все живое, </a:t>
            </a: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Monotype Corsiva"/>
              </a:rPr>
              <a:t>Графит, антрацит и алмаз.</a:t>
            </a: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Monotype Corsiva"/>
              </a:rPr>
              <a:t>Я на улице, в школе и в поле, </a:t>
            </a: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Monotype Corsiva"/>
              </a:rPr>
              <a:t>Я в деревьях и в каждом из вас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p:transition spd="med">
    <p:wheel spokes="8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-496440" y="1494360"/>
            <a:ext cx="1013688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Monotype Corsiva"/>
              </a:rPr>
              <a:t>Карточка №3.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Monotype Corsiva"/>
              </a:rPr>
              <a:t>Я – металл серебристый и легкий, </a:t>
            </a: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Monotype Corsiva"/>
              </a:rPr>
              <a:t>И зовусь «самолетный металл»,</a:t>
            </a: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Monotype Corsiva"/>
              </a:rPr>
              <a:t>И покрыт я оксидною пленкой,</a:t>
            </a: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Monotype Corsiva"/>
              </a:rPr>
              <a:t>Чтоб меня кислород не достал.</a:t>
            </a: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p:transition spd="med">
    <p:wheel spokes="8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4105440" cy="43196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508720" y="549360"/>
            <a:ext cx="3384360" cy="73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Соединения этого неметалла  используют для производства строительных материалов, которые составляют основу силикатной промышленности - стекла, керамики, цемента, фарфора, силикатного кирпича.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p:transition spd="med">
    <p:wheel spokes="8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4105440" cy="43196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 txBox="1"/>
          <p:nvPr/>
        </p:nvSpPr>
        <p:spPr>
          <a:xfrm>
            <a:off x="1476360" y="5445000"/>
            <a:ext cx="1628640" cy="72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РЕМНИЙ</a:t>
            </a:r>
            <a:endParaRPr b="0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3" name=""/>
          <p:cNvSpPr/>
          <p:nvPr/>
        </p:nvSpPr>
        <p:spPr>
          <a:xfrm>
            <a:off x="5508720" y="549360"/>
            <a:ext cx="3384360" cy="73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Соединения этого неметалла  используют для производства строительных материалов, которые составляют основу силикатной промышленности - стекла, керамики, цемента, фарфора, силикатного кирпича.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p:transition spd="med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547640" y="1598760"/>
            <a:ext cx="66787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дставление команд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нкурс стенгаз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шифрованное посл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нкурс капитан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нкурс «Ребусы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нкурс «Черный ящик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нкурс презентац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700360" y="620640"/>
            <a:ext cx="2562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КОНКУРСЫ</a:t>
            </a:r>
            <a:endParaRPr b="0" lang="en-US" sz="1800" spc="1" strike="noStrike">
              <a:ln w="9360">
                <a:solidFill>
                  <a:srgbClr val="00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319280" cy="45356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4932360" y="-1301040"/>
            <a:ext cx="4032360" cy="9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Графит  применяют для изготовления огнеупорных материалов, электродов, смазок, карандашей, красок, наполнителей пластических масс. 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Сажа используется как наполнитель в производстве резины, в качестве пигмента при изготовлении черных красок. 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Технические алмазы применяют для изготовления резцов, сверл, фрез, шлифовальных порошков, буровых долот.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p:transition spd="med">
    <p:wheel spokes="8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319280" cy="45356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 txBox="1"/>
          <p:nvPr/>
        </p:nvSpPr>
        <p:spPr>
          <a:xfrm>
            <a:off x="1476360" y="5445000"/>
            <a:ext cx="1628640" cy="72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УГЛЕРОД</a:t>
            </a:r>
            <a:endParaRPr b="0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8" name=""/>
          <p:cNvSpPr/>
          <p:nvPr/>
        </p:nvSpPr>
        <p:spPr>
          <a:xfrm>
            <a:off x="4932360" y="-1301040"/>
            <a:ext cx="4032360" cy="9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Графит  применяют для изготовления огнеупорных материалов, электродов, смазок, карандашей, красок, наполнителей пластических масс. 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Сажа используется как наполнитель в производстве резины, в качестве пигмента при изготовлении черных красок. 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Технические алмазы применяют для изготовления резцов, сверл, фрез, шлифовальных порошков, буровых долот.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p:transition spd="med">
    <p:wheel spokes="8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4176720" cy="4464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5580000" y="404640"/>
            <a:ext cx="2952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Используют как инертную среду для дуговой электросварки. Продувкой этого вещества через жидкую сталь из нее удаляют газовые включения, что улучшает свойства металла.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p:transition spd="med">
    <p:wheel spokes="8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4176720" cy="44640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 txBox="1"/>
          <p:nvPr/>
        </p:nvSpPr>
        <p:spPr>
          <a:xfrm>
            <a:off x="1476360" y="5445000"/>
            <a:ext cx="1628640" cy="72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АРГОН</a:t>
            </a:r>
            <a:endParaRPr b="0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3" name=""/>
          <p:cNvSpPr/>
          <p:nvPr/>
        </p:nvSpPr>
        <p:spPr>
          <a:xfrm>
            <a:off x="5580000" y="404640"/>
            <a:ext cx="29527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Используют как инертную среду для дуговой электросварки. Продувкой аргона через жидкую сталь из нее удаляют газовые включения, что улучшает свойства металла.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p:transition spd="med">
    <p:wheel spokes="8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1692360" y="2492280"/>
            <a:ext cx="559116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ОНКУРС ЧЕРНЫЙ ЯЩИК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wheel spokes="8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24000" y="-204120"/>
            <a:ext cx="8424720" cy="68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Monotype Corsiva"/>
              </a:rPr>
              <a:t>Карточка №1.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Monotype Corsiva"/>
              </a:rPr>
              <a:t>Участники второй экспедиции Колумба в Америку в 1496 г, вернувшись в Европу, рассказали, как индейцы острова Гаити играют в мяч. Индейские мячи, ударившись о землю, высоко подскакивали  и прыгали. Они были совершенно не похожи на тряпичные и кожаные мячи европейцев. Вещество, которое лежит в черном ящике, получают путем вулканизации того соединения, которое индейцы использовали в качестве мяча. Это вещество обладает исключительной пластичностью и прочностью, поэтому широко применяется в производстве транспорта и в строительстве.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p:transition spd="med">
    <p:wheel spokes="8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324000" y="856080"/>
            <a:ext cx="8496000" cy="51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Monotype Corsiva"/>
              </a:rPr>
              <a:t>Карточка №2.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Monotype Corsiva"/>
              </a:rPr>
              <a:t>Это вещество представляет собой тяжелую маслянистую жидкость. Нет другого представителя данного класса, который был бы нужнее и применялся бы чаще, чем это вещество. Оно необходимо для получения синтетических волокон, удобрений, красителей, взрывчатых веществ, медикаментов, ядохимикатов, моющих средств. В больших количествах это вещество используют в свинцовых аккумуляторах.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p:transition spd="med">
    <p:wheel spokes="8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24000" y="-831600"/>
            <a:ext cx="8569080" cy="81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Monotype Corsiva"/>
              </a:rPr>
              <a:t>Карточка №3.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Monotype Corsiva"/>
              </a:rPr>
              <a:t>История цивилизации неразрывно связана с этим металлом.  В древности у некоторых народов этот металл ценился  дороже золота. Лишь представители знати могли украшать себя изделиями из этого металла, причем нередко в золотой оправе. Постепенно, по мере развития металлургии, этот металл становился доступнее и дешевле. И все же еще сравнительно недавно многие отсталые народы готовы были платить за него огромную цену. Известный английский мореплаватель </a:t>
            </a:r>
            <a:r>
              <a:rPr b="1" i="1" lang="en-US" sz="2800" spc="-1" strike="noStrike">
                <a:solidFill>
                  <a:srgbClr val="ffffff"/>
                </a:solidFill>
                <a:latin typeface="Monotype Corsiva"/>
              </a:rPr>
              <a:t>XVIII</a:t>
            </a:r>
            <a:r>
              <a:rPr b="1" i="1" lang="ru-RU" sz="2800" spc="-1" strike="noStrike">
                <a:solidFill>
                  <a:srgbClr val="ffffff"/>
                </a:solidFill>
                <a:latin typeface="Monotype Corsiva"/>
              </a:rPr>
              <a:t> века Джеймс Кук рассказывал об отношении к этому металлу туземцев Полинезийских островов: «…Ничто так не манило к себе посетителей наших судов, как этот металл; он всегда был для них самым желанным, самым драгоценным товаром».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p:transition spd="med">
    <p:wheel spokes="8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2050920" y="2421000"/>
            <a:ext cx="5334120" cy="103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ОНКУРС ПРЕЗЕНТАЦИЙ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403280" y="2565360"/>
            <a:ext cx="585792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РЕДСТАВЛЕНИЕ КОМАНД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124000" y="2637000"/>
            <a:ext cx="4600800" cy="103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ОНКУРС СТЕНГАЗЕТ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539280" y="3886200"/>
            <a:ext cx="8209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Ш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Y Rn Os K Os             Pt Ra Os S Ti Rb N Eu Te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s I Mg Y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Я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   Ru U Si I                 Se W Os I  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            Db Eu Li Ar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Ч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Eu La Os Bi Eu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Ч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 S Co I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116000" y="1557360"/>
            <a:ext cx="6657840" cy="103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ЗАШИФРОВАННОЕ ПОСЛАНИЕ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392360" cy="43210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116000" y="5734080"/>
            <a:ext cx="23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33" name=""/>
          <p:cNvSpPr/>
          <p:nvPr/>
        </p:nvSpPr>
        <p:spPr>
          <a:xfrm>
            <a:off x="5148360" y="189000"/>
            <a:ext cx="3816360" cy="90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Применяется в качестве покрытия для защиты железа от коррозии. Добавка этого металла придает стали вязкость, механическую прочность и коррозионную стойкость. Такие стали используются для изготовления турбин электростанций и реактивных двигателей, деталей, работающих при высоких температурах.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p:transition spd="med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392360" cy="43210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116000" y="5734080"/>
            <a:ext cx="23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476360" y="5445000"/>
            <a:ext cx="1628640" cy="72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ИКЕЛЬ</a:t>
            </a:r>
            <a:endParaRPr b="0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7" name=""/>
          <p:cNvSpPr/>
          <p:nvPr/>
        </p:nvSpPr>
        <p:spPr>
          <a:xfrm>
            <a:off x="5148360" y="189000"/>
            <a:ext cx="3816360" cy="90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Применяется в качестве покрытия для защиты железа от коррозии. Добавка этого металла придает стали вязкость, механическую прочность и коррозионную стойкость. Такие стали используются для изготовления турбин электростанций и реактивных двигателей, деталей, работающих при высоких температурах.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p:transition spd="med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3889440" cy="41752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435640" y="692280"/>
            <a:ext cx="2952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Применяют в составе сплавов и для получения полупроводниковых материалов.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p:transition spd="med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ксана</cp:lastModifiedBy>
  <dcterms:modified xsi:type="dcterms:W3CDTF">2005-10-08T01:19:07Z</dcterms:modified>
  <cp:revision>114</cp:revision>
  <dc:subject/>
  <dc:title>PowerPoint Presentation</dc:title>
</cp:coreProperties>
</file>