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85A-FA48-4F07-9074-6E5D1931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4EA-4B02-470E-BE9C-B7CAB0A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AD4-2EE6-488F-AB57-F4B4D465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C0A-49EC-4D72-993F-9A18165D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CA6-ADAF-4267-AE26-F7FFD713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EB9-EC9E-4EFB-9540-A10FE604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01D-5D23-48ED-B997-121F61C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577-234A-4B04-89CF-26ADC3E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05A-D1FD-4BCC-B353-D7809410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B52-E316-4823-A88D-163AAFE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D41-B505-44AA-8946-8E991EA6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AC0-43D8-44D6-B8C3-108BBA4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250E-6070-4FBE-9E51-585A25B43CF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gif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ffffcc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Содержимое 3" descr="j0182632.jpg"/>
          <p:cNvPicPr/>
          <p:nvPr/>
        </p:nvPicPr>
        <p:blipFill>
          <a:blip r:embed="rId1"/>
          <a:stretch/>
        </p:blipFill>
        <p:spPr>
          <a:xfrm>
            <a:off x="214200" y="2000160"/>
            <a:ext cx="3229200" cy="2168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j0182639.jpg"/>
          <p:cNvPicPr/>
          <p:nvPr/>
        </p:nvPicPr>
        <p:blipFill>
          <a:blip r:embed="rId2"/>
          <a:stretch/>
        </p:blipFill>
        <p:spPr>
          <a:xfrm>
            <a:off x="5429160" y="1928880"/>
            <a:ext cx="3257640" cy="21985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j0182635.jpg"/>
          <p:cNvPicPr/>
          <p:nvPr/>
        </p:nvPicPr>
        <p:blipFill>
          <a:blip r:embed="rId3"/>
          <a:stretch/>
        </p:blipFill>
        <p:spPr>
          <a:xfrm>
            <a:off x="3643200" y="4286160"/>
            <a:ext cx="1500480" cy="228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j0178486.jpg"/>
          <p:cNvPicPr/>
          <p:nvPr/>
        </p:nvPicPr>
        <p:blipFill>
          <a:blip r:embed="rId4"/>
          <a:stretch/>
        </p:blipFill>
        <p:spPr>
          <a:xfrm>
            <a:off x="3643200" y="1928880"/>
            <a:ext cx="1468440" cy="2214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j0289880.jpg"/>
          <p:cNvPicPr/>
          <p:nvPr/>
        </p:nvPicPr>
        <p:blipFill>
          <a:blip r:embed="rId5"/>
          <a:stretch/>
        </p:blipFill>
        <p:spPr>
          <a:xfrm>
            <a:off x="142920" y="4286160"/>
            <a:ext cx="3313080" cy="2214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ПТИЧКИ1.BMP"/>
          <p:cNvPicPr/>
          <p:nvPr/>
        </p:nvPicPr>
        <p:blipFill>
          <a:blip r:embed="rId6"/>
          <a:stretch/>
        </p:blipFill>
        <p:spPr>
          <a:xfrm>
            <a:off x="5429160" y="4286160"/>
            <a:ext cx="3286080" cy="2251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J0076135.GIF"/>
          <p:cNvPicPr/>
          <p:nvPr/>
        </p:nvPicPr>
        <p:blipFill>
          <a:blip r:embed="rId7"/>
          <a:stretch/>
        </p:blipFill>
        <p:spPr>
          <a:xfrm>
            <a:off x="3564000" y="5560920"/>
            <a:ext cx="1785960" cy="129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24000" y="333360"/>
            <a:ext cx="85438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ИМИЯ В МОЕЙ БУДУЩЕЙ ПРОФЕССИИ</a:t>
            </a:r>
            <a:endParaRPr b="1" lang="en-US" sz="4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417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ШЬЯК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5435640" y="692280"/>
            <a:ext cx="295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ют в составе сплавов и для получения полупроводниковых материа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417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08720" y="404640"/>
            <a:ext cx="345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твердость, механическую прочность, устойчивость против ударов и трений. Из такой стали изготавливают детали дробильных установок, железнодорожные рельсы, зубья ковшей  экскаватор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032000" cy="4175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ГАНЕЦ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404640"/>
            <a:ext cx="345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твердость, механическую прочность, устойчивость против ударов и трений. Из такой стали изготавливают детали дробильных установок, железнодорожные рельсы, зубья ковшей  экскаватор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96000" y="1341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инертной среды в химических и металлургических процессах; при сварке метал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ЗОТ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1341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инертной среды в химических и металлургических процессах; при сварке метал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80000" y="260280"/>
            <a:ext cx="331164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Большие количества его применяют в дыхательных смесях для работ под давлением (например, при создании подводных тоннелей и сооружений). 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акже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для наполнения летательных устройст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ЛИЙ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260280"/>
            <a:ext cx="331164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Большие количества его применяют в дыхательных смесях для работ под давлением (например, при создании подводных тоннелей и сооружений). А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акже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для наполнения летательных устройст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1365840"/>
            <a:ext cx="8280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Широко простирает химия руки свои в дела человеческие 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М.В. Ломоносов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268360" y="1916280"/>
            <a:ext cx="48578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КАПИТАНО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43280" y="4437000"/>
            <a:ext cx="40384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РЕБУС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752720" cy="453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51640" y="-28080"/>
            <a:ext cx="3097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мый тугоплавкий металл. Придает стали твердость, жаропрочность, износоустойчивость. Применяют для изготовления быстрорежущих инструментов, пил, фрез, нитей электрических ламп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Ромб 3"/>
          <p:cNvSpPr/>
          <p:nvPr/>
        </p:nvSpPr>
        <p:spPr>
          <a:xfrm>
            <a:off x="1571760" y="357120"/>
            <a:ext cx="5715000" cy="2428920"/>
          </a:xfrm>
          <a:prstGeom prst="diamond">
            <a:avLst/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АНДЫ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Стрелка вниз 4"/>
          <p:cNvSpPr/>
          <p:nvPr/>
        </p:nvSpPr>
        <p:spPr>
          <a:xfrm rot="19954200">
            <a:off x="6600960" y="1814040"/>
            <a:ext cx="484200" cy="1567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7" name="Стрелка вниз 6"/>
          <p:cNvSpPr/>
          <p:nvPr/>
        </p:nvSpPr>
        <p:spPr>
          <a:xfrm rot="1674000">
            <a:off x="1838160" y="1879200"/>
            <a:ext cx="486000" cy="15685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8" name="Стрелка вниз 7"/>
          <p:cNvSpPr/>
          <p:nvPr/>
        </p:nvSpPr>
        <p:spPr>
          <a:xfrm>
            <a:off x="4214880" y="2786040"/>
            <a:ext cx="484200" cy="15685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99ccff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9" name="Табличка 8"/>
          <p:cNvSpPr/>
          <p:nvPr/>
        </p:nvSpPr>
        <p:spPr>
          <a:xfrm>
            <a:off x="571680" y="3357720"/>
            <a:ext cx="2357280" cy="914400"/>
          </a:xfrm>
          <a:custGeom>
            <a:avLst/>
            <a:gdLst>
              <a:gd name="textAreaLeft" fmla="*/ 107640 w 2357280"/>
              <a:gd name="textAreaRight" fmla="*/ 2249640 w 2357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5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2070" y="21600"/>
                </a:lnTo>
                <a:arcTo wR="3600" hR="3600" stAng="10800000" swAng="5400000"/>
                <a:lnTo>
                  <a:pt x="55670" y="3600"/>
                </a:lnTo>
                <a:arcTo wR="3600" hR="3600" stAng="5400000" swAng="5400000"/>
                <a:close/>
              </a:path>
            </a:pathLst>
          </a:custGeom>
          <a:solidFill>
            <a:srgbClr val="8082ce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ОИТЕЛИ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Табличка 9"/>
          <p:cNvSpPr/>
          <p:nvPr/>
        </p:nvSpPr>
        <p:spPr>
          <a:xfrm>
            <a:off x="3286080" y="4357800"/>
            <a:ext cx="2428920" cy="914400"/>
          </a:xfrm>
          <a:custGeom>
            <a:avLst/>
            <a:gdLst>
              <a:gd name="textAreaLeft" fmla="*/ 107640 w 2428920"/>
              <a:gd name="textAreaRight" fmla="*/ 2321280 w 24289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5736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3762" y="21600"/>
                </a:lnTo>
                <a:arcTo wR="3600" hR="3600" stAng="10800000" swAng="5400000"/>
                <a:lnTo>
                  <a:pt x="57362" y="3600"/>
                </a:lnTo>
                <a:arcTo wR="3600" hR="3600" stAng="5400000" swAng="5400000"/>
                <a:close/>
              </a:path>
            </a:pathLst>
          </a:custGeom>
          <a:solidFill>
            <a:srgbClr val="8082ce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КИ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Табличка 10"/>
          <p:cNvSpPr/>
          <p:nvPr/>
        </p:nvSpPr>
        <p:spPr>
          <a:xfrm>
            <a:off x="5940360" y="3286080"/>
            <a:ext cx="2735280" cy="914400"/>
          </a:xfrm>
          <a:custGeom>
            <a:avLst/>
            <a:gdLst>
              <a:gd name="textAreaLeft" fmla="*/ 107640 w 2735280"/>
              <a:gd name="textAreaRight" fmla="*/ 2627640 w 27352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645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0996" y="21600"/>
                </a:lnTo>
                <a:arcTo wR="3600" hR="3600" stAng="10800000" swAng="5400000"/>
                <a:lnTo>
                  <a:pt x="64596" y="3600"/>
                </a:lnTo>
                <a:arcTo wR="3600" hR="3600" stAng="5400000" swAng="5400000"/>
                <a:close/>
              </a:path>
            </a:pathLst>
          </a:custGeom>
          <a:solidFill>
            <a:srgbClr val="8082ce"/>
          </a:solidFill>
          <a:ln w="25560">
            <a:solidFill>
              <a:srgbClr val="4e5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СТОСТРОИТЕЛИ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2" name="Рисунок 12" descr="AG00221_.GIF"/>
          <p:cNvPicPr/>
          <p:nvPr/>
        </p:nvPicPr>
        <p:blipFill>
          <a:blip r:embed="rId1"/>
          <a:stretch/>
        </p:blipFill>
        <p:spPr>
          <a:xfrm>
            <a:off x="3857760" y="5572080"/>
            <a:ext cx="11998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5" descr="j0336318.gif"/>
          <p:cNvPicPr/>
          <p:nvPr/>
        </p:nvPicPr>
        <p:blipFill>
          <a:blip r:embed="rId2"/>
          <a:stretch/>
        </p:blipFill>
        <p:spPr>
          <a:xfrm>
            <a:off x="571680" y="4643280"/>
            <a:ext cx="170964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208908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752720" cy="453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ЛЬФРАМ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-28080"/>
            <a:ext cx="3097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мый тугоплавкий металл. Придает стали твердость, жаропрочность, износоустойчивость. Применяют для изготовления быстрорежущих инструментов, пил, фрез, нитей электрических ламп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74920" cy="42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35640" y="333360"/>
            <a:ext cx="345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высокую прочность, упругость и устойчивость к ударам. Используется для изготовления деталей автомобилей, тракторов и других машин, подвергающихся при работе удара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174920" cy="42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НАДИЙ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333360"/>
            <a:ext cx="3457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дает, стали высокую прочность, упругость и устойчивость к ударам. Используется для изготовления деталей автомобилей, тракторов и других машин, подвергающихся при работе ударам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032360" cy="4103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76720" y="189000"/>
            <a:ext cx="3816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ется в качестве защитного покрытия для металлов.  На основе пыли этого металла изготавливают краску, которая отлично предохраняет от коррозии металлические мосты, пролеты заводских цехов и другие крупногабаритные изделия из металла, придавая им серый цве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032360" cy="410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ИНК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189000"/>
            <a:ext cx="3816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ется в качестве защитного покрытия для металлов.  На основе пыли этого металла изготавливают краску, которая отлично предохраняет от коррозии металлические мосты, пролеты заводских цехов и другие крупногабаритные изделия из металла, придавая им серый цве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80840" y="1494360"/>
            <a:ext cx="75873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Карточка №1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Корабли меня обходят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Знает лоцман наизусть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Если «Л» на «Д» заменят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То металлом окажусь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2720" y="1494360"/>
            <a:ext cx="9001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Карточка №2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з меня состоит все живое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Графит, антрацит и алмаз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Я на улице, в школе и в поле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Я в деревьях и в каждом из вас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496440" y="1494360"/>
            <a:ext cx="101368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Карточка №3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Я – металл серебристый и легкий, 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 зовусь «самолетный металл»,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И покрыт я оксидною пленкой,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Чтоб меня кислород не достал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08720" y="549360"/>
            <a:ext cx="3384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оединения этого неметалла  используют для производства строительных материалов, которые составляют основу силикатной промышленности - стекла, керамики, цемента, фарфора, силикатного кирпич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05440" cy="4319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РЕМНИЙ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549360"/>
            <a:ext cx="3384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оединения этого неметалла  используют для производства строительных материалов, которые составляют основу силикатной промышленности - стекла, керамики, цемента, фарфора, силикатного кирпич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47640" y="1598760"/>
            <a:ext cx="667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 коман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стенгаз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шифрованное посл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«Ребус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«Черный ящ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презента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00360" y="620640"/>
            <a:ext cx="25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КОНКУРСЫ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4535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932360" y="-1301040"/>
            <a:ext cx="403236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рафит  применяют для изготовления огнеупорных материалов, электродов, смазок, карандашей, красок, наполнителей пластических масс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жа используется как наполнитель в производстве резины, в качестве пигмента при изготовлении черных красок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ические алмазы применяют для изготовления резцов, сверл, фрез, шлифовальных порошков, буровых доло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4535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ГЛЕРОД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-1301040"/>
            <a:ext cx="403236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рафит  применяют для изготовления огнеупорных материалов, электродов, смазок, карандашей, красок, наполнителей пластических масс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ажа используется как наполнитель в производстве резины, в качестве пигмента при изготовлении черных красок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ические алмазы применяют для изготовления резцов, сверл, фрез, шлифовальных порошков, буровых долот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580000" y="404640"/>
            <a:ext cx="2952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Продувкой этого вещества через жидкую сталь из нее удаляют газовые включения, что улучшает свойства металл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176720" cy="4464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ГОН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04640"/>
            <a:ext cx="295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спользуют как инертную среду для дуговой электросварки. Продувкой аргона через жидкую сталь из нее удаляют газовые включения, что улучшает свойства металла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692360" y="2492280"/>
            <a:ext cx="559116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ЧЕРНЫЙ ЯЩИК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-204120"/>
            <a:ext cx="8424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арточка №1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Участники второй экспедиции Колумба в Америку в 1496 г, вернувшись в Европу, рассказали, как индейцы острова Гаити играют в мяч. Индейские мячи, ударившись о землю, высоко подскакивали  и прыгали. Они были совершенно не похожи на тряпичные и кожаные мячи европейцев. Вещество, которое лежит в черном ящике, получают путем вулканизации того соединения, которое индейцы использовали в качестве мяча. Это вещество обладает исключительной пластичностью и прочностью, поэтому широко применяется в производстве транспорта и в строительстве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856080"/>
            <a:ext cx="84960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арточка №2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Это вещество представляет собой тяжелую маслянистую жидкость. Нет другого представителя данного класса, который был бы нужнее и применялся бы чаще, чем это вещество. Оно необходимо для получения синтетических волокон, удобрений, красителей, взрывчатых веществ, медикаментов, ядохимикатов, моющих средств. В больших количествах это вещество используют в свинцовых аккумулятор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-831600"/>
            <a:ext cx="8569080" cy="81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арточка №3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2762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История цивилизации неразрывно связана с этим металлом.  В древности у некоторых народов этот металл ценился  дороже золота. Лишь представители знати могли украшать себя изделиями из этого металла, причем нередко в золотой оправе. Постепенно, по мере развития металлургии, этот металл становился доступнее и дешевле. И все же еще сравнительно недавно многие отсталые народы готовы были платить за него огромную цену. Известный английский мореплаватель </a:t>
            </a: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XVIII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 века Джеймс Кук рассказывал об отношении к этому металлу туземцев Полинезийских островов: «…Ничто так не манило к себе посетителей наших судов, как этот металл; он всегда был для них самым желанным, самым драгоценным товаром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050920" y="2421000"/>
            <a:ext cx="533412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ПРЕЗЕНТАЦИЙ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03280" y="2565360"/>
            <a:ext cx="58579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ЕДСТАВЛЕНИЕ КОМАНД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24000" y="2637000"/>
            <a:ext cx="4600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КУРС СТЕНГАЗЕ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 Rn Os K Os             Pt Ra Os S Ti Rb N Eu Te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 I Mg Y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Ru U Si I                 Se W Os I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            Db Eu Li Ar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u La Os Bi Eu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 S Co I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16000" y="1557360"/>
            <a:ext cx="665784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ШИФРОВАННОЕ ПОСЛАНИ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92360" cy="4321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16000" y="573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89000"/>
            <a:ext cx="38163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покрытия для защиты железа от коррозии. Добавка этого металла придает стали вязкость, механическую прочность и коррозионную стойкость. Такие стали используются для изготовления турбин электростанций и реактивных двигателей, деталей, работающих при высоких температур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392360" cy="432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573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6360" y="5445000"/>
            <a:ext cx="16286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КЕЛЬ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189000"/>
            <a:ext cx="3816360" cy="90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ется в качестве покрытия для защиты железа от коррозии. Добавка этого металла придает стали вязкость, механическую прочность и коррозионную стойкость. Такие стали используются для изготовления турбин электростанций и реактивных двигателей, деталей, работающих при высоких температурах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417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435640" y="692280"/>
            <a:ext cx="295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меняют в составе сплавов и для получения полупроводниковых материал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05-10-08T01:19:07Z</dcterms:modified>
  <cp:revision>114</cp:revision>
  <dc:subject/>
  <dc:title>PowerPoint Presentation</dc:title>
</cp:coreProperties>
</file>