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4CA-E20D-436C-A3CD-96AE9F08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B92-2DD8-4120-AB5F-8EF2766D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35CBD-F6B7-472D-A1AF-789D0B1B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94D02-17EA-479A-8E3B-BAE012BE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E66DB-4F63-4459-96D0-2FC0A426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FAAAE-2AD9-4EC2-B307-AE8FA813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A8343-21F6-4F80-9FA7-2FA7D923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2EB2E-D58F-4D23-858E-6D5BE842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81FE1-D458-42C6-BD77-F139EF3A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49DFF-ABA6-4965-A2E2-F470A969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9BDDA-D839-43E1-BA31-799A5983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B86D9-D25A-436F-BBBA-A017906D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9CF-E7E0-4BFB-87D5-1E86116D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2CE9E-BBA9-4290-B1BA-35F78822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B6C4E-A5EE-4B0E-84CF-2EB25174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9D956-671D-47F6-A344-B88552AD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698FA-FC25-4ABA-AAF3-FC34BC6C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A4C00-8479-4B42-AE09-465EA6BA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E7274-4A9A-4F32-A131-25FD76DB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24012-EBF3-4182-8549-035A00C8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759DE-B819-494D-AC01-7D88EAC2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073F9-EA7E-420A-B044-D0A59D93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43FB6-B22E-4F13-97DE-270028F6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CBA-756C-4744-881C-8DEDAE8E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E241A-EC11-4447-92C6-9068F49A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408A2-8076-46ED-AB60-BFDCA7B3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DFEFE-17FB-47F0-88C4-14DA654A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3B0AC-ACB5-4CE2-85CC-11A4B4DE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5B711-9A9B-4496-BB36-D11DE32D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58220-CF4D-4E59-8874-732458EB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8A04A-A3DA-497A-9B2E-1104E331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BCEF2-A335-4072-B128-025836CD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64940-2D57-48D6-97B9-CA05590D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88A9F-EC7C-4114-A7B4-F12010C9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126F-227C-4D91-95F8-C40A0777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8A4DA-EC3C-4078-9664-09DB9C45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E4478-1094-462C-BA7F-D16C6B13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DCCF7-0BAB-4C6B-A0C0-95F0481B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2E661-9BD5-4158-B4B0-64B77E4E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8A018-3224-480A-A86B-8C33CC75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08B39-2433-4DB9-84D2-A6F925A1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7E537-1F67-4629-BF81-ED16CDE4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87C0E-1BA3-4F2E-BB5E-D1C6796A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4DEA4-4500-4032-B8B0-E1E20B0B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7F555-1CF6-4300-995B-1E6663EF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833F-2617-4184-8F02-BCFB2808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0BD33-0B5B-4F07-B1A2-93D0B858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61931-C784-448E-95F9-38AB4C22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E1B42-FDCF-4682-932C-67B1E49B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450DA-1A6A-4BAF-8991-125BF15B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2C007-D756-43BB-A253-6358CDF5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D3C6-2BB3-4751-B799-BE899AA8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958D-4993-4A7D-A7D6-9B481E54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0318-73A1-4413-B9EE-A1B3F5AE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3658-B9B3-43EE-9106-E2D5FB18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AA3C-95F5-4D84-8B93-60E091D5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EDF-384F-4960-A379-C8DDFED4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09C3-3C50-467D-92A2-E6479F72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0B01-20CD-472A-AC1E-E0218222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F143-D5E0-4958-AF38-DBB99F47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FFBF-00D2-43C8-82DE-7DBD943F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83A9-735F-499A-9A7D-11FA5FF2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B0D2-FBAF-4A70-90BF-4F808283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E0C3-0400-4F6B-B94A-5F304C09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8AD5D-6EC4-4AE6-ACA8-ED9C36A8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3445-3A3B-480C-9E28-D5EE57BC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2F86C-36F5-4C83-8275-DBCB3B36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576-D50A-46EB-8B54-B22CFB25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260BA-ED3C-4359-B384-11C5258F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83C1-2A4D-4B12-8F00-BA79B3D8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82D4-467A-483E-A321-763EC275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A8E5-2919-442C-94F7-6EBD113A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6B537-35D6-4E88-90CA-0CB80E50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BF98-7043-480B-B28B-FF3BEE2E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F787-D9FB-4BF2-9BCA-DB7DC537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9CE90-C3DB-45B2-BD2A-D2ED5A66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B2F08-54C7-4327-98C5-D6E79995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E0F22-CA73-4685-B0B1-BE1100EF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2B3-CA04-4085-92F1-DEF1FB3F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65A03-C3B3-4071-AF0F-B3CB544C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BAF6-E750-40E6-9260-BCA1179D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09E81-55AC-4ED6-A7C2-BA72D50C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6D2A6-7986-42AE-B520-C0B507C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9C786-FBD1-4D55-A544-55C9C8BB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C3A45-8932-412F-B7F1-B23DF794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3F364-FB23-4E5C-87FF-34FCC13D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A349C-38EE-4608-AEC6-D07E3C14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F5E89-C293-4E14-BB52-946F7A78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BF5D0-B878-4605-B5C4-F066945C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75C-4DE1-4FF3-B0AA-246F6CBC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6E36F-E5CB-4789-BA47-A019CA47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3DFC8-DEB2-4938-8EE2-EA061016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E165B-DA76-4CE0-B91A-67DC6FA6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804A8-7CCC-42D1-BCE7-DF742542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A80FC-23D1-4BA9-957F-846F709D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A089C-4726-40AC-ABB4-3A5A18D3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CEF84-7C18-4FFE-8382-95BC462B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D0033-A343-452C-A07F-2A87D6EF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E1556-5F6A-41C0-B40C-DE73F000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459FE-A4A1-449A-84C1-684A8215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78A-A906-4B41-8B9D-7D413101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053DA-2537-41AE-B508-621122B9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E49E9-35C1-4707-BBB1-C51BF2D7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AE343-7992-4FA5-B8BB-C4CD9F84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48C92-FC9A-4AFC-BB74-5B03771E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6EA54-87DA-414A-9FF9-3C79CE82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067E1-59B2-4739-A267-EF908E03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E1602-7A5B-4AF9-9544-C2EC3631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DE520-86D3-4B9F-8157-9354A6B3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40299-85EE-4FB3-BF04-6BCD337E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91B48-71C4-45D7-AC8F-8EFDA920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B94-53CA-4B28-BA2B-12DEB2D4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53B80-2932-4A75-9F48-D2A6F72F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7ED12-A952-4FF8-ADAA-25E51ADA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D5588-CDF6-4EFA-A6EC-2FE1080E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18E52-98B4-4817-8C23-C55A05FF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212E9-8809-4B74-9DA4-FCBC397D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840B2-4A2F-45DA-8D62-2F8680C8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C0093-75FF-48A7-881D-BABEECC1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711CE-73B9-4558-A385-897ADF52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F019E-ABCA-4325-B7FF-2806B129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CE20D-D95D-4AEE-AE66-A90C6CA1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2B7-B0EC-4A36-BC20-7FFBE54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FACDC-BA08-47A1-ADD0-9A3D9FFE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95FE0-6751-4C66-936A-8CC204DF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DB300-29EA-47D4-930C-30181929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736FD-8C0D-458D-88EC-04F4CFB0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BBAF3-DA9E-4DDF-8E2C-93654994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34F0F-AFF7-4149-B4B2-D74B32E8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D5AAB-4B18-40D3-B003-0BA045B4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36596-1C5E-45C6-BFF4-C674F226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E1BC0-A038-412A-8ADC-9E4460CA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43E0E-BF25-4DD1-BBC2-C18EEAC5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1B5-F9A7-4CB8-ABAF-E1133D20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C67DA-5AED-46BE-AD2C-6D9AED4C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6B778-207A-4D1B-AE90-2F56FEA4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49D78-861F-4F7E-866F-AA02C7B8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D7868-24AA-44C6-B679-DEE364AE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58360-81AC-4C76-9233-FDB9A33D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84CD4-52C1-4D43-B823-2E6A98C2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0EA10-0F7B-40FE-B90F-8F50361C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2A8BD-8A23-49C6-B70F-514C69E4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BB94A-EE9D-4223-9B17-53E491CE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03145-5116-44F3-946A-93AB39B4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AE44-1A29-4764-B8E8-E2E069FBCED4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FAC2-196D-45B4-AE4E-95BE4872E9FF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6043-D9A8-469A-AA3F-5654A6A40BC6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66F2-C863-4299-8635-9176E33F6152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757E-508B-4E83-95FC-82C67D9ED426}" type="slidenum"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F06B-4BD3-4D34-A35D-346AC9C60CE1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4AC2-EA91-47D9-9958-726F6143C97E}" type="slidenum">
              <a:rPr b="0" lang="ru-RU" sz="1200" spc="-1" strike="noStrike">
                <a:solidFill>
                  <a:srgbClr val="bcc7c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D955-CBC0-4525-9233-FFEA28C56A12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F9FE-F8AE-4725-8E52-94920C6C6EBC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CBE7-376D-4FD0-A06E-007850BCFF76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F353-58E0-4EF0-B09A-5D6A7EC53010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1192-348A-49D5-AB3D-8352032B91C6}" type="slidenum">
              <a:rPr b="0" lang="ru-RU" sz="1200" spc="-1" strike="noStrike">
                <a:solidFill>
                  <a:srgbClr val="5f66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9;&#1080;&#1082;&#1072;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ru.wikipedia.org/wiki/&#1042;&#1077;&#1082;&#1090;&#1086;&#1088;&#1085;&#1086;&#1077;_&#1087;&#1088;&#1086;&#1089;&#1090;&#1088;&#1072;&#1085;&#1089;&#1090;&#1074;&#1086;" TargetMode="External"/><Relationship Id="rId3" Type="http://schemas.openxmlformats.org/officeDocument/2006/relationships/hyperlink" Target="http://ru.wikipedia.org/wiki/&#1051;&#1080;&#1085;&#1077;&#1081;&#1085;&#1086;&#1077;_&#1087;&#1088;&#1086;&#1089;&#1090;&#1088;&#1072;&#1085;&#1089;&#1090;&#1074;&#1086;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83;&#1086;&#1089;&#1086;&#1092;&#1080;&#1103;" TargetMode="External"/><Relationship Id="rId2" Type="http://schemas.openxmlformats.org/officeDocument/2006/relationships/hyperlink" Target="http://ru.wikipedia.org/wiki/&#1060;&#1080;&#1079;&#1080;&#1082;&#1072;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ru.wikipedia.org/wiki/&#1060;&#1080;&#1083;&#1086;&#1089;&#1086;&#1092;&#1080;&#1103;" TargetMode="External"/><Relationship Id="rId5" Type="http://schemas.openxmlformats.org/officeDocument/2006/relationships/hyperlink" Target="http://ru.wikipedia.org/wiki/&#1053;&#1077;&#1086;&#1073;&#1088;&#1072;&#1090;&#1080;&#1084;&#1086;&#1089;&#1090;&#1100;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-1219320" y="1316160"/>
            <a:ext cx="10618920" cy="140796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857160" y="442908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3543"/>
                </a:solidFill>
                <a:latin typeface="Constantia"/>
              </a:rPr>
              <a:t>Презентацию подготовил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3543"/>
                </a:solidFill>
                <a:latin typeface="Constantia"/>
              </a:rPr>
              <a:t>Ученицы 10 в клас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3543"/>
                </a:solidFill>
                <a:latin typeface="Constantia"/>
              </a:rPr>
              <a:t>Шекян Орнелла и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3543"/>
                </a:solidFill>
                <a:latin typeface="Constantia"/>
              </a:rPr>
              <a:t>Парашина Анастас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C:\Users\Милена\Desktop\vremya-i-prostranstvo-0000256669-preview.jpg"/>
          <p:cNvPicPr/>
          <p:nvPr/>
        </p:nvPicPr>
        <p:blipFill>
          <a:blip r:embed="rId1"/>
          <a:stretch/>
        </p:blipFill>
        <p:spPr>
          <a:xfrm>
            <a:off x="142920" y="3214800"/>
            <a:ext cx="4572000" cy="330516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712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285840" y="299988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1"/>
          <p:cNvSpPr/>
          <p:nvPr/>
        </p:nvSpPr>
        <p:spPr>
          <a:xfrm>
            <a:off x="142920" y="2973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Пространство и время имеют объективный характер, неразрывно связаны друг с другом и бесконечны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1" name="Picture 2" descr="C:\Users\Милена\Desktop\work_img_251_309_qbxrolbfb.jpg"/>
          <p:cNvPicPr/>
          <p:nvPr/>
        </p:nvPicPr>
        <p:blipFill>
          <a:blip r:embed="rId3"/>
          <a:stretch/>
        </p:blipFill>
        <p:spPr>
          <a:xfrm>
            <a:off x="5000760" y="285840"/>
            <a:ext cx="3725640" cy="27860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C:\Users\Милена\Desktop\0_5203a_f35cdb6e_XL.jpg"/>
          <p:cNvPicPr/>
          <p:nvPr/>
        </p:nvPicPr>
        <p:blipFill>
          <a:blip r:embed="rId4"/>
          <a:stretch/>
        </p:blipFill>
        <p:spPr>
          <a:xfrm>
            <a:off x="5214960" y="3357720"/>
            <a:ext cx="31431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0001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2060"/>
                </a:solidFill>
                <a:latin typeface="Constantia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46d7a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357280" y="2714400"/>
            <a:ext cx="2686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6b86"/>
                </a:solidFill>
                <a:latin typeface="Calibri"/>
              </a:rPr>
              <a:t>объективные характеристики бытия</a:t>
            </a:r>
            <a:endParaRPr b="0" lang="en-US" sz="25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214720" y="785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ространство и врем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C:\Users\Милена\Desktop\x_91a86765.jpg"/>
          <p:cNvPicPr/>
          <p:nvPr/>
        </p:nvPicPr>
        <p:blipFill>
          <a:blip r:embed="rId1"/>
          <a:stretch/>
        </p:blipFill>
        <p:spPr>
          <a:xfrm>
            <a:off x="500040" y="3929040"/>
            <a:ext cx="3135240" cy="2546280"/>
          </a:xfrm>
          <a:prstGeom prst="rect">
            <a:avLst/>
          </a:prstGeom>
          <a:ln w="0">
            <a:noFill/>
          </a:ln>
        </p:spPr>
      </p:pic>
      <p:cxnSp>
        <p:nvCxnSpPr>
          <p:cNvPr id="510" name="Прямая со стрелкой 5"/>
          <p:cNvCxnSpPr/>
          <p:nvPr/>
        </p:nvCxnSpPr>
        <p:spPr>
          <a:xfrm>
            <a:off x="5643720" y="1571760"/>
            <a:ext cx="429120" cy="1000800"/>
          </a:xfrm>
          <a:prstGeom prst="straightConnector1">
            <a:avLst/>
          </a:prstGeom>
          <a:ln w="9360">
            <a:solidFill>
              <a:srgbClr val="9b4632"/>
            </a:solidFill>
            <a:miter/>
            <a:tailEnd len="med" type="arrow" w="med"/>
          </a:ln>
        </p:spPr>
      </p:cxnSp>
      <p:cxnSp>
        <p:nvCxnSpPr>
          <p:cNvPr id="511" name="Прямая со стрелкой 9"/>
          <p:cNvCxnSpPr/>
          <p:nvPr/>
        </p:nvCxnSpPr>
        <p:spPr>
          <a:xfrm flipH="1">
            <a:off x="3571200" y="1571760"/>
            <a:ext cx="429480" cy="1000800"/>
          </a:xfrm>
          <a:prstGeom prst="straightConnector1">
            <a:avLst/>
          </a:prstGeom>
          <a:ln w="9360">
            <a:solidFill>
              <a:srgbClr val="9b4632"/>
            </a:solidFill>
            <a:miter/>
            <a:tailEnd len="med" type="arrow" w="med"/>
          </a:ln>
        </p:spPr>
      </p:cxnSp>
      <p:sp>
        <p:nvSpPr>
          <p:cNvPr id="512" name="Прямоугольник 15"/>
          <p:cNvSpPr/>
          <p:nvPr/>
        </p:nvSpPr>
        <p:spPr>
          <a:xfrm>
            <a:off x="5357880" y="2643120"/>
            <a:ext cx="21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5064"/>
                </a:solidFill>
                <a:latin typeface="Constantia"/>
              </a:rPr>
              <a:t>субъективные характеристи-ки быт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3" name="Picture 3" descr="C:\Users\Милена\Desktop\4193149-cartoon-scientist--vector-illustration.jpg"/>
          <p:cNvPicPr/>
          <p:nvPr/>
        </p:nvPicPr>
        <p:blipFill>
          <a:blip r:embed="rId2"/>
          <a:stretch/>
        </p:blipFill>
        <p:spPr>
          <a:xfrm>
            <a:off x="5429160" y="3929040"/>
            <a:ext cx="29289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C:\Users\Милена\Desktop\and2disk.jpg"/>
          <p:cNvPicPr/>
          <p:nvPr/>
        </p:nvPicPr>
        <p:blipFill>
          <a:blip r:embed="rId1"/>
          <a:stretch/>
        </p:blipFill>
        <p:spPr>
          <a:xfrm>
            <a:off x="0" y="0"/>
            <a:ext cx="946476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429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acece"/>
                </a:solidFill>
                <a:latin typeface="Calibri"/>
              </a:rPr>
              <a:t>Пространство - форма существования материальных объектов и процессов.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571680" y="246816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6b86"/>
                </a:solidFill>
                <a:latin typeface="Calibri"/>
              </a:rPr>
              <a:t>В </a:t>
            </a:r>
            <a:r>
              <a:rPr b="0" lang="ru-RU" sz="2800" spc="-1" strike="noStrike" u="sng">
                <a:solidFill>
                  <a:srgbClr val="00a3d6"/>
                </a:solidFill>
                <a:uFillTx/>
                <a:latin typeface="Calibri"/>
                <a:hlinkClick r:id="rId1"/>
              </a:rPr>
              <a:t>физике</a:t>
            </a:r>
            <a:r>
              <a:rPr b="0" lang="ru-RU" sz="2800" spc="-1" strike="noStrike">
                <a:solidFill>
                  <a:srgbClr val="646b86"/>
                </a:solidFill>
                <a:latin typeface="Calibri"/>
              </a:rPr>
              <a:t> термин </a:t>
            </a:r>
            <a:r>
              <a:rPr b="1" lang="ru-RU" sz="2800" spc="-1" strike="noStrike">
                <a:solidFill>
                  <a:srgbClr val="646b86"/>
                </a:solidFill>
                <a:latin typeface="Calibri"/>
              </a:rPr>
              <a:t>пространство</a:t>
            </a:r>
            <a:r>
              <a:rPr b="0" lang="ru-RU" sz="2800" spc="-1" strike="noStrike">
                <a:solidFill>
                  <a:srgbClr val="646b86"/>
                </a:solidFill>
                <a:latin typeface="Calibri"/>
              </a:rPr>
              <a:t> понимают, в основном, в двух смыслах:</a:t>
            </a:r>
            <a:br>
              <a:rPr sz="2800"/>
            </a:br>
            <a:br>
              <a:rPr sz="2200"/>
            </a:br>
            <a:endParaRPr b="0" lang="en-US" sz="28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5000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обычное пространств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называемое также 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физическим пространств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трехмерное пространство нашего повседневного мира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пространство, в котором определяется положение физических тел, в котором происходит механическое движение, геометрическое перемещение различных физических тел и объек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C:\Users\Милена\Desktop\work_img_251_309_qbxrolbfb.jpg"/>
          <p:cNvPicPr/>
          <p:nvPr/>
        </p:nvPicPr>
        <p:blipFill>
          <a:blip r:embed="rId1"/>
          <a:stretch/>
        </p:blipFill>
        <p:spPr>
          <a:xfrm>
            <a:off x="4857840" y="3357720"/>
            <a:ext cx="3857400" cy="30956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-360" y="-714600"/>
            <a:ext cx="8001000" cy="64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8cadae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8cadae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личные абстрактные пространства в том смысле, как они понимаются в математике, не имеющие к обычному («физическому») пространству никакого отнош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ычно это те или иные абстрактные </a:t>
            </a:r>
            <a:r>
              <a:rPr b="0" lang="ru-RU" sz="2600" spc="-1" strike="noStrike" u="sng">
                <a:solidFill>
                  <a:srgbClr val="00a3d6"/>
                </a:solidFill>
                <a:uFillTx/>
                <a:latin typeface="Constantia"/>
                <a:hlinkClick r:id="rId2"/>
              </a:rPr>
              <a:t>векторны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или </a:t>
            </a:r>
            <a:r>
              <a:rPr b="0" lang="ru-RU" sz="2600" spc="-1" strike="noStrike" u="sng">
                <a:solidFill>
                  <a:srgbClr val="00a3d6"/>
                </a:solidFill>
                <a:uFillTx/>
                <a:latin typeface="Constantia"/>
                <a:hlinkClick r:id="rId3"/>
              </a:rPr>
              <a:t>линейные пространств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1" name="Picture 2" descr="C:\Users\Милена\Desktop\Gravity_Speed_Cover.gif"/>
          <p:cNvPicPr/>
          <p:nvPr/>
        </p:nvPicPr>
        <p:blipFill>
          <a:blip r:embed="rId4"/>
          <a:stretch/>
        </p:blipFill>
        <p:spPr>
          <a:xfrm>
            <a:off x="571680" y="3429000"/>
            <a:ext cx="37144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C:\Users\Милена\Desktop\712abc1fa3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285840" y="785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e9db"/>
                </a:solidFill>
                <a:latin typeface="Constantia"/>
              </a:rPr>
              <a:t>Всеобщие свойства пространств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6e9db"/>
                </a:solidFill>
                <a:latin typeface="Constantia"/>
              </a:rPr>
              <a:t>протяжен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6e9db"/>
                </a:solidFill>
                <a:latin typeface="Constantia"/>
              </a:rPr>
              <a:t>единство прерывности и непрерывност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C:\Users\Милена\Desktop\image.png"/>
          <p:cNvPicPr/>
          <p:nvPr/>
        </p:nvPicPr>
        <p:blipFill>
          <a:blip r:embed="rId1"/>
          <a:stretch/>
        </p:blipFill>
        <p:spPr>
          <a:xfrm>
            <a:off x="4500720" y="571680"/>
            <a:ext cx="4214520" cy="55004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13840" y="1071360"/>
            <a:ext cx="425772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ВРЕМЯ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. Оно беспрерывно течет. За ним не угнаться и не остановить. Оно все меняет и преображает. 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Время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. Кому-то его всегда не хватает. Кто-то не знает куда его де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292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13840" y="785520"/>
            <a:ext cx="428652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ре́м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одно из основных понятий 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Constantia"/>
                <a:hlinkClick r:id="rId1"/>
              </a:rPr>
              <a:t>философи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и 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Constantia"/>
                <a:hlinkClick r:id="rId2"/>
              </a:rPr>
              <a:t>физи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форма последовательной смены состояния объектов и процессов (характеризует  длительность их бытия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0" name="Picture 2" descr="C:\Users\Милена\Desktop\cz02.jpg"/>
          <p:cNvPicPr/>
          <p:nvPr/>
        </p:nvPicPr>
        <p:blipFill>
          <a:blip r:embed="rId3"/>
          <a:stretch/>
        </p:blipFill>
        <p:spPr>
          <a:xfrm>
            <a:off x="4929120" y="642960"/>
            <a:ext cx="3929040" cy="2946240"/>
          </a:xfrm>
          <a:prstGeom prst="rect">
            <a:avLst/>
          </a:prstGeom>
          <a:ln w="0">
            <a:noFill/>
          </a:ln>
        </p:spPr>
      </p:pic>
      <p:sp>
        <p:nvSpPr>
          <p:cNvPr id="531" name="Прямоугольник 4"/>
          <p:cNvSpPr/>
          <p:nvPr/>
        </p:nvSpPr>
        <p:spPr>
          <a:xfrm>
            <a:off x="4000680" y="4143240"/>
            <a:ext cx="535752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 </a:t>
            </a:r>
            <a:r>
              <a:rPr b="0" lang="ru-RU" sz="2000" spc="-1" strike="noStrike" u="sng">
                <a:solidFill>
                  <a:srgbClr val="00a3d6"/>
                </a:solidFill>
                <a:uFillTx/>
                <a:latin typeface="Constantia"/>
                <a:hlinkClick r:id="rId4"/>
              </a:rPr>
              <a:t>философ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— это </a:t>
            </a:r>
            <a:r>
              <a:rPr b="0" lang="ru-RU" sz="2000" spc="-1" strike="noStrike" u="sng">
                <a:solidFill>
                  <a:srgbClr val="00a3d6"/>
                </a:solidFill>
                <a:uFillTx/>
                <a:latin typeface="Constantia"/>
                <a:hlinkClick r:id="rId5"/>
              </a:rPr>
              <a:t>необратимо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течение (протекающее лишь в одном направлении — из прошлого, через настоящее в будущее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нутри которого происходят все существующие в бытии процессы, являющиеся факт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2" name="Picture 3" descr="C:\Users\Милена\Desktop\x_256f8813.jpg"/>
          <p:cNvPicPr/>
          <p:nvPr/>
        </p:nvPicPr>
        <p:blipFill>
          <a:blip r:embed="rId6"/>
          <a:stretch/>
        </p:blipFill>
        <p:spPr>
          <a:xfrm>
            <a:off x="571680" y="407196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8584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646b86"/>
                </a:solidFill>
                <a:latin typeface="Calibri"/>
              </a:rPr>
              <a:t>Универсальные св-ва времени:</a:t>
            </a:r>
            <a:br>
              <a:rPr sz="4500"/>
            </a:br>
            <a:r>
              <a:rPr b="0" lang="ru-RU" sz="4500" spc="-1" strike="noStrike">
                <a:solidFill>
                  <a:srgbClr val="646b86"/>
                </a:solidFill>
                <a:latin typeface="Calibri"/>
              </a:rPr>
              <a:t>длительность</a:t>
            </a:r>
            <a:br>
              <a:rPr sz="4500"/>
            </a:br>
            <a:r>
              <a:rPr b="0" lang="ru-RU" sz="4500" spc="-1" strike="noStrike">
                <a:solidFill>
                  <a:srgbClr val="646b86"/>
                </a:solidFill>
                <a:latin typeface="Calibri"/>
              </a:rPr>
              <a:t>неповторяемость</a:t>
            </a:r>
            <a:br>
              <a:rPr sz="4500"/>
            </a:br>
            <a:r>
              <a:rPr b="0" lang="ru-RU" sz="4500" spc="-1" strike="noStrike">
                <a:solidFill>
                  <a:srgbClr val="646b86"/>
                </a:solidFill>
                <a:latin typeface="Calibri"/>
              </a:rPr>
              <a:t>необратимость</a:t>
            </a: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642960" y="3357720"/>
            <a:ext cx="8229600" cy="4389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C:\Users\Милена\Desktop\anek_4.jpg"/>
          <p:cNvPicPr/>
          <p:nvPr/>
        </p:nvPicPr>
        <p:blipFill>
          <a:blip r:embed="rId2"/>
          <a:stretch/>
        </p:blipFill>
        <p:spPr>
          <a:xfrm>
            <a:off x="5214960" y="1857240"/>
            <a:ext cx="3286080" cy="4499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" descr="C:\Users\Милена\Desktop\582775.jpg"/>
          <p:cNvPicPr/>
          <p:nvPr/>
        </p:nvPicPr>
        <p:blipFill>
          <a:blip r:embed="rId3"/>
          <a:stretch/>
        </p:blipFill>
        <p:spPr>
          <a:xfrm>
            <a:off x="285840" y="3571920"/>
            <a:ext cx="35049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4:59:36Z</dcterms:created>
  <dc:creator>Милена</dc:creator>
  <dc:description/>
  <dc:language>en-US</dc:language>
  <cp:lastModifiedBy>i.kolesnik</cp:lastModifiedBy>
  <dcterms:modified xsi:type="dcterms:W3CDTF">2012-09-11T05:58:22Z</dcterms:modified>
  <cp:revision>18</cp:revision>
  <dc:subject/>
  <dc:title>Пространство и время</dc:title>
</cp:coreProperties>
</file>