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EBA-4206-4E3A-A376-C98D0D1F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81E-15BC-4DF8-B52E-9039698D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8B760-D028-4DBC-9E13-37F4BB4C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7D704-BF09-4128-B175-C77CD71D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50732-D22F-443B-AD94-9A49679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96F75-84E3-4A05-9872-E5A550AB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5914E-159F-41D8-A2AA-4ADC8E29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6CF68-5C42-4118-8AC4-2293ADE4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35E0D-D472-404D-B9C8-FE6201C0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A98C7-F879-4F53-BA6C-784F9C76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FD356-D926-4FE0-B0C7-A976B5BD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447FD-464C-45B3-89E3-D335F31B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24C-1F12-4DED-9433-9B8299C6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CA3EE-70D7-4220-8157-7BA7469A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EFEAA-0FBE-449A-AAAC-4111A6BA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80C23-1C3D-4F75-914B-B4E21768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64CFE-0A2E-490C-9011-2913FF2D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02109-AB9C-4140-870A-7544CAAA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15B67-ED5E-4587-8DCE-19799DA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0D3A7-B86A-4B53-989C-9C43F372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C1B6E-FBA9-4D7F-973B-2CF032CA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4A4B3-C1BF-4581-9F72-A0359DB7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3125B-1359-4F8F-8331-AA166D5A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2D4-0847-4902-AAEA-1ABF6383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8CD22-F699-4EB0-B562-6CD01B36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A7AD6-F25F-4826-8495-268ABBC5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A2AE9-E70A-4150-8557-0F0AB8F4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867BF-92E4-4CF5-B4EE-B53AEB43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60AC0-31D9-422E-B348-04EC01A9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C0538-5CA7-4B14-94FB-32A25138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75B1B-D52D-41DF-AB1F-0F83D9E9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24C55-0043-43A9-998D-BAE8E3C7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CBE57-0326-436A-8830-CB40049D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82C7D-72DE-41E3-B91E-B0153566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7AFF-03CD-4D3A-95AB-7D055971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4FF62-06DA-4A39-AE29-9464F4B4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06E74-4A38-45E8-8467-A20AE0D3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CC144-D611-4AC5-B72D-7C6E905D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7538F-28ED-4835-8FAB-5C7E2CAB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C3D05-89DC-41DF-B722-9D78433D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35E7F-C956-4DE6-A997-BCD99B8C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4FB83-1097-447F-B801-92590FC9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0F41B-C100-41F8-904D-09D8A1A5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D0C5A-4787-42B4-B87D-9DE7CDF1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81859-68A6-4F90-8A5E-6260CCCA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0834-5455-4A03-B4E6-4770E688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73E73-04C0-4DA0-8FBC-A06620C6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92252-C41B-42EE-AD53-27E8FD0D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47214-D4E6-43E2-88D5-4362F7C4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D9666-842F-47BF-A36A-0F5F467F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BC7C4-9670-4BD7-A59A-90DABDAA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5A74-B058-4ED0-A09A-D5C2778B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26FF-A526-4A98-9F94-F99E9A51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090C-A5E7-4263-95DD-FBF72173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7DF8-4924-410B-965D-319FA430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E6CF-262B-4D75-8A13-77BB3B07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CCA-117B-4B8E-9E80-54BC7211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A5F5-9419-4967-AFAB-E6BB004F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E800-153D-4929-B98E-E8435331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DC99-59CE-4CA9-B3C8-2F54E103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C3F9-74BD-40D5-8096-F3C5C028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4612-D886-4EA3-A4E0-12BE5CD4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B65F-B35F-45C3-ABF7-80055A1E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7BA7-19BC-4E98-A4B0-5161719B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622B-5FB9-4695-92AF-846AEB84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4355-EAF2-4622-A94E-E24E78EF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D2F3-FB80-412D-B039-1AA321AA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80E-8491-4C43-AB70-A350A8CD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72BF6-FEC4-4A28-8049-C3DADD49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5158-0A8E-4497-8818-C890EB61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86F4-2ED8-47E8-92CC-5094C475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C7F4-0810-496B-9363-721EE518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84BC-98C5-455D-8409-50055BCE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65F8B-1D9F-4341-A8C4-02E8012D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98CE-01F2-4C00-91BC-C6D20A7E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397B-7C88-49E8-B61B-978EA82F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EF21-60E0-4ABF-BCA7-509D4DE8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A15E-D1E2-4F00-A4CB-E0FEA494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023-7B57-41C0-8023-B7E52099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B337-2183-4F50-B93B-96D7FC9F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BA0B-8320-4785-A8BD-0948FA38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F842-6125-4589-A929-9A2CEFEE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EBB8-D743-4BFE-8724-9C6D6413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78BD8-9C3E-4C4A-B38C-73867765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07077-93BF-4B84-9339-49DB9B09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8C17E-6BFE-45E1-93C4-23ED81B4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39101-8753-47AE-8703-1A182A92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566C6-5050-4E48-86DD-74F9F43F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173A1-C996-480D-B5F5-670EEC6A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3C3-E5CC-4DFF-9F3E-08D8E4FD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7A17A-0039-4AA5-AE22-F28CE84A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8435B-6D1A-423E-9157-B297F41F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A4495-36CD-49EE-9342-1D077E2B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8EBFA-9572-4F7B-B800-7FB741AC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BBAA2-69D8-4AC7-ACD1-4BF55CE4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BE0FD-669E-4D32-A34E-54BA6BE5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741C2-B3C1-43AC-A2DA-BFD05135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82B63-A4BF-4592-AA34-5FB9D110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786C2-72B0-455F-B64D-0A68B71B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B632-41E6-4FDB-9FE9-3E107950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7AF-787D-4BC2-9786-D50826FA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57D84-CB7E-4DB5-817B-8A7471F4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CD165-2132-438E-8E0C-06B0D72B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F420E-BC9D-4FB8-9143-F20FD528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3EC99-B0E1-4513-AFB3-A340A417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C3933-B6B3-4BE9-93D0-88452877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6713F-9DA4-4E65-96B5-F345D6CB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53BD4-3F12-4C37-B9EB-F522471B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B2B0D-D6D8-4811-A58D-7841CC9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8EB41-9884-4973-8044-B051A5FA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AFED3-F6EF-4104-8A0F-C46AD578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657-4940-4332-8DAA-BEEC57B7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40440-934D-4DBB-993B-ADDBA9EE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0F5A-0718-467E-A96C-EB2C45AB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FCBA7-E8FA-4AB8-9B88-5D3A611B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C901A-9F22-4B6B-A932-21EFE814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BB646-3AAA-424C-B21E-DD76979A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272D3-038B-46B6-9E4A-0254EFEB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FFD0-D881-48F5-BDDE-856766B9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3A764-EECA-448D-9F0D-5A53D8D3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8BDE5-D569-4077-B2A3-132CB401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30988-2E1D-44C9-8C91-4639C990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E6E-2C34-40EC-9999-A81FB44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AA714-73E4-4FD2-B6E8-20668C5E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DABCA-08A2-4078-A855-34E796CD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1B678-0AEF-4FCF-A7FB-4A24AB0A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0367F-9241-4706-BC9D-6505DB1E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868A3-B60E-43C4-B1C4-D77F71EE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B5254-F2D5-49BB-B98D-07688BF6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078FB-4C04-4505-996E-69D9C2F6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C373D-5C7D-4390-98A7-DD6D00FE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4F378-EA5B-4A4C-92FE-1104B6CE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7B69E-712F-481C-B0D8-FDD54223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36A-598E-48FD-86B8-B5F9E684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5D4BD-3571-4C8D-A4C3-0BFF8A88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890F7-20C9-4F17-B93D-588B5E91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4C25C-007E-4ABA-9AEC-FF11B279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970BF-1FDC-4F98-92EC-4E5EF77D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F705C-67AC-431D-8DE6-2BBF79DE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FE6B7-8994-4AE8-9724-5C0D4F76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F36B8-FFF7-4227-BF10-097FE5B5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BA8CD-2833-4DC4-A559-EF9E50BA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35D1F-924B-495A-919C-6DBE4C04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187D2-71D9-4016-A3CA-19ED8C6F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395-B2BF-4DC7-BC88-6358CD0FF81B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C37C-DF19-4486-A49C-FB91B75F84B9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A6C5-ED44-47A6-ABB2-52EDBBBE4FC2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71CE-E185-46EC-A931-0E041F78CD23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D8EB-51D9-4C59-9649-868E0DE86A66}" type="slidenum"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A428-BE48-4650-BBCC-66AE958F8343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D7C6-DF79-445E-ADF5-D5D0E4A9FE06}" type="slidenum"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AA0C-DFE3-47E9-AE0A-D3F67D5A7670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DFFA-9D63-453B-B881-06FCCD9A1B90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FFC8-8BEB-4181-809F-F9961B2FEF1B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8A7D-2FDE-491D-8CD5-3D23ACF80E99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1F36-0BA6-46D7-9CE9-6BC1A3A3D8A2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9;&#1080;&#1082;&#1072;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ru.wikipedia.org/wiki/&#1042;&#1077;&#1082;&#1090;&#1086;&#1088;&#1085;&#1086;&#1077;_&#1087;&#1088;&#1086;&#1089;&#1090;&#1088;&#1072;&#1085;&#1089;&#1090;&#1074;&#1086;" TargetMode="External"/><Relationship Id="rId3" Type="http://schemas.openxmlformats.org/officeDocument/2006/relationships/hyperlink" Target="http://ru.wikipedia.org/wiki/&#1051;&#1080;&#1085;&#1077;&#1081;&#1085;&#1086;&#1077;_&#1087;&#1088;&#1086;&#1089;&#1090;&#1088;&#1072;&#1085;&#1089;&#1090;&#1074;&#1086;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83;&#1086;&#1089;&#1086;&#1092;&#1080;&#1103;" TargetMode="External"/><Relationship Id="rId2" Type="http://schemas.openxmlformats.org/officeDocument/2006/relationships/hyperlink" Target="http://ru.wikipedia.org/wiki/&#1060;&#1080;&#1079;&#1080;&#1082;&#1072;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ru.wikipedia.org/wiki/&#1060;&#1080;&#1083;&#1086;&#1089;&#1086;&#1092;&#1080;&#1103;" TargetMode="External"/><Relationship Id="rId5" Type="http://schemas.openxmlformats.org/officeDocument/2006/relationships/hyperlink" Target="http://ru.wikipedia.org/wiki/&#1053;&#1077;&#1086;&#1073;&#1088;&#1072;&#1090;&#1080;&#1084;&#1086;&#1089;&#1090;&#1100;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-1219320" y="1316160"/>
            <a:ext cx="10618920" cy="140796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857160" y="442908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3543"/>
                </a:solidFill>
                <a:latin typeface="Constantia"/>
              </a:rPr>
              <a:t>Презентацию подготовил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3543"/>
                </a:solidFill>
                <a:latin typeface="Constantia"/>
              </a:rPr>
              <a:t>Ученицы 10 в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3543"/>
                </a:solidFill>
                <a:latin typeface="Constantia"/>
              </a:rPr>
              <a:t>Шекян Орнелла и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3543"/>
                </a:solidFill>
                <a:latin typeface="Constantia"/>
              </a:rPr>
              <a:t>Парашина Анастас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C:\Users\Милена\Desktop\vremya-i-prostranstvo-0000256669-preview.jpg"/>
          <p:cNvPicPr/>
          <p:nvPr/>
        </p:nvPicPr>
        <p:blipFill>
          <a:blip r:embed="rId1"/>
          <a:stretch/>
        </p:blipFill>
        <p:spPr>
          <a:xfrm>
            <a:off x="142920" y="3214800"/>
            <a:ext cx="4572000" cy="330516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712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285840" y="299988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1"/>
          <p:cNvSpPr/>
          <p:nvPr/>
        </p:nvSpPr>
        <p:spPr>
          <a:xfrm>
            <a:off x="142920" y="2973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Пространство и время имеют объективный характер, неразрывно связаны друг с другом и бесконечны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1" name="Picture 2" descr="C:\Users\Милена\Desktop\work_img_251_309_qbxrolbfb.jpg"/>
          <p:cNvPicPr/>
          <p:nvPr/>
        </p:nvPicPr>
        <p:blipFill>
          <a:blip r:embed="rId3"/>
          <a:stretch/>
        </p:blipFill>
        <p:spPr>
          <a:xfrm>
            <a:off x="5000760" y="285840"/>
            <a:ext cx="3725640" cy="27860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C:\Users\Милена\Desktop\0_5203a_f35cdb6e_XL.jpg"/>
          <p:cNvPicPr/>
          <p:nvPr/>
        </p:nvPicPr>
        <p:blipFill>
          <a:blip r:embed="rId4"/>
          <a:stretch/>
        </p:blipFill>
        <p:spPr>
          <a:xfrm>
            <a:off x="5214960" y="3357720"/>
            <a:ext cx="31431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0001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2060"/>
                </a:solidFill>
                <a:latin typeface="Constantia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46d7a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357280" y="2714400"/>
            <a:ext cx="2686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6b86"/>
                </a:solidFill>
                <a:latin typeface="Calibri"/>
              </a:rPr>
              <a:t>объективные характеристики бытия</a:t>
            </a:r>
            <a:endParaRPr b="0" lang="en-US" sz="25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214720" y="785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ространство и врем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C:\Users\Милена\Desktop\x_91a86765.jpg"/>
          <p:cNvPicPr/>
          <p:nvPr/>
        </p:nvPicPr>
        <p:blipFill>
          <a:blip r:embed="rId1"/>
          <a:stretch/>
        </p:blipFill>
        <p:spPr>
          <a:xfrm>
            <a:off x="500040" y="3929040"/>
            <a:ext cx="3135240" cy="2546280"/>
          </a:xfrm>
          <a:prstGeom prst="rect">
            <a:avLst/>
          </a:prstGeom>
          <a:ln w="0">
            <a:noFill/>
          </a:ln>
        </p:spPr>
      </p:pic>
      <p:cxnSp>
        <p:nvCxnSpPr>
          <p:cNvPr id="510" name="Прямая со стрелкой 5"/>
          <p:cNvCxnSpPr/>
          <p:nvPr/>
        </p:nvCxnSpPr>
        <p:spPr>
          <a:xfrm>
            <a:off x="5643720" y="1571760"/>
            <a:ext cx="429120" cy="1000800"/>
          </a:xfrm>
          <a:prstGeom prst="straightConnector1">
            <a:avLst/>
          </a:prstGeom>
          <a:ln w="9360">
            <a:solidFill>
              <a:srgbClr val="9b4632"/>
            </a:solidFill>
            <a:miter/>
            <a:tailEnd len="med" type="arrow" w="med"/>
          </a:ln>
        </p:spPr>
      </p:cxnSp>
      <p:cxnSp>
        <p:nvCxnSpPr>
          <p:cNvPr id="511" name="Прямая со стрелкой 9"/>
          <p:cNvCxnSpPr/>
          <p:nvPr/>
        </p:nvCxnSpPr>
        <p:spPr>
          <a:xfrm flipH="1">
            <a:off x="3571200" y="1571760"/>
            <a:ext cx="429480" cy="1000800"/>
          </a:xfrm>
          <a:prstGeom prst="straightConnector1">
            <a:avLst/>
          </a:prstGeom>
          <a:ln w="9360">
            <a:solidFill>
              <a:srgbClr val="9b4632"/>
            </a:solidFill>
            <a:miter/>
            <a:tailEnd len="med" type="arrow" w="med"/>
          </a:ln>
        </p:spPr>
      </p:cxnSp>
      <p:sp>
        <p:nvSpPr>
          <p:cNvPr id="512" name="Прямоугольник 15"/>
          <p:cNvSpPr/>
          <p:nvPr/>
        </p:nvSpPr>
        <p:spPr>
          <a:xfrm>
            <a:off x="5357880" y="264312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5064"/>
                </a:solidFill>
                <a:latin typeface="Constantia"/>
              </a:rPr>
              <a:t>субъективные характеристи-ки быт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3" name="Picture 3" descr="C:\Users\Милена\Desktop\4193149-cartoon-scientist--vector-illustration.jpg"/>
          <p:cNvPicPr/>
          <p:nvPr/>
        </p:nvPicPr>
        <p:blipFill>
          <a:blip r:embed="rId2"/>
          <a:stretch/>
        </p:blipFill>
        <p:spPr>
          <a:xfrm>
            <a:off x="5429160" y="3929040"/>
            <a:ext cx="29289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C:\Users\Милена\Desktop\and2disk.jpg"/>
          <p:cNvPicPr/>
          <p:nvPr/>
        </p:nvPicPr>
        <p:blipFill>
          <a:blip r:embed="rId1"/>
          <a:stretch/>
        </p:blipFill>
        <p:spPr>
          <a:xfrm>
            <a:off x="0" y="0"/>
            <a:ext cx="946476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429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acece"/>
                </a:solidFill>
                <a:latin typeface="Calibri"/>
              </a:rPr>
              <a:t>Пространство - форма существования материальных объектов и процессов.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571680" y="246816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6b86"/>
                </a:solidFill>
                <a:latin typeface="Calibri"/>
              </a:rPr>
              <a:t>В </a:t>
            </a:r>
            <a:r>
              <a:rPr b="0" lang="ru-RU" sz="2800" spc="-1" strike="noStrike" u="sng">
                <a:solidFill>
                  <a:srgbClr val="00a3d6"/>
                </a:solidFill>
                <a:uFillTx/>
                <a:latin typeface="Calibri"/>
                <a:hlinkClick r:id="rId1"/>
              </a:rPr>
              <a:t>физике</a:t>
            </a:r>
            <a:r>
              <a:rPr b="0" lang="ru-RU" sz="2800" spc="-1" strike="noStrike">
                <a:solidFill>
                  <a:srgbClr val="646b86"/>
                </a:solidFill>
                <a:latin typeface="Calibri"/>
              </a:rPr>
              <a:t> термин </a:t>
            </a:r>
            <a:r>
              <a:rPr b="1" lang="ru-RU" sz="2800" spc="-1" strike="noStrike">
                <a:solidFill>
                  <a:srgbClr val="646b86"/>
                </a:solidFill>
                <a:latin typeface="Calibri"/>
              </a:rPr>
              <a:t>пространство</a:t>
            </a:r>
            <a:r>
              <a:rPr b="0" lang="ru-RU" sz="2800" spc="-1" strike="noStrike">
                <a:solidFill>
                  <a:srgbClr val="646b86"/>
                </a:solidFill>
                <a:latin typeface="Calibri"/>
              </a:rPr>
              <a:t> понимают, в основном, в двух смыслах:</a:t>
            </a:r>
            <a:br>
              <a:rPr sz="2800"/>
            </a:br>
            <a:br>
              <a:rPr sz="2200"/>
            </a:br>
            <a:endParaRPr b="0" lang="en-US" sz="2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5000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обычное пространств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называемое также 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физическим пространств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трехмерное пространство нашего повседневного мира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пространство, в котором определяется положение физических тел, в котором происходит механическое движение, геометрическое перемещение различных физических тел и объек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C:\Users\Милена\Desktop\work_img_251_309_qbxrolbfb.jpg"/>
          <p:cNvPicPr/>
          <p:nvPr/>
        </p:nvPicPr>
        <p:blipFill>
          <a:blip r:embed="rId1"/>
          <a:stretch/>
        </p:blipFill>
        <p:spPr>
          <a:xfrm>
            <a:off x="4857840" y="3357720"/>
            <a:ext cx="3857400" cy="30956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-360" y="-714600"/>
            <a:ext cx="8001000" cy="64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8cadae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8cadae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личные абстрактные пространства в том смысле, как они понимаются в математике, не имеющие к обычному («физическому») пространству никакого отнош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ычно это те или иные абстрактные </a:t>
            </a:r>
            <a:r>
              <a:rPr b="0" lang="ru-RU" sz="2600" spc="-1" strike="noStrike" u="sng">
                <a:solidFill>
                  <a:srgbClr val="00a3d6"/>
                </a:solidFill>
                <a:uFillTx/>
                <a:latin typeface="Constantia"/>
                <a:hlinkClick r:id="rId2"/>
              </a:rPr>
              <a:t>векторны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или </a:t>
            </a:r>
            <a:r>
              <a:rPr b="0" lang="ru-RU" sz="2600" spc="-1" strike="noStrike" u="sng">
                <a:solidFill>
                  <a:srgbClr val="00a3d6"/>
                </a:solidFill>
                <a:uFillTx/>
                <a:latin typeface="Constantia"/>
                <a:hlinkClick r:id="rId3"/>
              </a:rPr>
              <a:t>линейные пространств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1" name="Picture 2" descr="C:\Users\Милена\Desktop\Gravity_Speed_Cover.gif"/>
          <p:cNvPicPr/>
          <p:nvPr/>
        </p:nvPicPr>
        <p:blipFill>
          <a:blip r:embed="rId4"/>
          <a:stretch/>
        </p:blipFill>
        <p:spPr>
          <a:xfrm>
            <a:off x="571680" y="3429000"/>
            <a:ext cx="37144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C:\Users\Милена\Desktop\712abc1fa3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285840" y="785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e9db"/>
                </a:solidFill>
                <a:latin typeface="Constantia"/>
              </a:rPr>
              <a:t>Всеобщие свойства пространств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6e9db"/>
                </a:solidFill>
                <a:latin typeface="Constantia"/>
              </a:rPr>
              <a:t>протяжен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6e9db"/>
                </a:solidFill>
                <a:latin typeface="Constantia"/>
              </a:rPr>
              <a:t>единство прерывности и непрерывн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C:\Users\Милена\Desktop\image.png"/>
          <p:cNvPicPr/>
          <p:nvPr/>
        </p:nvPicPr>
        <p:blipFill>
          <a:blip r:embed="rId1"/>
          <a:stretch/>
        </p:blipFill>
        <p:spPr>
          <a:xfrm>
            <a:off x="4500720" y="571680"/>
            <a:ext cx="4214520" cy="55004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13840" y="1071360"/>
            <a:ext cx="425772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ВРЕМЯ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. Оно беспрерывно течет. За ним не угнаться и не остановить. Оно все меняет и преображает. 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Время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. Кому-то его всегда не хватает. Кто-то не знает куда его де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292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13840" y="785520"/>
            <a:ext cx="428652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ре́м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одно из основных понятий 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Constantia"/>
                <a:hlinkClick r:id="rId1"/>
              </a:rPr>
              <a:t>философи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и 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Constantia"/>
                <a:hlinkClick r:id="rId2"/>
              </a:rPr>
              <a:t>физи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форма последовательной смены состояния объектов и процессов (характеризует  длительность их бытия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0" name="Picture 2" descr="C:\Users\Милена\Desktop\cz02.jpg"/>
          <p:cNvPicPr/>
          <p:nvPr/>
        </p:nvPicPr>
        <p:blipFill>
          <a:blip r:embed="rId3"/>
          <a:stretch/>
        </p:blipFill>
        <p:spPr>
          <a:xfrm>
            <a:off x="4929120" y="642960"/>
            <a:ext cx="3929040" cy="2946240"/>
          </a:xfrm>
          <a:prstGeom prst="rect">
            <a:avLst/>
          </a:prstGeom>
          <a:ln w="0">
            <a:noFill/>
          </a:ln>
        </p:spPr>
      </p:pic>
      <p:sp>
        <p:nvSpPr>
          <p:cNvPr id="531" name="Прямоугольник 4"/>
          <p:cNvSpPr/>
          <p:nvPr/>
        </p:nvSpPr>
        <p:spPr>
          <a:xfrm>
            <a:off x="4000680" y="4143240"/>
            <a:ext cx="535752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 </a:t>
            </a:r>
            <a:r>
              <a:rPr b="0" lang="ru-RU" sz="2000" spc="-1" strike="noStrike" u="sng">
                <a:solidFill>
                  <a:srgbClr val="00a3d6"/>
                </a:solidFill>
                <a:uFillTx/>
                <a:latin typeface="Constantia"/>
                <a:hlinkClick r:id="rId4"/>
              </a:rPr>
              <a:t>философ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— это </a:t>
            </a:r>
            <a:r>
              <a:rPr b="0" lang="ru-RU" sz="2000" spc="-1" strike="noStrike" u="sng">
                <a:solidFill>
                  <a:srgbClr val="00a3d6"/>
                </a:solidFill>
                <a:uFillTx/>
                <a:latin typeface="Constantia"/>
                <a:hlinkClick r:id="rId5"/>
              </a:rPr>
              <a:t>необратимо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течение (протекающее лишь в одном направлении — из прошлого, через настоящее в будущее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нутри которого происходят все существующие в бытии процессы, являющиеся факт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2" name="Picture 3" descr="C:\Users\Милена\Desktop\x_256f8813.jpg"/>
          <p:cNvPicPr/>
          <p:nvPr/>
        </p:nvPicPr>
        <p:blipFill>
          <a:blip r:embed="rId6"/>
          <a:stretch/>
        </p:blipFill>
        <p:spPr>
          <a:xfrm>
            <a:off x="571680" y="407196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8584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646b86"/>
                </a:solidFill>
                <a:latin typeface="Calibri"/>
              </a:rPr>
              <a:t>Универсальные св-ва времени:</a:t>
            </a:r>
            <a:br>
              <a:rPr sz="4500"/>
            </a:br>
            <a:r>
              <a:rPr b="0" lang="ru-RU" sz="4500" spc="-1" strike="noStrike">
                <a:solidFill>
                  <a:srgbClr val="646b86"/>
                </a:solidFill>
                <a:latin typeface="Calibri"/>
              </a:rPr>
              <a:t>длительность</a:t>
            </a:r>
            <a:br>
              <a:rPr sz="4500"/>
            </a:br>
            <a:r>
              <a:rPr b="0" lang="ru-RU" sz="4500" spc="-1" strike="noStrike">
                <a:solidFill>
                  <a:srgbClr val="646b86"/>
                </a:solidFill>
                <a:latin typeface="Calibri"/>
              </a:rPr>
              <a:t>неповторяемость</a:t>
            </a:r>
            <a:br>
              <a:rPr sz="4500"/>
            </a:br>
            <a:r>
              <a:rPr b="0" lang="ru-RU" sz="4500" spc="-1" strike="noStrike">
                <a:solidFill>
                  <a:srgbClr val="646b86"/>
                </a:solidFill>
                <a:latin typeface="Calibri"/>
              </a:rPr>
              <a:t>необратимость</a:t>
            </a: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42960" y="3357720"/>
            <a:ext cx="8229600" cy="4389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C:\Users\Милена\Desktop\anek_4.jpg"/>
          <p:cNvPicPr/>
          <p:nvPr/>
        </p:nvPicPr>
        <p:blipFill>
          <a:blip r:embed="rId2"/>
          <a:stretch/>
        </p:blipFill>
        <p:spPr>
          <a:xfrm>
            <a:off x="5214960" y="1857240"/>
            <a:ext cx="3286080" cy="4499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" descr="C:\Users\Милена\Desktop\582775.jpg"/>
          <p:cNvPicPr/>
          <p:nvPr/>
        </p:nvPicPr>
        <p:blipFill>
          <a:blip r:embed="rId3"/>
          <a:stretch/>
        </p:blipFill>
        <p:spPr>
          <a:xfrm>
            <a:off x="285840" y="3571920"/>
            <a:ext cx="35049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4:59:36Z</dcterms:created>
  <dc:creator>Милена</dc:creator>
  <dc:description/>
  <dc:language>en-US</dc:language>
  <cp:lastModifiedBy>i.kolesnik</cp:lastModifiedBy>
  <dcterms:modified xsi:type="dcterms:W3CDTF">2012-09-11T05:58:22Z</dcterms:modified>
  <cp:revision>18</cp:revision>
  <dc:subject/>
  <dc:title>Пространство и время</dc:title>
</cp:coreProperties>
</file>