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4D9F-7676-4ABD-A7E2-7D4B7BF3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9F5F-C0E7-4E13-B644-02E0E852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D0E0-896E-4E22-8F9B-BDF61A80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C4F6-1C05-4DCA-A4E1-7DC10F05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5CAA-1283-47C0-AB7A-5AED7B4E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4CB6-BECD-42D7-8EE5-0B3906A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3C3B-7C0D-47FB-B4B9-CA6EA816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D208-1E70-420A-ABC1-8F52E1DF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0B5C-0BAF-487A-8F44-4F6BA695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ADC2-048F-4FEF-8AF4-38FCB85C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070B-7EE1-40F9-B749-032981F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8F4C-40EB-4075-9C6C-108F98F4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A841-C714-42E7-B8AE-ED6DCED0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A08D-1DA0-4000-BD25-5DE5BB6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C381-29B1-4619-B493-31D81EA7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8240-FF75-48B4-A014-878F07C8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ED67-76E2-44ED-B237-D2646321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39E5-6BF3-4E85-A5DB-CB99E360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CC98-F915-4ECC-BCA1-8B8A75D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64C0-52A8-40C4-9327-806AB236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7B30-6906-4CFD-B8A7-F1252100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40CF-C360-4431-A8D3-311DE05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9265-F57C-4181-A0EC-2177829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344E-F868-4858-A61D-60E2E8CB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27EF-0BB0-4EBC-AD80-9A3266A7E5C7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AB46-8D1E-4923-A8EB-45988AE53743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gavrilowa@yandex.ru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Всемирная сеть Интернет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Обобщающий урок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Отгадать загадки. Взяв первые буквы слов-ответов, узнать, какие информационные процессы здесь зашифрованы.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541008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5-8-12-13-14 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15–6–1–9-13-14-24-14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2-25-10-16-12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22-17-23-21-8-26-20-3-27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2-26-10-7-3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96000" y="2276280"/>
            <a:ext cx="2890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обмен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хранение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прием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обработка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поиск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Установите соответстви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раузер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омен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оска объявлен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анс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ть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лектронная почта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Шлюз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a) e-mail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browser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domain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gateway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bbs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т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session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у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network</a:t>
            </a:r>
            <a:br>
              <a:rPr sz="2800"/>
            </a:b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8000" y="1557360"/>
            <a:ext cx="8928000" cy="3672000"/>
            <a:chOff x="108000" y="1557360"/>
            <a:chExt cx="8928000" cy="3672000"/>
          </a:xfrm>
        </p:grpSpPr>
        <p:sp>
          <p:nvSpPr>
            <p:cNvPr id="109" name=""/>
            <p:cNvSpPr/>
            <p:nvPr/>
          </p:nvSpPr>
          <p:spPr>
            <a:xfrm>
              <a:off x="108000" y="1557360"/>
              <a:ext cx="8928000" cy="3672000"/>
            </a:xfrm>
            <a:prstGeom prst="rect">
              <a:avLst/>
            </a:prstGeom>
            <a:solidFill>
              <a:srgbClr val="ffffe3"/>
            </a:solidFill>
            <a:ln w="936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68360" y="2276640"/>
              <a:ext cx="8424720" cy="19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ВИРТУАЛ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Практическая работ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Найти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 algn="ctr">
              <a:spcBef>
                <a:spcPts val="901"/>
              </a:spcBef>
              <a:buClr>
                <a:srgbClr val="7b6d47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Прислать на адрес </a:t>
            </a: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en-US" sz="3600" spc="-1" strike="noStrike" u="sng">
                <a:solidFill>
                  <a:srgbClr val="7b6d47"/>
                </a:solidFill>
                <a:uFillTx/>
                <a:latin typeface="Garamond"/>
                <a:hlinkClick r:id="rId1"/>
              </a:rPr>
              <a:t>gavrilowa@yandex.ru</a:t>
            </a:r>
            <a:r>
              <a:rPr b="0" lang="ru-RU" sz="36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aramond"/>
              </a:rPr>
              <a:t>Фамилия, имя, отчество,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Garamond"/>
              </a:rPr>
              <a:t>дата рождения,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aramond"/>
              </a:rPr>
              <a:t>род занятий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Дополните словосочетани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00360" y="191628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… </a:t>
            </a: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сеть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 … </a:t>
            </a: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адрес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Электронная …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  … </a:t>
            </a: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ящик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По теме «Всемирная сеть Интернет»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Составить кроссворд из 10 слов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Составить 5 ребусов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6:39:43Z</dcterms:created>
  <dc:creator>Andry</dc:creator>
  <dc:description/>
  <dc:language>en-US</dc:language>
  <cp:lastModifiedBy>1</cp:lastModifiedBy>
  <dcterms:modified xsi:type="dcterms:W3CDTF">2010-04-07T06:00:33Z</dcterms:modified>
  <cp:revision>6</cp:revision>
  <dc:subject/>
  <dc:title>Всемирная сеть Интернет</dc:title>
</cp:coreProperties>
</file>