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B704-3D75-4AE4-B993-3958F082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EEB3D-59CB-415D-AF0C-C8A5468A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0EB1C-A523-4E79-9326-0A5D93CE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7EA5-88A7-4E6F-8DFB-3CFC6464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7D85-93B7-44FE-8059-F41988CE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FAB8-AA9D-4347-92ED-5E0A72B8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6141-635C-4336-B913-2D71C67A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54DE-AD71-45DA-8EA8-99BD78C5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5B64-B6BA-4AF6-A1CC-89A3F23E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BCEA-42FB-4D37-8352-ADB8D400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D83D-F3DC-48BD-B343-5F937AD6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52EE-0E62-482A-9EC0-8BA93DCB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AE0F-138A-4F26-8B0D-27D06B9E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A8F7-7F0C-4C28-8D5C-F4470D9D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52EC-0E7D-4F3D-8055-9F3BCCE3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7935-E01F-4110-A75A-15637419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BBA4-F274-404F-9F50-DB4B3817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AFCC-0FAE-4920-A82C-CB3664D5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4AD5-2261-4E6A-A497-45133422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55CB-3FC1-4BBB-AD34-1C101884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EB9C-9ED7-46D7-92EA-E94F650E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60A9E-4DBD-4DE5-AB58-AD0549DE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8E46-0912-4206-AC48-708CA46D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D123-A471-4856-8142-574E610D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ABDA-EAFD-43BC-ACDD-1F2350655524}" type="slidenum"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A225-B605-4D04-A6CC-2DD76025F567}" type="slidenum"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gavrilowa@yandex.ru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Всемирная сеть Интернет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Обобщающий урок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Отгадать загадки. Взяв первые буквы слов-ответов, узнать, какие информационные процессы здесь зашифрованы.</a:t>
            </a: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541008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5-8-12-13-14 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15–6–1–9-13-14-24-14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2-25-10-16-12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22-17-23-21-8-26-20-3-27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2-26-10-7-3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96000" y="2276280"/>
            <a:ext cx="2890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Garamond"/>
              </a:rPr>
              <a:t>обмен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Garamond"/>
              </a:rPr>
              <a:t>хранение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Garamond"/>
              </a:rPr>
              <a:t>прием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Garamond"/>
              </a:rPr>
              <a:t>обработка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Garamond"/>
              </a:rPr>
              <a:t>поиск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Установите соответствие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Браузер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585000" indent="-5850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Домен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585000" indent="-5850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Доска объявлени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585000" indent="-5850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еанс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585000" indent="-5850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еть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585000" indent="-5850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Электронная почта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585000" indent="-5850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Шлюз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2400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(a) e-mail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(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в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) browser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(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и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) domain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(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л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) gateway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(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р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) bbs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(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т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) session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(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у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) network</a:t>
            </a:r>
            <a:br>
              <a:rPr sz="2800"/>
            </a:b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08000" y="1557360"/>
            <a:ext cx="8928000" cy="3672000"/>
            <a:chOff x="108000" y="1557360"/>
            <a:chExt cx="8928000" cy="3672000"/>
          </a:xfrm>
        </p:grpSpPr>
        <p:sp>
          <p:nvSpPr>
            <p:cNvPr id="109" name=""/>
            <p:cNvSpPr/>
            <p:nvPr/>
          </p:nvSpPr>
          <p:spPr>
            <a:xfrm>
              <a:off x="108000" y="1557360"/>
              <a:ext cx="8928000" cy="3672000"/>
            </a:xfrm>
            <a:prstGeom prst="rect">
              <a:avLst/>
            </a:prstGeom>
            <a:solidFill>
              <a:srgbClr val="ffffe3"/>
            </a:solidFill>
            <a:ln w="936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68360" y="2276640"/>
              <a:ext cx="8424720" cy="19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ВИРТУАЛ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Практическая работа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7b6d47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Найти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609480" indent="-609480" algn="ctr">
              <a:spcBef>
                <a:spcPts val="901"/>
              </a:spcBef>
              <a:buClr>
                <a:srgbClr val="7b6d47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Прислать на адрес </a:t>
            </a: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en-US" sz="3600" spc="-1" strike="noStrike" u="sng">
                <a:solidFill>
                  <a:srgbClr val="7b6d47"/>
                </a:solidFill>
                <a:uFillTx/>
                <a:latin typeface="Garamond"/>
                <a:hlinkClick r:id="rId1"/>
              </a:rPr>
              <a:t>gavrilowa@yandex.ru</a:t>
            </a:r>
            <a:r>
              <a:rPr b="0" lang="ru-RU" sz="36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Garamond"/>
              </a:rPr>
              <a:t>Фамилия, имя, отчество,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9900"/>
                </a:solidFill>
                <a:latin typeface="Garamond"/>
              </a:rPr>
              <a:t>дата рождения, 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Garamond"/>
              </a:rPr>
              <a:t>род занятий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Дополните словосочетание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00360" y="191628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… </a:t>
            </a: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сеть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 … </a:t>
            </a: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адрес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Электронная …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  … </a:t>
            </a: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ящик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По теме «Всемирная сеть Интернет»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Составить кроссворд из 10 слов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Составить 5 ребусов 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6:39:43Z</dcterms:created>
  <dc:creator>Andry</dc:creator>
  <dc:description/>
  <dc:language>en-US</dc:language>
  <cp:lastModifiedBy>1</cp:lastModifiedBy>
  <dcterms:modified xsi:type="dcterms:W3CDTF">2010-04-07T06:00:33Z</dcterms:modified>
  <cp:revision>6</cp:revision>
  <dc:subject/>
  <dc:title>Всемирная сеть Интернет</dc:title>
</cp:coreProperties>
</file>