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5B8E7-DCC7-4E88-99FE-2AEA4CD5E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05B3A-A4F8-42FF-94CA-99D93FEEC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0211D-16E2-44A3-97C3-4F8981273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809DB-D0B8-48CE-8D00-A18D4028A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311D5-D90D-4202-96B3-2009A791A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BF094-232A-426C-95BE-14ACEF1B2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61070-092F-44B7-9C33-7A99BAD59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78982-E872-4BF5-8590-90CF1005E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55355-4DD3-4776-9CAF-FEF0D1696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E5351-3322-463F-9F00-436A689E4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CDFC1-D034-4122-808A-E1450ED82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6FC1-FCCE-4994-9B32-6DE195403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3430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9EDA45-937A-4B89-B757-23192DFCCD0E}"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502920" y="93240"/>
            <a:ext cx="9070920" cy="7193160"/>
          </a:xfrm>
          <a:prstGeom prst="rect">
            <a:avLst/>
          </a:prstGeom>
          <a:noFill/>
          <a:ln w="0">
            <a:noFill/>
          </a:ln>
        </p:spPr>
        <p:txBody>
          <a:bodyPr lIns="0" rIns="0" tIns="0" bIns="0" anchor="ctr">
            <a:noAutofit/>
          </a:bodyPr>
          <a:p>
            <a:pPr algn="ct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3200" spc="-1" strike="noStrike">
                <a:solidFill>
                  <a:srgbClr val="004586"/>
                </a:solidFill>
                <a:latin typeface="Arial"/>
              </a:rPr>
              <a:t>Проверочная работа</a:t>
            </a:r>
            <a:endParaRPr b="0" lang="en-US" sz="3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200" spc="-1" strike="noStrike">
                <a:solidFill>
                  <a:srgbClr val="000000"/>
                </a:solidFill>
                <a:latin typeface="Arial"/>
              </a:rPr>
              <a:t>Задание 1.</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200" spc="-1" strike="noStrike">
                <a:solidFill>
                  <a:srgbClr val="000000"/>
                </a:solidFill>
                <a:latin typeface="Arial"/>
              </a:rPr>
              <a:t>Современный монитор позволяет получать на экране 16 777 216 различных цветов. Сколько битов памяти занимает 1 пиксель?</a:t>
            </a:r>
            <a:r>
              <a:rPr b="0" lang="en-US" sz="2200" spc="-1" strike="noStrike">
                <a:solidFill>
                  <a:srgbClr val="000000"/>
                </a:solidFill>
                <a:latin typeface="Arial"/>
              </a:rPr>
              <a:t> (</a:t>
            </a:r>
            <a:r>
              <a:rPr b="0" lang="en-US" sz="2200" spc="-1" strike="noStrike">
                <a:solidFill>
                  <a:srgbClr val="3333cc"/>
                </a:solidFill>
                <a:latin typeface="Arial"/>
              </a:rPr>
              <a:t>24)</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200" spc="-1" strike="noStrike">
                <a:solidFill>
                  <a:srgbClr val="000000"/>
                </a:solidFill>
                <a:latin typeface="Arial"/>
              </a:rPr>
              <a:t>Задание 2.</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200" spc="-1" strike="noStrike">
                <a:solidFill>
                  <a:srgbClr val="000000"/>
                </a:solidFill>
                <a:latin typeface="Arial"/>
              </a:rPr>
              <a:t>На экране с разрешающей способностью 640 х 200 высвечиваются только двухцветные изображения. Какой минимальный объем видеопамяти необходим для хранения изображения?</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200" spc="-1" strike="noStrike">
                <a:solidFill>
                  <a:srgbClr val="000000"/>
                </a:solidFill>
                <a:latin typeface="Arial"/>
              </a:rPr>
              <a:t>Задание 3.</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200" spc="-1" strike="noStrike">
                <a:solidFill>
                  <a:srgbClr val="000000"/>
                </a:solidFill>
                <a:latin typeface="Arial"/>
              </a:rPr>
              <a:t>Какой объем видеопамяти необходим для хранения двух страниц изображения при условии, что разрешающая способность дисплея равна 640 х 350 пикселей, а количество используемых цветов — 16?</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200" spc="-1" strike="noStrike">
                <a:solidFill>
                  <a:srgbClr val="000000"/>
                </a:solidFill>
                <a:latin typeface="Arial"/>
              </a:rPr>
              <a:t>Задание 4.</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200" spc="-1" strike="noStrike">
                <a:solidFill>
                  <a:srgbClr val="000000"/>
                </a:solidFill>
                <a:latin typeface="Arial"/>
              </a:rPr>
              <a:t>Какой объем видеопамяти необходим для хранения четырех страниц изображения, если глубина цвета равна 24, а разрешающая способность дисплея — 800 х 600 пикселей.</a:t>
            </a:r>
            <a:endParaRPr b="0" lang="en-US" sz="2200" spc="-1" strike="noStrike">
              <a:solidFill>
                <a:srgbClr val="000000"/>
              </a:solidFill>
              <a:latin typeface="Arial"/>
            </a:endParaRPr>
          </a:p>
          <a:p>
            <a:pPr>
              <a:lnSpc>
                <a:spcPct val="10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8:44:13Z</dcterms:created>
  <dc:creator/>
  <dc:description/>
  <dc:language>en-US</dc:language>
  <cp:lastModifiedBy>Admin</cp:lastModifiedBy>
  <dcterms:modified xsi:type="dcterms:W3CDTF">2010-09-15T17:28:54Z</dcterms:modified>
  <cp:revision>4</cp:revision>
  <dc:subject/>
  <dc:title>Проверочная работа Задание 1. Современный монитор позволяет получать на экране 16 777 216 различных цветов. Сколько битов памяти занимает 1 пиксель? (24)  Задание 2. На экране с разрешающей способностью 640 х 200 высвечиваются только двухцветные изображения. Какой минимальный объем видеопамяти необходим для хранения изображения?  Задание 3. Какой объем видеопамяти необходим для хранения двух страниц изображения при условии, что разрешающая способность дисплея равна 640 х 350 пикселей, а количество используемых цветов — 16?  Задание 4. Какой объем видеопамяти необходим для хранения четырех страниц изображения, если глубина цвета равна 24, а разрешающая способность дисплея — 800 х 600 пикселей. </dc:title>
</cp:coreProperties>
</file>